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DAD6-8EE8-48A5-856A-69B8E392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602-F524-43CC-8AE8-64E85C7C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0AB2-AF94-49FC-884D-4CA155E0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2D9B-B01A-4C9D-8240-46B506D4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DBFC-FEF6-4AAF-ADEA-3CBD576E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DFC1-1AB0-4F66-B4BE-2EA8285C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4568-07D4-49AC-8AD3-A8879A08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8B7-F07D-4592-BD33-F2230315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889D-E040-4BA1-9ADB-0336288E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FF6-B991-4864-9813-9E374F22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53E7-9280-40A9-8E77-544AFD47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B1B6-F1F6-42C6-AE74-B6030B7A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0D81-8594-4EC9-8975-4B560B0E3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GM Group Final De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/18/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7520" y="85680"/>
            <a:ext cx="132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aven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96120" y="1098720"/>
            <a:ext cx="758880" cy="1625400"/>
          </a:xfrm>
          <a:custGeom>
            <a:avLst/>
            <a:gdLst/>
            <a:ahLst/>
            <a:rect l="l" t="t" r="r" b="b"/>
            <a:pathLst>
              <a:path w="2110" h="4515">
                <a:moveTo>
                  <a:pt x="21134" y="6945"/>
                </a:moveTo>
                <a:cubicBezTo>
                  <a:pt x="21174" y="6853"/>
                  <a:pt x="21206" y="6874"/>
                  <a:pt x="21332" y="6871"/>
                </a:cubicBezTo>
                <a:cubicBezTo>
                  <a:pt x="21507" y="6867"/>
                  <a:pt x="21687" y="6860"/>
                  <a:pt x="21853" y="6896"/>
                </a:cubicBezTo>
                <a:cubicBezTo>
                  <a:pt x="21878" y="6896"/>
                  <a:pt x="21886" y="6896"/>
                  <a:pt x="21903" y="6896"/>
                </a:cubicBezTo>
                <a:cubicBezTo>
                  <a:pt x="21903" y="7079"/>
                  <a:pt x="21888" y="7263"/>
                  <a:pt x="21927" y="7441"/>
                </a:cubicBezTo>
                <a:cubicBezTo>
                  <a:pt x="21935" y="7474"/>
                  <a:pt x="21944" y="7508"/>
                  <a:pt x="21952" y="7541"/>
                </a:cubicBezTo>
                <a:cubicBezTo>
                  <a:pt x="21885" y="7574"/>
                  <a:pt x="21715" y="7493"/>
                  <a:pt x="21630" y="7466"/>
                </a:cubicBezTo>
                <a:cubicBezTo>
                  <a:pt x="21458" y="7411"/>
                  <a:pt x="21289" y="7374"/>
                  <a:pt x="21109" y="7367"/>
                </a:cubicBezTo>
                <a:cubicBezTo>
                  <a:pt x="21067" y="7367"/>
                  <a:pt x="21059" y="7367"/>
                  <a:pt x="21034" y="7367"/>
                </a:cubicBezTo>
                <a:cubicBezTo>
                  <a:pt x="21034" y="7213"/>
                  <a:pt x="21039" y="7085"/>
                  <a:pt x="21109" y="6945"/>
                </a:cubicBezTo>
                <a:cubicBezTo>
                  <a:pt x="21148" y="6886"/>
                  <a:pt x="21152" y="6874"/>
                  <a:pt x="21183" y="6846"/>
                </a:cubicBezTo>
              </a:path>
              <a:path w="2110" h="4515">
                <a:moveTo>
                  <a:pt x="21183" y="7119"/>
                </a:moveTo>
                <a:cubicBezTo>
                  <a:pt x="21226" y="7210"/>
                  <a:pt x="21266" y="7301"/>
                  <a:pt x="21307" y="7392"/>
                </a:cubicBezTo>
                <a:cubicBezTo>
                  <a:pt x="21268" y="7194"/>
                  <a:pt x="21229" y="7067"/>
                  <a:pt x="21307" y="6871"/>
                </a:cubicBezTo>
                <a:cubicBezTo>
                  <a:pt x="21349" y="6807"/>
                  <a:pt x="21352" y="6782"/>
                  <a:pt x="21406" y="6796"/>
                </a:cubicBezTo>
                <a:cubicBezTo>
                  <a:pt x="21424" y="6924"/>
                  <a:pt x="21425" y="7053"/>
                  <a:pt x="21307" y="7144"/>
                </a:cubicBezTo>
                <a:cubicBezTo>
                  <a:pt x="21299" y="7144"/>
                  <a:pt x="21290" y="7144"/>
                  <a:pt x="21282" y="7144"/>
                </a:cubicBezTo>
                <a:cubicBezTo>
                  <a:pt x="21425" y="7242"/>
                  <a:pt x="21453" y="7281"/>
                  <a:pt x="21506" y="7441"/>
                </a:cubicBezTo>
                <a:cubicBezTo>
                  <a:pt x="21506" y="7433"/>
                  <a:pt x="21506" y="7425"/>
                  <a:pt x="21506" y="7417"/>
                </a:cubicBezTo>
              </a:path>
              <a:path w="2110" h="4515">
                <a:moveTo>
                  <a:pt x="21654" y="7169"/>
                </a:moveTo>
                <a:cubicBezTo>
                  <a:pt x="21603" y="7174"/>
                  <a:pt x="21480" y="7195"/>
                  <a:pt x="21530" y="7293"/>
                </a:cubicBezTo>
                <a:cubicBezTo>
                  <a:pt x="21547" y="7309"/>
                  <a:pt x="21563" y="7326"/>
                  <a:pt x="21580" y="7342"/>
                </a:cubicBezTo>
                <a:cubicBezTo>
                  <a:pt x="21610" y="7289"/>
                  <a:pt x="21636" y="7207"/>
                  <a:pt x="21679" y="7193"/>
                </a:cubicBezTo>
              </a:path>
              <a:path w="2110" h="4515">
                <a:moveTo>
                  <a:pt x="21754" y="7119"/>
                </a:moveTo>
                <a:cubicBezTo>
                  <a:pt x="21809" y="7216"/>
                  <a:pt x="21863" y="7356"/>
                  <a:pt x="21878" y="7144"/>
                </a:cubicBezTo>
                <a:cubicBezTo>
                  <a:pt x="21878" y="7094"/>
                  <a:pt x="21878" y="7045"/>
                  <a:pt x="21878" y="6995"/>
                </a:cubicBezTo>
                <a:cubicBezTo>
                  <a:pt x="21896" y="7048"/>
                  <a:pt x="21945" y="7102"/>
                  <a:pt x="22027" y="7094"/>
                </a:cubicBezTo>
                <a:cubicBezTo>
                  <a:pt x="22131" y="7084"/>
                  <a:pt x="22064" y="7032"/>
                  <a:pt x="22027" y="7020"/>
                </a:cubicBezTo>
                <a:cubicBezTo>
                  <a:pt x="22003" y="7067"/>
                  <a:pt x="22123" y="7197"/>
                  <a:pt x="22151" y="7169"/>
                </a:cubicBezTo>
                <a:cubicBezTo>
                  <a:pt x="22167" y="7153"/>
                  <a:pt x="22151" y="7022"/>
                  <a:pt x="22151" y="6995"/>
                </a:cubicBezTo>
                <a:cubicBezTo>
                  <a:pt x="22199" y="7027"/>
                  <a:pt x="22235" y="7103"/>
                  <a:pt x="22299" y="7119"/>
                </a:cubicBezTo>
              </a:path>
              <a:path w="2110" h="4515">
                <a:moveTo>
                  <a:pt x="22275" y="6896"/>
                </a:moveTo>
                <a:cubicBezTo>
                  <a:pt x="22292" y="6986"/>
                  <a:pt x="22374" y="7045"/>
                  <a:pt x="22374" y="7144"/>
                </a:cubicBezTo>
                <a:cubicBezTo>
                  <a:pt x="22334" y="7222"/>
                  <a:pt x="22295" y="7243"/>
                  <a:pt x="22200" y="7218"/>
                </a:cubicBezTo>
              </a:path>
              <a:path w="2110" h="4515">
                <a:moveTo>
                  <a:pt x="21134" y="6846"/>
                </a:moveTo>
                <a:cubicBezTo>
                  <a:pt x="21152" y="6776"/>
                  <a:pt x="21175" y="6697"/>
                  <a:pt x="21183" y="6623"/>
                </a:cubicBezTo>
                <a:cubicBezTo>
                  <a:pt x="21201" y="6461"/>
                  <a:pt x="21187" y="6316"/>
                  <a:pt x="21183" y="6152"/>
                </a:cubicBezTo>
                <a:cubicBezTo>
                  <a:pt x="21178" y="5942"/>
                  <a:pt x="21175" y="5737"/>
                  <a:pt x="21158" y="5531"/>
                </a:cubicBezTo>
                <a:cubicBezTo>
                  <a:pt x="21149" y="5419"/>
                  <a:pt x="21152" y="5313"/>
                  <a:pt x="21158" y="5209"/>
                </a:cubicBezTo>
                <a:cubicBezTo>
                  <a:pt x="21166" y="5080"/>
                  <a:pt x="21165" y="4941"/>
                  <a:pt x="21183" y="4812"/>
                </a:cubicBezTo>
                <a:cubicBezTo>
                  <a:pt x="21198" y="4701"/>
                  <a:pt x="21205" y="4572"/>
                  <a:pt x="21233" y="4465"/>
                </a:cubicBezTo>
                <a:cubicBezTo>
                  <a:pt x="21256" y="4376"/>
                  <a:pt x="21297" y="4281"/>
                  <a:pt x="21307" y="4192"/>
                </a:cubicBezTo>
                <a:cubicBezTo>
                  <a:pt x="21319" y="4091"/>
                  <a:pt x="21332" y="3998"/>
                  <a:pt x="21332" y="3894"/>
                </a:cubicBezTo>
                <a:cubicBezTo>
                  <a:pt x="21332" y="3765"/>
                  <a:pt x="21317" y="3645"/>
                  <a:pt x="21307" y="3522"/>
                </a:cubicBezTo>
                <a:cubicBezTo>
                  <a:pt x="21301" y="3447"/>
                  <a:pt x="21299" y="3391"/>
                  <a:pt x="21282" y="3324"/>
                </a:cubicBezTo>
                <a:cubicBezTo>
                  <a:pt x="21264" y="3251"/>
                  <a:pt x="21258" y="3196"/>
                  <a:pt x="21183" y="3150"/>
                </a:cubicBezTo>
                <a:cubicBezTo>
                  <a:pt x="21168" y="3141"/>
                  <a:pt x="21057" y="3104"/>
                  <a:pt x="21034" y="3101"/>
                </a:cubicBezTo>
                <a:cubicBezTo>
                  <a:pt x="20988" y="3094"/>
                  <a:pt x="20871" y="3074"/>
                  <a:pt x="20836" y="3076"/>
                </a:cubicBezTo>
                <a:cubicBezTo>
                  <a:pt x="20776" y="3080"/>
                  <a:pt x="20715" y="3116"/>
                  <a:pt x="20662" y="3150"/>
                </a:cubicBezTo>
                <a:cubicBezTo>
                  <a:pt x="20602" y="3189"/>
                  <a:pt x="20545" y="3229"/>
                  <a:pt x="20513" y="3299"/>
                </a:cubicBezTo>
                <a:cubicBezTo>
                  <a:pt x="20486" y="3360"/>
                  <a:pt x="20471" y="3456"/>
                  <a:pt x="20464" y="3522"/>
                </a:cubicBezTo>
                <a:cubicBezTo>
                  <a:pt x="20464" y="3588"/>
                  <a:pt x="20464" y="3605"/>
                  <a:pt x="20464" y="3646"/>
                </a:cubicBezTo>
              </a:path>
              <a:path w="2110" h="4515">
                <a:moveTo>
                  <a:pt x="20960" y="3200"/>
                </a:moveTo>
                <a:cubicBezTo>
                  <a:pt x="20813" y="3200"/>
                  <a:pt x="20741" y="3240"/>
                  <a:pt x="20662" y="3373"/>
                </a:cubicBezTo>
                <a:cubicBezTo>
                  <a:pt x="20632" y="3465"/>
                  <a:pt x="20631" y="3507"/>
                  <a:pt x="20687" y="3572"/>
                </a:cubicBezTo>
                <a:cubicBezTo>
                  <a:pt x="20932" y="3609"/>
                  <a:pt x="21087" y="3603"/>
                  <a:pt x="21258" y="3398"/>
                </a:cubicBezTo>
                <a:cubicBezTo>
                  <a:pt x="21353" y="3284"/>
                  <a:pt x="21364" y="3165"/>
                  <a:pt x="21233" y="3101"/>
                </a:cubicBezTo>
                <a:cubicBezTo>
                  <a:pt x="21045" y="3010"/>
                  <a:pt x="20834" y="3038"/>
                  <a:pt x="20737" y="3249"/>
                </a:cubicBezTo>
                <a:cubicBezTo>
                  <a:pt x="20670" y="3395"/>
                  <a:pt x="20725" y="3593"/>
                  <a:pt x="20886" y="3646"/>
                </a:cubicBezTo>
                <a:cubicBezTo>
                  <a:pt x="20957" y="3670"/>
                  <a:pt x="20973" y="3645"/>
                  <a:pt x="20985" y="3597"/>
                </a:cubicBezTo>
              </a:path>
              <a:path w="2110" h="4515">
                <a:moveTo>
                  <a:pt x="20464" y="3572"/>
                </a:moveTo>
                <a:cubicBezTo>
                  <a:pt x="20452" y="3618"/>
                  <a:pt x="20453" y="3671"/>
                  <a:pt x="20439" y="3721"/>
                </a:cubicBezTo>
                <a:cubicBezTo>
                  <a:pt x="20423" y="3776"/>
                  <a:pt x="20414" y="3811"/>
                  <a:pt x="20414" y="3870"/>
                </a:cubicBezTo>
                <a:cubicBezTo>
                  <a:pt x="20414" y="3895"/>
                  <a:pt x="20414" y="3919"/>
                  <a:pt x="20414" y="3944"/>
                </a:cubicBezTo>
              </a:path>
              <a:path w="2110" h="4515">
                <a:moveTo>
                  <a:pt x="20414" y="3870"/>
                </a:moveTo>
                <a:cubicBezTo>
                  <a:pt x="20398" y="3913"/>
                  <a:pt x="20391" y="3942"/>
                  <a:pt x="20389" y="3994"/>
                </a:cubicBezTo>
                <a:cubicBezTo>
                  <a:pt x="20387" y="4051"/>
                  <a:pt x="20372" y="4088"/>
                  <a:pt x="20365" y="4142"/>
                </a:cubicBezTo>
                <a:cubicBezTo>
                  <a:pt x="20348" y="4271"/>
                  <a:pt x="20327" y="4497"/>
                  <a:pt x="20340" y="4614"/>
                </a:cubicBezTo>
                <a:cubicBezTo>
                  <a:pt x="20343" y="4640"/>
                  <a:pt x="20363" y="4675"/>
                  <a:pt x="20365" y="4713"/>
                </a:cubicBezTo>
                <a:cubicBezTo>
                  <a:pt x="20386" y="5185"/>
                  <a:pt x="20413" y="5717"/>
                  <a:pt x="20340" y="6176"/>
                </a:cubicBezTo>
                <a:cubicBezTo>
                  <a:pt x="20329" y="6248"/>
                  <a:pt x="20324" y="6332"/>
                  <a:pt x="20315" y="6400"/>
                </a:cubicBezTo>
                <a:cubicBezTo>
                  <a:pt x="20307" y="6467"/>
                  <a:pt x="20294" y="6531"/>
                  <a:pt x="20290" y="6598"/>
                </a:cubicBezTo>
                <a:cubicBezTo>
                  <a:pt x="20286" y="6671"/>
                  <a:pt x="20276" y="6729"/>
                  <a:pt x="20265" y="6796"/>
                </a:cubicBezTo>
                <a:cubicBezTo>
                  <a:pt x="20254" y="6866"/>
                  <a:pt x="20265" y="6950"/>
                  <a:pt x="20265" y="7020"/>
                </a:cubicBezTo>
              </a:path>
              <a:path w="2110" h="4515">
                <a:moveTo>
                  <a:pt x="20960" y="3795"/>
                </a:moveTo>
                <a:cubicBezTo>
                  <a:pt x="20847" y="3833"/>
                  <a:pt x="20723" y="3879"/>
                  <a:pt x="20662" y="3994"/>
                </a:cubicBezTo>
                <a:cubicBezTo>
                  <a:pt x="20611" y="4090"/>
                  <a:pt x="20618" y="4250"/>
                  <a:pt x="20712" y="4316"/>
                </a:cubicBezTo>
                <a:cubicBezTo>
                  <a:pt x="20837" y="4405"/>
                  <a:pt x="20919" y="4339"/>
                  <a:pt x="21034" y="4291"/>
                </a:cubicBezTo>
                <a:cubicBezTo>
                  <a:pt x="21032" y="4290"/>
                  <a:pt x="20860" y="4248"/>
                  <a:pt x="20762" y="4291"/>
                </a:cubicBezTo>
                <a:cubicBezTo>
                  <a:pt x="20566" y="4378"/>
                  <a:pt x="20457" y="4601"/>
                  <a:pt x="20489" y="4812"/>
                </a:cubicBezTo>
                <a:cubicBezTo>
                  <a:pt x="20508" y="4937"/>
                  <a:pt x="20573" y="5100"/>
                  <a:pt x="20712" y="5135"/>
                </a:cubicBezTo>
                <a:cubicBezTo>
                  <a:pt x="20795" y="5156"/>
                  <a:pt x="20890" y="5131"/>
                  <a:pt x="20960" y="5110"/>
                </a:cubicBezTo>
                <a:cubicBezTo>
                  <a:pt x="20870" y="5082"/>
                  <a:pt x="20793" y="5060"/>
                  <a:pt x="20687" y="5184"/>
                </a:cubicBezTo>
                <a:cubicBezTo>
                  <a:pt x="20560" y="5332"/>
                  <a:pt x="20555" y="5570"/>
                  <a:pt x="20662" y="5730"/>
                </a:cubicBezTo>
                <a:cubicBezTo>
                  <a:pt x="20718" y="5814"/>
                  <a:pt x="20898" y="5884"/>
                  <a:pt x="20985" y="5804"/>
                </a:cubicBezTo>
                <a:cubicBezTo>
                  <a:pt x="21007" y="5782"/>
                  <a:pt x="21016" y="5777"/>
                  <a:pt x="21010" y="5755"/>
                </a:cubicBezTo>
                <a:cubicBezTo>
                  <a:pt x="20973" y="5645"/>
                  <a:pt x="20835" y="5681"/>
                  <a:pt x="20737" y="5755"/>
                </a:cubicBezTo>
                <a:cubicBezTo>
                  <a:pt x="20554" y="5892"/>
                  <a:pt x="20505" y="6136"/>
                  <a:pt x="20563" y="6350"/>
                </a:cubicBezTo>
                <a:cubicBezTo>
                  <a:pt x="20605" y="6507"/>
                  <a:pt x="20675" y="6521"/>
                  <a:pt x="20811" y="6548"/>
                </a:cubicBezTo>
                <a:cubicBezTo>
                  <a:pt x="20878" y="6561"/>
                  <a:pt x="20885" y="6518"/>
                  <a:pt x="20910" y="6499"/>
                </a:cubicBezTo>
              </a:path>
              <a:path w="2110" h="4515">
                <a:moveTo>
                  <a:pt x="20638" y="6424"/>
                </a:moveTo>
                <a:cubicBezTo>
                  <a:pt x="20541" y="6393"/>
                  <a:pt x="20658" y="6248"/>
                  <a:pt x="20687" y="6201"/>
                </a:cubicBezTo>
                <a:cubicBezTo>
                  <a:pt x="20729" y="6138"/>
                  <a:pt x="20733" y="6113"/>
                  <a:pt x="20786" y="6127"/>
                </a:cubicBezTo>
                <a:cubicBezTo>
                  <a:pt x="20806" y="6244"/>
                  <a:pt x="20807" y="6405"/>
                  <a:pt x="20638" y="6424"/>
                </a:cubicBezTo>
                <a:cubicBezTo>
                  <a:pt x="20638" y="6396"/>
                  <a:pt x="20635" y="6386"/>
                  <a:pt x="20613" y="6375"/>
                </a:cubicBezTo>
              </a:path>
              <a:path w="2110" h="4515">
                <a:moveTo>
                  <a:pt x="20613" y="6028"/>
                </a:moveTo>
                <a:cubicBezTo>
                  <a:pt x="20548" y="6012"/>
                  <a:pt x="20501" y="5868"/>
                  <a:pt x="20489" y="5804"/>
                </a:cubicBezTo>
                <a:cubicBezTo>
                  <a:pt x="20469" y="5700"/>
                  <a:pt x="20475" y="5698"/>
                  <a:pt x="20538" y="5655"/>
                </a:cubicBezTo>
                <a:cubicBezTo>
                  <a:pt x="20556" y="5675"/>
                  <a:pt x="20649" y="5944"/>
                  <a:pt x="20588" y="5928"/>
                </a:cubicBezTo>
                <a:cubicBezTo>
                  <a:pt x="20543" y="5884"/>
                  <a:pt x="20526" y="5874"/>
                  <a:pt x="20538" y="5829"/>
                </a:cubicBezTo>
              </a:path>
              <a:path w="2110" h="4515">
                <a:moveTo>
                  <a:pt x="20786" y="5705"/>
                </a:moveTo>
                <a:cubicBezTo>
                  <a:pt x="20799" y="5564"/>
                  <a:pt x="20828" y="5471"/>
                  <a:pt x="20910" y="5358"/>
                </a:cubicBezTo>
                <a:cubicBezTo>
                  <a:pt x="20938" y="5471"/>
                  <a:pt x="20904" y="5619"/>
                  <a:pt x="20762" y="5655"/>
                </a:cubicBezTo>
                <a:cubicBezTo>
                  <a:pt x="20762" y="5647"/>
                  <a:pt x="20762" y="5639"/>
                  <a:pt x="20762" y="5631"/>
                </a:cubicBezTo>
              </a:path>
              <a:path w="2110" h="4515">
                <a:moveTo>
                  <a:pt x="20737" y="5184"/>
                </a:moveTo>
                <a:cubicBezTo>
                  <a:pt x="20679" y="5058"/>
                  <a:pt x="20641" y="5011"/>
                  <a:pt x="20687" y="4862"/>
                </a:cubicBezTo>
                <a:cubicBezTo>
                  <a:pt x="20707" y="4821"/>
                  <a:pt x="20716" y="4815"/>
                  <a:pt x="20712" y="4787"/>
                </a:cubicBezTo>
                <a:cubicBezTo>
                  <a:pt x="20646" y="4886"/>
                  <a:pt x="20582" y="4946"/>
                  <a:pt x="20563" y="4812"/>
                </a:cubicBezTo>
                <a:cubicBezTo>
                  <a:pt x="20563" y="4804"/>
                  <a:pt x="20563" y="4795"/>
                  <a:pt x="20563" y="4787"/>
                </a:cubicBezTo>
              </a:path>
              <a:path w="2110" h="4515">
                <a:moveTo>
                  <a:pt x="20662" y="4490"/>
                </a:moveTo>
                <a:cubicBezTo>
                  <a:pt x="20628" y="4378"/>
                  <a:pt x="20569" y="4267"/>
                  <a:pt x="20662" y="4167"/>
                </a:cubicBezTo>
                <a:cubicBezTo>
                  <a:pt x="20679" y="4159"/>
                  <a:pt x="20695" y="4150"/>
                  <a:pt x="20712" y="4142"/>
                </a:cubicBezTo>
                <a:cubicBezTo>
                  <a:pt x="20775" y="4257"/>
                  <a:pt x="20776" y="4248"/>
                  <a:pt x="20737" y="4366"/>
                </a:cubicBezTo>
              </a:path>
              <a:path w="2110" h="4515">
                <a:moveTo>
                  <a:pt x="20886" y="4341"/>
                </a:moveTo>
                <a:cubicBezTo>
                  <a:pt x="20886" y="4283"/>
                  <a:pt x="20872" y="4126"/>
                  <a:pt x="20935" y="4093"/>
                </a:cubicBezTo>
                <a:cubicBezTo>
                  <a:pt x="21001" y="4093"/>
                  <a:pt x="21018" y="4093"/>
                  <a:pt x="21059" y="4093"/>
                </a:cubicBezTo>
                <a:cubicBezTo>
                  <a:pt x="21018" y="4188"/>
                  <a:pt x="20975" y="4261"/>
                  <a:pt x="20910" y="4341"/>
                </a:cubicBezTo>
              </a:path>
              <a:path w="2110" h="4515">
                <a:moveTo>
                  <a:pt x="20786" y="4093"/>
                </a:moveTo>
                <a:cubicBezTo>
                  <a:pt x="20717" y="4023"/>
                  <a:pt x="20645" y="3937"/>
                  <a:pt x="20687" y="3820"/>
                </a:cubicBezTo>
                <a:cubicBezTo>
                  <a:pt x="20695" y="3812"/>
                  <a:pt x="20704" y="3803"/>
                  <a:pt x="20712" y="3795"/>
                </a:cubicBezTo>
                <a:cubicBezTo>
                  <a:pt x="20722" y="3825"/>
                  <a:pt x="20827" y="3986"/>
                  <a:pt x="20786" y="4018"/>
                </a:cubicBezTo>
                <a:cubicBezTo>
                  <a:pt x="20770" y="4018"/>
                  <a:pt x="20753" y="4018"/>
                  <a:pt x="20737" y="40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456320" y="1125360"/>
            <a:ext cx="142920" cy="1527480"/>
          </a:xfrm>
          <a:custGeom>
            <a:avLst/>
            <a:gdLst/>
            <a:ahLst/>
            <a:rect l="l" t="t" r="r" b="b"/>
            <a:pathLst>
              <a:path w="398" h="4243">
                <a:moveTo>
                  <a:pt x="20910" y="3349"/>
                </a:moveTo>
                <a:cubicBezTo>
                  <a:pt x="20910" y="3308"/>
                  <a:pt x="20910" y="3266"/>
                  <a:pt x="20910" y="3225"/>
                </a:cubicBezTo>
                <a:cubicBezTo>
                  <a:pt x="20910" y="3283"/>
                  <a:pt x="20915" y="3241"/>
                  <a:pt x="20910" y="3299"/>
                </a:cubicBezTo>
                <a:cubicBezTo>
                  <a:pt x="20878" y="3638"/>
                  <a:pt x="20879" y="3977"/>
                  <a:pt x="20861" y="4316"/>
                </a:cubicBezTo>
                <a:cubicBezTo>
                  <a:pt x="20830" y="4892"/>
                  <a:pt x="20789" y="5478"/>
                  <a:pt x="20737" y="6052"/>
                </a:cubicBezTo>
                <a:cubicBezTo>
                  <a:pt x="20721" y="6233"/>
                  <a:pt x="20695" y="6414"/>
                  <a:pt x="20712" y="6598"/>
                </a:cubicBezTo>
                <a:cubicBezTo>
                  <a:pt x="20730" y="6790"/>
                  <a:pt x="20712" y="6974"/>
                  <a:pt x="20712" y="7169"/>
                </a:cubicBezTo>
                <a:cubicBezTo>
                  <a:pt x="20712" y="7268"/>
                  <a:pt x="20691" y="7226"/>
                  <a:pt x="20712" y="7193"/>
                </a:cubicBezTo>
                <a:cubicBezTo>
                  <a:pt x="20754" y="7111"/>
                  <a:pt x="20762" y="7095"/>
                  <a:pt x="20786" y="7045"/>
                </a:cubicBezTo>
              </a:path>
              <a:path w="398" h="4243">
                <a:moveTo>
                  <a:pt x="21109" y="3150"/>
                </a:moveTo>
                <a:cubicBezTo>
                  <a:pt x="21071" y="3178"/>
                  <a:pt x="21093" y="3061"/>
                  <a:pt x="21059" y="3225"/>
                </a:cubicBezTo>
                <a:cubicBezTo>
                  <a:pt x="20997" y="3527"/>
                  <a:pt x="20999" y="3882"/>
                  <a:pt x="20985" y="4192"/>
                </a:cubicBezTo>
                <a:cubicBezTo>
                  <a:pt x="20972" y="4490"/>
                  <a:pt x="20947" y="4788"/>
                  <a:pt x="20935" y="5085"/>
                </a:cubicBezTo>
                <a:cubicBezTo>
                  <a:pt x="20918" y="5507"/>
                  <a:pt x="20938" y="5930"/>
                  <a:pt x="20910" y="6350"/>
                </a:cubicBezTo>
                <a:cubicBezTo>
                  <a:pt x="20901" y="6483"/>
                  <a:pt x="20897" y="6616"/>
                  <a:pt x="20886" y="6747"/>
                </a:cubicBezTo>
                <a:cubicBezTo>
                  <a:pt x="20877" y="6864"/>
                  <a:pt x="20882" y="6979"/>
                  <a:pt x="20861" y="7094"/>
                </a:cubicBezTo>
                <a:cubicBezTo>
                  <a:pt x="20845" y="7180"/>
                  <a:pt x="20803" y="7429"/>
                  <a:pt x="20811" y="7342"/>
                </a:cubicBezTo>
                <a:cubicBezTo>
                  <a:pt x="20826" y="7174"/>
                  <a:pt x="20848" y="7065"/>
                  <a:pt x="20861" y="68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52960" y="1320840"/>
            <a:ext cx="3151080" cy="1859040"/>
          </a:xfrm>
          <a:custGeom>
            <a:avLst/>
            <a:gdLst/>
            <a:ahLst/>
            <a:rect l="l" t="t" r="r" b="b"/>
            <a:pathLst>
              <a:path w="8757" h="5160">
                <a:moveTo>
                  <a:pt x="11658" y="6871"/>
                </a:moveTo>
                <a:cubicBezTo>
                  <a:pt x="11729" y="6871"/>
                  <a:pt x="11591" y="6864"/>
                  <a:pt x="11584" y="6871"/>
                </a:cubicBezTo>
                <a:cubicBezTo>
                  <a:pt x="11545" y="6911"/>
                  <a:pt x="11499" y="7050"/>
                  <a:pt x="11559" y="7094"/>
                </a:cubicBezTo>
                <a:cubicBezTo>
                  <a:pt x="11652" y="7161"/>
                  <a:pt x="11761" y="7138"/>
                  <a:pt x="11857" y="7119"/>
                </a:cubicBezTo>
                <a:cubicBezTo>
                  <a:pt x="11933" y="7104"/>
                  <a:pt x="11928" y="7038"/>
                  <a:pt x="11931" y="6970"/>
                </a:cubicBezTo>
                <a:cubicBezTo>
                  <a:pt x="11934" y="6912"/>
                  <a:pt x="11894" y="6861"/>
                  <a:pt x="11832" y="6846"/>
                </a:cubicBezTo>
                <a:cubicBezTo>
                  <a:pt x="11769" y="6831"/>
                  <a:pt x="11694" y="6817"/>
                  <a:pt x="11633" y="6846"/>
                </a:cubicBezTo>
                <a:cubicBezTo>
                  <a:pt x="11570" y="6876"/>
                  <a:pt x="11561" y="6961"/>
                  <a:pt x="11559" y="7020"/>
                </a:cubicBezTo>
                <a:cubicBezTo>
                  <a:pt x="11556" y="7094"/>
                  <a:pt x="11582" y="7165"/>
                  <a:pt x="11658" y="7193"/>
                </a:cubicBezTo>
                <a:cubicBezTo>
                  <a:pt x="11752" y="7228"/>
                  <a:pt x="11772" y="7204"/>
                  <a:pt x="11857" y="7193"/>
                </a:cubicBezTo>
                <a:cubicBezTo>
                  <a:pt x="11871" y="7104"/>
                  <a:pt x="11876" y="7051"/>
                  <a:pt x="11857" y="6970"/>
                </a:cubicBezTo>
                <a:cubicBezTo>
                  <a:pt x="11848" y="6934"/>
                  <a:pt x="11830" y="6941"/>
                  <a:pt x="11782" y="6921"/>
                </a:cubicBezTo>
              </a:path>
              <a:path w="8757" h="5160">
                <a:moveTo>
                  <a:pt x="11906" y="6796"/>
                </a:moveTo>
                <a:cubicBezTo>
                  <a:pt x="12003" y="6758"/>
                  <a:pt x="12110" y="6685"/>
                  <a:pt x="12204" y="6623"/>
                </a:cubicBezTo>
                <a:cubicBezTo>
                  <a:pt x="12229" y="6606"/>
                  <a:pt x="12253" y="6590"/>
                  <a:pt x="12278" y="6573"/>
                </a:cubicBezTo>
              </a:path>
              <a:path w="8757" h="5160">
                <a:moveTo>
                  <a:pt x="12526" y="6474"/>
                </a:moveTo>
                <a:cubicBezTo>
                  <a:pt x="12565" y="6589"/>
                  <a:pt x="12581" y="6602"/>
                  <a:pt x="12576" y="6672"/>
                </a:cubicBezTo>
                <a:cubicBezTo>
                  <a:pt x="12576" y="6543"/>
                  <a:pt x="12588" y="6428"/>
                  <a:pt x="12601" y="6300"/>
                </a:cubicBezTo>
                <a:cubicBezTo>
                  <a:pt x="12613" y="6361"/>
                  <a:pt x="12646" y="6561"/>
                  <a:pt x="12700" y="6449"/>
                </a:cubicBezTo>
                <a:cubicBezTo>
                  <a:pt x="12746" y="6335"/>
                  <a:pt x="12760" y="6304"/>
                  <a:pt x="12774" y="6226"/>
                </a:cubicBezTo>
                <a:cubicBezTo>
                  <a:pt x="12839" y="6290"/>
                  <a:pt x="12824" y="6473"/>
                  <a:pt x="12898" y="6548"/>
                </a:cubicBezTo>
                <a:cubicBezTo>
                  <a:pt x="12946" y="6597"/>
                  <a:pt x="12980" y="6436"/>
                  <a:pt x="13047" y="6424"/>
                </a:cubicBezTo>
                <a:cubicBezTo>
                  <a:pt x="13149" y="6406"/>
                  <a:pt x="13211" y="6368"/>
                  <a:pt x="13196" y="6251"/>
                </a:cubicBezTo>
                <a:cubicBezTo>
                  <a:pt x="13173" y="6161"/>
                  <a:pt x="13174" y="6128"/>
                  <a:pt x="13097" y="6152"/>
                </a:cubicBezTo>
                <a:cubicBezTo>
                  <a:pt x="13067" y="6243"/>
                  <a:pt x="12997" y="6645"/>
                  <a:pt x="13246" y="6524"/>
                </a:cubicBezTo>
                <a:cubicBezTo>
                  <a:pt x="13287" y="6483"/>
                  <a:pt x="13329" y="6441"/>
                  <a:pt x="13370" y="6400"/>
                </a:cubicBezTo>
              </a:path>
              <a:path w="8757" h="5160">
                <a:moveTo>
                  <a:pt x="13295" y="5581"/>
                </a:moveTo>
                <a:cubicBezTo>
                  <a:pt x="13315" y="5807"/>
                  <a:pt x="13507" y="6242"/>
                  <a:pt x="13444" y="6449"/>
                </a:cubicBezTo>
                <a:cubicBezTo>
                  <a:pt x="13428" y="6433"/>
                  <a:pt x="13411" y="6416"/>
                  <a:pt x="13395" y="6400"/>
                </a:cubicBezTo>
              </a:path>
              <a:path w="8757" h="5160">
                <a:moveTo>
                  <a:pt x="13246" y="6176"/>
                </a:moveTo>
                <a:cubicBezTo>
                  <a:pt x="13410" y="6176"/>
                  <a:pt x="13556" y="6155"/>
                  <a:pt x="13717" y="6127"/>
                </a:cubicBezTo>
              </a:path>
              <a:path w="8757" h="5160">
                <a:moveTo>
                  <a:pt x="13717" y="6127"/>
                </a:moveTo>
                <a:lnTo>
                  <a:pt x="13717" y="6127"/>
                </a:lnTo>
              </a:path>
              <a:path w="8757" h="5160">
                <a:moveTo>
                  <a:pt x="13816" y="6102"/>
                </a:moveTo>
                <a:cubicBezTo>
                  <a:pt x="13678" y="6048"/>
                  <a:pt x="13518" y="6090"/>
                  <a:pt x="13543" y="6300"/>
                </a:cubicBezTo>
                <a:cubicBezTo>
                  <a:pt x="13575" y="6573"/>
                  <a:pt x="13774" y="6206"/>
                  <a:pt x="13791" y="6152"/>
                </a:cubicBezTo>
                <a:cubicBezTo>
                  <a:pt x="13798" y="6194"/>
                  <a:pt x="13867" y="6372"/>
                  <a:pt x="13915" y="6226"/>
                </a:cubicBezTo>
                <a:cubicBezTo>
                  <a:pt x="13932" y="6143"/>
                  <a:pt x="13948" y="6061"/>
                  <a:pt x="13965" y="5978"/>
                </a:cubicBezTo>
              </a:path>
              <a:path w="8757" h="5160">
                <a:moveTo>
                  <a:pt x="13940" y="5383"/>
                </a:moveTo>
                <a:cubicBezTo>
                  <a:pt x="13955" y="5645"/>
                  <a:pt x="14017" y="5894"/>
                  <a:pt x="14064" y="6152"/>
                </a:cubicBezTo>
                <a:cubicBezTo>
                  <a:pt x="14072" y="6193"/>
                  <a:pt x="14081" y="6235"/>
                  <a:pt x="14089" y="6276"/>
                </a:cubicBezTo>
              </a:path>
              <a:path w="8757" h="5160">
                <a:moveTo>
                  <a:pt x="13444" y="6821"/>
                </a:moveTo>
                <a:cubicBezTo>
                  <a:pt x="13453" y="6884"/>
                  <a:pt x="13470" y="6936"/>
                  <a:pt x="13494" y="6995"/>
                </a:cubicBezTo>
                <a:cubicBezTo>
                  <a:pt x="13494" y="6827"/>
                  <a:pt x="13506" y="6700"/>
                  <a:pt x="13568" y="6548"/>
                </a:cubicBezTo>
                <a:cubicBezTo>
                  <a:pt x="13613" y="6638"/>
                  <a:pt x="13651" y="6748"/>
                  <a:pt x="13692" y="6846"/>
                </a:cubicBezTo>
                <a:cubicBezTo>
                  <a:pt x="13721" y="6745"/>
                  <a:pt x="13778" y="6658"/>
                  <a:pt x="13841" y="6573"/>
                </a:cubicBezTo>
                <a:cubicBezTo>
                  <a:pt x="13863" y="6606"/>
                  <a:pt x="13976" y="6898"/>
                  <a:pt x="13990" y="6896"/>
                </a:cubicBezTo>
                <a:cubicBezTo>
                  <a:pt x="14015" y="6879"/>
                  <a:pt x="14039" y="6863"/>
                  <a:pt x="14064" y="6846"/>
                </a:cubicBezTo>
              </a:path>
              <a:path w="8757" h="5160">
                <a:moveTo>
                  <a:pt x="14114" y="6623"/>
                </a:moveTo>
                <a:cubicBezTo>
                  <a:pt x="14030" y="6650"/>
                  <a:pt x="14064" y="6719"/>
                  <a:pt x="14064" y="6821"/>
                </a:cubicBezTo>
                <a:cubicBezTo>
                  <a:pt x="14214" y="6851"/>
                  <a:pt x="14337" y="6768"/>
                  <a:pt x="14486" y="6722"/>
                </a:cubicBezTo>
                <a:cubicBezTo>
                  <a:pt x="14494" y="6722"/>
                  <a:pt x="14503" y="6722"/>
                  <a:pt x="14511" y="6722"/>
                </a:cubicBezTo>
                <a:cubicBezTo>
                  <a:pt x="14447" y="6613"/>
                  <a:pt x="14400" y="6562"/>
                  <a:pt x="14511" y="6474"/>
                </a:cubicBezTo>
              </a:path>
              <a:path w="8757" h="5160">
                <a:moveTo>
                  <a:pt x="14486" y="6127"/>
                </a:moveTo>
                <a:cubicBezTo>
                  <a:pt x="14501" y="6185"/>
                  <a:pt x="14594" y="6685"/>
                  <a:pt x="14660" y="6672"/>
                </a:cubicBezTo>
                <a:cubicBezTo>
                  <a:pt x="14717" y="6661"/>
                  <a:pt x="14715" y="6462"/>
                  <a:pt x="14808" y="6424"/>
                </a:cubicBezTo>
                <a:cubicBezTo>
                  <a:pt x="14815" y="6548"/>
                  <a:pt x="14805" y="6852"/>
                  <a:pt x="14734" y="6499"/>
                </a:cubicBezTo>
              </a:path>
              <a:path w="8757" h="5160">
                <a:moveTo>
                  <a:pt x="14858" y="6102"/>
                </a:moveTo>
                <a:cubicBezTo>
                  <a:pt x="14883" y="6199"/>
                  <a:pt x="14967" y="6750"/>
                  <a:pt x="15180" y="6697"/>
                </a:cubicBezTo>
                <a:cubicBezTo>
                  <a:pt x="15391" y="6644"/>
                  <a:pt x="15351" y="6382"/>
                  <a:pt x="15304" y="6251"/>
                </a:cubicBezTo>
                <a:cubicBezTo>
                  <a:pt x="15192" y="6299"/>
                  <a:pt x="15200" y="6474"/>
                  <a:pt x="15255" y="6598"/>
                </a:cubicBezTo>
                <a:cubicBezTo>
                  <a:pt x="15271" y="6615"/>
                  <a:pt x="15288" y="6631"/>
                  <a:pt x="15304" y="6648"/>
                </a:cubicBezTo>
              </a:path>
              <a:path w="8757" h="5160">
                <a:moveTo>
                  <a:pt x="15180" y="8781"/>
                </a:moveTo>
                <a:cubicBezTo>
                  <a:pt x="15202" y="8687"/>
                  <a:pt x="15210" y="8643"/>
                  <a:pt x="15255" y="8558"/>
                </a:cubicBezTo>
                <a:cubicBezTo>
                  <a:pt x="15501" y="8092"/>
                  <a:pt x="15852" y="7678"/>
                  <a:pt x="16148" y="7243"/>
                </a:cubicBezTo>
                <a:cubicBezTo>
                  <a:pt x="16329" y="6977"/>
                  <a:pt x="16496" y="6722"/>
                  <a:pt x="16694" y="6474"/>
                </a:cubicBezTo>
                <a:cubicBezTo>
                  <a:pt x="16732" y="6427"/>
                  <a:pt x="16779" y="6379"/>
                  <a:pt x="16818" y="6325"/>
                </a:cubicBezTo>
                <a:cubicBezTo>
                  <a:pt x="16818" y="6297"/>
                  <a:pt x="16820" y="6287"/>
                  <a:pt x="16842" y="6276"/>
                </a:cubicBezTo>
              </a:path>
              <a:path w="8757" h="5160">
                <a:moveTo>
                  <a:pt x="17636" y="5779"/>
                </a:moveTo>
                <a:cubicBezTo>
                  <a:pt x="17845" y="5660"/>
                  <a:pt x="18058" y="5525"/>
                  <a:pt x="18281" y="5432"/>
                </a:cubicBezTo>
                <a:cubicBezTo>
                  <a:pt x="18626" y="5288"/>
                  <a:pt x="18989" y="5205"/>
                  <a:pt x="19348" y="5110"/>
                </a:cubicBezTo>
                <a:cubicBezTo>
                  <a:pt x="19528" y="5063"/>
                  <a:pt x="19715" y="5029"/>
                  <a:pt x="19893" y="4986"/>
                </a:cubicBezTo>
                <a:cubicBezTo>
                  <a:pt x="19999" y="4960"/>
                  <a:pt x="20111" y="4944"/>
                  <a:pt x="20216" y="4911"/>
                </a:cubicBezTo>
                <a:cubicBezTo>
                  <a:pt x="20232" y="4903"/>
                  <a:pt x="20249" y="4895"/>
                  <a:pt x="20265" y="4887"/>
                </a:cubicBezTo>
                <a:cubicBezTo>
                  <a:pt x="20211" y="4815"/>
                  <a:pt x="20260" y="4787"/>
                  <a:pt x="20117" y="4762"/>
                </a:cubicBezTo>
                <a:cubicBezTo>
                  <a:pt x="20092" y="4762"/>
                  <a:pt x="20067" y="4762"/>
                  <a:pt x="20042" y="4762"/>
                </a:cubicBezTo>
                <a:cubicBezTo>
                  <a:pt x="20076" y="4773"/>
                  <a:pt x="20288" y="4814"/>
                  <a:pt x="20290" y="4837"/>
                </a:cubicBezTo>
                <a:cubicBezTo>
                  <a:pt x="20299" y="4922"/>
                  <a:pt x="20187" y="5067"/>
                  <a:pt x="20141" y="5135"/>
                </a:cubicBezTo>
                <a:cubicBezTo>
                  <a:pt x="20133" y="5143"/>
                  <a:pt x="20125" y="5151"/>
                  <a:pt x="20117" y="5159"/>
                </a:cubicBezTo>
              </a:path>
              <a:path w="8757" h="5160">
                <a:moveTo>
                  <a:pt x="15180" y="8657"/>
                </a:moveTo>
                <a:cubicBezTo>
                  <a:pt x="15144" y="8581"/>
                  <a:pt x="15151" y="8795"/>
                  <a:pt x="15156" y="8830"/>
                </a:cubicBezTo>
                <a:cubicBezTo>
                  <a:pt x="15322" y="8789"/>
                  <a:pt x="15326" y="8755"/>
                  <a:pt x="15429" y="8632"/>
                </a:cubicBezTo>
              </a:path>
              <a:path w="8757" h="5160">
                <a:moveTo>
                  <a:pt x="16346" y="5730"/>
                </a:moveTo>
                <a:cubicBezTo>
                  <a:pt x="16356" y="5771"/>
                  <a:pt x="16405" y="5991"/>
                  <a:pt x="16495" y="5978"/>
                </a:cubicBezTo>
                <a:cubicBezTo>
                  <a:pt x="16598" y="5926"/>
                  <a:pt x="16635" y="5907"/>
                  <a:pt x="16694" y="5854"/>
                </a:cubicBezTo>
              </a:path>
              <a:path w="8757" h="5160">
                <a:moveTo>
                  <a:pt x="16743" y="5755"/>
                </a:moveTo>
                <a:cubicBezTo>
                  <a:pt x="16743" y="5801"/>
                  <a:pt x="16755" y="5827"/>
                  <a:pt x="16793" y="5854"/>
                </a:cubicBezTo>
              </a:path>
              <a:path w="8757" h="5160">
                <a:moveTo>
                  <a:pt x="16669" y="5631"/>
                </a:moveTo>
                <a:cubicBezTo>
                  <a:pt x="16685" y="5631"/>
                  <a:pt x="16702" y="5631"/>
                  <a:pt x="16718" y="5631"/>
                </a:cubicBezTo>
              </a:path>
              <a:path w="8757" h="5160">
                <a:moveTo>
                  <a:pt x="16718" y="5631"/>
                </a:moveTo>
                <a:lnTo>
                  <a:pt x="16718" y="5631"/>
                </a:lnTo>
              </a:path>
              <a:path w="8757" h="5160">
                <a:moveTo>
                  <a:pt x="16917" y="5531"/>
                </a:moveTo>
                <a:cubicBezTo>
                  <a:pt x="16838" y="5626"/>
                  <a:pt x="16818" y="5617"/>
                  <a:pt x="16842" y="5730"/>
                </a:cubicBezTo>
                <a:cubicBezTo>
                  <a:pt x="16887" y="5710"/>
                  <a:pt x="16989" y="5627"/>
                  <a:pt x="16991" y="5655"/>
                </a:cubicBezTo>
                <a:cubicBezTo>
                  <a:pt x="17000" y="5803"/>
                  <a:pt x="16991" y="5954"/>
                  <a:pt x="16991" y="6102"/>
                </a:cubicBezTo>
                <a:cubicBezTo>
                  <a:pt x="16991" y="5911"/>
                  <a:pt x="16977" y="5771"/>
                  <a:pt x="16966" y="5581"/>
                </a:cubicBezTo>
              </a:path>
              <a:path w="8757" h="5160">
                <a:moveTo>
                  <a:pt x="16966" y="5209"/>
                </a:moveTo>
                <a:cubicBezTo>
                  <a:pt x="17021" y="5296"/>
                  <a:pt x="17136" y="5552"/>
                  <a:pt x="17140" y="5556"/>
                </a:cubicBezTo>
                <a:cubicBezTo>
                  <a:pt x="17178" y="5414"/>
                  <a:pt x="17144" y="5173"/>
                  <a:pt x="17289" y="5432"/>
                </a:cubicBezTo>
                <a:cubicBezTo>
                  <a:pt x="17358" y="5555"/>
                  <a:pt x="17348" y="5667"/>
                  <a:pt x="17363" y="5457"/>
                </a:cubicBezTo>
              </a:path>
              <a:path w="8757" h="5160">
                <a:moveTo>
                  <a:pt x="17264" y="4936"/>
                </a:moveTo>
                <a:cubicBezTo>
                  <a:pt x="17340" y="5088"/>
                  <a:pt x="17464" y="5261"/>
                  <a:pt x="17487" y="5432"/>
                </a:cubicBezTo>
                <a:cubicBezTo>
                  <a:pt x="17479" y="5440"/>
                  <a:pt x="17470" y="5449"/>
                  <a:pt x="17462" y="5457"/>
                </a:cubicBezTo>
              </a:path>
              <a:path w="8757" h="5160">
                <a:moveTo>
                  <a:pt x="17438" y="5184"/>
                </a:moveTo>
                <a:cubicBezTo>
                  <a:pt x="17479" y="5176"/>
                  <a:pt x="17521" y="5167"/>
                  <a:pt x="17562" y="5159"/>
                </a:cubicBezTo>
              </a:path>
              <a:path w="8757" h="5160">
                <a:moveTo>
                  <a:pt x="17636" y="5060"/>
                </a:moveTo>
                <a:cubicBezTo>
                  <a:pt x="17675" y="5125"/>
                  <a:pt x="17821" y="5166"/>
                  <a:pt x="17835" y="5259"/>
                </a:cubicBezTo>
                <a:cubicBezTo>
                  <a:pt x="17852" y="5370"/>
                  <a:pt x="17696" y="5439"/>
                  <a:pt x="17636" y="5482"/>
                </a:cubicBezTo>
              </a:path>
              <a:path w="8757" h="5160">
                <a:moveTo>
                  <a:pt x="19670" y="4068"/>
                </a:moveTo>
                <a:cubicBezTo>
                  <a:pt x="19657" y="4268"/>
                  <a:pt x="19645" y="4462"/>
                  <a:pt x="19645" y="4663"/>
                </a:cubicBezTo>
                <a:cubicBezTo>
                  <a:pt x="19645" y="4655"/>
                  <a:pt x="19645" y="4646"/>
                  <a:pt x="19645" y="4638"/>
                </a:cubicBezTo>
              </a:path>
              <a:path w="8757" h="5160">
                <a:moveTo>
                  <a:pt x="19844" y="4068"/>
                </a:moveTo>
                <a:cubicBezTo>
                  <a:pt x="19801" y="4217"/>
                  <a:pt x="19778" y="4249"/>
                  <a:pt x="19819" y="4341"/>
                </a:cubicBezTo>
                <a:cubicBezTo>
                  <a:pt x="19946" y="4292"/>
                  <a:pt x="20111" y="4144"/>
                  <a:pt x="19918" y="4018"/>
                </a:cubicBezTo>
                <a:cubicBezTo>
                  <a:pt x="19885" y="4010"/>
                  <a:pt x="19852" y="4002"/>
                  <a:pt x="19819" y="3994"/>
                </a:cubicBezTo>
              </a:path>
              <a:path w="8757" h="5160">
                <a:moveTo>
                  <a:pt x="19447" y="3746"/>
                </a:moveTo>
                <a:cubicBezTo>
                  <a:pt x="19233" y="4302"/>
                  <a:pt x="19223" y="4309"/>
                  <a:pt x="19496" y="4837"/>
                </a:cubicBezTo>
                <a:cubicBezTo>
                  <a:pt x="19923" y="4728"/>
                  <a:pt x="20429" y="4397"/>
                  <a:pt x="20042" y="3845"/>
                </a:cubicBezTo>
                <a:cubicBezTo>
                  <a:pt x="19802" y="3677"/>
                  <a:pt x="19729" y="3619"/>
                  <a:pt x="19521" y="36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41840" y="3295800"/>
            <a:ext cx="366480" cy="330120"/>
          </a:xfrm>
          <a:custGeom>
            <a:avLst/>
            <a:gdLst/>
            <a:ahLst/>
            <a:rect l="l" t="t" r="r" b="b"/>
            <a:pathLst>
              <a:path w="1018" h="919">
                <a:moveTo>
                  <a:pt x="10716" y="9475"/>
                </a:moveTo>
                <a:cubicBezTo>
                  <a:pt x="10757" y="9450"/>
                  <a:pt x="10987" y="9308"/>
                  <a:pt x="10964" y="9475"/>
                </a:cubicBezTo>
                <a:cubicBezTo>
                  <a:pt x="10910" y="9583"/>
                  <a:pt x="10886" y="9623"/>
                  <a:pt x="10815" y="9674"/>
                </a:cubicBezTo>
                <a:cubicBezTo>
                  <a:pt x="10879" y="9669"/>
                  <a:pt x="11214" y="9628"/>
                  <a:pt x="11013" y="9798"/>
                </a:cubicBezTo>
                <a:cubicBezTo>
                  <a:pt x="10876" y="9914"/>
                  <a:pt x="10676" y="9963"/>
                  <a:pt x="10765" y="9748"/>
                </a:cubicBezTo>
              </a:path>
              <a:path w="1018" h="919">
                <a:moveTo>
                  <a:pt x="10790" y="9153"/>
                </a:moveTo>
                <a:cubicBezTo>
                  <a:pt x="10461" y="9347"/>
                  <a:pt x="10129" y="9682"/>
                  <a:pt x="10641" y="9996"/>
                </a:cubicBezTo>
                <a:cubicBezTo>
                  <a:pt x="10940" y="10179"/>
                  <a:pt x="11559" y="9986"/>
                  <a:pt x="11410" y="9550"/>
                </a:cubicBezTo>
                <a:cubicBezTo>
                  <a:pt x="11346" y="9363"/>
                  <a:pt x="11164" y="9342"/>
                  <a:pt x="11013" y="927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14800" y="955800"/>
            <a:ext cx="1098360" cy="1776240"/>
          </a:xfrm>
          <a:custGeom>
            <a:avLst/>
            <a:gdLst/>
            <a:ahLst/>
            <a:rect l="l" t="t" r="r" b="b"/>
            <a:pathLst>
              <a:path w="3052" h="4937">
                <a:moveTo>
                  <a:pt x="11286" y="6623"/>
                </a:moveTo>
                <a:cubicBezTo>
                  <a:pt x="11286" y="6539"/>
                  <a:pt x="11265" y="6689"/>
                  <a:pt x="11261" y="6772"/>
                </a:cubicBezTo>
                <a:cubicBezTo>
                  <a:pt x="11256" y="6874"/>
                  <a:pt x="11256" y="7040"/>
                  <a:pt x="11261" y="7045"/>
                </a:cubicBezTo>
                <a:cubicBezTo>
                  <a:pt x="11285" y="6895"/>
                  <a:pt x="11311" y="6750"/>
                  <a:pt x="11311" y="6598"/>
                </a:cubicBezTo>
                <a:cubicBezTo>
                  <a:pt x="11285" y="6701"/>
                  <a:pt x="11201" y="6862"/>
                  <a:pt x="11212" y="6970"/>
                </a:cubicBezTo>
                <a:cubicBezTo>
                  <a:pt x="11219" y="7034"/>
                  <a:pt x="11275" y="6860"/>
                  <a:pt x="11286" y="6796"/>
                </a:cubicBezTo>
                <a:cubicBezTo>
                  <a:pt x="11248" y="6859"/>
                  <a:pt x="11242" y="6945"/>
                  <a:pt x="11212" y="7020"/>
                </a:cubicBezTo>
                <a:cubicBezTo>
                  <a:pt x="11212" y="6983"/>
                  <a:pt x="11270" y="6906"/>
                  <a:pt x="11237" y="6921"/>
                </a:cubicBezTo>
                <a:cubicBezTo>
                  <a:pt x="11194" y="6941"/>
                  <a:pt x="11152" y="6920"/>
                  <a:pt x="11063" y="6896"/>
                </a:cubicBezTo>
                <a:cubicBezTo>
                  <a:pt x="10920" y="6858"/>
                  <a:pt x="10763" y="6850"/>
                  <a:pt x="10616" y="6846"/>
                </a:cubicBezTo>
                <a:cubicBezTo>
                  <a:pt x="10515" y="6843"/>
                  <a:pt x="10458" y="6807"/>
                  <a:pt x="10368" y="6772"/>
                </a:cubicBezTo>
                <a:cubicBezTo>
                  <a:pt x="10292" y="6742"/>
                  <a:pt x="10305" y="6718"/>
                  <a:pt x="10244" y="6697"/>
                </a:cubicBezTo>
                <a:cubicBezTo>
                  <a:pt x="10236" y="6697"/>
                  <a:pt x="10228" y="6697"/>
                  <a:pt x="10220" y="6697"/>
                </a:cubicBezTo>
                <a:cubicBezTo>
                  <a:pt x="10338" y="6657"/>
                  <a:pt x="10465" y="6672"/>
                  <a:pt x="10592" y="6672"/>
                </a:cubicBezTo>
                <a:cubicBezTo>
                  <a:pt x="10704" y="6672"/>
                  <a:pt x="10803" y="6697"/>
                  <a:pt x="10914" y="6697"/>
                </a:cubicBezTo>
                <a:cubicBezTo>
                  <a:pt x="11026" y="6697"/>
                  <a:pt x="11159" y="6674"/>
                  <a:pt x="11261" y="6722"/>
                </a:cubicBezTo>
                <a:cubicBezTo>
                  <a:pt x="11302" y="6742"/>
                  <a:pt x="11308" y="6751"/>
                  <a:pt x="11336" y="6747"/>
                </a:cubicBezTo>
              </a:path>
              <a:path w="3052" h="4937">
                <a:moveTo>
                  <a:pt x="11187" y="6499"/>
                </a:moveTo>
                <a:cubicBezTo>
                  <a:pt x="11055" y="6554"/>
                  <a:pt x="10919" y="6597"/>
                  <a:pt x="10889" y="6772"/>
                </a:cubicBezTo>
                <a:cubicBezTo>
                  <a:pt x="10864" y="6914"/>
                  <a:pt x="10952" y="6991"/>
                  <a:pt x="11038" y="7069"/>
                </a:cubicBezTo>
                <a:cubicBezTo>
                  <a:pt x="11155" y="6939"/>
                  <a:pt x="11161" y="6706"/>
                  <a:pt x="11038" y="6548"/>
                </a:cubicBezTo>
                <a:cubicBezTo>
                  <a:pt x="10887" y="6354"/>
                  <a:pt x="10756" y="6701"/>
                  <a:pt x="10740" y="6796"/>
                </a:cubicBezTo>
                <a:cubicBezTo>
                  <a:pt x="10699" y="7038"/>
                  <a:pt x="10760" y="6959"/>
                  <a:pt x="10864" y="6871"/>
                </a:cubicBezTo>
                <a:cubicBezTo>
                  <a:pt x="10881" y="6799"/>
                  <a:pt x="11009" y="6442"/>
                  <a:pt x="10765" y="6548"/>
                </a:cubicBezTo>
                <a:cubicBezTo>
                  <a:pt x="10612" y="6615"/>
                  <a:pt x="10415" y="6864"/>
                  <a:pt x="10616" y="6995"/>
                </a:cubicBezTo>
                <a:cubicBezTo>
                  <a:pt x="10649" y="7003"/>
                  <a:pt x="10683" y="7012"/>
                  <a:pt x="10716" y="7020"/>
                </a:cubicBezTo>
                <a:cubicBezTo>
                  <a:pt x="10769" y="6888"/>
                  <a:pt x="10940" y="6500"/>
                  <a:pt x="10641" y="6499"/>
                </a:cubicBezTo>
                <a:cubicBezTo>
                  <a:pt x="10413" y="6498"/>
                  <a:pt x="10369" y="6801"/>
                  <a:pt x="10368" y="6945"/>
                </a:cubicBezTo>
                <a:cubicBezTo>
                  <a:pt x="10580" y="7038"/>
                  <a:pt x="10664" y="6901"/>
                  <a:pt x="10616" y="6648"/>
                </a:cubicBezTo>
                <a:cubicBezTo>
                  <a:pt x="10600" y="6623"/>
                  <a:pt x="10583" y="6598"/>
                  <a:pt x="10567" y="6573"/>
                </a:cubicBezTo>
                <a:cubicBezTo>
                  <a:pt x="10427" y="6648"/>
                  <a:pt x="10282" y="6757"/>
                  <a:pt x="10319" y="6945"/>
                </a:cubicBezTo>
                <a:cubicBezTo>
                  <a:pt x="10335" y="6970"/>
                  <a:pt x="10352" y="6995"/>
                  <a:pt x="10368" y="7020"/>
                </a:cubicBezTo>
                <a:cubicBezTo>
                  <a:pt x="10532" y="6901"/>
                  <a:pt x="10541" y="6710"/>
                  <a:pt x="10418" y="6524"/>
                </a:cubicBezTo>
                <a:cubicBezTo>
                  <a:pt x="10313" y="6366"/>
                  <a:pt x="10141" y="6622"/>
                  <a:pt x="10096" y="6697"/>
                </a:cubicBezTo>
                <a:cubicBezTo>
                  <a:pt x="10057" y="6762"/>
                  <a:pt x="10073" y="6771"/>
                  <a:pt x="10120" y="6747"/>
                </a:cubicBezTo>
              </a:path>
              <a:path w="3052" h="4937">
                <a:moveTo>
                  <a:pt x="10443" y="7317"/>
                </a:moveTo>
                <a:cubicBezTo>
                  <a:pt x="10403" y="7398"/>
                  <a:pt x="10418" y="7492"/>
                  <a:pt x="10418" y="7590"/>
                </a:cubicBezTo>
                <a:cubicBezTo>
                  <a:pt x="10468" y="7586"/>
                  <a:pt x="10712" y="7570"/>
                  <a:pt x="10592" y="7541"/>
                </a:cubicBezTo>
              </a:path>
              <a:path w="3052" h="4937">
                <a:moveTo>
                  <a:pt x="10418" y="7441"/>
                </a:moveTo>
                <a:cubicBezTo>
                  <a:pt x="10482" y="7404"/>
                  <a:pt x="10598" y="7369"/>
                  <a:pt x="10592" y="7367"/>
                </a:cubicBezTo>
                <a:cubicBezTo>
                  <a:pt x="10551" y="7350"/>
                  <a:pt x="10509" y="7334"/>
                  <a:pt x="10468" y="7317"/>
                </a:cubicBezTo>
              </a:path>
              <a:path w="3052" h="4937">
                <a:moveTo>
                  <a:pt x="10393" y="7268"/>
                </a:moveTo>
                <a:cubicBezTo>
                  <a:pt x="10467" y="7186"/>
                  <a:pt x="10484" y="7169"/>
                  <a:pt x="10592" y="7169"/>
                </a:cubicBezTo>
              </a:path>
              <a:path w="3052" h="4937">
                <a:moveTo>
                  <a:pt x="10592" y="7169"/>
                </a:moveTo>
                <a:lnTo>
                  <a:pt x="10592" y="7169"/>
                </a:lnTo>
              </a:path>
              <a:path w="3052" h="4937">
                <a:moveTo>
                  <a:pt x="10765" y="7218"/>
                </a:moveTo>
                <a:cubicBezTo>
                  <a:pt x="10774" y="7273"/>
                  <a:pt x="10815" y="7573"/>
                  <a:pt x="10815" y="7541"/>
                </a:cubicBezTo>
                <a:cubicBezTo>
                  <a:pt x="10809" y="7412"/>
                  <a:pt x="10799" y="7292"/>
                  <a:pt x="10815" y="7169"/>
                </a:cubicBezTo>
                <a:cubicBezTo>
                  <a:pt x="10847" y="7239"/>
                  <a:pt x="10898" y="7475"/>
                  <a:pt x="10964" y="7293"/>
                </a:cubicBezTo>
                <a:cubicBezTo>
                  <a:pt x="10984" y="7187"/>
                  <a:pt x="10979" y="7159"/>
                  <a:pt x="11038" y="7119"/>
                </a:cubicBezTo>
                <a:cubicBezTo>
                  <a:pt x="11088" y="7238"/>
                  <a:pt x="11145" y="7375"/>
                  <a:pt x="11187" y="7491"/>
                </a:cubicBezTo>
                <a:cubicBezTo>
                  <a:pt x="11187" y="7499"/>
                  <a:pt x="11187" y="7508"/>
                  <a:pt x="11187" y="7516"/>
                </a:cubicBezTo>
              </a:path>
              <a:path w="3052" h="4937">
                <a:moveTo>
                  <a:pt x="10096" y="6821"/>
                </a:moveTo>
                <a:cubicBezTo>
                  <a:pt x="10071" y="6821"/>
                  <a:pt x="10063" y="6821"/>
                  <a:pt x="10071" y="6846"/>
                </a:cubicBezTo>
              </a:path>
              <a:path w="3052" h="4937">
                <a:moveTo>
                  <a:pt x="10220" y="5507"/>
                </a:moveTo>
                <a:cubicBezTo>
                  <a:pt x="10220" y="5594"/>
                  <a:pt x="10232" y="5667"/>
                  <a:pt x="10244" y="5755"/>
                </a:cubicBezTo>
                <a:cubicBezTo>
                  <a:pt x="10265" y="5906"/>
                  <a:pt x="10266" y="6054"/>
                  <a:pt x="10294" y="6201"/>
                </a:cubicBezTo>
              </a:path>
              <a:path w="3052" h="4937">
                <a:moveTo>
                  <a:pt x="10542" y="5358"/>
                </a:moveTo>
                <a:cubicBezTo>
                  <a:pt x="10520" y="5578"/>
                  <a:pt x="10575" y="5760"/>
                  <a:pt x="10616" y="5978"/>
                </a:cubicBezTo>
                <a:cubicBezTo>
                  <a:pt x="10616" y="5986"/>
                  <a:pt x="10616" y="5995"/>
                  <a:pt x="10616" y="6003"/>
                </a:cubicBezTo>
              </a:path>
              <a:path w="3052" h="4937">
                <a:moveTo>
                  <a:pt x="10096" y="6772"/>
                </a:moveTo>
                <a:cubicBezTo>
                  <a:pt x="10035" y="6807"/>
                  <a:pt x="10001" y="6799"/>
                  <a:pt x="9947" y="6747"/>
                </a:cubicBezTo>
                <a:cubicBezTo>
                  <a:pt x="9852" y="6657"/>
                  <a:pt x="9809" y="6600"/>
                  <a:pt x="9773" y="6474"/>
                </a:cubicBezTo>
                <a:cubicBezTo>
                  <a:pt x="9731" y="6327"/>
                  <a:pt x="9747" y="6319"/>
                  <a:pt x="9773" y="6176"/>
                </a:cubicBezTo>
                <a:cubicBezTo>
                  <a:pt x="9788" y="6093"/>
                  <a:pt x="9849" y="6033"/>
                  <a:pt x="9922" y="5978"/>
                </a:cubicBezTo>
                <a:cubicBezTo>
                  <a:pt x="9991" y="5926"/>
                  <a:pt x="10086" y="5885"/>
                  <a:pt x="10170" y="5879"/>
                </a:cubicBezTo>
                <a:cubicBezTo>
                  <a:pt x="10195" y="5879"/>
                  <a:pt x="10203" y="5879"/>
                  <a:pt x="10195" y="5854"/>
                </a:cubicBezTo>
              </a:path>
              <a:path w="3052" h="4937">
                <a:moveTo>
                  <a:pt x="10492" y="5358"/>
                </a:moveTo>
                <a:cubicBezTo>
                  <a:pt x="10492" y="5292"/>
                  <a:pt x="10492" y="5225"/>
                  <a:pt x="10492" y="5159"/>
                </a:cubicBezTo>
                <a:cubicBezTo>
                  <a:pt x="10531" y="5172"/>
                  <a:pt x="10509" y="5368"/>
                  <a:pt x="10517" y="5432"/>
                </a:cubicBezTo>
                <a:cubicBezTo>
                  <a:pt x="10549" y="5683"/>
                  <a:pt x="10617" y="5928"/>
                  <a:pt x="10666" y="6176"/>
                </a:cubicBezTo>
                <a:cubicBezTo>
                  <a:pt x="10685" y="6270"/>
                  <a:pt x="10716" y="6354"/>
                  <a:pt x="10716" y="6449"/>
                </a:cubicBezTo>
                <a:cubicBezTo>
                  <a:pt x="10716" y="6495"/>
                  <a:pt x="10714" y="6526"/>
                  <a:pt x="10740" y="6499"/>
                </a:cubicBezTo>
              </a:path>
              <a:path w="3052" h="4937">
                <a:moveTo>
                  <a:pt x="10716" y="5457"/>
                </a:moveTo>
                <a:cubicBezTo>
                  <a:pt x="10688" y="5466"/>
                  <a:pt x="10671" y="5491"/>
                  <a:pt x="10666" y="5531"/>
                </a:cubicBezTo>
                <a:cubicBezTo>
                  <a:pt x="10659" y="5595"/>
                  <a:pt x="10696" y="5576"/>
                  <a:pt x="10716" y="5606"/>
                </a:cubicBezTo>
                <a:cubicBezTo>
                  <a:pt x="10762" y="5675"/>
                  <a:pt x="10744" y="5611"/>
                  <a:pt x="10765" y="5581"/>
                </a:cubicBezTo>
                <a:cubicBezTo>
                  <a:pt x="10826" y="5496"/>
                  <a:pt x="10792" y="5521"/>
                  <a:pt x="10765" y="5457"/>
                </a:cubicBezTo>
                <a:cubicBezTo>
                  <a:pt x="10765" y="5429"/>
                  <a:pt x="10763" y="5418"/>
                  <a:pt x="10740" y="5407"/>
                </a:cubicBezTo>
                <a:cubicBezTo>
                  <a:pt x="10647" y="5420"/>
                  <a:pt x="10623" y="5476"/>
                  <a:pt x="10641" y="5581"/>
                </a:cubicBezTo>
                <a:cubicBezTo>
                  <a:pt x="10663" y="5625"/>
                  <a:pt x="10666" y="5636"/>
                  <a:pt x="10691" y="5655"/>
                </a:cubicBezTo>
                <a:cubicBezTo>
                  <a:pt x="10749" y="5699"/>
                  <a:pt x="10800" y="5660"/>
                  <a:pt x="10790" y="5581"/>
                </a:cubicBezTo>
                <a:cubicBezTo>
                  <a:pt x="10785" y="5544"/>
                  <a:pt x="10763" y="5419"/>
                  <a:pt x="10691" y="5457"/>
                </a:cubicBezTo>
                <a:cubicBezTo>
                  <a:pt x="10592" y="5510"/>
                  <a:pt x="10648" y="5615"/>
                  <a:pt x="10691" y="5680"/>
                </a:cubicBezTo>
                <a:cubicBezTo>
                  <a:pt x="10769" y="5680"/>
                  <a:pt x="10761" y="5663"/>
                  <a:pt x="10765" y="5581"/>
                </a:cubicBezTo>
                <a:cubicBezTo>
                  <a:pt x="10768" y="5520"/>
                  <a:pt x="10746" y="5505"/>
                  <a:pt x="10716" y="5482"/>
                </a:cubicBezTo>
                <a:cubicBezTo>
                  <a:pt x="10708" y="5474"/>
                  <a:pt x="10699" y="5465"/>
                  <a:pt x="10691" y="5457"/>
                </a:cubicBezTo>
                <a:cubicBezTo>
                  <a:pt x="10649" y="5506"/>
                  <a:pt x="10597" y="5681"/>
                  <a:pt x="10716" y="5730"/>
                </a:cubicBezTo>
                <a:cubicBezTo>
                  <a:pt x="10813" y="5770"/>
                  <a:pt x="10768" y="5578"/>
                  <a:pt x="10765" y="5556"/>
                </a:cubicBezTo>
                <a:cubicBezTo>
                  <a:pt x="10715" y="5548"/>
                  <a:pt x="10662" y="5513"/>
                  <a:pt x="10666" y="5631"/>
                </a:cubicBezTo>
                <a:cubicBezTo>
                  <a:pt x="10667" y="5659"/>
                  <a:pt x="10702" y="5844"/>
                  <a:pt x="10765" y="5730"/>
                </a:cubicBezTo>
                <a:cubicBezTo>
                  <a:pt x="10779" y="5705"/>
                  <a:pt x="10796" y="5595"/>
                  <a:pt x="10765" y="5655"/>
                </a:cubicBezTo>
              </a:path>
              <a:path w="3052" h="4937">
                <a:moveTo>
                  <a:pt x="10765" y="5531"/>
                </a:moveTo>
                <a:cubicBezTo>
                  <a:pt x="10708" y="5504"/>
                  <a:pt x="10836" y="5489"/>
                  <a:pt x="10864" y="5457"/>
                </a:cubicBezTo>
                <a:cubicBezTo>
                  <a:pt x="10897" y="5419"/>
                  <a:pt x="10916" y="5402"/>
                  <a:pt x="10964" y="5358"/>
                </a:cubicBezTo>
                <a:cubicBezTo>
                  <a:pt x="10995" y="5330"/>
                  <a:pt x="11017" y="5274"/>
                  <a:pt x="11038" y="5234"/>
                </a:cubicBezTo>
                <a:cubicBezTo>
                  <a:pt x="11067" y="5180"/>
                  <a:pt x="11084" y="5095"/>
                  <a:pt x="11088" y="5035"/>
                </a:cubicBezTo>
                <a:cubicBezTo>
                  <a:pt x="11098" y="4885"/>
                  <a:pt x="11087" y="4731"/>
                  <a:pt x="11063" y="4589"/>
                </a:cubicBezTo>
                <a:cubicBezTo>
                  <a:pt x="11053" y="4531"/>
                  <a:pt x="11088" y="4477"/>
                  <a:pt x="11088" y="4415"/>
                </a:cubicBezTo>
                <a:cubicBezTo>
                  <a:pt x="11088" y="4382"/>
                  <a:pt x="11088" y="4349"/>
                  <a:pt x="11088" y="4316"/>
                </a:cubicBezTo>
              </a:path>
              <a:path w="3052" h="4937">
                <a:moveTo>
                  <a:pt x="10864" y="5531"/>
                </a:moveTo>
                <a:cubicBezTo>
                  <a:pt x="10864" y="5556"/>
                  <a:pt x="10864" y="5564"/>
                  <a:pt x="10864" y="5581"/>
                </a:cubicBezTo>
                <a:cubicBezTo>
                  <a:pt x="10922" y="5581"/>
                  <a:pt x="10934" y="5553"/>
                  <a:pt x="10964" y="5531"/>
                </a:cubicBezTo>
                <a:cubicBezTo>
                  <a:pt x="11019" y="5490"/>
                  <a:pt x="11051" y="5469"/>
                  <a:pt x="11088" y="5407"/>
                </a:cubicBezTo>
                <a:cubicBezTo>
                  <a:pt x="11117" y="5359"/>
                  <a:pt x="11148" y="5314"/>
                  <a:pt x="11162" y="5259"/>
                </a:cubicBezTo>
                <a:cubicBezTo>
                  <a:pt x="11230" y="4991"/>
                  <a:pt x="11162" y="4620"/>
                  <a:pt x="11162" y="4341"/>
                </a:cubicBezTo>
              </a:path>
              <a:path w="3052" h="4937">
                <a:moveTo>
                  <a:pt x="11112" y="4167"/>
                </a:moveTo>
                <a:cubicBezTo>
                  <a:pt x="11098" y="4123"/>
                  <a:pt x="11057" y="4149"/>
                  <a:pt x="11038" y="4192"/>
                </a:cubicBezTo>
                <a:cubicBezTo>
                  <a:pt x="11007" y="4261"/>
                  <a:pt x="11095" y="4263"/>
                  <a:pt x="11137" y="4266"/>
                </a:cubicBezTo>
                <a:cubicBezTo>
                  <a:pt x="11172" y="4266"/>
                  <a:pt x="11190" y="4262"/>
                  <a:pt x="11212" y="4242"/>
                </a:cubicBezTo>
                <a:cubicBezTo>
                  <a:pt x="11298" y="4172"/>
                  <a:pt x="11180" y="4171"/>
                  <a:pt x="11112" y="4192"/>
                </a:cubicBezTo>
                <a:cubicBezTo>
                  <a:pt x="11058" y="4209"/>
                  <a:pt x="11094" y="4236"/>
                  <a:pt x="11112" y="4242"/>
                </a:cubicBezTo>
                <a:cubicBezTo>
                  <a:pt x="11138" y="4240"/>
                  <a:pt x="11340" y="4196"/>
                  <a:pt x="11187" y="4167"/>
                </a:cubicBezTo>
                <a:cubicBezTo>
                  <a:pt x="11154" y="4161"/>
                  <a:pt x="11100" y="4167"/>
                  <a:pt x="11063" y="4167"/>
                </a:cubicBezTo>
                <a:cubicBezTo>
                  <a:pt x="11072" y="4195"/>
                  <a:pt x="11114" y="4214"/>
                  <a:pt x="11137" y="4167"/>
                </a:cubicBezTo>
                <a:cubicBezTo>
                  <a:pt x="11167" y="4106"/>
                  <a:pt x="11089" y="4166"/>
                  <a:pt x="11088" y="4167"/>
                </a:cubicBezTo>
              </a:path>
              <a:path w="3052" h="4937">
                <a:moveTo>
                  <a:pt x="11137" y="4167"/>
                </a:moveTo>
                <a:cubicBezTo>
                  <a:pt x="11152" y="4107"/>
                  <a:pt x="11143" y="4159"/>
                  <a:pt x="11137" y="4093"/>
                </a:cubicBezTo>
                <a:cubicBezTo>
                  <a:pt x="11127" y="3984"/>
                  <a:pt x="11123" y="3838"/>
                  <a:pt x="11162" y="3746"/>
                </a:cubicBezTo>
                <a:cubicBezTo>
                  <a:pt x="11179" y="3706"/>
                  <a:pt x="11171" y="3703"/>
                  <a:pt x="11187" y="3671"/>
                </a:cubicBezTo>
                <a:cubicBezTo>
                  <a:pt x="11204" y="3637"/>
                  <a:pt x="11225" y="3642"/>
                  <a:pt x="11261" y="3621"/>
                </a:cubicBezTo>
                <a:cubicBezTo>
                  <a:pt x="11268" y="3617"/>
                  <a:pt x="11309" y="3577"/>
                  <a:pt x="11336" y="3572"/>
                </a:cubicBezTo>
                <a:cubicBezTo>
                  <a:pt x="11412" y="3559"/>
                  <a:pt x="11577" y="3553"/>
                  <a:pt x="11633" y="3597"/>
                </a:cubicBezTo>
                <a:cubicBezTo>
                  <a:pt x="11725" y="3669"/>
                  <a:pt x="11769" y="3743"/>
                  <a:pt x="11832" y="3845"/>
                </a:cubicBezTo>
                <a:cubicBezTo>
                  <a:pt x="11907" y="3966"/>
                  <a:pt x="11931" y="4030"/>
                  <a:pt x="11956" y="4167"/>
                </a:cubicBezTo>
                <a:cubicBezTo>
                  <a:pt x="11976" y="4277"/>
                  <a:pt x="11999" y="4400"/>
                  <a:pt x="11981" y="4514"/>
                </a:cubicBezTo>
                <a:cubicBezTo>
                  <a:pt x="11961" y="4644"/>
                  <a:pt x="11931" y="4784"/>
                  <a:pt x="11906" y="4911"/>
                </a:cubicBezTo>
                <a:cubicBezTo>
                  <a:pt x="11889" y="4997"/>
                  <a:pt x="11847" y="5106"/>
                  <a:pt x="11807" y="5184"/>
                </a:cubicBezTo>
                <a:cubicBezTo>
                  <a:pt x="11768" y="5260"/>
                  <a:pt x="11739" y="5335"/>
                  <a:pt x="11708" y="5407"/>
                </a:cubicBezTo>
                <a:cubicBezTo>
                  <a:pt x="11654" y="5533"/>
                  <a:pt x="11612" y="5616"/>
                  <a:pt x="11609" y="5755"/>
                </a:cubicBezTo>
                <a:cubicBezTo>
                  <a:pt x="11607" y="5842"/>
                  <a:pt x="11639" y="5949"/>
                  <a:pt x="11633" y="6028"/>
                </a:cubicBezTo>
                <a:cubicBezTo>
                  <a:pt x="11627" y="6110"/>
                  <a:pt x="11609" y="6190"/>
                  <a:pt x="11609" y="6276"/>
                </a:cubicBezTo>
                <a:cubicBezTo>
                  <a:pt x="11609" y="6337"/>
                  <a:pt x="11597" y="6390"/>
                  <a:pt x="11584" y="6449"/>
                </a:cubicBezTo>
                <a:cubicBezTo>
                  <a:pt x="11562" y="6549"/>
                  <a:pt x="11536" y="6525"/>
                  <a:pt x="11485" y="6573"/>
                </a:cubicBezTo>
                <a:cubicBezTo>
                  <a:pt x="11389" y="6664"/>
                  <a:pt x="11416" y="6573"/>
                  <a:pt x="11361" y="6449"/>
                </a:cubicBezTo>
              </a:path>
              <a:path w="3052" h="4937">
                <a:moveTo>
                  <a:pt x="9178" y="3969"/>
                </a:moveTo>
                <a:cubicBezTo>
                  <a:pt x="9146" y="3905"/>
                  <a:pt x="9190" y="3986"/>
                  <a:pt x="9227" y="4018"/>
                </a:cubicBezTo>
                <a:cubicBezTo>
                  <a:pt x="9297" y="4078"/>
                  <a:pt x="9357" y="4129"/>
                  <a:pt x="9426" y="4192"/>
                </a:cubicBezTo>
                <a:cubicBezTo>
                  <a:pt x="9462" y="4225"/>
                  <a:pt x="9430" y="4246"/>
                  <a:pt x="9426" y="4316"/>
                </a:cubicBezTo>
                <a:cubicBezTo>
                  <a:pt x="9424" y="4346"/>
                  <a:pt x="9427" y="4423"/>
                  <a:pt x="9451" y="4440"/>
                </a:cubicBezTo>
                <a:cubicBezTo>
                  <a:pt x="9492" y="4469"/>
                  <a:pt x="9591" y="4420"/>
                  <a:pt x="9599" y="4415"/>
                </a:cubicBezTo>
                <a:cubicBezTo>
                  <a:pt x="9620" y="4402"/>
                  <a:pt x="9668" y="4312"/>
                  <a:pt x="9674" y="4291"/>
                </a:cubicBezTo>
                <a:cubicBezTo>
                  <a:pt x="9690" y="4233"/>
                  <a:pt x="9687" y="4133"/>
                  <a:pt x="9624" y="4118"/>
                </a:cubicBezTo>
                <a:cubicBezTo>
                  <a:pt x="9585" y="4109"/>
                  <a:pt x="9533" y="4148"/>
                  <a:pt x="9525" y="4142"/>
                </a:cubicBezTo>
                <a:cubicBezTo>
                  <a:pt x="9495" y="4118"/>
                  <a:pt x="9445" y="4050"/>
                  <a:pt x="9401" y="4018"/>
                </a:cubicBezTo>
                <a:cubicBezTo>
                  <a:pt x="9367" y="3993"/>
                  <a:pt x="9348" y="3988"/>
                  <a:pt x="9327" y="3969"/>
                </a:cubicBezTo>
                <a:cubicBezTo>
                  <a:pt x="9294" y="3939"/>
                  <a:pt x="9274" y="3939"/>
                  <a:pt x="9252" y="3919"/>
                </a:cubicBezTo>
                <a:cubicBezTo>
                  <a:pt x="9205" y="3877"/>
                  <a:pt x="9162" y="3782"/>
                  <a:pt x="9153" y="3721"/>
                </a:cubicBezTo>
                <a:cubicBezTo>
                  <a:pt x="9141" y="3643"/>
                  <a:pt x="9152" y="3567"/>
                  <a:pt x="9178" y="3497"/>
                </a:cubicBezTo>
                <a:cubicBezTo>
                  <a:pt x="9194" y="3454"/>
                  <a:pt x="9119" y="3503"/>
                  <a:pt x="9103" y="3547"/>
                </a:cubicBezTo>
                <a:cubicBezTo>
                  <a:pt x="9103" y="3572"/>
                  <a:pt x="9103" y="3596"/>
                  <a:pt x="9103" y="3621"/>
                </a:cubicBezTo>
                <a:cubicBezTo>
                  <a:pt x="9055" y="3622"/>
                  <a:pt x="9094" y="3662"/>
                  <a:pt x="9079" y="3572"/>
                </a:cubicBezTo>
                <a:cubicBezTo>
                  <a:pt x="9079" y="3439"/>
                  <a:pt x="9095" y="3675"/>
                  <a:pt x="9103" y="3696"/>
                </a:cubicBezTo>
                <a:cubicBezTo>
                  <a:pt x="9112" y="3720"/>
                  <a:pt x="9160" y="3752"/>
                  <a:pt x="9178" y="3770"/>
                </a:cubicBezTo>
                <a:cubicBezTo>
                  <a:pt x="9147" y="3775"/>
                  <a:pt x="9095" y="3763"/>
                  <a:pt x="9029" y="3721"/>
                </a:cubicBezTo>
                <a:cubicBezTo>
                  <a:pt x="9010" y="3709"/>
                  <a:pt x="8936" y="3620"/>
                  <a:pt x="8930" y="3597"/>
                </a:cubicBezTo>
                <a:cubicBezTo>
                  <a:pt x="8923" y="3573"/>
                  <a:pt x="8941" y="3594"/>
                  <a:pt x="8930" y="3572"/>
                </a:cubicBezTo>
                <a:cubicBezTo>
                  <a:pt x="8930" y="3735"/>
                  <a:pt x="8943" y="3795"/>
                  <a:pt x="9054" y="3919"/>
                </a:cubicBezTo>
                <a:cubicBezTo>
                  <a:pt x="9082" y="3951"/>
                  <a:pt x="9120" y="3968"/>
                  <a:pt x="9153" y="3994"/>
                </a:cubicBezTo>
              </a:path>
              <a:path w="3052" h="4937">
                <a:moveTo>
                  <a:pt x="9401" y="3919"/>
                </a:moveTo>
                <a:cubicBezTo>
                  <a:pt x="9376" y="3919"/>
                  <a:pt x="9368" y="3919"/>
                  <a:pt x="9351" y="3919"/>
                </a:cubicBezTo>
                <a:cubicBezTo>
                  <a:pt x="9410" y="3811"/>
                  <a:pt x="9480" y="3686"/>
                  <a:pt x="9525" y="3572"/>
                </a:cubicBezTo>
                <a:cubicBezTo>
                  <a:pt x="9573" y="3450"/>
                  <a:pt x="9626" y="3381"/>
                  <a:pt x="9699" y="3274"/>
                </a:cubicBezTo>
                <a:cubicBezTo>
                  <a:pt x="9743" y="3209"/>
                  <a:pt x="9775" y="3139"/>
                  <a:pt x="9823" y="3076"/>
                </a:cubicBezTo>
                <a:cubicBezTo>
                  <a:pt x="9848" y="3043"/>
                  <a:pt x="9862" y="3039"/>
                  <a:pt x="9872" y="3001"/>
                </a:cubicBezTo>
              </a:path>
              <a:path w="3052" h="4937">
                <a:moveTo>
                  <a:pt x="9575" y="3820"/>
                </a:moveTo>
                <a:cubicBezTo>
                  <a:pt x="9564" y="3866"/>
                  <a:pt x="9532" y="3905"/>
                  <a:pt x="9500" y="3944"/>
                </a:cubicBezTo>
                <a:cubicBezTo>
                  <a:pt x="9532" y="3848"/>
                  <a:pt x="9615" y="3781"/>
                  <a:pt x="9674" y="3696"/>
                </a:cubicBezTo>
                <a:cubicBezTo>
                  <a:pt x="9743" y="3596"/>
                  <a:pt x="9822" y="3492"/>
                  <a:pt x="9897" y="3398"/>
                </a:cubicBezTo>
                <a:cubicBezTo>
                  <a:pt x="9948" y="3334"/>
                  <a:pt x="10009" y="3295"/>
                  <a:pt x="10071" y="3249"/>
                </a:cubicBezTo>
                <a:cubicBezTo>
                  <a:pt x="10109" y="3221"/>
                  <a:pt x="10127" y="3200"/>
                  <a:pt x="10170" y="3175"/>
                </a:cubicBezTo>
                <a:cubicBezTo>
                  <a:pt x="10110" y="3163"/>
                  <a:pt x="10044" y="3140"/>
                  <a:pt x="9996" y="3101"/>
                </a:cubicBezTo>
                <a:cubicBezTo>
                  <a:pt x="9968" y="3079"/>
                  <a:pt x="9910" y="3057"/>
                  <a:pt x="9897" y="3051"/>
                </a:cubicBezTo>
                <a:cubicBezTo>
                  <a:pt x="9889" y="3051"/>
                  <a:pt x="9880" y="3051"/>
                  <a:pt x="9872" y="3051"/>
                </a:cubicBezTo>
              </a:path>
              <a:path w="3052" h="4937">
                <a:moveTo>
                  <a:pt x="10096" y="3051"/>
                </a:moveTo>
                <a:cubicBezTo>
                  <a:pt x="10038" y="3032"/>
                  <a:pt x="10083" y="2973"/>
                  <a:pt x="10096" y="2927"/>
                </a:cubicBezTo>
                <a:cubicBezTo>
                  <a:pt x="10103" y="2901"/>
                  <a:pt x="10207" y="2784"/>
                  <a:pt x="10195" y="2853"/>
                </a:cubicBezTo>
                <a:cubicBezTo>
                  <a:pt x="10171" y="2925"/>
                  <a:pt x="10164" y="2948"/>
                  <a:pt x="10120" y="2977"/>
                </a:cubicBezTo>
                <a:cubicBezTo>
                  <a:pt x="10079" y="2977"/>
                  <a:pt x="10063" y="2985"/>
                  <a:pt x="10071" y="2952"/>
                </a:cubicBezTo>
                <a:cubicBezTo>
                  <a:pt x="10159" y="2837"/>
                  <a:pt x="10211" y="2913"/>
                  <a:pt x="10145" y="3001"/>
                </a:cubicBezTo>
                <a:cubicBezTo>
                  <a:pt x="10061" y="3114"/>
                  <a:pt x="10117" y="2935"/>
                  <a:pt x="10120" y="2927"/>
                </a:cubicBezTo>
              </a:path>
              <a:path w="3052" h="4937">
                <a:moveTo>
                  <a:pt x="10244" y="2729"/>
                </a:moveTo>
                <a:cubicBezTo>
                  <a:pt x="10210" y="2694"/>
                  <a:pt x="10157" y="2775"/>
                  <a:pt x="10170" y="2828"/>
                </a:cubicBezTo>
                <a:cubicBezTo>
                  <a:pt x="10178" y="2828"/>
                  <a:pt x="10187" y="2828"/>
                  <a:pt x="10195" y="2828"/>
                </a:cubicBezTo>
                <a:cubicBezTo>
                  <a:pt x="10289" y="2785"/>
                  <a:pt x="10319" y="2782"/>
                  <a:pt x="10319" y="2679"/>
                </a:cubicBezTo>
                <a:cubicBezTo>
                  <a:pt x="10319" y="2592"/>
                  <a:pt x="10229" y="2732"/>
                  <a:pt x="10294" y="2704"/>
                </a:cubicBezTo>
                <a:cubicBezTo>
                  <a:pt x="10348" y="2681"/>
                  <a:pt x="10330" y="2659"/>
                  <a:pt x="10269" y="2679"/>
                </a:cubicBezTo>
                <a:cubicBezTo>
                  <a:pt x="10244" y="2679"/>
                  <a:pt x="10236" y="2679"/>
                  <a:pt x="10244" y="2704"/>
                </a:cubicBezTo>
                <a:cubicBezTo>
                  <a:pt x="10293" y="2696"/>
                  <a:pt x="10346" y="2623"/>
                  <a:pt x="10269" y="2654"/>
                </a:cubicBezTo>
                <a:cubicBezTo>
                  <a:pt x="10241" y="2682"/>
                  <a:pt x="10232" y="2696"/>
                  <a:pt x="10244" y="2729"/>
                </a:cubicBezTo>
              </a:path>
              <a:path w="3052" h="4937">
                <a:moveTo>
                  <a:pt x="9922" y="4167"/>
                </a:moveTo>
                <a:cubicBezTo>
                  <a:pt x="9981" y="4187"/>
                  <a:pt x="10040" y="4314"/>
                  <a:pt x="10096" y="4366"/>
                </a:cubicBezTo>
                <a:cubicBezTo>
                  <a:pt x="10210" y="4473"/>
                  <a:pt x="10340" y="4551"/>
                  <a:pt x="10468" y="4638"/>
                </a:cubicBezTo>
                <a:cubicBezTo>
                  <a:pt x="10517" y="4671"/>
                  <a:pt x="10640" y="4748"/>
                  <a:pt x="10666" y="4787"/>
                </a:cubicBezTo>
                <a:cubicBezTo>
                  <a:pt x="10666" y="4795"/>
                  <a:pt x="10666" y="4804"/>
                  <a:pt x="10666" y="4812"/>
                </a:cubicBezTo>
                <a:cubicBezTo>
                  <a:pt x="10666" y="4732"/>
                  <a:pt x="10633" y="4665"/>
                  <a:pt x="10616" y="4589"/>
                </a:cubicBezTo>
                <a:cubicBezTo>
                  <a:pt x="10616" y="4564"/>
                  <a:pt x="10616" y="4556"/>
                  <a:pt x="10616" y="4539"/>
                </a:cubicBezTo>
                <a:cubicBezTo>
                  <a:pt x="10631" y="4601"/>
                  <a:pt x="10669" y="4676"/>
                  <a:pt x="10691" y="4738"/>
                </a:cubicBezTo>
                <a:cubicBezTo>
                  <a:pt x="10711" y="4778"/>
                  <a:pt x="10720" y="4784"/>
                  <a:pt x="10716" y="4812"/>
                </a:cubicBezTo>
                <a:cubicBezTo>
                  <a:pt x="10624" y="4827"/>
                  <a:pt x="10565" y="4862"/>
                  <a:pt x="10468" y="48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59000" y="1446120"/>
            <a:ext cx="1438200" cy="1305000"/>
          </a:xfrm>
          <a:custGeom>
            <a:avLst/>
            <a:gdLst/>
            <a:ahLst/>
            <a:rect l="l" t="t" r="r" b="b"/>
            <a:pathLst>
              <a:path w="3994" h="3623">
                <a:moveTo>
                  <a:pt x="9649" y="4465"/>
                </a:moveTo>
                <a:cubicBezTo>
                  <a:pt x="9607" y="4444"/>
                  <a:pt x="9641" y="4444"/>
                  <a:pt x="9599" y="4465"/>
                </a:cubicBezTo>
                <a:cubicBezTo>
                  <a:pt x="9561" y="4484"/>
                  <a:pt x="9534" y="4505"/>
                  <a:pt x="9500" y="4539"/>
                </a:cubicBezTo>
                <a:cubicBezTo>
                  <a:pt x="9468" y="4571"/>
                  <a:pt x="9441" y="4643"/>
                  <a:pt x="9426" y="4688"/>
                </a:cubicBezTo>
                <a:cubicBezTo>
                  <a:pt x="9409" y="4741"/>
                  <a:pt x="9364" y="4813"/>
                  <a:pt x="9351" y="4862"/>
                </a:cubicBezTo>
                <a:cubicBezTo>
                  <a:pt x="9336" y="4918"/>
                  <a:pt x="9336" y="5004"/>
                  <a:pt x="9327" y="5060"/>
                </a:cubicBezTo>
                <a:cubicBezTo>
                  <a:pt x="9313" y="5148"/>
                  <a:pt x="9337" y="5234"/>
                  <a:pt x="9351" y="5308"/>
                </a:cubicBezTo>
                <a:cubicBezTo>
                  <a:pt x="9364" y="5374"/>
                  <a:pt x="9393" y="5417"/>
                  <a:pt x="9426" y="5482"/>
                </a:cubicBezTo>
                <a:cubicBezTo>
                  <a:pt x="9460" y="5549"/>
                  <a:pt x="9520" y="5585"/>
                  <a:pt x="9575" y="5631"/>
                </a:cubicBezTo>
                <a:cubicBezTo>
                  <a:pt x="9616" y="5665"/>
                  <a:pt x="9718" y="5668"/>
                  <a:pt x="9773" y="5655"/>
                </a:cubicBezTo>
                <a:cubicBezTo>
                  <a:pt x="9834" y="5641"/>
                  <a:pt x="9954" y="5574"/>
                  <a:pt x="9996" y="5531"/>
                </a:cubicBezTo>
                <a:cubicBezTo>
                  <a:pt x="10062" y="5462"/>
                  <a:pt x="10099" y="5361"/>
                  <a:pt x="10145" y="5283"/>
                </a:cubicBezTo>
                <a:cubicBezTo>
                  <a:pt x="10196" y="5195"/>
                  <a:pt x="10240" y="5140"/>
                  <a:pt x="10244" y="5035"/>
                </a:cubicBezTo>
                <a:cubicBezTo>
                  <a:pt x="10249" y="4914"/>
                  <a:pt x="10235" y="4804"/>
                  <a:pt x="10220" y="4688"/>
                </a:cubicBezTo>
                <a:cubicBezTo>
                  <a:pt x="10212" y="4621"/>
                  <a:pt x="10155" y="4535"/>
                  <a:pt x="10096" y="4490"/>
                </a:cubicBezTo>
                <a:cubicBezTo>
                  <a:pt x="10041" y="4448"/>
                  <a:pt x="9966" y="4403"/>
                  <a:pt x="9897" y="4390"/>
                </a:cubicBezTo>
                <a:cubicBezTo>
                  <a:pt x="9835" y="4378"/>
                  <a:pt x="9764" y="4412"/>
                  <a:pt x="9699" y="4415"/>
                </a:cubicBezTo>
                <a:cubicBezTo>
                  <a:pt x="9652" y="4417"/>
                  <a:pt x="9617" y="4429"/>
                  <a:pt x="9649" y="4440"/>
                </a:cubicBezTo>
                <a:cubicBezTo>
                  <a:pt x="9657" y="4440"/>
                  <a:pt x="9666" y="4440"/>
                  <a:pt x="9674" y="4440"/>
                </a:cubicBezTo>
              </a:path>
              <a:path w="3994" h="3623">
                <a:moveTo>
                  <a:pt x="9971" y="4440"/>
                </a:moveTo>
                <a:cubicBezTo>
                  <a:pt x="10013" y="4426"/>
                  <a:pt x="10009" y="4296"/>
                  <a:pt x="10021" y="4242"/>
                </a:cubicBezTo>
                <a:cubicBezTo>
                  <a:pt x="10038" y="4167"/>
                  <a:pt x="10060" y="4093"/>
                  <a:pt x="10071" y="4018"/>
                </a:cubicBezTo>
                <a:cubicBezTo>
                  <a:pt x="10141" y="4018"/>
                  <a:pt x="10097" y="4042"/>
                  <a:pt x="10170" y="4068"/>
                </a:cubicBezTo>
                <a:cubicBezTo>
                  <a:pt x="10187" y="4074"/>
                  <a:pt x="10230" y="4090"/>
                  <a:pt x="10244" y="4118"/>
                </a:cubicBezTo>
                <a:cubicBezTo>
                  <a:pt x="10254" y="4138"/>
                  <a:pt x="10295" y="4172"/>
                  <a:pt x="10269" y="4217"/>
                </a:cubicBezTo>
                <a:cubicBezTo>
                  <a:pt x="10235" y="4276"/>
                  <a:pt x="10124" y="4398"/>
                  <a:pt x="10071" y="4440"/>
                </a:cubicBezTo>
                <a:cubicBezTo>
                  <a:pt x="10046" y="4440"/>
                  <a:pt x="10038" y="4440"/>
                  <a:pt x="10046" y="4415"/>
                </a:cubicBezTo>
              </a:path>
              <a:path w="3994" h="3623">
                <a:moveTo>
                  <a:pt x="10120" y="4142"/>
                </a:moveTo>
                <a:cubicBezTo>
                  <a:pt x="10145" y="4118"/>
                  <a:pt x="10154" y="4110"/>
                  <a:pt x="10170" y="4093"/>
                </a:cubicBezTo>
              </a:path>
              <a:path w="3994" h="3623">
                <a:moveTo>
                  <a:pt x="9203" y="5879"/>
                </a:moveTo>
                <a:cubicBezTo>
                  <a:pt x="9155" y="5900"/>
                  <a:pt x="9118" y="5899"/>
                  <a:pt x="9079" y="5928"/>
                </a:cubicBezTo>
                <a:cubicBezTo>
                  <a:pt x="9146" y="5889"/>
                  <a:pt x="9224" y="5896"/>
                  <a:pt x="9302" y="5879"/>
                </a:cubicBezTo>
                <a:cubicBezTo>
                  <a:pt x="9385" y="5860"/>
                  <a:pt x="9469" y="5872"/>
                  <a:pt x="9550" y="5854"/>
                </a:cubicBezTo>
                <a:cubicBezTo>
                  <a:pt x="9632" y="5836"/>
                  <a:pt x="9687" y="5829"/>
                  <a:pt x="9773" y="5829"/>
                </a:cubicBezTo>
                <a:cubicBezTo>
                  <a:pt x="9798" y="5829"/>
                  <a:pt x="9806" y="5829"/>
                  <a:pt x="9823" y="5829"/>
                </a:cubicBezTo>
                <a:cubicBezTo>
                  <a:pt x="9828" y="5875"/>
                  <a:pt x="9845" y="6075"/>
                  <a:pt x="9872" y="6102"/>
                </a:cubicBezTo>
                <a:cubicBezTo>
                  <a:pt x="9897" y="6102"/>
                  <a:pt x="9905" y="6102"/>
                  <a:pt x="9897" y="6127"/>
                </a:cubicBezTo>
                <a:cubicBezTo>
                  <a:pt x="9820" y="6158"/>
                  <a:pt x="9734" y="6215"/>
                  <a:pt x="9649" y="6251"/>
                </a:cubicBezTo>
                <a:cubicBezTo>
                  <a:pt x="9532" y="6301"/>
                  <a:pt x="9417" y="6350"/>
                  <a:pt x="9302" y="6400"/>
                </a:cubicBezTo>
                <a:cubicBezTo>
                  <a:pt x="9213" y="6439"/>
                  <a:pt x="9100" y="6467"/>
                  <a:pt x="9004" y="6474"/>
                </a:cubicBezTo>
                <a:cubicBezTo>
                  <a:pt x="8996" y="6474"/>
                  <a:pt x="8987" y="6474"/>
                  <a:pt x="8979" y="6474"/>
                </a:cubicBezTo>
                <a:cubicBezTo>
                  <a:pt x="8979" y="6378"/>
                  <a:pt x="8940" y="6296"/>
                  <a:pt x="8930" y="6201"/>
                </a:cubicBezTo>
                <a:cubicBezTo>
                  <a:pt x="8924" y="6146"/>
                  <a:pt x="8930" y="6084"/>
                  <a:pt x="8930" y="6028"/>
                </a:cubicBezTo>
              </a:path>
              <a:path w="3994" h="3623">
                <a:moveTo>
                  <a:pt x="9153" y="6028"/>
                </a:moveTo>
                <a:cubicBezTo>
                  <a:pt x="9203" y="6015"/>
                  <a:pt x="9204" y="6021"/>
                  <a:pt x="9252" y="6003"/>
                </a:cubicBezTo>
                <a:cubicBezTo>
                  <a:pt x="9094" y="6096"/>
                  <a:pt x="8982" y="6094"/>
                  <a:pt x="8806" y="6127"/>
                </a:cubicBezTo>
                <a:cubicBezTo>
                  <a:pt x="8697" y="6148"/>
                  <a:pt x="8592" y="6183"/>
                  <a:pt x="8483" y="6201"/>
                </a:cubicBezTo>
                <a:cubicBezTo>
                  <a:pt x="8283" y="6234"/>
                  <a:pt x="8089" y="6305"/>
                  <a:pt x="7888" y="6325"/>
                </a:cubicBezTo>
                <a:cubicBezTo>
                  <a:pt x="7734" y="6340"/>
                  <a:pt x="7594" y="6363"/>
                  <a:pt x="7441" y="6400"/>
                </a:cubicBezTo>
                <a:cubicBezTo>
                  <a:pt x="7282" y="6438"/>
                  <a:pt x="7132" y="6449"/>
                  <a:pt x="6970" y="6474"/>
                </a:cubicBezTo>
                <a:cubicBezTo>
                  <a:pt x="6813" y="6498"/>
                  <a:pt x="6656" y="6528"/>
                  <a:pt x="6499" y="6548"/>
                </a:cubicBezTo>
                <a:cubicBezTo>
                  <a:pt x="6427" y="6557"/>
                  <a:pt x="6349" y="6548"/>
                  <a:pt x="6276" y="6548"/>
                </a:cubicBezTo>
                <a:cubicBezTo>
                  <a:pt x="6327" y="6651"/>
                  <a:pt x="6381" y="6730"/>
                  <a:pt x="6449" y="6821"/>
                </a:cubicBezTo>
                <a:cubicBezTo>
                  <a:pt x="6492" y="6879"/>
                  <a:pt x="6497" y="6919"/>
                  <a:pt x="6573" y="6921"/>
                </a:cubicBezTo>
                <a:cubicBezTo>
                  <a:pt x="6755" y="6927"/>
                  <a:pt x="7008" y="6754"/>
                  <a:pt x="7169" y="6697"/>
                </a:cubicBezTo>
                <a:cubicBezTo>
                  <a:pt x="7418" y="6610"/>
                  <a:pt x="7670" y="6521"/>
                  <a:pt x="7913" y="6424"/>
                </a:cubicBezTo>
                <a:cubicBezTo>
                  <a:pt x="8105" y="6347"/>
                  <a:pt x="8260" y="6243"/>
                  <a:pt x="8458" y="6201"/>
                </a:cubicBezTo>
                <a:cubicBezTo>
                  <a:pt x="8582" y="6175"/>
                  <a:pt x="8704" y="6132"/>
                  <a:pt x="8830" y="6127"/>
                </a:cubicBezTo>
                <a:cubicBezTo>
                  <a:pt x="8922" y="6124"/>
                  <a:pt x="9014" y="6132"/>
                  <a:pt x="9103" y="6102"/>
                </a:cubicBezTo>
                <a:cubicBezTo>
                  <a:pt x="9116" y="6098"/>
                  <a:pt x="9269" y="6024"/>
                  <a:pt x="9277" y="6052"/>
                </a:cubicBezTo>
                <a:cubicBezTo>
                  <a:pt x="9260" y="6060"/>
                  <a:pt x="9244" y="6069"/>
                  <a:pt x="9227" y="6077"/>
                </a:cubicBezTo>
              </a:path>
              <a:path w="3994" h="3623">
                <a:moveTo>
                  <a:pt x="8359" y="6350"/>
                </a:moveTo>
                <a:cubicBezTo>
                  <a:pt x="8311" y="6466"/>
                  <a:pt x="8240" y="6601"/>
                  <a:pt x="8186" y="6722"/>
                </a:cubicBezTo>
                <a:cubicBezTo>
                  <a:pt x="8093" y="6932"/>
                  <a:pt x="7997" y="7156"/>
                  <a:pt x="7913" y="7367"/>
                </a:cubicBezTo>
                <a:cubicBezTo>
                  <a:pt x="7913" y="7375"/>
                  <a:pt x="7913" y="7384"/>
                  <a:pt x="7913" y="7392"/>
                </a:cubicBezTo>
                <a:cubicBezTo>
                  <a:pt x="7966" y="7206"/>
                  <a:pt x="8047" y="7012"/>
                  <a:pt x="8086" y="6821"/>
                </a:cubicBezTo>
                <a:cubicBezTo>
                  <a:pt x="8119" y="6656"/>
                  <a:pt x="8111" y="6491"/>
                  <a:pt x="8111" y="6325"/>
                </a:cubicBezTo>
                <a:cubicBezTo>
                  <a:pt x="8284" y="6476"/>
                  <a:pt x="8445" y="6662"/>
                  <a:pt x="8607" y="6846"/>
                </a:cubicBezTo>
                <a:cubicBezTo>
                  <a:pt x="8651" y="6896"/>
                  <a:pt x="8793" y="7093"/>
                  <a:pt x="8855" y="7144"/>
                </a:cubicBezTo>
                <a:cubicBezTo>
                  <a:pt x="8863" y="7144"/>
                  <a:pt x="8872" y="7144"/>
                  <a:pt x="8880" y="7144"/>
                </a:cubicBezTo>
                <a:cubicBezTo>
                  <a:pt x="8629" y="7227"/>
                  <a:pt x="8409" y="7446"/>
                  <a:pt x="8161" y="7565"/>
                </a:cubicBezTo>
                <a:cubicBezTo>
                  <a:pt x="7960" y="7661"/>
                  <a:pt x="7985" y="7658"/>
                  <a:pt x="8037" y="7516"/>
                </a:cubicBezTo>
              </a:path>
              <a:path w="3994" h="3623">
                <a:moveTo>
                  <a:pt x="9649" y="6102"/>
                </a:moveTo>
                <a:cubicBezTo>
                  <a:pt x="9589" y="6027"/>
                  <a:pt x="9583" y="5925"/>
                  <a:pt x="9575" y="5829"/>
                </a:cubicBezTo>
                <a:cubicBezTo>
                  <a:pt x="9574" y="5813"/>
                  <a:pt x="9565" y="5563"/>
                  <a:pt x="9550" y="5705"/>
                </a:cubicBezTo>
                <a:cubicBezTo>
                  <a:pt x="9548" y="5721"/>
                  <a:pt x="9550" y="6029"/>
                  <a:pt x="9550" y="5953"/>
                </a:cubicBezTo>
                <a:cubicBezTo>
                  <a:pt x="9550" y="5812"/>
                  <a:pt x="9550" y="5771"/>
                  <a:pt x="9550" y="5680"/>
                </a:cubicBezTo>
                <a:cubicBezTo>
                  <a:pt x="9550" y="5780"/>
                  <a:pt x="9561" y="5850"/>
                  <a:pt x="9575" y="5953"/>
                </a:cubicBezTo>
                <a:cubicBezTo>
                  <a:pt x="9575" y="6142"/>
                  <a:pt x="9541" y="5742"/>
                  <a:pt x="9525" y="5680"/>
                </a:cubicBezTo>
                <a:cubicBezTo>
                  <a:pt x="9488" y="5532"/>
                  <a:pt x="9559" y="6235"/>
                  <a:pt x="9451" y="6127"/>
                </a:cubicBezTo>
                <a:cubicBezTo>
                  <a:pt x="9451" y="6094"/>
                  <a:pt x="9451" y="6061"/>
                  <a:pt x="9451" y="6028"/>
                </a:cubicBezTo>
                <a:cubicBezTo>
                  <a:pt x="9463" y="5956"/>
                  <a:pt x="9475" y="5598"/>
                  <a:pt x="9525" y="5705"/>
                </a:cubicBezTo>
                <a:cubicBezTo>
                  <a:pt x="9551" y="5760"/>
                  <a:pt x="9636" y="5956"/>
                  <a:pt x="9599" y="5978"/>
                </a:cubicBezTo>
                <a:cubicBezTo>
                  <a:pt x="9468" y="6055"/>
                  <a:pt x="9510" y="6018"/>
                  <a:pt x="9624" y="5953"/>
                </a:cubicBezTo>
                <a:cubicBezTo>
                  <a:pt x="9698" y="5911"/>
                  <a:pt x="9515" y="6090"/>
                  <a:pt x="9500" y="6102"/>
                </a:cubicBezTo>
                <a:cubicBezTo>
                  <a:pt x="9521" y="6077"/>
                  <a:pt x="9623" y="5970"/>
                  <a:pt x="9575" y="5978"/>
                </a:cubicBezTo>
                <a:cubicBezTo>
                  <a:pt x="9466" y="5996"/>
                  <a:pt x="9426" y="5962"/>
                  <a:pt x="9475" y="5829"/>
                </a:cubicBezTo>
                <a:cubicBezTo>
                  <a:pt x="9491" y="5786"/>
                  <a:pt x="9500" y="5758"/>
                  <a:pt x="9500" y="5705"/>
                </a:cubicBezTo>
                <a:cubicBezTo>
                  <a:pt x="9500" y="5655"/>
                  <a:pt x="9544" y="5810"/>
                  <a:pt x="9550" y="5829"/>
                </a:cubicBezTo>
                <a:cubicBezTo>
                  <a:pt x="9572" y="5894"/>
                  <a:pt x="9539" y="5757"/>
                  <a:pt x="9575" y="58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90880" y="1633680"/>
            <a:ext cx="3332160" cy="1652400"/>
          </a:xfrm>
          <a:custGeom>
            <a:avLst/>
            <a:gdLst/>
            <a:ahLst/>
            <a:rect l="l" t="t" r="r" b="b"/>
            <a:pathLst>
              <a:path w="9253" h="4590">
                <a:moveTo>
                  <a:pt x="17562" y="8682"/>
                </a:moveTo>
                <a:cubicBezTo>
                  <a:pt x="17532" y="8667"/>
                  <a:pt x="17419" y="8601"/>
                  <a:pt x="17363" y="8582"/>
                </a:cubicBezTo>
                <a:cubicBezTo>
                  <a:pt x="17247" y="8543"/>
                  <a:pt x="17133" y="8535"/>
                  <a:pt x="17016" y="8508"/>
                </a:cubicBezTo>
                <a:cubicBezTo>
                  <a:pt x="16892" y="8479"/>
                  <a:pt x="16794" y="8515"/>
                  <a:pt x="16669" y="8483"/>
                </a:cubicBezTo>
                <a:cubicBezTo>
                  <a:pt x="16503" y="8441"/>
                  <a:pt x="16340" y="8458"/>
                  <a:pt x="16173" y="8409"/>
                </a:cubicBezTo>
                <a:cubicBezTo>
                  <a:pt x="16065" y="8378"/>
                  <a:pt x="15957" y="8346"/>
                  <a:pt x="15850" y="8310"/>
                </a:cubicBezTo>
                <a:cubicBezTo>
                  <a:pt x="15693" y="8258"/>
                  <a:pt x="15534" y="8218"/>
                  <a:pt x="15379" y="8161"/>
                </a:cubicBezTo>
                <a:cubicBezTo>
                  <a:pt x="15241" y="8110"/>
                  <a:pt x="15128" y="8042"/>
                  <a:pt x="15007" y="7962"/>
                </a:cubicBezTo>
                <a:cubicBezTo>
                  <a:pt x="14915" y="7901"/>
                  <a:pt x="14822" y="7851"/>
                  <a:pt x="14734" y="7789"/>
                </a:cubicBezTo>
                <a:cubicBezTo>
                  <a:pt x="14563" y="7668"/>
                  <a:pt x="14627" y="7680"/>
                  <a:pt x="14486" y="7789"/>
                </a:cubicBezTo>
              </a:path>
              <a:path w="9253" h="4590">
                <a:moveTo>
                  <a:pt x="15627" y="9128"/>
                </a:moveTo>
                <a:cubicBezTo>
                  <a:pt x="15534" y="9112"/>
                  <a:pt x="15466" y="9103"/>
                  <a:pt x="15379" y="9054"/>
                </a:cubicBezTo>
                <a:cubicBezTo>
                  <a:pt x="15309" y="9015"/>
                  <a:pt x="15157" y="8934"/>
                  <a:pt x="15106" y="8880"/>
                </a:cubicBezTo>
                <a:cubicBezTo>
                  <a:pt x="15005" y="8774"/>
                  <a:pt x="14950" y="8698"/>
                  <a:pt x="14833" y="8607"/>
                </a:cubicBezTo>
                <a:cubicBezTo>
                  <a:pt x="14735" y="8531"/>
                  <a:pt x="14647" y="8467"/>
                  <a:pt x="14536" y="8409"/>
                </a:cubicBezTo>
                <a:cubicBezTo>
                  <a:pt x="14432" y="8355"/>
                  <a:pt x="14326" y="8319"/>
                  <a:pt x="14213" y="8285"/>
                </a:cubicBezTo>
                <a:cubicBezTo>
                  <a:pt x="14073" y="8243"/>
                  <a:pt x="13953" y="8179"/>
                  <a:pt x="13816" y="8136"/>
                </a:cubicBezTo>
                <a:cubicBezTo>
                  <a:pt x="13685" y="8095"/>
                  <a:pt x="13545" y="8061"/>
                  <a:pt x="13419" y="8012"/>
                </a:cubicBezTo>
                <a:cubicBezTo>
                  <a:pt x="13305" y="7968"/>
                  <a:pt x="13179" y="7895"/>
                  <a:pt x="13072" y="7838"/>
                </a:cubicBezTo>
                <a:cubicBezTo>
                  <a:pt x="12915" y="7755"/>
                  <a:pt x="12766" y="7704"/>
                  <a:pt x="12601" y="7640"/>
                </a:cubicBezTo>
                <a:cubicBezTo>
                  <a:pt x="12476" y="7591"/>
                  <a:pt x="12334" y="7550"/>
                  <a:pt x="12229" y="7466"/>
                </a:cubicBezTo>
                <a:cubicBezTo>
                  <a:pt x="12141" y="7395"/>
                  <a:pt x="12083" y="7323"/>
                  <a:pt x="11981" y="7268"/>
                </a:cubicBezTo>
                <a:cubicBezTo>
                  <a:pt x="11883" y="7216"/>
                  <a:pt x="11786" y="7223"/>
                  <a:pt x="11683" y="7193"/>
                </a:cubicBezTo>
                <a:cubicBezTo>
                  <a:pt x="11588" y="7166"/>
                  <a:pt x="11509" y="7134"/>
                  <a:pt x="11410" y="7119"/>
                </a:cubicBezTo>
                <a:cubicBezTo>
                  <a:pt x="11394" y="7119"/>
                  <a:pt x="11377" y="7119"/>
                  <a:pt x="11361" y="7119"/>
                </a:cubicBezTo>
              </a:path>
              <a:path w="9253" h="4590">
                <a:moveTo>
                  <a:pt x="14858" y="7938"/>
                </a:moveTo>
                <a:cubicBezTo>
                  <a:pt x="14827" y="7900"/>
                  <a:pt x="14797" y="7857"/>
                  <a:pt x="14734" y="7813"/>
                </a:cubicBezTo>
                <a:cubicBezTo>
                  <a:pt x="14616" y="7731"/>
                  <a:pt x="14442" y="7648"/>
                  <a:pt x="14312" y="7590"/>
                </a:cubicBezTo>
                <a:cubicBezTo>
                  <a:pt x="14181" y="7531"/>
                  <a:pt x="14026" y="7525"/>
                  <a:pt x="13891" y="7466"/>
                </a:cubicBezTo>
                <a:cubicBezTo>
                  <a:pt x="13786" y="7420"/>
                  <a:pt x="13682" y="7340"/>
                  <a:pt x="13568" y="7317"/>
                </a:cubicBezTo>
                <a:cubicBezTo>
                  <a:pt x="13430" y="7289"/>
                  <a:pt x="13284" y="7291"/>
                  <a:pt x="13146" y="7268"/>
                </a:cubicBezTo>
                <a:cubicBezTo>
                  <a:pt x="13086" y="7258"/>
                  <a:pt x="13031" y="7213"/>
                  <a:pt x="12973" y="7193"/>
                </a:cubicBezTo>
                <a:cubicBezTo>
                  <a:pt x="12899" y="7168"/>
                  <a:pt x="12816" y="7154"/>
                  <a:pt x="12750" y="7119"/>
                </a:cubicBezTo>
                <a:cubicBezTo>
                  <a:pt x="12672" y="7077"/>
                  <a:pt x="12634" y="7049"/>
                  <a:pt x="12551" y="7020"/>
                </a:cubicBezTo>
                <a:cubicBezTo>
                  <a:pt x="12470" y="6992"/>
                  <a:pt x="12379" y="6972"/>
                  <a:pt x="12303" y="6945"/>
                </a:cubicBezTo>
                <a:cubicBezTo>
                  <a:pt x="12245" y="6924"/>
                  <a:pt x="12179" y="6893"/>
                  <a:pt x="12129" y="6871"/>
                </a:cubicBezTo>
                <a:cubicBezTo>
                  <a:pt x="12105" y="6860"/>
                  <a:pt x="12080" y="6855"/>
                  <a:pt x="12055" y="6846"/>
                </a:cubicBezTo>
              </a:path>
              <a:path w="9253" h="4590">
                <a:moveTo>
                  <a:pt x="8682" y="4713"/>
                </a:moveTo>
                <a:cubicBezTo>
                  <a:pt x="8639" y="4883"/>
                  <a:pt x="8636" y="5109"/>
                  <a:pt x="8756" y="5259"/>
                </a:cubicBezTo>
                <a:cubicBezTo>
                  <a:pt x="8838" y="5360"/>
                  <a:pt x="8920" y="5180"/>
                  <a:pt x="8954" y="5135"/>
                </a:cubicBezTo>
                <a:cubicBezTo>
                  <a:pt x="8934" y="5094"/>
                  <a:pt x="8937" y="5077"/>
                  <a:pt x="8905" y="5085"/>
                </a:cubicBezTo>
                <a:cubicBezTo>
                  <a:pt x="8824" y="5157"/>
                  <a:pt x="8748" y="5254"/>
                  <a:pt x="8905" y="5234"/>
                </a:cubicBezTo>
              </a:path>
              <a:path w="9253" h="4590">
                <a:moveTo>
                  <a:pt x="8508" y="4539"/>
                </a:moveTo>
                <a:cubicBezTo>
                  <a:pt x="8255" y="4764"/>
                  <a:pt x="8213" y="5142"/>
                  <a:pt x="8458" y="5457"/>
                </a:cubicBezTo>
                <a:cubicBezTo>
                  <a:pt x="8698" y="5766"/>
                  <a:pt x="9298" y="5470"/>
                  <a:pt x="9054" y="5135"/>
                </a:cubicBezTo>
                <a:cubicBezTo>
                  <a:pt x="8933" y="4968"/>
                  <a:pt x="8792" y="4994"/>
                  <a:pt x="8632" y="493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38880" y="2374920"/>
            <a:ext cx="1955520" cy="1312920"/>
          </a:xfrm>
          <a:custGeom>
            <a:avLst/>
            <a:gdLst/>
            <a:ahLst/>
            <a:rect l="l" t="t" r="r" b="b"/>
            <a:pathLst>
              <a:path w="5433" h="3647">
                <a:moveTo>
                  <a:pt x="19993" y="7069"/>
                </a:moveTo>
                <a:cubicBezTo>
                  <a:pt x="19951" y="7069"/>
                  <a:pt x="19940" y="7075"/>
                  <a:pt x="19918" y="7094"/>
                </a:cubicBezTo>
                <a:cubicBezTo>
                  <a:pt x="19847" y="7155"/>
                  <a:pt x="19788" y="7224"/>
                  <a:pt x="19695" y="7243"/>
                </a:cubicBezTo>
                <a:cubicBezTo>
                  <a:pt x="19770" y="7243"/>
                  <a:pt x="19783" y="7210"/>
                  <a:pt x="19844" y="7169"/>
                </a:cubicBezTo>
                <a:cubicBezTo>
                  <a:pt x="19910" y="7125"/>
                  <a:pt x="19993" y="7094"/>
                  <a:pt x="20067" y="7069"/>
                </a:cubicBezTo>
                <a:cubicBezTo>
                  <a:pt x="20142" y="7043"/>
                  <a:pt x="20219" y="7019"/>
                  <a:pt x="20290" y="6995"/>
                </a:cubicBezTo>
                <a:cubicBezTo>
                  <a:pt x="20338" y="6979"/>
                  <a:pt x="20424" y="6945"/>
                  <a:pt x="20464" y="6921"/>
                </a:cubicBezTo>
                <a:cubicBezTo>
                  <a:pt x="20486" y="6899"/>
                  <a:pt x="20491" y="6890"/>
                  <a:pt x="20513" y="6896"/>
                </a:cubicBezTo>
                <a:cubicBezTo>
                  <a:pt x="20573" y="6806"/>
                  <a:pt x="20345" y="6959"/>
                  <a:pt x="20315" y="6970"/>
                </a:cubicBezTo>
                <a:cubicBezTo>
                  <a:pt x="20227" y="7002"/>
                  <a:pt x="20108" y="7050"/>
                  <a:pt x="20017" y="7069"/>
                </a:cubicBezTo>
                <a:cubicBezTo>
                  <a:pt x="19927" y="7088"/>
                  <a:pt x="19926" y="7089"/>
                  <a:pt x="19844" y="7144"/>
                </a:cubicBezTo>
                <a:cubicBezTo>
                  <a:pt x="19816" y="7163"/>
                  <a:pt x="19750" y="7205"/>
                  <a:pt x="19720" y="7218"/>
                </a:cubicBezTo>
                <a:cubicBezTo>
                  <a:pt x="19683" y="7234"/>
                  <a:pt x="19639" y="7243"/>
                  <a:pt x="19596" y="7243"/>
                </a:cubicBezTo>
              </a:path>
              <a:path w="5433" h="3647">
                <a:moveTo>
                  <a:pt x="19695" y="6796"/>
                </a:moveTo>
                <a:cubicBezTo>
                  <a:pt x="19613" y="6895"/>
                  <a:pt x="19575" y="7018"/>
                  <a:pt x="19546" y="7144"/>
                </a:cubicBezTo>
                <a:cubicBezTo>
                  <a:pt x="19509" y="7302"/>
                  <a:pt x="19498" y="7458"/>
                  <a:pt x="19571" y="7590"/>
                </a:cubicBezTo>
                <a:cubicBezTo>
                  <a:pt x="19706" y="7568"/>
                  <a:pt x="19679" y="7560"/>
                  <a:pt x="19745" y="7441"/>
                </a:cubicBezTo>
                <a:cubicBezTo>
                  <a:pt x="19818" y="7309"/>
                  <a:pt x="19791" y="7206"/>
                  <a:pt x="19720" y="7069"/>
                </a:cubicBezTo>
                <a:cubicBezTo>
                  <a:pt x="19663" y="6960"/>
                  <a:pt x="19677" y="7027"/>
                  <a:pt x="19621" y="6970"/>
                </a:cubicBezTo>
                <a:cubicBezTo>
                  <a:pt x="19689" y="6887"/>
                  <a:pt x="19781" y="6843"/>
                  <a:pt x="19869" y="6772"/>
                </a:cubicBezTo>
                <a:cubicBezTo>
                  <a:pt x="19940" y="6715"/>
                  <a:pt x="19989" y="6633"/>
                  <a:pt x="20067" y="6598"/>
                </a:cubicBezTo>
                <a:cubicBezTo>
                  <a:pt x="20075" y="6598"/>
                  <a:pt x="20084" y="6598"/>
                  <a:pt x="20092" y="6598"/>
                </a:cubicBezTo>
                <a:cubicBezTo>
                  <a:pt x="20119" y="6723"/>
                  <a:pt x="20152" y="6822"/>
                  <a:pt x="20191" y="6945"/>
                </a:cubicBezTo>
                <a:cubicBezTo>
                  <a:pt x="20227" y="7058"/>
                  <a:pt x="20272" y="7129"/>
                  <a:pt x="20191" y="7218"/>
                </a:cubicBezTo>
                <a:cubicBezTo>
                  <a:pt x="20129" y="7281"/>
                  <a:pt x="20119" y="7299"/>
                  <a:pt x="20067" y="7317"/>
                </a:cubicBezTo>
              </a:path>
              <a:path w="5433" h="3647">
                <a:moveTo>
                  <a:pt x="19769" y="7516"/>
                </a:moveTo>
                <a:cubicBezTo>
                  <a:pt x="19753" y="7516"/>
                  <a:pt x="19736" y="7516"/>
                  <a:pt x="19720" y="7516"/>
                </a:cubicBezTo>
                <a:cubicBezTo>
                  <a:pt x="19669" y="7592"/>
                  <a:pt x="19821" y="7474"/>
                  <a:pt x="19893" y="7417"/>
                </a:cubicBezTo>
                <a:cubicBezTo>
                  <a:pt x="19956" y="7367"/>
                  <a:pt x="20057" y="7307"/>
                  <a:pt x="20042" y="7293"/>
                </a:cubicBezTo>
                <a:cubicBezTo>
                  <a:pt x="19960" y="7351"/>
                  <a:pt x="19873" y="7406"/>
                  <a:pt x="19794" y="7466"/>
                </a:cubicBezTo>
                <a:cubicBezTo>
                  <a:pt x="19868" y="7351"/>
                  <a:pt x="19954" y="7250"/>
                  <a:pt x="20042" y="7144"/>
                </a:cubicBezTo>
              </a:path>
              <a:path w="5433" h="3647">
                <a:moveTo>
                  <a:pt x="20439" y="6697"/>
                </a:moveTo>
                <a:lnTo>
                  <a:pt x="20439" y="6697"/>
                </a:lnTo>
              </a:path>
              <a:path w="5433" h="3647">
                <a:moveTo>
                  <a:pt x="20265" y="6945"/>
                </a:moveTo>
                <a:lnTo>
                  <a:pt x="20265" y="6945"/>
                </a:lnTo>
                <a:lnTo>
                  <a:pt x="20265" y="6945"/>
                </a:lnTo>
                <a:lnTo>
                  <a:pt x="20265" y="6945"/>
                </a:lnTo>
              </a:path>
              <a:path w="5433" h="3647">
                <a:moveTo>
                  <a:pt x="20315" y="6945"/>
                </a:moveTo>
                <a:lnTo>
                  <a:pt x="20315" y="6945"/>
                </a:lnTo>
                <a:lnTo>
                  <a:pt x="20315" y="6945"/>
                </a:lnTo>
              </a:path>
              <a:path w="5433" h="3647">
                <a:moveTo>
                  <a:pt x="20315" y="6945"/>
                </a:moveTo>
                <a:lnTo>
                  <a:pt x="20315" y="6945"/>
                </a:lnTo>
              </a:path>
              <a:path w="5433" h="3647">
                <a:moveTo>
                  <a:pt x="19670" y="7144"/>
                </a:moveTo>
                <a:cubicBezTo>
                  <a:pt x="19560" y="7289"/>
                  <a:pt x="19376" y="7278"/>
                  <a:pt x="19199" y="7293"/>
                </a:cubicBezTo>
                <a:cubicBezTo>
                  <a:pt x="19141" y="7293"/>
                  <a:pt x="19133" y="7293"/>
                  <a:pt x="19100" y="7293"/>
                </a:cubicBezTo>
                <a:cubicBezTo>
                  <a:pt x="19152" y="7253"/>
                  <a:pt x="19155" y="7254"/>
                  <a:pt x="19149" y="7293"/>
                </a:cubicBezTo>
                <a:cubicBezTo>
                  <a:pt x="19140" y="7348"/>
                  <a:pt x="19149" y="7410"/>
                  <a:pt x="19149" y="7466"/>
                </a:cubicBezTo>
                <a:cubicBezTo>
                  <a:pt x="19210" y="7454"/>
                  <a:pt x="19256" y="7441"/>
                  <a:pt x="19323" y="7441"/>
                </a:cubicBezTo>
                <a:cubicBezTo>
                  <a:pt x="19397" y="7441"/>
                  <a:pt x="19414" y="7435"/>
                  <a:pt x="19496" y="7417"/>
                </a:cubicBezTo>
              </a:path>
              <a:path w="5433" h="3647">
                <a:moveTo>
                  <a:pt x="19844" y="7342"/>
                </a:moveTo>
                <a:cubicBezTo>
                  <a:pt x="19901" y="7342"/>
                  <a:pt x="20078" y="7313"/>
                  <a:pt x="20092" y="7367"/>
                </a:cubicBezTo>
                <a:cubicBezTo>
                  <a:pt x="20117" y="7465"/>
                  <a:pt x="20125" y="7497"/>
                  <a:pt x="20117" y="7565"/>
                </a:cubicBezTo>
                <a:cubicBezTo>
                  <a:pt x="19957" y="7577"/>
                  <a:pt x="19874" y="7575"/>
                  <a:pt x="19720" y="7541"/>
                </a:cubicBezTo>
              </a:path>
              <a:path w="5433" h="3647">
                <a:moveTo>
                  <a:pt x="19000" y="7243"/>
                </a:moveTo>
                <a:cubicBezTo>
                  <a:pt x="19000" y="7235"/>
                  <a:pt x="19000" y="7226"/>
                  <a:pt x="19000" y="7218"/>
                </a:cubicBezTo>
                <a:cubicBezTo>
                  <a:pt x="19035" y="7236"/>
                  <a:pt x="19065" y="7262"/>
                  <a:pt x="19075" y="7293"/>
                </a:cubicBezTo>
              </a:path>
              <a:path w="5433" h="3647">
                <a:moveTo>
                  <a:pt x="19224" y="7317"/>
                </a:moveTo>
                <a:cubicBezTo>
                  <a:pt x="19171" y="7370"/>
                  <a:pt x="19185" y="7340"/>
                  <a:pt x="19100" y="7392"/>
                </a:cubicBezTo>
                <a:cubicBezTo>
                  <a:pt x="18880" y="7526"/>
                  <a:pt x="18681" y="7683"/>
                  <a:pt x="18455" y="7813"/>
                </a:cubicBezTo>
                <a:cubicBezTo>
                  <a:pt x="18305" y="7899"/>
                  <a:pt x="18310" y="7989"/>
                  <a:pt x="18207" y="8136"/>
                </a:cubicBezTo>
                <a:cubicBezTo>
                  <a:pt x="18029" y="8389"/>
                  <a:pt x="17834" y="8434"/>
                  <a:pt x="17537" y="8458"/>
                </a:cubicBezTo>
                <a:cubicBezTo>
                  <a:pt x="17455" y="8465"/>
                  <a:pt x="17404" y="8458"/>
                  <a:pt x="17487" y="8458"/>
                </a:cubicBezTo>
              </a:path>
              <a:path w="5433" h="3647">
                <a:moveTo>
                  <a:pt x="19943" y="7466"/>
                </a:moveTo>
                <a:cubicBezTo>
                  <a:pt x="20042" y="7497"/>
                  <a:pt x="20152" y="7528"/>
                  <a:pt x="20241" y="7590"/>
                </a:cubicBezTo>
                <a:cubicBezTo>
                  <a:pt x="20377" y="7684"/>
                  <a:pt x="20426" y="7790"/>
                  <a:pt x="20365" y="7962"/>
                </a:cubicBezTo>
                <a:cubicBezTo>
                  <a:pt x="20312" y="8111"/>
                  <a:pt x="20237" y="8244"/>
                  <a:pt x="20216" y="8409"/>
                </a:cubicBezTo>
                <a:cubicBezTo>
                  <a:pt x="20197" y="8560"/>
                  <a:pt x="20223" y="8585"/>
                  <a:pt x="20092" y="8706"/>
                </a:cubicBezTo>
                <a:cubicBezTo>
                  <a:pt x="19961" y="8828"/>
                  <a:pt x="19853" y="8918"/>
                  <a:pt x="19745" y="9054"/>
                </a:cubicBezTo>
                <a:cubicBezTo>
                  <a:pt x="19685" y="9113"/>
                  <a:pt x="19656" y="9135"/>
                  <a:pt x="19596" y="9153"/>
                </a:cubicBezTo>
              </a:path>
              <a:path w="5433" h="3647">
                <a:moveTo>
                  <a:pt x="19496" y="8979"/>
                </a:moveTo>
                <a:cubicBezTo>
                  <a:pt x="19552" y="8998"/>
                  <a:pt x="19598" y="9143"/>
                  <a:pt x="19621" y="9203"/>
                </a:cubicBezTo>
                <a:cubicBezTo>
                  <a:pt x="19623" y="9207"/>
                  <a:pt x="19786" y="9587"/>
                  <a:pt x="19695" y="9376"/>
                </a:cubicBezTo>
              </a:path>
              <a:path w="5433" h="3647">
                <a:moveTo>
                  <a:pt x="19273" y="8930"/>
                </a:moveTo>
                <a:cubicBezTo>
                  <a:pt x="19273" y="8880"/>
                  <a:pt x="19273" y="8863"/>
                  <a:pt x="19273" y="8830"/>
                </a:cubicBezTo>
                <a:cubicBezTo>
                  <a:pt x="19366" y="8946"/>
                  <a:pt x="19390" y="9267"/>
                  <a:pt x="19422" y="9426"/>
                </a:cubicBezTo>
                <a:cubicBezTo>
                  <a:pt x="19445" y="9543"/>
                  <a:pt x="19479" y="9677"/>
                  <a:pt x="19496" y="9798"/>
                </a:cubicBezTo>
              </a:path>
              <a:path w="5433" h="3647">
                <a:moveTo>
                  <a:pt x="19323" y="9327"/>
                </a:moveTo>
                <a:cubicBezTo>
                  <a:pt x="19308" y="9379"/>
                  <a:pt x="19326" y="9367"/>
                  <a:pt x="19273" y="9401"/>
                </a:cubicBezTo>
                <a:cubicBezTo>
                  <a:pt x="19239" y="9423"/>
                  <a:pt x="19186" y="9422"/>
                  <a:pt x="19149" y="9451"/>
                </a:cubicBezTo>
                <a:cubicBezTo>
                  <a:pt x="19082" y="9503"/>
                  <a:pt x="19087" y="9499"/>
                  <a:pt x="19025" y="9525"/>
                </a:cubicBezTo>
                <a:cubicBezTo>
                  <a:pt x="18963" y="9551"/>
                  <a:pt x="18937" y="9584"/>
                  <a:pt x="18876" y="9599"/>
                </a:cubicBezTo>
                <a:cubicBezTo>
                  <a:pt x="18815" y="9614"/>
                  <a:pt x="18753" y="9624"/>
                  <a:pt x="18678" y="9624"/>
                </a:cubicBezTo>
                <a:cubicBezTo>
                  <a:pt x="18532" y="9624"/>
                  <a:pt x="18397" y="9629"/>
                  <a:pt x="18256" y="9649"/>
                </a:cubicBezTo>
                <a:cubicBezTo>
                  <a:pt x="18179" y="9660"/>
                  <a:pt x="18204" y="9631"/>
                  <a:pt x="18157" y="9624"/>
                </a:cubicBezTo>
                <a:cubicBezTo>
                  <a:pt x="18100" y="9616"/>
                  <a:pt x="18040" y="9607"/>
                  <a:pt x="17983" y="9599"/>
                </a:cubicBezTo>
                <a:cubicBezTo>
                  <a:pt x="17910" y="9589"/>
                  <a:pt x="17861" y="9612"/>
                  <a:pt x="17785" y="9599"/>
                </a:cubicBezTo>
                <a:cubicBezTo>
                  <a:pt x="17707" y="9586"/>
                  <a:pt x="17615" y="9584"/>
                  <a:pt x="17537" y="9575"/>
                </a:cubicBezTo>
                <a:cubicBezTo>
                  <a:pt x="17506" y="9572"/>
                  <a:pt x="17435" y="9581"/>
                  <a:pt x="17388" y="9550"/>
                </a:cubicBezTo>
                <a:cubicBezTo>
                  <a:pt x="17325" y="9508"/>
                  <a:pt x="17316" y="9432"/>
                  <a:pt x="17289" y="9376"/>
                </a:cubicBezTo>
                <a:cubicBezTo>
                  <a:pt x="17260" y="9315"/>
                  <a:pt x="17264" y="9270"/>
                  <a:pt x="17264" y="9203"/>
                </a:cubicBezTo>
                <a:cubicBezTo>
                  <a:pt x="17264" y="9079"/>
                  <a:pt x="17264" y="8954"/>
                  <a:pt x="17264" y="8830"/>
                </a:cubicBezTo>
              </a:path>
              <a:path w="5433" h="3647">
                <a:moveTo>
                  <a:pt x="17537" y="8458"/>
                </a:moveTo>
                <a:cubicBezTo>
                  <a:pt x="17480" y="8458"/>
                  <a:pt x="17459" y="8468"/>
                  <a:pt x="17413" y="8483"/>
                </a:cubicBezTo>
                <a:cubicBezTo>
                  <a:pt x="17381" y="8494"/>
                  <a:pt x="17331" y="8519"/>
                  <a:pt x="17314" y="8558"/>
                </a:cubicBezTo>
                <a:cubicBezTo>
                  <a:pt x="17299" y="8592"/>
                  <a:pt x="17289" y="8616"/>
                  <a:pt x="17289" y="8657"/>
                </a:cubicBezTo>
                <a:cubicBezTo>
                  <a:pt x="17289" y="8665"/>
                  <a:pt x="17289" y="8674"/>
                  <a:pt x="17289" y="8682"/>
                </a:cubicBezTo>
              </a:path>
              <a:path w="5433" h="3647">
                <a:moveTo>
                  <a:pt x="17611" y="8607"/>
                </a:moveTo>
                <a:cubicBezTo>
                  <a:pt x="17625" y="8614"/>
                  <a:pt x="17611" y="8905"/>
                  <a:pt x="17611" y="8954"/>
                </a:cubicBezTo>
                <a:cubicBezTo>
                  <a:pt x="17611" y="9004"/>
                  <a:pt x="17611" y="9053"/>
                  <a:pt x="17611" y="9103"/>
                </a:cubicBezTo>
                <a:cubicBezTo>
                  <a:pt x="17695" y="9243"/>
                  <a:pt x="17612" y="8895"/>
                  <a:pt x="17611" y="8880"/>
                </a:cubicBezTo>
                <a:cubicBezTo>
                  <a:pt x="17606" y="8805"/>
                  <a:pt x="17611" y="8681"/>
                  <a:pt x="17611" y="8756"/>
                </a:cubicBezTo>
                <a:cubicBezTo>
                  <a:pt x="17611" y="8789"/>
                  <a:pt x="17611" y="8822"/>
                  <a:pt x="17611" y="8855"/>
                </a:cubicBezTo>
                <a:cubicBezTo>
                  <a:pt x="17611" y="8935"/>
                  <a:pt x="17616" y="9187"/>
                  <a:pt x="17636" y="8930"/>
                </a:cubicBezTo>
                <a:cubicBezTo>
                  <a:pt x="17637" y="8920"/>
                  <a:pt x="17636" y="8650"/>
                  <a:pt x="17636" y="8706"/>
                </a:cubicBezTo>
                <a:cubicBezTo>
                  <a:pt x="17636" y="8749"/>
                  <a:pt x="17571" y="8932"/>
                  <a:pt x="17611" y="8979"/>
                </a:cubicBezTo>
                <a:cubicBezTo>
                  <a:pt x="17619" y="8979"/>
                  <a:pt x="17628" y="8979"/>
                  <a:pt x="17636" y="8979"/>
                </a:cubicBezTo>
              </a:path>
              <a:path w="5433" h="3647">
                <a:moveTo>
                  <a:pt x="17636" y="9153"/>
                </a:moveTo>
                <a:cubicBezTo>
                  <a:pt x="17499" y="9153"/>
                  <a:pt x="17369" y="9156"/>
                  <a:pt x="17239" y="9178"/>
                </a:cubicBezTo>
                <a:cubicBezTo>
                  <a:pt x="17167" y="9190"/>
                  <a:pt x="17109" y="9163"/>
                  <a:pt x="17041" y="9153"/>
                </a:cubicBezTo>
                <a:cubicBezTo>
                  <a:pt x="16894" y="9132"/>
                  <a:pt x="16731" y="9191"/>
                  <a:pt x="16594" y="9178"/>
                </a:cubicBezTo>
                <a:cubicBezTo>
                  <a:pt x="16487" y="9168"/>
                  <a:pt x="16366" y="9178"/>
                  <a:pt x="16247" y="9178"/>
                </a:cubicBezTo>
                <a:cubicBezTo>
                  <a:pt x="16136" y="9178"/>
                  <a:pt x="16057" y="9184"/>
                  <a:pt x="15949" y="9178"/>
                </a:cubicBezTo>
                <a:cubicBezTo>
                  <a:pt x="15894" y="9175"/>
                  <a:pt x="15855" y="9156"/>
                  <a:pt x="15801" y="9153"/>
                </a:cubicBezTo>
                <a:cubicBezTo>
                  <a:pt x="15697" y="9147"/>
                  <a:pt x="15699" y="9130"/>
                  <a:pt x="15602" y="9103"/>
                </a:cubicBezTo>
                <a:cubicBezTo>
                  <a:pt x="15546" y="9088"/>
                  <a:pt x="15485" y="9092"/>
                  <a:pt x="15429" y="9079"/>
                </a:cubicBezTo>
                <a:cubicBezTo>
                  <a:pt x="15437" y="9079"/>
                  <a:pt x="15445" y="9079"/>
                  <a:pt x="15453" y="9079"/>
                </a:cubicBezTo>
              </a:path>
              <a:path w="5433" h="3647">
                <a:moveTo>
                  <a:pt x="17487" y="8706"/>
                </a:moveTo>
                <a:lnTo>
                  <a:pt x="17487" y="8706"/>
                </a:lnTo>
                <a:lnTo>
                  <a:pt x="17487" y="8706"/>
                </a:lnTo>
              </a:path>
              <a:path w="5433" h="3647">
                <a:moveTo>
                  <a:pt x="15528" y="9971"/>
                </a:moveTo>
                <a:cubicBezTo>
                  <a:pt x="15505" y="9949"/>
                  <a:pt x="15500" y="9941"/>
                  <a:pt x="15478" y="9947"/>
                </a:cubicBezTo>
              </a:path>
              <a:path w="5433" h="3647">
                <a:moveTo>
                  <a:pt x="15329" y="9872"/>
                </a:moveTo>
                <a:cubicBezTo>
                  <a:pt x="15369" y="9859"/>
                  <a:pt x="15449" y="9715"/>
                  <a:pt x="15528" y="9773"/>
                </a:cubicBezTo>
                <a:cubicBezTo>
                  <a:pt x="15653" y="9866"/>
                  <a:pt x="15540" y="10045"/>
                  <a:pt x="15503" y="10145"/>
                </a:cubicBezTo>
                <a:cubicBezTo>
                  <a:pt x="15503" y="10110"/>
                  <a:pt x="15594" y="10080"/>
                  <a:pt x="15677" y="10071"/>
                </a:cubicBezTo>
              </a:path>
              <a:path w="5433" h="3647">
                <a:moveTo>
                  <a:pt x="15478" y="9475"/>
                </a:moveTo>
                <a:cubicBezTo>
                  <a:pt x="15241" y="9574"/>
                  <a:pt x="14982" y="9724"/>
                  <a:pt x="15131" y="10046"/>
                </a:cubicBezTo>
                <a:cubicBezTo>
                  <a:pt x="15290" y="10390"/>
                  <a:pt x="15653" y="10211"/>
                  <a:pt x="15850" y="10071"/>
                </a:cubicBezTo>
                <a:cubicBezTo>
                  <a:pt x="15800" y="9855"/>
                  <a:pt x="15777" y="9756"/>
                  <a:pt x="15577" y="9649"/>
                </a:cubicBezTo>
              </a:path>
              <a:path w="5433" h="3647">
                <a:moveTo>
                  <a:pt x="18182" y="7317"/>
                </a:moveTo>
                <a:cubicBezTo>
                  <a:pt x="18241" y="7298"/>
                  <a:pt x="18186" y="7187"/>
                  <a:pt x="18132" y="7169"/>
                </a:cubicBezTo>
                <a:cubicBezTo>
                  <a:pt x="17968" y="7115"/>
                  <a:pt x="17911" y="7322"/>
                  <a:pt x="17934" y="7441"/>
                </a:cubicBezTo>
                <a:cubicBezTo>
                  <a:pt x="17942" y="7449"/>
                  <a:pt x="17951" y="7458"/>
                  <a:pt x="17959" y="7466"/>
                </a:cubicBezTo>
                <a:cubicBezTo>
                  <a:pt x="18025" y="7433"/>
                  <a:pt x="18074" y="7409"/>
                  <a:pt x="18107" y="7342"/>
                </a:cubicBezTo>
                <a:cubicBezTo>
                  <a:pt x="18123" y="7310"/>
                  <a:pt x="18143" y="7277"/>
                  <a:pt x="18157" y="7243"/>
                </a:cubicBezTo>
                <a:cubicBezTo>
                  <a:pt x="18157" y="7413"/>
                  <a:pt x="18115" y="7633"/>
                  <a:pt x="18182" y="7789"/>
                </a:cubicBezTo>
                <a:cubicBezTo>
                  <a:pt x="18200" y="7831"/>
                  <a:pt x="18149" y="7708"/>
                  <a:pt x="18132" y="7665"/>
                </a:cubicBezTo>
              </a:path>
              <a:path w="5433" h="3647">
                <a:moveTo>
                  <a:pt x="17934" y="6970"/>
                </a:moveTo>
                <a:cubicBezTo>
                  <a:pt x="17584" y="7191"/>
                  <a:pt x="17446" y="7524"/>
                  <a:pt x="17760" y="7913"/>
                </a:cubicBezTo>
                <a:cubicBezTo>
                  <a:pt x="17834" y="7954"/>
                  <a:pt x="17909" y="7996"/>
                  <a:pt x="17983" y="8037"/>
                </a:cubicBezTo>
                <a:cubicBezTo>
                  <a:pt x="18261" y="7857"/>
                  <a:pt x="18620" y="7577"/>
                  <a:pt x="18207" y="7268"/>
                </a:cubicBezTo>
                <a:cubicBezTo>
                  <a:pt x="18141" y="7243"/>
                  <a:pt x="18074" y="7218"/>
                  <a:pt x="18008" y="71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340240"/>
            <a:ext cx="401760" cy="285840"/>
          </a:xfrm>
          <a:custGeom>
            <a:avLst/>
            <a:gdLst/>
            <a:ahLst/>
            <a:rect l="l" t="t" r="r" b="b"/>
            <a:pathLst>
              <a:path w="1118" h="795">
                <a:moveTo>
                  <a:pt x="6300" y="15131"/>
                </a:moveTo>
                <a:cubicBezTo>
                  <a:pt x="6391" y="15266"/>
                  <a:pt x="6417" y="15369"/>
                  <a:pt x="6474" y="15528"/>
                </a:cubicBezTo>
                <a:cubicBezTo>
                  <a:pt x="6572" y="15706"/>
                  <a:pt x="6403" y="15357"/>
                  <a:pt x="6375" y="15156"/>
                </a:cubicBezTo>
                <a:cubicBezTo>
                  <a:pt x="6375" y="14960"/>
                  <a:pt x="6355" y="14905"/>
                  <a:pt x="6474" y="14833"/>
                </a:cubicBezTo>
                <a:cubicBezTo>
                  <a:pt x="6642" y="14970"/>
                  <a:pt x="6679" y="15099"/>
                  <a:pt x="6499" y="15304"/>
                </a:cubicBezTo>
                <a:cubicBezTo>
                  <a:pt x="6491" y="15304"/>
                  <a:pt x="6482" y="15304"/>
                  <a:pt x="6474" y="15304"/>
                </a:cubicBezTo>
                <a:cubicBezTo>
                  <a:pt x="6601" y="15355"/>
                  <a:pt x="6746" y="15450"/>
                  <a:pt x="6871" y="15528"/>
                </a:cubicBezTo>
                <a:cubicBezTo>
                  <a:pt x="6927" y="15565"/>
                  <a:pt x="6952" y="15603"/>
                  <a:pt x="6945" y="15553"/>
                </a:cubicBezTo>
              </a:path>
              <a:path w="1118" h="795">
                <a:moveTo>
                  <a:pt x="7119" y="15007"/>
                </a:moveTo>
                <a:cubicBezTo>
                  <a:pt x="6929" y="15026"/>
                  <a:pt x="6772" y="15156"/>
                  <a:pt x="6846" y="15379"/>
                </a:cubicBezTo>
                <a:cubicBezTo>
                  <a:pt x="6934" y="15642"/>
                  <a:pt x="7233" y="15598"/>
                  <a:pt x="7392" y="15478"/>
                </a:cubicBezTo>
                <a:cubicBezTo>
                  <a:pt x="7425" y="15445"/>
                  <a:pt x="7425" y="15428"/>
                  <a:pt x="7367" y="154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70240" y="2660760"/>
            <a:ext cx="44640" cy="152280"/>
          </a:xfrm>
          <a:custGeom>
            <a:avLst/>
            <a:gdLst/>
            <a:ahLst/>
            <a:rect l="l" t="t" r="r" b="b"/>
            <a:pathLst>
              <a:path w="125" h="422">
                <a:moveTo>
                  <a:pt x="11633" y="7417"/>
                </a:moveTo>
                <a:lnTo>
                  <a:pt x="11633" y="7417"/>
                </a:lnTo>
                <a:lnTo>
                  <a:pt x="11633" y="7417"/>
                </a:lnTo>
              </a:path>
              <a:path w="125" h="422">
                <a:moveTo>
                  <a:pt x="11633" y="7689"/>
                </a:moveTo>
                <a:cubicBezTo>
                  <a:pt x="11627" y="7644"/>
                  <a:pt x="11580" y="7546"/>
                  <a:pt x="11584" y="7516"/>
                </a:cubicBezTo>
                <a:cubicBezTo>
                  <a:pt x="11589" y="7476"/>
                  <a:pt x="11614" y="7424"/>
                  <a:pt x="11633" y="7392"/>
                </a:cubicBezTo>
                <a:cubicBezTo>
                  <a:pt x="11675" y="7406"/>
                  <a:pt x="11710" y="7560"/>
                  <a:pt x="11708" y="7615"/>
                </a:cubicBezTo>
                <a:cubicBezTo>
                  <a:pt x="11707" y="7644"/>
                  <a:pt x="11662" y="7798"/>
                  <a:pt x="11633" y="7739"/>
                </a:cubicBezTo>
              </a:path>
              <a:path w="125" h="422">
                <a:moveTo>
                  <a:pt x="11584" y="7789"/>
                </a:moveTo>
                <a:cubicBezTo>
                  <a:pt x="11627" y="7789"/>
                  <a:pt x="11623" y="7788"/>
                  <a:pt x="11658" y="781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02080" y="2741760"/>
            <a:ext cx="46080" cy="98280"/>
          </a:xfrm>
          <a:custGeom>
            <a:avLst/>
            <a:gdLst/>
            <a:ahLst/>
            <a:rect l="l" t="t" r="r" b="b"/>
            <a:pathLst>
              <a:path w="125" h="274">
                <a:moveTo>
                  <a:pt x="12229" y="7888"/>
                </a:moveTo>
                <a:cubicBezTo>
                  <a:pt x="12232" y="7860"/>
                  <a:pt x="12231" y="7688"/>
                  <a:pt x="12254" y="7665"/>
                </a:cubicBezTo>
                <a:cubicBezTo>
                  <a:pt x="12279" y="7648"/>
                  <a:pt x="12303" y="7632"/>
                  <a:pt x="12328" y="7615"/>
                </a:cubicBezTo>
                <a:cubicBezTo>
                  <a:pt x="12345" y="7673"/>
                  <a:pt x="12345" y="7810"/>
                  <a:pt x="12278" y="7863"/>
                </a:cubicBezTo>
                <a:cubicBezTo>
                  <a:pt x="12270" y="7863"/>
                  <a:pt x="12262" y="7863"/>
                  <a:pt x="12254" y="78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26000" y="2830680"/>
            <a:ext cx="71280" cy="98280"/>
          </a:xfrm>
          <a:custGeom>
            <a:avLst/>
            <a:gdLst/>
            <a:ahLst/>
            <a:rect l="l" t="t" r="r" b="b"/>
            <a:pathLst>
              <a:path w="199" h="274">
                <a:moveTo>
                  <a:pt x="12849" y="8086"/>
                </a:moveTo>
                <a:cubicBezTo>
                  <a:pt x="12858" y="7993"/>
                  <a:pt x="12880" y="7945"/>
                  <a:pt x="12923" y="7863"/>
                </a:cubicBezTo>
                <a:cubicBezTo>
                  <a:pt x="13028" y="7892"/>
                  <a:pt x="13129" y="7999"/>
                  <a:pt x="12998" y="8111"/>
                </a:cubicBezTo>
                <a:cubicBezTo>
                  <a:pt x="12942" y="8159"/>
                  <a:pt x="12910" y="8147"/>
                  <a:pt x="12898" y="81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57840" y="2874960"/>
            <a:ext cx="71280" cy="117360"/>
          </a:xfrm>
          <a:custGeom>
            <a:avLst/>
            <a:gdLst/>
            <a:ahLst/>
            <a:rect l="l" t="t" r="r" b="b"/>
            <a:pathLst>
              <a:path w="199" h="324">
                <a:moveTo>
                  <a:pt x="13494" y="8310"/>
                </a:moveTo>
                <a:cubicBezTo>
                  <a:pt x="13505" y="8221"/>
                  <a:pt x="13511" y="8050"/>
                  <a:pt x="13593" y="7987"/>
                </a:cubicBezTo>
                <a:cubicBezTo>
                  <a:pt x="13610" y="7987"/>
                  <a:pt x="13626" y="7987"/>
                  <a:pt x="13643" y="7987"/>
                </a:cubicBezTo>
                <a:cubicBezTo>
                  <a:pt x="13694" y="8121"/>
                  <a:pt x="13677" y="8176"/>
                  <a:pt x="13593" y="83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7760" y="2955960"/>
            <a:ext cx="98280" cy="11592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13965" y="8458"/>
                </a:moveTo>
                <a:cubicBezTo>
                  <a:pt x="13980" y="8386"/>
                  <a:pt x="14001" y="8258"/>
                  <a:pt x="14064" y="8210"/>
                </a:cubicBezTo>
                <a:cubicBezTo>
                  <a:pt x="14156" y="8139"/>
                  <a:pt x="14280" y="8327"/>
                  <a:pt x="14238" y="8409"/>
                </a:cubicBezTo>
                <a:cubicBezTo>
                  <a:pt x="14179" y="8524"/>
                  <a:pt x="14116" y="8551"/>
                  <a:pt x="14089" y="84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44960" y="2670120"/>
            <a:ext cx="1938240" cy="830160"/>
          </a:xfrm>
          <a:custGeom>
            <a:avLst/>
            <a:gdLst/>
            <a:ahLst/>
            <a:rect l="l" t="t" r="r" b="b"/>
            <a:pathLst>
              <a:path w="5383" h="2307">
                <a:moveTo>
                  <a:pt x="12005" y="7962"/>
                </a:moveTo>
                <a:cubicBezTo>
                  <a:pt x="12050" y="7979"/>
                  <a:pt x="12108" y="8023"/>
                  <a:pt x="12154" y="8037"/>
                </a:cubicBezTo>
                <a:cubicBezTo>
                  <a:pt x="12234" y="8062"/>
                  <a:pt x="12316" y="8079"/>
                  <a:pt x="12402" y="8086"/>
                </a:cubicBezTo>
                <a:cubicBezTo>
                  <a:pt x="12508" y="8094"/>
                  <a:pt x="12608" y="8091"/>
                  <a:pt x="12700" y="8111"/>
                </a:cubicBezTo>
                <a:cubicBezTo>
                  <a:pt x="12774" y="8127"/>
                  <a:pt x="12806" y="8152"/>
                  <a:pt x="12874" y="8186"/>
                </a:cubicBezTo>
                <a:cubicBezTo>
                  <a:pt x="12941" y="8219"/>
                  <a:pt x="13004" y="8251"/>
                  <a:pt x="13072" y="8285"/>
                </a:cubicBezTo>
                <a:cubicBezTo>
                  <a:pt x="13140" y="8319"/>
                  <a:pt x="13200" y="8354"/>
                  <a:pt x="13271" y="8384"/>
                </a:cubicBezTo>
                <a:cubicBezTo>
                  <a:pt x="13364" y="8423"/>
                  <a:pt x="13451" y="8423"/>
                  <a:pt x="13543" y="8458"/>
                </a:cubicBezTo>
                <a:cubicBezTo>
                  <a:pt x="13639" y="8495"/>
                  <a:pt x="13752" y="8546"/>
                  <a:pt x="13841" y="8582"/>
                </a:cubicBezTo>
                <a:cubicBezTo>
                  <a:pt x="13904" y="8608"/>
                  <a:pt x="13958" y="8650"/>
                  <a:pt x="14015" y="8682"/>
                </a:cubicBezTo>
                <a:cubicBezTo>
                  <a:pt x="14065" y="8710"/>
                  <a:pt x="14107" y="8738"/>
                  <a:pt x="14163" y="8756"/>
                </a:cubicBezTo>
                <a:cubicBezTo>
                  <a:pt x="14244" y="8782"/>
                  <a:pt x="14326" y="8809"/>
                  <a:pt x="14412" y="8830"/>
                </a:cubicBezTo>
                <a:cubicBezTo>
                  <a:pt x="14503" y="8852"/>
                  <a:pt x="14571" y="8877"/>
                  <a:pt x="14660" y="8905"/>
                </a:cubicBezTo>
                <a:cubicBezTo>
                  <a:pt x="14769" y="8940"/>
                  <a:pt x="14873" y="8997"/>
                  <a:pt x="14982" y="9029"/>
                </a:cubicBezTo>
                <a:cubicBezTo>
                  <a:pt x="15056" y="9051"/>
                  <a:pt x="15091" y="9042"/>
                  <a:pt x="15156" y="9103"/>
                </a:cubicBezTo>
                <a:cubicBezTo>
                  <a:pt x="15204" y="9149"/>
                  <a:pt x="15228" y="9189"/>
                  <a:pt x="15280" y="9227"/>
                </a:cubicBezTo>
                <a:cubicBezTo>
                  <a:pt x="15361" y="9286"/>
                  <a:pt x="15462" y="9335"/>
                  <a:pt x="15553" y="9376"/>
                </a:cubicBezTo>
                <a:cubicBezTo>
                  <a:pt x="15705" y="9444"/>
                  <a:pt x="15864" y="9529"/>
                  <a:pt x="16024" y="9575"/>
                </a:cubicBezTo>
                <a:cubicBezTo>
                  <a:pt x="16114" y="9601"/>
                  <a:pt x="16216" y="9620"/>
                  <a:pt x="16297" y="9649"/>
                </a:cubicBezTo>
                <a:cubicBezTo>
                  <a:pt x="16346" y="9667"/>
                  <a:pt x="16477" y="9720"/>
                  <a:pt x="16495" y="9723"/>
                </a:cubicBezTo>
                <a:cubicBezTo>
                  <a:pt x="16519" y="9727"/>
                  <a:pt x="16547" y="9717"/>
                  <a:pt x="16570" y="9723"/>
                </a:cubicBezTo>
                <a:cubicBezTo>
                  <a:pt x="16570" y="9619"/>
                  <a:pt x="16561" y="9522"/>
                  <a:pt x="16594" y="9426"/>
                </a:cubicBezTo>
                <a:cubicBezTo>
                  <a:pt x="16605" y="9394"/>
                  <a:pt x="16610" y="9373"/>
                  <a:pt x="16619" y="9401"/>
                </a:cubicBezTo>
                <a:cubicBezTo>
                  <a:pt x="16637" y="9458"/>
                  <a:pt x="16605" y="9659"/>
                  <a:pt x="16570" y="9674"/>
                </a:cubicBezTo>
                <a:cubicBezTo>
                  <a:pt x="16537" y="9707"/>
                  <a:pt x="16520" y="9707"/>
                  <a:pt x="16495" y="9649"/>
                </a:cubicBezTo>
              </a:path>
              <a:path w="5383" h="2307">
                <a:moveTo>
                  <a:pt x="15999" y="9525"/>
                </a:moveTo>
                <a:cubicBezTo>
                  <a:pt x="15901" y="9505"/>
                  <a:pt x="15888" y="9424"/>
                  <a:pt x="15875" y="9327"/>
                </a:cubicBezTo>
                <a:cubicBezTo>
                  <a:pt x="15875" y="9265"/>
                  <a:pt x="15866" y="9250"/>
                  <a:pt x="15900" y="9227"/>
                </a:cubicBezTo>
                <a:cubicBezTo>
                  <a:pt x="15969" y="9337"/>
                  <a:pt x="16009" y="9440"/>
                  <a:pt x="15900" y="9550"/>
                </a:cubicBezTo>
                <a:cubicBezTo>
                  <a:pt x="15867" y="9550"/>
                  <a:pt x="15858" y="9542"/>
                  <a:pt x="15875" y="9500"/>
                </a:cubicBezTo>
              </a:path>
              <a:path w="5383" h="2307">
                <a:moveTo>
                  <a:pt x="15453" y="9426"/>
                </a:moveTo>
                <a:cubicBezTo>
                  <a:pt x="15388" y="9409"/>
                  <a:pt x="15344" y="9412"/>
                  <a:pt x="15329" y="9327"/>
                </a:cubicBezTo>
                <a:cubicBezTo>
                  <a:pt x="15318" y="9265"/>
                  <a:pt x="15310" y="9152"/>
                  <a:pt x="15354" y="9103"/>
                </a:cubicBezTo>
                <a:cubicBezTo>
                  <a:pt x="15362" y="9095"/>
                  <a:pt x="15371" y="9087"/>
                  <a:pt x="15379" y="9079"/>
                </a:cubicBezTo>
                <a:cubicBezTo>
                  <a:pt x="15441" y="9152"/>
                  <a:pt x="15397" y="9219"/>
                  <a:pt x="15354" y="9327"/>
                </a:cubicBezTo>
              </a:path>
              <a:path w="5383" h="2307">
                <a:moveTo>
                  <a:pt x="14635" y="8954"/>
                </a:moveTo>
                <a:cubicBezTo>
                  <a:pt x="14611" y="8883"/>
                  <a:pt x="14543" y="8741"/>
                  <a:pt x="14635" y="8682"/>
                </a:cubicBezTo>
                <a:cubicBezTo>
                  <a:pt x="14676" y="8682"/>
                  <a:pt x="14692" y="8690"/>
                  <a:pt x="14684" y="8657"/>
                </a:cubicBezTo>
                <a:cubicBezTo>
                  <a:pt x="14760" y="8732"/>
                  <a:pt x="14749" y="8870"/>
                  <a:pt x="14684" y="8979"/>
                </a:cubicBezTo>
                <a:cubicBezTo>
                  <a:pt x="14673" y="8998"/>
                  <a:pt x="14643" y="8915"/>
                  <a:pt x="14635" y="8905"/>
                </a:cubicBezTo>
              </a:path>
              <a:path w="5383" h="2307">
                <a:moveTo>
                  <a:pt x="11509" y="7888"/>
                </a:moveTo>
                <a:cubicBezTo>
                  <a:pt x="11434" y="7831"/>
                  <a:pt x="11366" y="7745"/>
                  <a:pt x="11311" y="7665"/>
                </a:cubicBezTo>
                <a:cubicBezTo>
                  <a:pt x="11263" y="7595"/>
                  <a:pt x="11320" y="7502"/>
                  <a:pt x="11261" y="7441"/>
                </a:cubicBezTo>
                <a:cubicBezTo>
                  <a:pt x="11237" y="7441"/>
                  <a:pt x="11229" y="7441"/>
                  <a:pt x="11237" y="741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90880" y="4348080"/>
            <a:ext cx="465120" cy="501840"/>
          </a:xfrm>
          <a:custGeom>
            <a:avLst/>
            <a:gdLst/>
            <a:ahLst/>
            <a:rect l="l" t="t" r="r" b="b"/>
            <a:pathLst>
              <a:path w="1290" h="1390">
                <a:moveTo>
                  <a:pt x="8930" y="12452"/>
                </a:moveTo>
                <a:cubicBezTo>
                  <a:pt x="8866" y="12431"/>
                  <a:pt x="8876" y="12441"/>
                  <a:pt x="8930" y="12700"/>
                </a:cubicBezTo>
                <a:cubicBezTo>
                  <a:pt x="8966" y="12871"/>
                  <a:pt x="9010" y="12980"/>
                  <a:pt x="9029" y="13146"/>
                </a:cubicBezTo>
                <a:cubicBezTo>
                  <a:pt x="9005" y="13027"/>
                  <a:pt x="8929" y="12887"/>
                  <a:pt x="8880" y="12774"/>
                </a:cubicBezTo>
                <a:cubicBezTo>
                  <a:pt x="8876" y="12766"/>
                  <a:pt x="8788" y="12543"/>
                  <a:pt x="8806" y="12601"/>
                </a:cubicBezTo>
                <a:cubicBezTo>
                  <a:pt x="8832" y="12687"/>
                  <a:pt x="8938" y="13023"/>
                  <a:pt x="8954" y="12923"/>
                </a:cubicBezTo>
                <a:cubicBezTo>
                  <a:pt x="8954" y="12907"/>
                  <a:pt x="8954" y="12890"/>
                  <a:pt x="8954" y="12874"/>
                </a:cubicBezTo>
              </a:path>
              <a:path w="1290" h="1390">
                <a:moveTo>
                  <a:pt x="8979" y="12105"/>
                </a:moveTo>
                <a:cubicBezTo>
                  <a:pt x="8710" y="12066"/>
                  <a:pt x="8511" y="12062"/>
                  <a:pt x="8384" y="12353"/>
                </a:cubicBezTo>
                <a:cubicBezTo>
                  <a:pt x="8232" y="12703"/>
                  <a:pt x="8339" y="13328"/>
                  <a:pt x="8756" y="13469"/>
                </a:cubicBezTo>
                <a:cubicBezTo>
                  <a:pt x="9219" y="13626"/>
                  <a:pt x="9541" y="13157"/>
                  <a:pt x="9599" y="12774"/>
                </a:cubicBezTo>
                <a:cubicBezTo>
                  <a:pt x="9648" y="12451"/>
                  <a:pt x="9477" y="12274"/>
                  <a:pt x="9203" y="12154"/>
                </a:cubicBezTo>
                <a:cubicBezTo>
                  <a:pt x="9064" y="12108"/>
                  <a:pt x="9024" y="12090"/>
                  <a:pt x="8930" y="121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68960" y="3446640"/>
            <a:ext cx="2741400" cy="1027080"/>
          </a:xfrm>
          <a:custGeom>
            <a:avLst/>
            <a:gdLst/>
            <a:ahLst/>
            <a:rect l="l" t="t" r="r" b="b"/>
            <a:pathLst>
              <a:path w="7616" h="2853">
                <a:moveTo>
                  <a:pt x="14908" y="12353"/>
                </a:moveTo>
                <a:cubicBezTo>
                  <a:pt x="14825" y="12375"/>
                  <a:pt x="14742" y="12401"/>
                  <a:pt x="14660" y="12427"/>
                </a:cubicBezTo>
                <a:cubicBezTo>
                  <a:pt x="14691" y="12409"/>
                  <a:pt x="14581" y="12398"/>
                  <a:pt x="14784" y="12328"/>
                </a:cubicBezTo>
                <a:cubicBezTo>
                  <a:pt x="14999" y="12254"/>
                  <a:pt x="15232" y="12230"/>
                  <a:pt x="15453" y="12179"/>
                </a:cubicBezTo>
                <a:cubicBezTo>
                  <a:pt x="15639" y="12136"/>
                  <a:pt x="15811" y="12068"/>
                  <a:pt x="15999" y="12030"/>
                </a:cubicBezTo>
                <a:cubicBezTo>
                  <a:pt x="16262" y="11977"/>
                  <a:pt x="16529" y="11980"/>
                  <a:pt x="16793" y="11956"/>
                </a:cubicBezTo>
                <a:cubicBezTo>
                  <a:pt x="17023" y="11935"/>
                  <a:pt x="17256" y="11894"/>
                  <a:pt x="17487" y="11881"/>
                </a:cubicBezTo>
                <a:cubicBezTo>
                  <a:pt x="17892" y="11858"/>
                  <a:pt x="18298" y="11854"/>
                  <a:pt x="18703" y="11832"/>
                </a:cubicBezTo>
                <a:cubicBezTo>
                  <a:pt x="19023" y="11815"/>
                  <a:pt x="19329" y="11782"/>
                  <a:pt x="19645" y="11733"/>
                </a:cubicBezTo>
                <a:cubicBezTo>
                  <a:pt x="20296" y="11632"/>
                  <a:pt x="20975" y="11494"/>
                  <a:pt x="21630" y="11584"/>
                </a:cubicBezTo>
                <a:cubicBezTo>
                  <a:pt x="21764" y="11602"/>
                  <a:pt x="21896" y="11613"/>
                  <a:pt x="22027" y="11633"/>
                </a:cubicBezTo>
                <a:cubicBezTo>
                  <a:pt x="22101" y="11652"/>
                  <a:pt x="22108" y="11660"/>
                  <a:pt x="22151" y="11658"/>
                </a:cubicBezTo>
                <a:cubicBezTo>
                  <a:pt x="22131" y="11465"/>
                  <a:pt x="22111" y="11281"/>
                  <a:pt x="22076" y="11088"/>
                </a:cubicBezTo>
                <a:cubicBezTo>
                  <a:pt x="22011" y="10725"/>
                  <a:pt x="22012" y="10361"/>
                  <a:pt x="21977" y="9996"/>
                </a:cubicBezTo>
                <a:cubicBezTo>
                  <a:pt x="21967" y="9895"/>
                  <a:pt x="22002" y="10170"/>
                  <a:pt x="21977" y="10120"/>
                </a:cubicBezTo>
                <a:cubicBezTo>
                  <a:pt x="22024" y="10654"/>
                  <a:pt x="22028" y="11180"/>
                  <a:pt x="22126" y="11708"/>
                </a:cubicBezTo>
                <a:cubicBezTo>
                  <a:pt x="22110" y="11008"/>
                  <a:pt x="22014" y="10319"/>
                  <a:pt x="21952" y="9624"/>
                </a:cubicBezTo>
                <a:cubicBezTo>
                  <a:pt x="21952" y="9632"/>
                  <a:pt x="21952" y="9641"/>
                  <a:pt x="21952" y="9649"/>
                </a:cubicBezTo>
                <a:cubicBezTo>
                  <a:pt x="22019" y="10356"/>
                  <a:pt x="22108" y="11054"/>
                  <a:pt x="22200" y="11757"/>
                </a:cubicBezTo>
                <a:cubicBezTo>
                  <a:pt x="22200" y="11765"/>
                  <a:pt x="22200" y="11774"/>
                  <a:pt x="22200" y="11782"/>
                </a:cubicBezTo>
                <a:cubicBezTo>
                  <a:pt x="22200" y="11082"/>
                  <a:pt x="22153" y="10396"/>
                  <a:pt x="22101" y="9699"/>
                </a:cubicBezTo>
                <a:cubicBezTo>
                  <a:pt x="22169" y="10201"/>
                  <a:pt x="22190" y="10459"/>
                  <a:pt x="22225" y="10964"/>
                </a:cubicBezTo>
                <a:cubicBezTo>
                  <a:pt x="22243" y="11229"/>
                  <a:pt x="22245" y="11471"/>
                  <a:pt x="22250" y="11733"/>
                </a:cubicBezTo>
                <a:cubicBezTo>
                  <a:pt x="22229" y="11147"/>
                  <a:pt x="22152" y="10625"/>
                  <a:pt x="22051" y="10046"/>
                </a:cubicBezTo>
                <a:cubicBezTo>
                  <a:pt x="22020" y="9867"/>
                  <a:pt x="22017" y="9855"/>
                  <a:pt x="22027" y="9674"/>
                </a:cubicBezTo>
                <a:cubicBezTo>
                  <a:pt x="22089" y="10248"/>
                  <a:pt x="22132" y="11000"/>
                  <a:pt x="22200" y="114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49800" y="2919240"/>
            <a:ext cx="55440" cy="179640"/>
          </a:xfrm>
          <a:custGeom>
            <a:avLst/>
            <a:gdLst/>
            <a:ahLst/>
            <a:rect l="l" t="t" r="r" b="b"/>
            <a:pathLst>
              <a:path w="150" h="497">
                <a:moveTo>
                  <a:pt x="11956" y="8111"/>
                </a:moveTo>
                <a:cubicBezTo>
                  <a:pt x="11899" y="8273"/>
                  <a:pt x="11844" y="8440"/>
                  <a:pt x="11807" y="86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94160" y="3044880"/>
            <a:ext cx="901800" cy="447480"/>
          </a:xfrm>
          <a:custGeom>
            <a:avLst/>
            <a:gdLst/>
            <a:ahLst/>
            <a:rect l="l" t="t" r="r" b="b"/>
            <a:pathLst>
              <a:path w="2506" h="1242">
                <a:moveTo>
                  <a:pt x="12204" y="8558"/>
                </a:moveTo>
                <a:cubicBezTo>
                  <a:pt x="12276" y="8663"/>
                  <a:pt x="12296" y="8379"/>
                  <a:pt x="12353" y="8458"/>
                </a:cubicBezTo>
                <a:cubicBezTo>
                  <a:pt x="12417" y="8546"/>
                  <a:pt x="12402" y="8633"/>
                  <a:pt x="12402" y="8731"/>
                </a:cubicBezTo>
                <a:cubicBezTo>
                  <a:pt x="12434" y="8637"/>
                  <a:pt x="12485" y="8563"/>
                  <a:pt x="12551" y="8483"/>
                </a:cubicBezTo>
                <a:cubicBezTo>
                  <a:pt x="12588" y="8605"/>
                  <a:pt x="12584" y="8751"/>
                  <a:pt x="12551" y="8880"/>
                </a:cubicBezTo>
              </a:path>
              <a:path w="2506" h="1242">
                <a:moveTo>
                  <a:pt x="12774" y="8830"/>
                </a:moveTo>
                <a:lnTo>
                  <a:pt x="12774" y="8830"/>
                </a:lnTo>
              </a:path>
              <a:path w="2506" h="1242">
                <a:moveTo>
                  <a:pt x="13320" y="8458"/>
                </a:moveTo>
                <a:cubicBezTo>
                  <a:pt x="13302" y="8627"/>
                  <a:pt x="13378" y="9045"/>
                  <a:pt x="13295" y="9178"/>
                </a:cubicBezTo>
                <a:cubicBezTo>
                  <a:pt x="13279" y="9170"/>
                  <a:pt x="13262" y="9161"/>
                  <a:pt x="13246" y="9153"/>
                </a:cubicBezTo>
              </a:path>
              <a:path w="2506" h="1242">
                <a:moveTo>
                  <a:pt x="13097" y="8830"/>
                </a:moveTo>
                <a:cubicBezTo>
                  <a:pt x="13244" y="8874"/>
                  <a:pt x="13317" y="8915"/>
                  <a:pt x="13444" y="9004"/>
                </a:cubicBezTo>
              </a:path>
              <a:path w="2506" h="1242">
                <a:moveTo>
                  <a:pt x="13543" y="9277"/>
                </a:moveTo>
                <a:cubicBezTo>
                  <a:pt x="13529" y="9178"/>
                  <a:pt x="13487" y="9028"/>
                  <a:pt x="13593" y="8954"/>
                </a:cubicBezTo>
                <a:cubicBezTo>
                  <a:pt x="13722" y="8863"/>
                  <a:pt x="13754" y="9010"/>
                  <a:pt x="13841" y="9054"/>
                </a:cubicBezTo>
                <a:cubicBezTo>
                  <a:pt x="13866" y="9054"/>
                  <a:pt x="13874" y="9054"/>
                  <a:pt x="13891" y="9054"/>
                </a:cubicBezTo>
                <a:cubicBezTo>
                  <a:pt x="13867" y="9064"/>
                  <a:pt x="13649" y="9176"/>
                  <a:pt x="13717" y="9252"/>
                </a:cubicBezTo>
                <a:cubicBezTo>
                  <a:pt x="13775" y="9316"/>
                  <a:pt x="13866" y="9222"/>
                  <a:pt x="13891" y="9178"/>
                </a:cubicBezTo>
                <a:cubicBezTo>
                  <a:pt x="13977" y="9267"/>
                  <a:pt x="13875" y="9300"/>
                  <a:pt x="14039" y="9351"/>
                </a:cubicBezTo>
              </a:path>
              <a:path w="2506" h="1242">
                <a:moveTo>
                  <a:pt x="14163" y="9153"/>
                </a:moveTo>
                <a:cubicBezTo>
                  <a:pt x="14100" y="9223"/>
                  <a:pt x="14014" y="9571"/>
                  <a:pt x="14238" y="9475"/>
                </a:cubicBezTo>
                <a:cubicBezTo>
                  <a:pt x="14279" y="9434"/>
                  <a:pt x="14321" y="9392"/>
                  <a:pt x="14362" y="9351"/>
                </a:cubicBezTo>
              </a:path>
              <a:path w="2506" h="1242">
                <a:moveTo>
                  <a:pt x="14436" y="9153"/>
                </a:moveTo>
                <a:cubicBezTo>
                  <a:pt x="14429" y="9247"/>
                  <a:pt x="14363" y="9605"/>
                  <a:pt x="14511" y="9351"/>
                </a:cubicBezTo>
              </a:path>
              <a:path w="2506" h="1242">
                <a:moveTo>
                  <a:pt x="14511" y="9277"/>
                </a:moveTo>
                <a:cubicBezTo>
                  <a:pt x="14494" y="9331"/>
                  <a:pt x="14442" y="9958"/>
                  <a:pt x="14660" y="9674"/>
                </a:cubicBezTo>
                <a:cubicBezTo>
                  <a:pt x="14676" y="9616"/>
                  <a:pt x="14693" y="9558"/>
                  <a:pt x="14709" y="95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6080" y="2911320"/>
            <a:ext cx="482760" cy="946440"/>
          </a:xfrm>
          <a:custGeom>
            <a:avLst/>
            <a:gdLst/>
            <a:ahLst/>
            <a:rect l="l" t="t" r="r" b="b"/>
            <a:pathLst>
              <a:path w="1341" h="2631">
                <a:moveTo>
                  <a:pt x="9227" y="8111"/>
                </a:moveTo>
                <a:cubicBezTo>
                  <a:pt x="9188" y="8097"/>
                  <a:pt x="9215" y="8083"/>
                  <a:pt x="9178" y="8111"/>
                </a:cubicBezTo>
                <a:cubicBezTo>
                  <a:pt x="9117" y="8156"/>
                  <a:pt x="9106" y="8293"/>
                  <a:pt x="9128" y="8359"/>
                </a:cubicBezTo>
                <a:cubicBezTo>
                  <a:pt x="9141" y="8397"/>
                  <a:pt x="9258" y="8401"/>
                  <a:pt x="9277" y="8384"/>
                </a:cubicBezTo>
                <a:cubicBezTo>
                  <a:pt x="9310" y="8354"/>
                  <a:pt x="9355" y="8230"/>
                  <a:pt x="9327" y="8186"/>
                </a:cubicBezTo>
                <a:cubicBezTo>
                  <a:pt x="9323" y="8180"/>
                  <a:pt x="9264" y="8164"/>
                  <a:pt x="9252" y="8161"/>
                </a:cubicBezTo>
              </a:path>
              <a:path w="1341" h="2631">
                <a:moveTo>
                  <a:pt x="9798" y="8384"/>
                </a:moveTo>
                <a:cubicBezTo>
                  <a:pt x="9789" y="8346"/>
                  <a:pt x="9790" y="8314"/>
                  <a:pt x="9773" y="8384"/>
                </a:cubicBezTo>
                <a:cubicBezTo>
                  <a:pt x="9722" y="8599"/>
                  <a:pt x="9770" y="8812"/>
                  <a:pt x="9773" y="9029"/>
                </a:cubicBezTo>
                <a:cubicBezTo>
                  <a:pt x="9778" y="9321"/>
                  <a:pt x="9776" y="9608"/>
                  <a:pt x="9798" y="9897"/>
                </a:cubicBezTo>
                <a:cubicBezTo>
                  <a:pt x="9809" y="10033"/>
                  <a:pt x="9768" y="10137"/>
                  <a:pt x="9748" y="10269"/>
                </a:cubicBezTo>
                <a:cubicBezTo>
                  <a:pt x="9733" y="10367"/>
                  <a:pt x="9758" y="10448"/>
                  <a:pt x="9723" y="10542"/>
                </a:cubicBezTo>
                <a:cubicBezTo>
                  <a:pt x="9814" y="10548"/>
                  <a:pt x="9883" y="10579"/>
                  <a:pt x="9971" y="10592"/>
                </a:cubicBezTo>
                <a:cubicBezTo>
                  <a:pt x="10027" y="10600"/>
                  <a:pt x="10067" y="10603"/>
                  <a:pt x="10120" y="10616"/>
                </a:cubicBezTo>
                <a:cubicBezTo>
                  <a:pt x="10133" y="10497"/>
                  <a:pt x="10183" y="10394"/>
                  <a:pt x="10170" y="10269"/>
                </a:cubicBezTo>
                <a:cubicBezTo>
                  <a:pt x="10152" y="10097"/>
                  <a:pt x="10161" y="9921"/>
                  <a:pt x="10145" y="9748"/>
                </a:cubicBezTo>
                <a:cubicBezTo>
                  <a:pt x="10127" y="9557"/>
                  <a:pt x="10106" y="9367"/>
                  <a:pt x="10071" y="9178"/>
                </a:cubicBezTo>
                <a:cubicBezTo>
                  <a:pt x="10042" y="9023"/>
                  <a:pt x="10021" y="8888"/>
                  <a:pt x="10021" y="8731"/>
                </a:cubicBezTo>
                <a:cubicBezTo>
                  <a:pt x="10021" y="8632"/>
                  <a:pt x="10000" y="8551"/>
                  <a:pt x="9996" y="8458"/>
                </a:cubicBezTo>
                <a:cubicBezTo>
                  <a:pt x="9992" y="8358"/>
                  <a:pt x="10018" y="8196"/>
                  <a:pt x="9971" y="8136"/>
                </a:cubicBezTo>
                <a:cubicBezTo>
                  <a:pt x="9942" y="8099"/>
                  <a:pt x="9935" y="8123"/>
                  <a:pt x="9872" y="8136"/>
                </a:cubicBezTo>
              </a:path>
              <a:path w="1341" h="2631">
                <a:moveTo>
                  <a:pt x="10120" y="10418"/>
                </a:moveTo>
                <a:cubicBezTo>
                  <a:pt x="10066" y="10418"/>
                  <a:pt x="10066" y="10418"/>
                  <a:pt x="10120" y="10418"/>
                </a:cubicBezTo>
                <a:cubicBezTo>
                  <a:pt x="10147" y="10418"/>
                  <a:pt x="10185" y="10389"/>
                  <a:pt x="10220" y="10368"/>
                </a:cubicBezTo>
                <a:cubicBezTo>
                  <a:pt x="10326" y="10368"/>
                  <a:pt x="10182" y="10403"/>
                  <a:pt x="10120" y="10418"/>
                </a:cubicBezTo>
                <a:cubicBezTo>
                  <a:pt x="10013" y="10436"/>
                  <a:pt x="10005" y="10444"/>
                  <a:pt x="9947" y="10443"/>
                </a:cubicBezTo>
                <a:cubicBezTo>
                  <a:pt x="10059" y="10429"/>
                  <a:pt x="10163" y="10395"/>
                  <a:pt x="10269" y="10368"/>
                </a:cubicBezTo>
                <a:cubicBezTo>
                  <a:pt x="10277" y="10368"/>
                  <a:pt x="10286" y="10368"/>
                  <a:pt x="10294" y="10368"/>
                </a:cubicBezTo>
                <a:cubicBezTo>
                  <a:pt x="10224" y="10403"/>
                  <a:pt x="9993" y="10418"/>
                  <a:pt x="10071" y="10418"/>
                </a:cubicBezTo>
                <a:cubicBezTo>
                  <a:pt x="10161" y="10418"/>
                  <a:pt x="10224" y="10368"/>
                  <a:pt x="10319" y="10368"/>
                </a:cubicBezTo>
                <a:cubicBezTo>
                  <a:pt x="10327" y="10368"/>
                  <a:pt x="10336" y="10368"/>
                  <a:pt x="10344" y="10368"/>
                </a:cubicBezTo>
              </a:path>
              <a:path w="1341" h="2631">
                <a:moveTo>
                  <a:pt x="10021" y="10170"/>
                </a:moveTo>
                <a:cubicBezTo>
                  <a:pt x="10106" y="10102"/>
                  <a:pt x="10212" y="10089"/>
                  <a:pt x="10319" y="10071"/>
                </a:cubicBezTo>
                <a:cubicBezTo>
                  <a:pt x="10327" y="10071"/>
                  <a:pt x="10336" y="10071"/>
                  <a:pt x="10344" y="10071"/>
                </a:cubicBezTo>
                <a:cubicBezTo>
                  <a:pt x="10231" y="10071"/>
                  <a:pt x="10130" y="10050"/>
                  <a:pt x="10021" y="10021"/>
                </a:cubicBezTo>
                <a:cubicBezTo>
                  <a:pt x="10100" y="9998"/>
                  <a:pt x="10268" y="9983"/>
                  <a:pt x="10195" y="9947"/>
                </a:cubicBezTo>
              </a:path>
              <a:path w="1341" h="2631">
                <a:moveTo>
                  <a:pt x="9872" y="9599"/>
                </a:moveTo>
                <a:cubicBezTo>
                  <a:pt x="9916" y="9581"/>
                  <a:pt x="10190" y="9479"/>
                  <a:pt x="10145" y="9475"/>
                </a:cubicBezTo>
                <a:cubicBezTo>
                  <a:pt x="10079" y="9475"/>
                  <a:pt x="10046" y="9475"/>
                  <a:pt x="9996" y="9475"/>
                </a:cubicBezTo>
                <a:cubicBezTo>
                  <a:pt x="9980" y="9475"/>
                  <a:pt x="9963" y="9475"/>
                  <a:pt x="9947" y="9475"/>
                </a:cubicBezTo>
                <a:cubicBezTo>
                  <a:pt x="10048" y="9461"/>
                  <a:pt x="10140" y="9451"/>
                  <a:pt x="10244" y="9451"/>
                </a:cubicBezTo>
                <a:cubicBezTo>
                  <a:pt x="10294" y="9451"/>
                  <a:pt x="10145" y="9437"/>
                  <a:pt x="10096" y="9426"/>
                </a:cubicBezTo>
              </a:path>
              <a:path w="1341" h="2631">
                <a:moveTo>
                  <a:pt x="9872" y="9153"/>
                </a:moveTo>
                <a:cubicBezTo>
                  <a:pt x="9942" y="9124"/>
                  <a:pt x="10155" y="9054"/>
                  <a:pt x="10145" y="9054"/>
                </a:cubicBezTo>
                <a:cubicBezTo>
                  <a:pt x="10099" y="9049"/>
                  <a:pt x="9928" y="9029"/>
                  <a:pt x="9971" y="9029"/>
                </a:cubicBezTo>
                <a:cubicBezTo>
                  <a:pt x="9977" y="9029"/>
                  <a:pt x="10261" y="9050"/>
                  <a:pt x="10120" y="9004"/>
                </a:cubicBezTo>
              </a:path>
              <a:path w="1341" h="2631">
                <a:moveTo>
                  <a:pt x="9897" y="8855"/>
                </a:moveTo>
                <a:lnTo>
                  <a:pt x="9922" y="8855"/>
                </a:lnTo>
                <a:lnTo>
                  <a:pt x="10021" y="8806"/>
                </a:lnTo>
                <a:lnTo>
                  <a:pt x="10145" y="8756"/>
                </a:lnTo>
                <a:lnTo>
                  <a:pt x="10220" y="8756"/>
                </a:lnTo>
                <a:lnTo>
                  <a:pt x="10195" y="8756"/>
                </a:lnTo>
                <a:lnTo>
                  <a:pt x="10145" y="8756"/>
                </a:lnTo>
                <a:lnTo>
                  <a:pt x="10021" y="8756"/>
                </a:lnTo>
                <a:lnTo>
                  <a:pt x="9922" y="8756"/>
                </a:lnTo>
                <a:lnTo>
                  <a:pt x="9922" y="8756"/>
                </a:lnTo>
                <a:lnTo>
                  <a:pt x="9996" y="8731"/>
                </a:lnTo>
                <a:lnTo>
                  <a:pt x="10046" y="8706"/>
                </a:lnTo>
                <a:lnTo>
                  <a:pt x="10071" y="8706"/>
                </a:lnTo>
                <a:lnTo>
                  <a:pt x="10071" y="8706"/>
                </a:lnTo>
              </a:path>
              <a:path w="1341" h="2631">
                <a:moveTo>
                  <a:pt x="9823" y="8508"/>
                </a:moveTo>
                <a:cubicBezTo>
                  <a:pt x="9887" y="8468"/>
                  <a:pt x="10047" y="8433"/>
                  <a:pt x="10096" y="8384"/>
                </a:cubicBezTo>
                <a:cubicBezTo>
                  <a:pt x="10161" y="8319"/>
                  <a:pt x="9938" y="8370"/>
                  <a:pt x="9847" y="8384"/>
                </a:cubicBezTo>
                <a:cubicBezTo>
                  <a:pt x="9896" y="8348"/>
                  <a:pt x="10069" y="8285"/>
                  <a:pt x="10021" y="8285"/>
                </a:cubicBezTo>
              </a:path>
              <a:path w="1341" h="2631">
                <a:moveTo>
                  <a:pt x="9823" y="8558"/>
                </a:moveTo>
                <a:cubicBezTo>
                  <a:pt x="9780" y="8575"/>
                  <a:pt x="9742" y="8617"/>
                  <a:pt x="9699" y="8632"/>
                </a:cubicBezTo>
                <a:cubicBezTo>
                  <a:pt x="9645" y="8650"/>
                  <a:pt x="9772" y="8632"/>
                  <a:pt x="9798" y="8632"/>
                </a:cubicBezTo>
                <a:cubicBezTo>
                  <a:pt x="9806" y="8632"/>
                  <a:pt x="9815" y="8632"/>
                  <a:pt x="9823" y="8632"/>
                </a:cubicBezTo>
                <a:cubicBezTo>
                  <a:pt x="9754" y="8649"/>
                  <a:pt x="9621" y="8611"/>
                  <a:pt x="9624" y="8682"/>
                </a:cubicBezTo>
                <a:cubicBezTo>
                  <a:pt x="9625" y="8700"/>
                  <a:pt x="9900" y="8654"/>
                  <a:pt x="9922" y="8632"/>
                </a:cubicBezTo>
                <a:cubicBezTo>
                  <a:pt x="9983" y="8570"/>
                  <a:pt x="9756" y="8677"/>
                  <a:pt x="9674" y="8706"/>
                </a:cubicBezTo>
              </a:path>
              <a:path w="1341" h="2631">
                <a:moveTo>
                  <a:pt x="9699" y="9203"/>
                </a:moveTo>
                <a:cubicBezTo>
                  <a:pt x="9787" y="9203"/>
                  <a:pt x="9861" y="9190"/>
                  <a:pt x="9947" y="9178"/>
                </a:cubicBezTo>
                <a:cubicBezTo>
                  <a:pt x="9955" y="9178"/>
                  <a:pt x="9963" y="9178"/>
                  <a:pt x="9971" y="9178"/>
                </a:cubicBezTo>
                <a:cubicBezTo>
                  <a:pt x="9836" y="9195"/>
                  <a:pt x="9711" y="9201"/>
                  <a:pt x="9575" y="9178"/>
                </a:cubicBezTo>
                <a:cubicBezTo>
                  <a:pt x="9508" y="9167"/>
                  <a:pt x="9706" y="9190"/>
                  <a:pt x="9773" y="9203"/>
                </a:cubicBezTo>
              </a:path>
              <a:path w="1341" h="2631">
                <a:moveTo>
                  <a:pt x="9723" y="9773"/>
                </a:moveTo>
                <a:cubicBezTo>
                  <a:pt x="9811" y="9811"/>
                  <a:pt x="9873" y="9787"/>
                  <a:pt x="9971" y="9773"/>
                </a:cubicBezTo>
                <a:cubicBezTo>
                  <a:pt x="9855" y="9832"/>
                  <a:pt x="9727" y="9822"/>
                  <a:pt x="9599" y="9847"/>
                </a:cubicBezTo>
                <a:cubicBezTo>
                  <a:pt x="9518" y="9863"/>
                  <a:pt x="9764" y="9847"/>
                  <a:pt x="9847" y="9847"/>
                </a:cubicBezTo>
              </a:path>
              <a:path w="1341" h="2631">
                <a:moveTo>
                  <a:pt x="9699" y="10368"/>
                </a:moveTo>
                <a:cubicBezTo>
                  <a:pt x="9720" y="10434"/>
                  <a:pt x="9841" y="10376"/>
                  <a:pt x="9897" y="10368"/>
                </a:cubicBezTo>
                <a:cubicBezTo>
                  <a:pt x="9922" y="10368"/>
                  <a:pt x="9930" y="10368"/>
                  <a:pt x="9897" y="10368"/>
                </a:cubicBezTo>
                <a:cubicBezTo>
                  <a:pt x="9818" y="10411"/>
                  <a:pt x="9618" y="10444"/>
                  <a:pt x="9624" y="10443"/>
                </a:cubicBezTo>
                <a:cubicBezTo>
                  <a:pt x="9740" y="10420"/>
                  <a:pt x="9773" y="10413"/>
                  <a:pt x="9847" y="10393"/>
                </a:cubicBezTo>
              </a:path>
              <a:path w="1341" h="2631">
                <a:moveTo>
                  <a:pt x="10468" y="10468"/>
                </a:moveTo>
                <a:cubicBezTo>
                  <a:pt x="10460" y="10468"/>
                  <a:pt x="10451" y="10468"/>
                  <a:pt x="10443" y="10468"/>
                </a:cubicBezTo>
              </a:path>
              <a:path w="1341" h="2631">
                <a:moveTo>
                  <a:pt x="10269" y="10666"/>
                </a:moveTo>
                <a:cubicBezTo>
                  <a:pt x="10246" y="10689"/>
                  <a:pt x="10238" y="10693"/>
                  <a:pt x="10244" y="10716"/>
                </a:cubicBezTo>
                <a:cubicBezTo>
                  <a:pt x="10269" y="10716"/>
                  <a:pt x="10294" y="10716"/>
                  <a:pt x="10319" y="10716"/>
                </a:cubicBezTo>
              </a:path>
              <a:path w="1341" h="2631">
                <a:moveTo>
                  <a:pt x="10443" y="10368"/>
                </a:moveTo>
                <a:cubicBezTo>
                  <a:pt x="10443" y="10360"/>
                  <a:pt x="10443" y="10352"/>
                  <a:pt x="10443" y="103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79920" y="3500280"/>
            <a:ext cx="2463840" cy="804960"/>
          </a:xfrm>
          <a:custGeom>
            <a:avLst/>
            <a:gdLst/>
            <a:ahLst/>
            <a:rect l="l" t="t" r="r" b="b"/>
            <a:pathLst>
              <a:path w="6847" h="2234">
                <a:moveTo>
                  <a:pt x="10344" y="10716"/>
                </a:moveTo>
                <a:cubicBezTo>
                  <a:pt x="10368" y="10716"/>
                  <a:pt x="10377" y="10716"/>
                  <a:pt x="10393" y="10716"/>
                </a:cubicBezTo>
              </a:path>
              <a:path w="6847" h="2234">
                <a:moveTo>
                  <a:pt x="10344" y="10716"/>
                </a:moveTo>
                <a:cubicBezTo>
                  <a:pt x="10336" y="10716"/>
                  <a:pt x="10327" y="10716"/>
                  <a:pt x="10319" y="10716"/>
                </a:cubicBezTo>
              </a:path>
              <a:path w="6847" h="2234">
                <a:moveTo>
                  <a:pt x="10344" y="10691"/>
                </a:moveTo>
                <a:cubicBezTo>
                  <a:pt x="10366" y="10713"/>
                  <a:pt x="10374" y="10718"/>
                  <a:pt x="10368" y="10740"/>
                </a:cubicBezTo>
              </a:path>
              <a:path w="6847" h="2234">
                <a:moveTo>
                  <a:pt x="10344" y="10716"/>
                </a:moveTo>
                <a:cubicBezTo>
                  <a:pt x="10420" y="10724"/>
                  <a:pt x="10487" y="10749"/>
                  <a:pt x="10567" y="10740"/>
                </a:cubicBezTo>
                <a:cubicBezTo>
                  <a:pt x="10678" y="10728"/>
                  <a:pt x="10776" y="10716"/>
                  <a:pt x="10889" y="10716"/>
                </a:cubicBezTo>
                <a:cubicBezTo>
                  <a:pt x="10995" y="10716"/>
                  <a:pt x="11085" y="10729"/>
                  <a:pt x="11187" y="10740"/>
                </a:cubicBezTo>
                <a:cubicBezTo>
                  <a:pt x="11531" y="10778"/>
                  <a:pt x="11939" y="10761"/>
                  <a:pt x="12278" y="10716"/>
                </a:cubicBezTo>
                <a:cubicBezTo>
                  <a:pt x="12350" y="10707"/>
                  <a:pt x="12429" y="10716"/>
                  <a:pt x="12502" y="10716"/>
                </a:cubicBezTo>
              </a:path>
              <a:path w="6847" h="2234">
                <a:moveTo>
                  <a:pt x="10220" y="10542"/>
                </a:moveTo>
                <a:cubicBezTo>
                  <a:pt x="10264" y="10548"/>
                  <a:pt x="10301" y="10561"/>
                  <a:pt x="10344" y="10567"/>
                </a:cubicBezTo>
                <a:cubicBezTo>
                  <a:pt x="10409" y="10576"/>
                  <a:pt x="10446" y="10612"/>
                  <a:pt x="10517" y="10616"/>
                </a:cubicBezTo>
                <a:cubicBezTo>
                  <a:pt x="10573" y="10619"/>
                  <a:pt x="10641" y="10645"/>
                  <a:pt x="10691" y="10641"/>
                </a:cubicBezTo>
                <a:cubicBezTo>
                  <a:pt x="10767" y="10635"/>
                  <a:pt x="10809" y="10616"/>
                  <a:pt x="10889" y="10616"/>
                </a:cubicBezTo>
                <a:cubicBezTo>
                  <a:pt x="11091" y="10616"/>
                  <a:pt x="11292" y="10616"/>
                  <a:pt x="11485" y="10641"/>
                </a:cubicBezTo>
                <a:cubicBezTo>
                  <a:pt x="11553" y="10650"/>
                  <a:pt x="11594" y="10619"/>
                  <a:pt x="11658" y="10616"/>
                </a:cubicBezTo>
                <a:cubicBezTo>
                  <a:pt x="11736" y="10613"/>
                  <a:pt x="11803" y="10596"/>
                  <a:pt x="11881" y="10592"/>
                </a:cubicBezTo>
                <a:cubicBezTo>
                  <a:pt x="11928" y="10590"/>
                  <a:pt x="12009" y="10582"/>
                  <a:pt x="12055" y="10567"/>
                </a:cubicBezTo>
                <a:cubicBezTo>
                  <a:pt x="12119" y="10547"/>
                  <a:pt x="12166" y="10555"/>
                  <a:pt x="12229" y="10542"/>
                </a:cubicBezTo>
                <a:cubicBezTo>
                  <a:pt x="12277" y="10532"/>
                  <a:pt x="12318" y="10517"/>
                  <a:pt x="12378" y="10517"/>
                </a:cubicBezTo>
                <a:cubicBezTo>
                  <a:pt x="12436" y="10517"/>
                  <a:pt x="12493" y="10517"/>
                  <a:pt x="12551" y="10517"/>
                </a:cubicBezTo>
              </a:path>
              <a:path w="6847" h="2234">
                <a:moveTo>
                  <a:pt x="12551" y="10517"/>
                </a:moveTo>
                <a:lnTo>
                  <a:pt x="12551" y="10517"/>
                </a:lnTo>
              </a:path>
              <a:path w="6847" h="2234">
                <a:moveTo>
                  <a:pt x="12477" y="10344"/>
                </a:moveTo>
                <a:cubicBezTo>
                  <a:pt x="12404" y="10344"/>
                  <a:pt x="12352" y="10358"/>
                  <a:pt x="12303" y="10418"/>
                </a:cubicBezTo>
                <a:cubicBezTo>
                  <a:pt x="12252" y="10480"/>
                  <a:pt x="12239" y="10582"/>
                  <a:pt x="12303" y="10641"/>
                </a:cubicBezTo>
                <a:cubicBezTo>
                  <a:pt x="12320" y="10649"/>
                  <a:pt x="12336" y="10658"/>
                  <a:pt x="12353" y="10666"/>
                </a:cubicBezTo>
                <a:cubicBezTo>
                  <a:pt x="12473" y="10653"/>
                  <a:pt x="12509" y="10617"/>
                  <a:pt x="12576" y="10517"/>
                </a:cubicBezTo>
                <a:cubicBezTo>
                  <a:pt x="12621" y="10450"/>
                  <a:pt x="12633" y="10330"/>
                  <a:pt x="12551" y="10269"/>
                </a:cubicBezTo>
                <a:cubicBezTo>
                  <a:pt x="12443" y="10189"/>
                  <a:pt x="12332" y="10208"/>
                  <a:pt x="12229" y="10269"/>
                </a:cubicBezTo>
                <a:cubicBezTo>
                  <a:pt x="12114" y="10337"/>
                  <a:pt x="12083" y="10488"/>
                  <a:pt x="12179" y="10592"/>
                </a:cubicBezTo>
                <a:cubicBezTo>
                  <a:pt x="12306" y="10730"/>
                  <a:pt x="12496" y="10563"/>
                  <a:pt x="12551" y="10443"/>
                </a:cubicBezTo>
                <a:cubicBezTo>
                  <a:pt x="12610" y="10315"/>
                  <a:pt x="12527" y="10209"/>
                  <a:pt x="12402" y="10220"/>
                </a:cubicBezTo>
                <a:cubicBezTo>
                  <a:pt x="12299" y="10229"/>
                  <a:pt x="12248" y="10273"/>
                  <a:pt x="12229" y="10368"/>
                </a:cubicBezTo>
              </a:path>
              <a:path w="6847" h="2234">
                <a:moveTo>
                  <a:pt x="12353" y="10294"/>
                </a:moveTo>
                <a:cubicBezTo>
                  <a:pt x="12319" y="10332"/>
                  <a:pt x="12224" y="10429"/>
                  <a:pt x="12278" y="10492"/>
                </a:cubicBezTo>
                <a:cubicBezTo>
                  <a:pt x="12286" y="10492"/>
                  <a:pt x="12295" y="10492"/>
                  <a:pt x="12303" y="10492"/>
                </a:cubicBezTo>
              </a:path>
              <a:path w="6847" h="2234">
                <a:moveTo>
                  <a:pt x="12378" y="11311"/>
                </a:moveTo>
                <a:cubicBezTo>
                  <a:pt x="12378" y="11364"/>
                  <a:pt x="12390" y="11349"/>
                  <a:pt x="12402" y="11385"/>
                </a:cubicBezTo>
              </a:path>
              <a:path w="6847" h="2234">
                <a:moveTo>
                  <a:pt x="12402" y="11361"/>
                </a:moveTo>
                <a:lnTo>
                  <a:pt x="12402" y="11361"/>
                </a:lnTo>
              </a:path>
              <a:path w="6847" h="2234">
                <a:moveTo>
                  <a:pt x="12700" y="10344"/>
                </a:moveTo>
                <a:lnTo>
                  <a:pt x="12700" y="10344"/>
                </a:lnTo>
              </a:path>
              <a:path w="6847" h="2234">
                <a:moveTo>
                  <a:pt x="12750" y="10294"/>
                </a:moveTo>
                <a:cubicBezTo>
                  <a:pt x="12690" y="10309"/>
                  <a:pt x="12643" y="10379"/>
                  <a:pt x="12626" y="10443"/>
                </a:cubicBezTo>
                <a:cubicBezTo>
                  <a:pt x="12607" y="10517"/>
                  <a:pt x="12688" y="10597"/>
                  <a:pt x="12750" y="10616"/>
                </a:cubicBezTo>
                <a:cubicBezTo>
                  <a:pt x="12819" y="10637"/>
                  <a:pt x="12928" y="10585"/>
                  <a:pt x="12948" y="10517"/>
                </a:cubicBezTo>
                <a:cubicBezTo>
                  <a:pt x="12962" y="10470"/>
                  <a:pt x="12942" y="10393"/>
                  <a:pt x="12898" y="10368"/>
                </a:cubicBezTo>
                <a:cubicBezTo>
                  <a:pt x="12874" y="10368"/>
                  <a:pt x="12866" y="10368"/>
                  <a:pt x="12874" y="10344"/>
                </a:cubicBezTo>
              </a:path>
              <a:path w="6847" h="2234">
                <a:moveTo>
                  <a:pt x="13171" y="10418"/>
                </a:moveTo>
                <a:cubicBezTo>
                  <a:pt x="13124" y="10426"/>
                  <a:pt x="12993" y="10467"/>
                  <a:pt x="12973" y="10517"/>
                </a:cubicBezTo>
                <a:cubicBezTo>
                  <a:pt x="12939" y="10603"/>
                  <a:pt x="13090" y="10734"/>
                  <a:pt x="13171" y="10716"/>
                </a:cubicBezTo>
                <a:cubicBezTo>
                  <a:pt x="13242" y="10700"/>
                  <a:pt x="13313" y="10509"/>
                  <a:pt x="13295" y="10443"/>
                </a:cubicBezTo>
                <a:cubicBezTo>
                  <a:pt x="13284" y="10403"/>
                  <a:pt x="13215" y="10393"/>
                  <a:pt x="13196" y="10368"/>
                </a:cubicBezTo>
              </a:path>
              <a:path w="6847" h="2234">
                <a:moveTo>
                  <a:pt x="13419" y="10443"/>
                </a:moveTo>
                <a:cubicBezTo>
                  <a:pt x="13398" y="10505"/>
                  <a:pt x="13332" y="10567"/>
                  <a:pt x="13345" y="10641"/>
                </a:cubicBezTo>
                <a:cubicBezTo>
                  <a:pt x="13360" y="10729"/>
                  <a:pt x="13451" y="10815"/>
                  <a:pt x="13543" y="10740"/>
                </a:cubicBezTo>
                <a:cubicBezTo>
                  <a:pt x="13615" y="10682"/>
                  <a:pt x="13668" y="10534"/>
                  <a:pt x="13568" y="10468"/>
                </a:cubicBezTo>
                <a:cubicBezTo>
                  <a:pt x="13543" y="10468"/>
                  <a:pt x="13535" y="10468"/>
                  <a:pt x="13519" y="10468"/>
                </a:cubicBezTo>
              </a:path>
              <a:path w="6847" h="2234">
                <a:moveTo>
                  <a:pt x="13891" y="10443"/>
                </a:moveTo>
                <a:cubicBezTo>
                  <a:pt x="13819" y="10487"/>
                  <a:pt x="13693" y="10554"/>
                  <a:pt x="13667" y="10641"/>
                </a:cubicBezTo>
                <a:cubicBezTo>
                  <a:pt x="13643" y="10723"/>
                  <a:pt x="13718" y="10872"/>
                  <a:pt x="13816" y="10840"/>
                </a:cubicBezTo>
                <a:cubicBezTo>
                  <a:pt x="13884" y="10818"/>
                  <a:pt x="14009" y="10681"/>
                  <a:pt x="13940" y="10616"/>
                </a:cubicBezTo>
                <a:cubicBezTo>
                  <a:pt x="13915" y="10600"/>
                  <a:pt x="13891" y="10583"/>
                  <a:pt x="13866" y="10567"/>
                </a:cubicBezTo>
              </a:path>
              <a:path w="6847" h="2234">
                <a:moveTo>
                  <a:pt x="12874" y="10294"/>
                </a:moveTo>
                <a:cubicBezTo>
                  <a:pt x="12889" y="10176"/>
                  <a:pt x="12900" y="10059"/>
                  <a:pt x="12923" y="9947"/>
                </a:cubicBezTo>
              </a:path>
              <a:path w="6847" h="2234">
                <a:moveTo>
                  <a:pt x="13146" y="10393"/>
                </a:moveTo>
                <a:cubicBezTo>
                  <a:pt x="13158" y="10256"/>
                  <a:pt x="13193" y="10130"/>
                  <a:pt x="13221" y="9996"/>
                </a:cubicBezTo>
                <a:cubicBezTo>
                  <a:pt x="13221" y="9988"/>
                  <a:pt x="13221" y="9979"/>
                  <a:pt x="13221" y="9971"/>
                </a:cubicBezTo>
              </a:path>
              <a:path w="6847" h="2234">
                <a:moveTo>
                  <a:pt x="13519" y="10492"/>
                </a:moveTo>
                <a:cubicBezTo>
                  <a:pt x="13555" y="10363"/>
                  <a:pt x="13587" y="10243"/>
                  <a:pt x="13643" y="10120"/>
                </a:cubicBezTo>
              </a:path>
              <a:path w="6847" h="2234">
                <a:moveTo>
                  <a:pt x="14114" y="10542"/>
                </a:moveTo>
                <a:cubicBezTo>
                  <a:pt x="14157" y="10434"/>
                  <a:pt x="14177" y="10294"/>
                  <a:pt x="14188" y="10170"/>
                </a:cubicBezTo>
              </a:path>
              <a:path w="6847" h="2234">
                <a:moveTo>
                  <a:pt x="12526" y="9897"/>
                </a:moveTo>
                <a:cubicBezTo>
                  <a:pt x="12641" y="9889"/>
                  <a:pt x="12733" y="9876"/>
                  <a:pt x="12849" y="9897"/>
                </a:cubicBezTo>
                <a:cubicBezTo>
                  <a:pt x="12997" y="9923"/>
                  <a:pt x="13146" y="9957"/>
                  <a:pt x="13295" y="9971"/>
                </a:cubicBezTo>
                <a:cubicBezTo>
                  <a:pt x="13419" y="9983"/>
                  <a:pt x="13546" y="9983"/>
                  <a:pt x="13667" y="9996"/>
                </a:cubicBezTo>
                <a:cubicBezTo>
                  <a:pt x="13754" y="10005"/>
                  <a:pt x="13827" y="10018"/>
                  <a:pt x="13915" y="10021"/>
                </a:cubicBezTo>
                <a:cubicBezTo>
                  <a:pt x="13984" y="10023"/>
                  <a:pt x="14023" y="10024"/>
                  <a:pt x="14089" y="10046"/>
                </a:cubicBezTo>
                <a:cubicBezTo>
                  <a:pt x="14138" y="10062"/>
                  <a:pt x="14190" y="10057"/>
                  <a:pt x="14238" y="10071"/>
                </a:cubicBezTo>
                <a:cubicBezTo>
                  <a:pt x="14268" y="10080"/>
                  <a:pt x="14302" y="10087"/>
                  <a:pt x="14337" y="10096"/>
                </a:cubicBezTo>
                <a:cubicBezTo>
                  <a:pt x="14360" y="10102"/>
                  <a:pt x="14384" y="10113"/>
                  <a:pt x="14412" y="10120"/>
                </a:cubicBezTo>
                <a:cubicBezTo>
                  <a:pt x="14412" y="10056"/>
                  <a:pt x="14430" y="9973"/>
                  <a:pt x="14387" y="9947"/>
                </a:cubicBezTo>
                <a:cubicBezTo>
                  <a:pt x="14322" y="9907"/>
                  <a:pt x="14089" y="9882"/>
                  <a:pt x="14015" y="9872"/>
                </a:cubicBezTo>
                <a:cubicBezTo>
                  <a:pt x="13855" y="9851"/>
                  <a:pt x="13703" y="9832"/>
                  <a:pt x="13543" y="9798"/>
                </a:cubicBezTo>
                <a:cubicBezTo>
                  <a:pt x="13408" y="9769"/>
                  <a:pt x="13279" y="9784"/>
                  <a:pt x="13146" y="9748"/>
                </a:cubicBezTo>
                <a:cubicBezTo>
                  <a:pt x="13066" y="9727"/>
                  <a:pt x="12983" y="9709"/>
                  <a:pt x="12898" y="9723"/>
                </a:cubicBezTo>
                <a:cubicBezTo>
                  <a:pt x="12841" y="9733"/>
                  <a:pt x="12781" y="9754"/>
                  <a:pt x="12725" y="9773"/>
                </a:cubicBezTo>
                <a:cubicBezTo>
                  <a:pt x="12651" y="9798"/>
                  <a:pt x="12652" y="9843"/>
                  <a:pt x="12650" y="9922"/>
                </a:cubicBezTo>
                <a:cubicBezTo>
                  <a:pt x="12642" y="10205"/>
                  <a:pt x="12514" y="10457"/>
                  <a:pt x="12477" y="10740"/>
                </a:cubicBezTo>
                <a:cubicBezTo>
                  <a:pt x="12460" y="10873"/>
                  <a:pt x="12446" y="11005"/>
                  <a:pt x="12427" y="11137"/>
                </a:cubicBezTo>
              </a:path>
              <a:path w="6847" h="2234">
                <a:moveTo>
                  <a:pt x="14387" y="10120"/>
                </a:moveTo>
                <a:cubicBezTo>
                  <a:pt x="14311" y="10460"/>
                  <a:pt x="14256" y="10814"/>
                  <a:pt x="14213" y="11162"/>
                </a:cubicBezTo>
                <a:cubicBezTo>
                  <a:pt x="14182" y="11416"/>
                  <a:pt x="14165" y="11692"/>
                  <a:pt x="14213" y="11237"/>
                </a:cubicBezTo>
              </a:path>
              <a:path w="6847" h="2234">
                <a:moveTo>
                  <a:pt x="14436" y="10046"/>
                </a:moveTo>
                <a:cubicBezTo>
                  <a:pt x="14484" y="10062"/>
                  <a:pt x="14611" y="10339"/>
                  <a:pt x="14635" y="10393"/>
                </a:cubicBezTo>
                <a:cubicBezTo>
                  <a:pt x="14707" y="10554"/>
                  <a:pt x="14738" y="10795"/>
                  <a:pt x="14833" y="10939"/>
                </a:cubicBezTo>
                <a:cubicBezTo>
                  <a:pt x="14833" y="10876"/>
                  <a:pt x="14806" y="10840"/>
                  <a:pt x="14734" y="10815"/>
                </a:cubicBezTo>
              </a:path>
              <a:path w="6847" h="2234">
                <a:moveTo>
                  <a:pt x="15131" y="10344"/>
                </a:moveTo>
                <a:cubicBezTo>
                  <a:pt x="15033" y="10344"/>
                  <a:pt x="14987" y="10372"/>
                  <a:pt x="14932" y="10468"/>
                </a:cubicBezTo>
                <a:cubicBezTo>
                  <a:pt x="14879" y="10560"/>
                  <a:pt x="14947" y="10582"/>
                  <a:pt x="15007" y="10641"/>
                </a:cubicBezTo>
                <a:cubicBezTo>
                  <a:pt x="15186" y="10619"/>
                  <a:pt x="15241" y="10589"/>
                  <a:pt x="15304" y="10418"/>
                </a:cubicBezTo>
                <a:cubicBezTo>
                  <a:pt x="15340" y="10320"/>
                  <a:pt x="15328" y="10322"/>
                  <a:pt x="15255" y="10269"/>
                </a:cubicBezTo>
                <a:cubicBezTo>
                  <a:pt x="15092" y="10247"/>
                  <a:pt x="14996" y="10309"/>
                  <a:pt x="14908" y="10468"/>
                </a:cubicBezTo>
                <a:cubicBezTo>
                  <a:pt x="14887" y="10552"/>
                  <a:pt x="14871" y="10571"/>
                  <a:pt x="14908" y="10616"/>
                </a:cubicBezTo>
                <a:cubicBezTo>
                  <a:pt x="15053" y="10671"/>
                  <a:pt x="15161" y="10703"/>
                  <a:pt x="15255" y="10542"/>
                </a:cubicBezTo>
                <a:cubicBezTo>
                  <a:pt x="15282" y="10461"/>
                  <a:pt x="15291" y="10429"/>
                  <a:pt x="15280" y="10368"/>
                </a:cubicBezTo>
                <a:cubicBezTo>
                  <a:pt x="15161" y="10329"/>
                  <a:pt x="15063" y="10291"/>
                  <a:pt x="14957" y="10393"/>
                </a:cubicBezTo>
                <a:cubicBezTo>
                  <a:pt x="14915" y="10434"/>
                  <a:pt x="14770" y="10777"/>
                  <a:pt x="14957" y="10740"/>
                </a:cubicBezTo>
                <a:cubicBezTo>
                  <a:pt x="15077" y="10716"/>
                  <a:pt x="15207" y="10530"/>
                  <a:pt x="15156" y="10418"/>
                </a:cubicBezTo>
                <a:cubicBezTo>
                  <a:pt x="15148" y="10418"/>
                  <a:pt x="15139" y="10418"/>
                  <a:pt x="15131" y="10418"/>
                </a:cubicBezTo>
              </a:path>
              <a:path w="6847" h="2234">
                <a:moveTo>
                  <a:pt x="14560" y="10145"/>
                </a:moveTo>
                <a:cubicBezTo>
                  <a:pt x="14523" y="10122"/>
                  <a:pt x="14504" y="10121"/>
                  <a:pt x="14486" y="10096"/>
                </a:cubicBezTo>
                <a:cubicBezTo>
                  <a:pt x="14475" y="10096"/>
                  <a:pt x="14572" y="10159"/>
                  <a:pt x="14635" y="10195"/>
                </a:cubicBezTo>
                <a:cubicBezTo>
                  <a:pt x="14769" y="10273"/>
                  <a:pt x="14978" y="10328"/>
                  <a:pt x="15081" y="10443"/>
                </a:cubicBezTo>
                <a:cubicBezTo>
                  <a:pt x="15101" y="10483"/>
                  <a:pt x="15100" y="10499"/>
                  <a:pt x="15131" y="10492"/>
                </a:cubicBezTo>
              </a:path>
              <a:path w="6847" h="2234">
                <a:moveTo>
                  <a:pt x="14957" y="10790"/>
                </a:moveTo>
                <a:cubicBezTo>
                  <a:pt x="14924" y="10790"/>
                  <a:pt x="14891" y="10790"/>
                  <a:pt x="14858" y="10790"/>
                </a:cubicBezTo>
              </a:path>
              <a:path w="6847" h="2234">
                <a:moveTo>
                  <a:pt x="14858" y="10790"/>
                </a:moveTo>
                <a:lnTo>
                  <a:pt x="14858" y="10790"/>
                </a:lnTo>
              </a:path>
              <a:path w="6847" h="2234">
                <a:moveTo>
                  <a:pt x="14883" y="10765"/>
                </a:moveTo>
                <a:cubicBezTo>
                  <a:pt x="14976" y="10749"/>
                  <a:pt x="15059" y="10719"/>
                  <a:pt x="15156" y="10716"/>
                </a:cubicBezTo>
                <a:cubicBezTo>
                  <a:pt x="15313" y="10711"/>
                  <a:pt x="15733" y="10696"/>
                  <a:pt x="15577" y="10716"/>
                </a:cubicBezTo>
                <a:cubicBezTo>
                  <a:pt x="15312" y="10751"/>
                  <a:pt x="15071" y="10769"/>
                  <a:pt x="14808" y="10740"/>
                </a:cubicBezTo>
                <a:cubicBezTo>
                  <a:pt x="14734" y="10732"/>
                  <a:pt x="14908" y="10752"/>
                  <a:pt x="14982" y="10765"/>
                </a:cubicBezTo>
                <a:cubicBezTo>
                  <a:pt x="15216" y="10746"/>
                  <a:pt x="15533" y="10796"/>
                  <a:pt x="15751" y="10716"/>
                </a:cubicBezTo>
                <a:cubicBezTo>
                  <a:pt x="15969" y="10636"/>
                  <a:pt x="15287" y="10716"/>
                  <a:pt x="15056" y="10691"/>
                </a:cubicBezTo>
                <a:cubicBezTo>
                  <a:pt x="15023" y="10683"/>
                  <a:pt x="14990" y="10674"/>
                  <a:pt x="14957" y="10666"/>
                </a:cubicBezTo>
                <a:cubicBezTo>
                  <a:pt x="15204" y="10697"/>
                  <a:pt x="15450" y="10691"/>
                  <a:pt x="15701" y="10691"/>
                </a:cubicBezTo>
                <a:cubicBezTo>
                  <a:pt x="15800" y="10691"/>
                  <a:pt x="15866" y="10691"/>
                  <a:pt x="15776" y="10691"/>
                </a:cubicBezTo>
                <a:cubicBezTo>
                  <a:pt x="15500" y="10691"/>
                  <a:pt x="15231" y="10700"/>
                  <a:pt x="14957" y="10716"/>
                </a:cubicBezTo>
                <a:cubicBezTo>
                  <a:pt x="14705" y="10731"/>
                  <a:pt x="15510" y="10739"/>
                  <a:pt x="15528" y="10740"/>
                </a:cubicBezTo>
                <a:cubicBezTo>
                  <a:pt x="15747" y="10754"/>
                  <a:pt x="15973" y="10756"/>
                  <a:pt x="15553" y="10716"/>
                </a:cubicBezTo>
                <a:cubicBezTo>
                  <a:pt x="15342" y="10696"/>
                  <a:pt x="15142" y="10691"/>
                  <a:pt x="14932" y="10691"/>
                </a:cubicBezTo>
                <a:cubicBezTo>
                  <a:pt x="15209" y="10729"/>
                  <a:pt x="15495" y="10732"/>
                  <a:pt x="15776" y="10740"/>
                </a:cubicBezTo>
                <a:cubicBezTo>
                  <a:pt x="15525" y="10675"/>
                  <a:pt x="15268" y="10691"/>
                  <a:pt x="15007" y="10691"/>
                </a:cubicBezTo>
                <a:cubicBezTo>
                  <a:pt x="14864" y="10691"/>
                  <a:pt x="15368" y="10734"/>
                  <a:pt x="15379" y="10765"/>
                </a:cubicBezTo>
                <a:cubicBezTo>
                  <a:pt x="15382" y="10774"/>
                  <a:pt x="14911" y="10805"/>
                  <a:pt x="14858" y="10790"/>
                </a:cubicBezTo>
                <a:cubicBezTo>
                  <a:pt x="14795" y="10773"/>
                  <a:pt x="14813" y="10882"/>
                  <a:pt x="14808" y="10964"/>
                </a:cubicBezTo>
                <a:cubicBezTo>
                  <a:pt x="14805" y="11024"/>
                  <a:pt x="14836" y="11031"/>
                  <a:pt x="14908" y="11038"/>
                </a:cubicBezTo>
                <a:cubicBezTo>
                  <a:pt x="15099" y="11057"/>
                  <a:pt x="15290" y="11024"/>
                  <a:pt x="15478" y="11013"/>
                </a:cubicBezTo>
                <a:cubicBezTo>
                  <a:pt x="15611" y="11005"/>
                  <a:pt x="15721" y="11005"/>
                  <a:pt x="15850" y="11013"/>
                </a:cubicBezTo>
                <a:cubicBezTo>
                  <a:pt x="15944" y="11019"/>
                  <a:pt x="15925" y="11008"/>
                  <a:pt x="15925" y="10914"/>
                </a:cubicBezTo>
                <a:cubicBezTo>
                  <a:pt x="15925" y="10851"/>
                  <a:pt x="15954" y="10780"/>
                  <a:pt x="15875" y="10790"/>
                </a:cubicBezTo>
                <a:cubicBezTo>
                  <a:pt x="15667" y="10817"/>
                  <a:pt x="15462" y="10872"/>
                  <a:pt x="15255" y="10889"/>
                </a:cubicBezTo>
                <a:cubicBezTo>
                  <a:pt x="15190" y="10894"/>
                  <a:pt x="15121" y="10889"/>
                  <a:pt x="15056" y="10889"/>
                </a:cubicBezTo>
              </a:path>
              <a:path w="6847" h="2234">
                <a:moveTo>
                  <a:pt x="14982" y="11137"/>
                </a:moveTo>
                <a:cubicBezTo>
                  <a:pt x="14957" y="11137"/>
                  <a:pt x="14949" y="11137"/>
                  <a:pt x="14932" y="11137"/>
                </a:cubicBezTo>
              </a:path>
              <a:path w="6847" h="2234">
                <a:moveTo>
                  <a:pt x="14932" y="11137"/>
                </a:moveTo>
                <a:lnTo>
                  <a:pt x="14932" y="11137"/>
                </a:lnTo>
                <a:lnTo>
                  <a:pt x="14932" y="11137"/>
                </a:lnTo>
              </a:path>
              <a:path w="6847" h="2234">
                <a:moveTo>
                  <a:pt x="14932" y="11137"/>
                </a:moveTo>
                <a:lnTo>
                  <a:pt x="14932" y="11137"/>
                </a:lnTo>
              </a:path>
              <a:path w="6847" h="2234">
                <a:moveTo>
                  <a:pt x="14932" y="11112"/>
                </a:moveTo>
                <a:cubicBezTo>
                  <a:pt x="14932" y="11088"/>
                  <a:pt x="14932" y="11080"/>
                  <a:pt x="14908" y="11088"/>
                </a:cubicBezTo>
              </a:path>
              <a:path w="6847" h="2234">
                <a:moveTo>
                  <a:pt x="14932" y="11063"/>
                </a:moveTo>
                <a:cubicBezTo>
                  <a:pt x="14867" y="11096"/>
                  <a:pt x="14844" y="11109"/>
                  <a:pt x="14808" y="11162"/>
                </a:cubicBezTo>
                <a:cubicBezTo>
                  <a:pt x="14739" y="11265"/>
                  <a:pt x="14670" y="11353"/>
                  <a:pt x="14684" y="11485"/>
                </a:cubicBezTo>
                <a:cubicBezTo>
                  <a:pt x="14696" y="11600"/>
                  <a:pt x="14708" y="11708"/>
                  <a:pt x="14833" y="11733"/>
                </a:cubicBezTo>
                <a:cubicBezTo>
                  <a:pt x="14931" y="11753"/>
                  <a:pt x="14975" y="11665"/>
                  <a:pt x="14982" y="11584"/>
                </a:cubicBezTo>
                <a:cubicBezTo>
                  <a:pt x="14990" y="11490"/>
                  <a:pt x="14926" y="11460"/>
                  <a:pt x="14908" y="11385"/>
                </a:cubicBezTo>
              </a:path>
              <a:path w="6847" h="2234">
                <a:moveTo>
                  <a:pt x="14808" y="11112"/>
                </a:moveTo>
                <a:cubicBezTo>
                  <a:pt x="14905" y="11076"/>
                  <a:pt x="14970" y="11063"/>
                  <a:pt x="15081" y="11063"/>
                </a:cubicBezTo>
                <a:cubicBezTo>
                  <a:pt x="15198" y="11063"/>
                  <a:pt x="15310" y="11038"/>
                  <a:pt x="15429" y="11038"/>
                </a:cubicBezTo>
                <a:cubicBezTo>
                  <a:pt x="15516" y="11038"/>
                  <a:pt x="15620" y="10999"/>
                  <a:pt x="15701" y="11013"/>
                </a:cubicBezTo>
                <a:cubicBezTo>
                  <a:pt x="15756" y="11022"/>
                  <a:pt x="15792" y="11036"/>
                  <a:pt x="15850" y="11038"/>
                </a:cubicBezTo>
                <a:cubicBezTo>
                  <a:pt x="15908" y="11040"/>
                  <a:pt x="15946" y="11021"/>
                  <a:pt x="15999" y="11013"/>
                </a:cubicBezTo>
                <a:cubicBezTo>
                  <a:pt x="16046" y="11006"/>
                  <a:pt x="16058" y="11033"/>
                  <a:pt x="16098" y="11038"/>
                </a:cubicBezTo>
                <a:cubicBezTo>
                  <a:pt x="16150" y="11045"/>
                  <a:pt x="16169" y="11040"/>
                  <a:pt x="16197" y="11063"/>
                </a:cubicBezTo>
                <a:cubicBezTo>
                  <a:pt x="16217" y="11080"/>
                  <a:pt x="16237" y="11093"/>
                  <a:pt x="16272" y="11112"/>
                </a:cubicBezTo>
                <a:cubicBezTo>
                  <a:pt x="16308" y="11131"/>
                  <a:pt x="16326" y="11144"/>
                  <a:pt x="16346" y="11162"/>
                </a:cubicBezTo>
                <a:cubicBezTo>
                  <a:pt x="16381" y="11194"/>
                  <a:pt x="16388" y="11166"/>
                  <a:pt x="16446" y="11187"/>
                </a:cubicBezTo>
                <a:cubicBezTo>
                  <a:pt x="16459" y="11192"/>
                  <a:pt x="16512" y="11238"/>
                  <a:pt x="16545" y="11261"/>
                </a:cubicBezTo>
                <a:cubicBezTo>
                  <a:pt x="16592" y="11294"/>
                  <a:pt x="16612" y="11308"/>
                  <a:pt x="16669" y="11311"/>
                </a:cubicBezTo>
                <a:cubicBezTo>
                  <a:pt x="16726" y="11314"/>
                  <a:pt x="16745" y="11330"/>
                  <a:pt x="16793" y="11336"/>
                </a:cubicBezTo>
                <a:cubicBezTo>
                  <a:pt x="16875" y="11346"/>
                  <a:pt x="16946" y="11325"/>
                  <a:pt x="16991" y="11361"/>
                </a:cubicBezTo>
                <a:cubicBezTo>
                  <a:pt x="17030" y="11392"/>
                  <a:pt x="17020" y="11398"/>
                  <a:pt x="17041" y="11460"/>
                </a:cubicBezTo>
                <a:cubicBezTo>
                  <a:pt x="17067" y="11537"/>
                  <a:pt x="17028" y="11567"/>
                  <a:pt x="16942" y="11609"/>
                </a:cubicBezTo>
                <a:cubicBezTo>
                  <a:pt x="16844" y="11657"/>
                  <a:pt x="16767" y="11619"/>
                  <a:pt x="16669" y="11609"/>
                </a:cubicBezTo>
                <a:cubicBezTo>
                  <a:pt x="16492" y="11590"/>
                  <a:pt x="16292" y="11607"/>
                  <a:pt x="16123" y="11633"/>
                </a:cubicBezTo>
                <a:cubicBezTo>
                  <a:pt x="16039" y="11646"/>
                  <a:pt x="15960" y="11669"/>
                  <a:pt x="15875" y="11683"/>
                </a:cubicBezTo>
                <a:cubicBezTo>
                  <a:pt x="15796" y="11696"/>
                  <a:pt x="15705" y="11699"/>
                  <a:pt x="15627" y="11708"/>
                </a:cubicBezTo>
                <a:cubicBezTo>
                  <a:pt x="15526" y="11719"/>
                  <a:pt x="15428" y="11719"/>
                  <a:pt x="15329" y="11733"/>
                </a:cubicBezTo>
                <a:cubicBezTo>
                  <a:pt x="15276" y="11740"/>
                  <a:pt x="15257" y="11701"/>
                  <a:pt x="15205" y="11683"/>
                </a:cubicBezTo>
                <a:cubicBezTo>
                  <a:pt x="15170" y="11683"/>
                  <a:pt x="15153" y="11678"/>
                  <a:pt x="15131" y="11658"/>
                </a:cubicBezTo>
              </a:path>
              <a:path w="6847" h="2234">
                <a:moveTo>
                  <a:pt x="15081" y="11658"/>
                </a:moveTo>
                <a:cubicBezTo>
                  <a:pt x="14974" y="11690"/>
                  <a:pt x="14898" y="11718"/>
                  <a:pt x="14808" y="11782"/>
                </a:cubicBezTo>
                <a:cubicBezTo>
                  <a:pt x="15004" y="11977"/>
                  <a:pt x="15070" y="11991"/>
                  <a:pt x="15304" y="11857"/>
                </a:cubicBezTo>
                <a:cubicBezTo>
                  <a:pt x="15333" y="11562"/>
                  <a:pt x="15202" y="11538"/>
                  <a:pt x="14908" y="11509"/>
                </a:cubicBezTo>
                <a:cubicBezTo>
                  <a:pt x="14813" y="11500"/>
                  <a:pt x="14948" y="11666"/>
                  <a:pt x="14957" y="11683"/>
                </a:cubicBezTo>
              </a:path>
              <a:path w="6847" h="2234">
                <a:moveTo>
                  <a:pt x="16495" y="11534"/>
                </a:moveTo>
                <a:cubicBezTo>
                  <a:pt x="16350" y="11563"/>
                  <a:pt x="16268" y="11681"/>
                  <a:pt x="16173" y="11782"/>
                </a:cubicBezTo>
                <a:cubicBezTo>
                  <a:pt x="16314" y="11923"/>
                  <a:pt x="16502" y="12077"/>
                  <a:pt x="16619" y="11807"/>
                </a:cubicBezTo>
                <a:cubicBezTo>
                  <a:pt x="16745" y="11516"/>
                  <a:pt x="16481" y="11565"/>
                  <a:pt x="16321" y="11609"/>
                </a:cubicBezTo>
              </a:path>
              <a:path w="6847" h="2234">
                <a:moveTo>
                  <a:pt x="15875" y="11162"/>
                </a:moveTo>
                <a:cubicBezTo>
                  <a:pt x="15758" y="11162"/>
                  <a:pt x="15781" y="11271"/>
                  <a:pt x="15776" y="11361"/>
                </a:cubicBezTo>
                <a:cubicBezTo>
                  <a:pt x="15776" y="11394"/>
                  <a:pt x="15776" y="11427"/>
                  <a:pt x="15776" y="11460"/>
                </a:cubicBezTo>
                <a:cubicBezTo>
                  <a:pt x="15850" y="11451"/>
                  <a:pt x="16050" y="11447"/>
                  <a:pt x="16024" y="11311"/>
                </a:cubicBezTo>
                <a:cubicBezTo>
                  <a:pt x="16003" y="11199"/>
                  <a:pt x="15990" y="11215"/>
                  <a:pt x="15875" y="11187"/>
                </a:cubicBezTo>
                <a:cubicBezTo>
                  <a:pt x="15801" y="11168"/>
                  <a:pt x="15794" y="11160"/>
                  <a:pt x="15751" y="1116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14720" y="4581360"/>
            <a:ext cx="2044440" cy="714600"/>
          </a:xfrm>
          <a:custGeom>
            <a:avLst/>
            <a:gdLst/>
            <a:ahLst/>
            <a:rect l="l" t="t" r="r" b="b"/>
            <a:pathLst>
              <a:path w="5681" h="1985">
                <a:moveTo>
                  <a:pt x="6152" y="13915"/>
                </a:moveTo>
                <a:cubicBezTo>
                  <a:pt x="6225" y="14183"/>
                  <a:pt x="6251" y="14433"/>
                  <a:pt x="6251" y="14709"/>
                </a:cubicBezTo>
                <a:cubicBezTo>
                  <a:pt x="6365" y="14697"/>
                  <a:pt x="6485" y="14680"/>
                  <a:pt x="6598" y="14660"/>
                </a:cubicBezTo>
                <a:cubicBezTo>
                  <a:pt x="6877" y="14610"/>
                  <a:pt x="7114" y="14565"/>
                  <a:pt x="7392" y="14635"/>
                </a:cubicBezTo>
                <a:cubicBezTo>
                  <a:pt x="7457" y="14651"/>
                  <a:pt x="7499" y="14660"/>
                  <a:pt x="7565" y="14660"/>
                </a:cubicBezTo>
                <a:cubicBezTo>
                  <a:pt x="7573" y="14660"/>
                  <a:pt x="7582" y="14660"/>
                  <a:pt x="7590" y="14660"/>
                </a:cubicBezTo>
                <a:cubicBezTo>
                  <a:pt x="7556" y="14466"/>
                  <a:pt x="7560" y="14311"/>
                  <a:pt x="7565" y="14114"/>
                </a:cubicBezTo>
                <a:cubicBezTo>
                  <a:pt x="7568" y="14007"/>
                  <a:pt x="7565" y="13899"/>
                  <a:pt x="7565" y="13791"/>
                </a:cubicBezTo>
                <a:cubicBezTo>
                  <a:pt x="7437" y="13791"/>
                  <a:pt x="7321" y="13799"/>
                  <a:pt x="7193" y="13816"/>
                </a:cubicBezTo>
                <a:cubicBezTo>
                  <a:pt x="6971" y="13845"/>
                  <a:pt x="6761" y="13879"/>
                  <a:pt x="6548" y="13940"/>
                </a:cubicBezTo>
                <a:cubicBezTo>
                  <a:pt x="6520" y="13948"/>
                  <a:pt x="6377" y="13974"/>
                  <a:pt x="6350" y="13990"/>
                </a:cubicBezTo>
                <a:cubicBezTo>
                  <a:pt x="6350" y="13998"/>
                  <a:pt x="6350" y="14007"/>
                  <a:pt x="6350" y="14015"/>
                </a:cubicBezTo>
              </a:path>
              <a:path w="5681" h="1985">
                <a:moveTo>
                  <a:pt x="6846" y="14288"/>
                </a:moveTo>
                <a:cubicBezTo>
                  <a:pt x="6737" y="14179"/>
                  <a:pt x="6744" y="14063"/>
                  <a:pt x="6697" y="13915"/>
                </a:cubicBezTo>
                <a:cubicBezTo>
                  <a:pt x="6657" y="13789"/>
                  <a:pt x="6581" y="13665"/>
                  <a:pt x="6548" y="13543"/>
                </a:cubicBezTo>
                <a:cubicBezTo>
                  <a:pt x="6541" y="13518"/>
                  <a:pt x="6548" y="13472"/>
                  <a:pt x="6548" y="13444"/>
                </a:cubicBezTo>
                <a:cubicBezTo>
                  <a:pt x="6631" y="13403"/>
                  <a:pt x="6746" y="13400"/>
                  <a:pt x="6846" y="13395"/>
                </a:cubicBezTo>
                <a:cubicBezTo>
                  <a:pt x="6854" y="13395"/>
                  <a:pt x="6863" y="13395"/>
                  <a:pt x="6871" y="13395"/>
                </a:cubicBezTo>
                <a:cubicBezTo>
                  <a:pt x="6871" y="13555"/>
                  <a:pt x="6885" y="13689"/>
                  <a:pt x="6945" y="13841"/>
                </a:cubicBezTo>
                <a:cubicBezTo>
                  <a:pt x="6987" y="13947"/>
                  <a:pt x="7049" y="14040"/>
                  <a:pt x="7094" y="14139"/>
                </a:cubicBezTo>
                <a:cubicBezTo>
                  <a:pt x="7094" y="14147"/>
                  <a:pt x="7094" y="14155"/>
                  <a:pt x="7094" y="14163"/>
                </a:cubicBezTo>
                <a:cubicBezTo>
                  <a:pt x="6975" y="14211"/>
                  <a:pt x="6875" y="14213"/>
                  <a:pt x="6747" y="14213"/>
                </a:cubicBezTo>
                <a:cubicBezTo>
                  <a:pt x="6714" y="14213"/>
                  <a:pt x="6714" y="14213"/>
                  <a:pt x="6772" y="14213"/>
                </a:cubicBezTo>
              </a:path>
              <a:path w="5681" h="1985">
                <a:moveTo>
                  <a:pt x="6921" y="13543"/>
                </a:moveTo>
                <a:cubicBezTo>
                  <a:pt x="6771" y="13510"/>
                  <a:pt x="6632" y="13521"/>
                  <a:pt x="6499" y="13618"/>
                </a:cubicBezTo>
                <a:cubicBezTo>
                  <a:pt x="6499" y="13643"/>
                  <a:pt x="6499" y="13651"/>
                  <a:pt x="6499" y="13667"/>
                </a:cubicBezTo>
                <a:cubicBezTo>
                  <a:pt x="6671" y="13718"/>
                  <a:pt x="6814" y="13690"/>
                  <a:pt x="6970" y="13568"/>
                </a:cubicBezTo>
                <a:cubicBezTo>
                  <a:pt x="6970" y="13560"/>
                  <a:pt x="6970" y="13551"/>
                  <a:pt x="6970" y="13543"/>
                </a:cubicBezTo>
                <a:cubicBezTo>
                  <a:pt x="6811" y="13465"/>
                  <a:pt x="6678" y="13502"/>
                  <a:pt x="6524" y="13593"/>
                </a:cubicBezTo>
                <a:cubicBezTo>
                  <a:pt x="6374" y="13682"/>
                  <a:pt x="6667" y="13666"/>
                  <a:pt x="6697" y="13667"/>
                </a:cubicBezTo>
                <a:cubicBezTo>
                  <a:pt x="6714" y="13667"/>
                  <a:pt x="6730" y="13667"/>
                  <a:pt x="6747" y="13667"/>
                </a:cubicBezTo>
              </a:path>
              <a:path w="5681" h="1985">
                <a:moveTo>
                  <a:pt x="7119" y="13593"/>
                </a:moveTo>
                <a:cubicBezTo>
                  <a:pt x="7224" y="13540"/>
                  <a:pt x="7298" y="13543"/>
                  <a:pt x="7417" y="13543"/>
                </a:cubicBezTo>
                <a:cubicBezTo>
                  <a:pt x="7552" y="13543"/>
                  <a:pt x="7672" y="13582"/>
                  <a:pt x="7813" y="13568"/>
                </a:cubicBezTo>
                <a:cubicBezTo>
                  <a:pt x="7989" y="13551"/>
                  <a:pt x="8156" y="13543"/>
                  <a:pt x="8334" y="13543"/>
                </a:cubicBezTo>
                <a:cubicBezTo>
                  <a:pt x="8723" y="13543"/>
                  <a:pt x="9117" y="13532"/>
                  <a:pt x="9500" y="13568"/>
                </a:cubicBezTo>
                <a:cubicBezTo>
                  <a:pt x="9673" y="13584"/>
                  <a:pt x="9849" y="13576"/>
                  <a:pt x="10021" y="13593"/>
                </a:cubicBezTo>
                <a:cubicBezTo>
                  <a:pt x="10211" y="13611"/>
                  <a:pt x="10417" y="13580"/>
                  <a:pt x="10592" y="13618"/>
                </a:cubicBezTo>
                <a:cubicBezTo>
                  <a:pt x="10600" y="13618"/>
                  <a:pt x="10608" y="13618"/>
                  <a:pt x="10616" y="13618"/>
                </a:cubicBezTo>
              </a:path>
              <a:path w="5681" h="1985">
                <a:moveTo>
                  <a:pt x="10666" y="13519"/>
                </a:moveTo>
                <a:cubicBezTo>
                  <a:pt x="10627" y="13557"/>
                  <a:pt x="10631" y="13566"/>
                  <a:pt x="10616" y="13618"/>
                </a:cubicBezTo>
                <a:cubicBezTo>
                  <a:pt x="10581" y="13735"/>
                  <a:pt x="10590" y="13911"/>
                  <a:pt x="10542" y="14015"/>
                </a:cubicBezTo>
                <a:cubicBezTo>
                  <a:pt x="10542" y="14043"/>
                  <a:pt x="10539" y="14048"/>
                  <a:pt x="10517" y="14015"/>
                </a:cubicBezTo>
                <a:cubicBezTo>
                  <a:pt x="10526" y="13931"/>
                  <a:pt x="10555" y="13852"/>
                  <a:pt x="10567" y="13767"/>
                </a:cubicBezTo>
                <a:cubicBezTo>
                  <a:pt x="10576" y="13707"/>
                  <a:pt x="10582" y="13650"/>
                  <a:pt x="10592" y="13593"/>
                </a:cubicBezTo>
                <a:cubicBezTo>
                  <a:pt x="10605" y="13513"/>
                  <a:pt x="10560" y="13527"/>
                  <a:pt x="10666" y="13469"/>
                </a:cubicBezTo>
                <a:cubicBezTo>
                  <a:pt x="10824" y="13382"/>
                  <a:pt x="11038" y="13356"/>
                  <a:pt x="11212" y="13320"/>
                </a:cubicBezTo>
                <a:cubicBezTo>
                  <a:pt x="11378" y="13285"/>
                  <a:pt x="11538" y="13231"/>
                  <a:pt x="11708" y="13221"/>
                </a:cubicBezTo>
                <a:cubicBezTo>
                  <a:pt x="11716" y="13221"/>
                  <a:pt x="11725" y="13221"/>
                  <a:pt x="11733" y="13221"/>
                </a:cubicBezTo>
                <a:cubicBezTo>
                  <a:pt x="11742" y="13356"/>
                  <a:pt x="11755" y="13481"/>
                  <a:pt x="11757" y="13618"/>
                </a:cubicBezTo>
                <a:cubicBezTo>
                  <a:pt x="11759" y="13760"/>
                  <a:pt x="11764" y="13832"/>
                  <a:pt x="11832" y="13940"/>
                </a:cubicBezTo>
                <a:cubicBezTo>
                  <a:pt x="11616" y="13954"/>
                  <a:pt x="11405" y="13965"/>
                  <a:pt x="11187" y="13965"/>
                </a:cubicBezTo>
                <a:cubicBezTo>
                  <a:pt x="11051" y="13965"/>
                  <a:pt x="10934" y="13975"/>
                  <a:pt x="10815" y="14015"/>
                </a:cubicBezTo>
              </a:path>
              <a:path w="5681" h="1985">
                <a:moveTo>
                  <a:pt x="10765" y="13469"/>
                </a:moveTo>
                <a:cubicBezTo>
                  <a:pt x="10818" y="13469"/>
                  <a:pt x="10835" y="13449"/>
                  <a:pt x="10889" y="13444"/>
                </a:cubicBezTo>
                <a:cubicBezTo>
                  <a:pt x="10897" y="13444"/>
                  <a:pt x="10906" y="13444"/>
                  <a:pt x="10914" y="13444"/>
                </a:cubicBezTo>
                <a:cubicBezTo>
                  <a:pt x="10989" y="13444"/>
                  <a:pt x="10741" y="13444"/>
                  <a:pt x="10740" y="13444"/>
                </a:cubicBezTo>
                <a:cubicBezTo>
                  <a:pt x="10666" y="13463"/>
                  <a:pt x="10659" y="13471"/>
                  <a:pt x="10616" y="13469"/>
                </a:cubicBezTo>
                <a:cubicBezTo>
                  <a:pt x="10675" y="13557"/>
                  <a:pt x="10687" y="13635"/>
                  <a:pt x="10691" y="13742"/>
                </a:cubicBezTo>
                <a:cubicBezTo>
                  <a:pt x="10694" y="13816"/>
                  <a:pt x="10685" y="13803"/>
                  <a:pt x="10740" y="13841"/>
                </a:cubicBezTo>
                <a:cubicBezTo>
                  <a:pt x="10835" y="13906"/>
                  <a:pt x="10899" y="13891"/>
                  <a:pt x="11013" y="13891"/>
                </a:cubicBezTo>
                <a:cubicBezTo>
                  <a:pt x="11055" y="13891"/>
                  <a:pt x="11063" y="13891"/>
                  <a:pt x="11088" y="13891"/>
                </a:cubicBezTo>
                <a:cubicBezTo>
                  <a:pt x="11073" y="13816"/>
                  <a:pt x="11031" y="13744"/>
                  <a:pt x="11013" y="13667"/>
                </a:cubicBezTo>
                <a:cubicBezTo>
                  <a:pt x="11013" y="13659"/>
                  <a:pt x="11013" y="13651"/>
                  <a:pt x="11013" y="13643"/>
                </a:cubicBezTo>
              </a:path>
              <a:path w="5681" h="1985">
                <a:moveTo>
                  <a:pt x="11286" y="13543"/>
                </a:moveTo>
                <a:cubicBezTo>
                  <a:pt x="11185" y="13566"/>
                  <a:pt x="11186" y="13578"/>
                  <a:pt x="11137" y="13667"/>
                </a:cubicBezTo>
                <a:cubicBezTo>
                  <a:pt x="11194" y="13661"/>
                  <a:pt x="11437" y="13612"/>
                  <a:pt x="11286" y="13543"/>
                </a:cubicBezTo>
                <a:cubicBezTo>
                  <a:pt x="11194" y="13521"/>
                  <a:pt x="11169" y="13510"/>
                  <a:pt x="11112" y="13543"/>
                </a:cubicBezTo>
              </a:path>
              <a:path w="5681" h="1985">
                <a:moveTo>
                  <a:pt x="10740" y="13221"/>
                </a:moveTo>
                <a:cubicBezTo>
                  <a:pt x="10701" y="13251"/>
                  <a:pt x="10691" y="13287"/>
                  <a:pt x="10691" y="13345"/>
                </a:cubicBezTo>
                <a:cubicBezTo>
                  <a:pt x="10691" y="13173"/>
                  <a:pt x="10725" y="12932"/>
                  <a:pt x="10889" y="12824"/>
                </a:cubicBezTo>
                <a:cubicBezTo>
                  <a:pt x="11095" y="12689"/>
                  <a:pt x="11296" y="12776"/>
                  <a:pt x="11435" y="12923"/>
                </a:cubicBezTo>
                <a:cubicBezTo>
                  <a:pt x="11458" y="12946"/>
                  <a:pt x="11466" y="12950"/>
                  <a:pt x="11460" y="12973"/>
                </a:cubicBezTo>
                <a:cubicBezTo>
                  <a:pt x="11418" y="12920"/>
                  <a:pt x="11392" y="12860"/>
                  <a:pt x="11361" y="12799"/>
                </a:cubicBezTo>
                <a:cubicBezTo>
                  <a:pt x="11336" y="12748"/>
                  <a:pt x="11334" y="12737"/>
                  <a:pt x="11286" y="12725"/>
                </a:cubicBezTo>
                <a:cubicBezTo>
                  <a:pt x="11363" y="12738"/>
                  <a:pt x="11437" y="12765"/>
                  <a:pt x="11509" y="12799"/>
                </a:cubicBezTo>
                <a:cubicBezTo>
                  <a:pt x="11564" y="12825"/>
                  <a:pt x="11573" y="12854"/>
                  <a:pt x="11609" y="12898"/>
                </a:cubicBezTo>
                <a:cubicBezTo>
                  <a:pt x="11580" y="13045"/>
                  <a:pt x="11425" y="13040"/>
                  <a:pt x="11311" y="13097"/>
                </a:cubicBezTo>
                <a:cubicBezTo>
                  <a:pt x="11288" y="13120"/>
                  <a:pt x="11277" y="13128"/>
                  <a:pt x="11311" y="131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2800" y="3911760"/>
            <a:ext cx="1376280" cy="652320"/>
          </a:xfrm>
          <a:custGeom>
            <a:avLst/>
            <a:gdLst/>
            <a:ahLst/>
            <a:rect l="l" t="t" r="r" b="b"/>
            <a:pathLst>
              <a:path w="3821" h="1812">
                <a:moveTo>
                  <a:pt x="15081" y="12229"/>
                </a:moveTo>
                <a:cubicBezTo>
                  <a:pt x="15081" y="12345"/>
                  <a:pt x="15165" y="12677"/>
                  <a:pt x="15106" y="12576"/>
                </a:cubicBezTo>
                <a:cubicBezTo>
                  <a:pt x="15098" y="12551"/>
                  <a:pt x="15089" y="12527"/>
                  <a:pt x="15081" y="12502"/>
                </a:cubicBezTo>
                <a:cubicBezTo>
                  <a:pt x="15087" y="12286"/>
                  <a:pt x="15078" y="12180"/>
                  <a:pt x="15180" y="12005"/>
                </a:cubicBezTo>
                <a:cubicBezTo>
                  <a:pt x="15327" y="12200"/>
                  <a:pt x="15223" y="12282"/>
                  <a:pt x="15032" y="12402"/>
                </a:cubicBezTo>
                <a:cubicBezTo>
                  <a:pt x="14914" y="12334"/>
                  <a:pt x="15177" y="12405"/>
                  <a:pt x="15230" y="12477"/>
                </a:cubicBezTo>
                <a:cubicBezTo>
                  <a:pt x="15318" y="12597"/>
                  <a:pt x="15249" y="12750"/>
                  <a:pt x="15354" y="12576"/>
                </a:cubicBezTo>
              </a:path>
              <a:path w="3821" h="1812">
                <a:moveTo>
                  <a:pt x="15429" y="12204"/>
                </a:moveTo>
                <a:cubicBezTo>
                  <a:pt x="15265" y="12380"/>
                  <a:pt x="15343" y="12471"/>
                  <a:pt x="15577" y="12551"/>
                </a:cubicBezTo>
                <a:cubicBezTo>
                  <a:pt x="15730" y="12603"/>
                  <a:pt x="15756" y="12562"/>
                  <a:pt x="15825" y="12452"/>
                </a:cubicBezTo>
              </a:path>
              <a:path w="3821" h="1812">
                <a:moveTo>
                  <a:pt x="16222" y="12204"/>
                </a:moveTo>
                <a:cubicBezTo>
                  <a:pt x="16076" y="12282"/>
                  <a:pt x="15955" y="12370"/>
                  <a:pt x="16173" y="12502"/>
                </a:cubicBezTo>
                <a:cubicBezTo>
                  <a:pt x="16335" y="12556"/>
                  <a:pt x="16399" y="12570"/>
                  <a:pt x="16520" y="12526"/>
                </a:cubicBezTo>
              </a:path>
              <a:path w="3821" h="1812">
                <a:moveTo>
                  <a:pt x="16495" y="12353"/>
                </a:moveTo>
                <a:cubicBezTo>
                  <a:pt x="16445" y="12473"/>
                  <a:pt x="16483" y="12606"/>
                  <a:pt x="16644" y="12477"/>
                </a:cubicBezTo>
                <a:cubicBezTo>
                  <a:pt x="16772" y="12374"/>
                  <a:pt x="16628" y="12377"/>
                  <a:pt x="16793" y="12452"/>
                </a:cubicBezTo>
                <a:cubicBezTo>
                  <a:pt x="16818" y="12452"/>
                  <a:pt x="16826" y="12452"/>
                  <a:pt x="16818" y="12477"/>
                </a:cubicBezTo>
                <a:cubicBezTo>
                  <a:pt x="16818" y="12376"/>
                  <a:pt x="16766" y="12246"/>
                  <a:pt x="16818" y="12154"/>
                </a:cubicBezTo>
                <a:cubicBezTo>
                  <a:pt x="16856" y="12086"/>
                  <a:pt x="16967" y="12139"/>
                  <a:pt x="17016" y="12154"/>
                </a:cubicBezTo>
              </a:path>
              <a:path w="3821" h="1812">
                <a:moveTo>
                  <a:pt x="17338" y="11162"/>
                </a:moveTo>
                <a:cubicBezTo>
                  <a:pt x="17522" y="11080"/>
                  <a:pt x="17804" y="11094"/>
                  <a:pt x="18008" y="11088"/>
                </a:cubicBezTo>
                <a:cubicBezTo>
                  <a:pt x="18127" y="11084"/>
                  <a:pt x="18606" y="11185"/>
                  <a:pt x="18703" y="11088"/>
                </a:cubicBezTo>
                <a:cubicBezTo>
                  <a:pt x="18824" y="10967"/>
                  <a:pt x="18391" y="10951"/>
                  <a:pt x="18231" y="10889"/>
                </a:cubicBezTo>
                <a:cubicBezTo>
                  <a:pt x="18198" y="10881"/>
                  <a:pt x="18165" y="10872"/>
                  <a:pt x="18132" y="10864"/>
                </a:cubicBezTo>
                <a:cubicBezTo>
                  <a:pt x="18334" y="10930"/>
                  <a:pt x="18543" y="11013"/>
                  <a:pt x="18752" y="11063"/>
                </a:cubicBezTo>
                <a:cubicBezTo>
                  <a:pt x="18769" y="11063"/>
                  <a:pt x="18785" y="11063"/>
                  <a:pt x="18802" y="11063"/>
                </a:cubicBezTo>
                <a:cubicBezTo>
                  <a:pt x="18708" y="11235"/>
                  <a:pt x="18597" y="11363"/>
                  <a:pt x="18455" y="11509"/>
                </a:cubicBezTo>
                <a:cubicBezTo>
                  <a:pt x="18430" y="11534"/>
                  <a:pt x="18405" y="11559"/>
                  <a:pt x="18380" y="115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55840" y="3732120"/>
            <a:ext cx="179280" cy="384120"/>
          </a:xfrm>
          <a:custGeom>
            <a:avLst/>
            <a:gdLst/>
            <a:ahLst/>
            <a:rect l="l" t="t" r="r" b="b"/>
            <a:pathLst>
              <a:path w="497" h="1068">
                <a:moveTo>
                  <a:pt x="4167" y="11311"/>
                </a:moveTo>
                <a:cubicBezTo>
                  <a:pt x="4152" y="11018"/>
                  <a:pt x="4085" y="10733"/>
                  <a:pt x="4043" y="10443"/>
                </a:cubicBezTo>
                <a:cubicBezTo>
                  <a:pt x="4040" y="10421"/>
                  <a:pt x="4217" y="10374"/>
                  <a:pt x="4242" y="10368"/>
                </a:cubicBezTo>
                <a:cubicBezTo>
                  <a:pt x="4268" y="10362"/>
                  <a:pt x="4312" y="10368"/>
                  <a:pt x="4341" y="10368"/>
                </a:cubicBezTo>
                <a:cubicBezTo>
                  <a:pt x="4393" y="10579"/>
                  <a:pt x="4388" y="10803"/>
                  <a:pt x="4440" y="11013"/>
                </a:cubicBezTo>
                <a:cubicBezTo>
                  <a:pt x="4450" y="11051"/>
                  <a:pt x="4565" y="11267"/>
                  <a:pt x="4539" y="11311"/>
                </a:cubicBezTo>
                <a:cubicBezTo>
                  <a:pt x="4424" y="11506"/>
                  <a:pt x="4239" y="11426"/>
                  <a:pt x="4093" y="113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1680" y="3562200"/>
            <a:ext cx="634680" cy="492120"/>
          </a:xfrm>
          <a:custGeom>
            <a:avLst/>
            <a:gdLst/>
            <a:ahLst/>
            <a:rect l="l" t="t" r="r" b="b"/>
            <a:pathLst>
              <a:path w="1762" h="1365">
                <a:moveTo>
                  <a:pt x="3299" y="11112"/>
                </a:moveTo>
                <a:cubicBezTo>
                  <a:pt x="3239" y="10857"/>
                  <a:pt x="3154" y="10598"/>
                  <a:pt x="3101" y="10344"/>
                </a:cubicBezTo>
                <a:cubicBezTo>
                  <a:pt x="3065" y="10172"/>
                  <a:pt x="2950" y="10344"/>
                  <a:pt x="2803" y="10344"/>
                </a:cubicBezTo>
                <a:cubicBezTo>
                  <a:pt x="2803" y="10316"/>
                  <a:pt x="2801" y="10305"/>
                  <a:pt x="2778" y="10294"/>
                </a:cubicBezTo>
                <a:cubicBezTo>
                  <a:pt x="2778" y="10449"/>
                  <a:pt x="2762" y="10592"/>
                  <a:pt x="2828" y="10740"/>
                </a:cubicBezTo>
                <a:cubicBezTo>
                  <a:pt x="2888" y="10876"/>
                  <a:pt x="2986" y="10913"/>
                  <a:pt x="3026" y="11063"/>
                </a:cubicBezTo>
                <a:cubicBezTo>
                  <a:pt x="3043" y="11128"/>
                  <a:pt x="3065" y="11196"/>
                  <a:pt x="3076" y="11261"/>
                </a:cubicBezTo>
                <a:cubicBezTo>
                  <a:pt x="3163" y="11240"/>
                  <a:pt x="3202" y="11207"/>
                  <a:pt x="3299" y="11212"/>
                </a:cubicBezTo>
                <a:cubicBezTo>
                  <a:pt x="3334" y="11212"/>
                  <a:pt x="3347" y="11221"/>
                  <a:pt x="3349" y="11261"/>
                </a:cubicBezTo>
              </a:path>
              <a:path w="1762" h="1365">
                <a:moveTo>
                  <a:pt x="2505" y="11112"/>
                </a:moveTo>
                <a:cubicBezTo>
                  <a:pt x="2406" y="10916"/>
                  <a:pt x="2377" y="10732"/>
                  <a:pt x="2332" y="10517"/>
                </a:cubicBezTo>
                <a:cubicBezTo>
                  <a:pt x="2305" y="10389"/>
                  <a:pt x="2346" y="10349"/>
                  <a:pt x="2232" y="10344"/>
                </a:cubicBezTo>
                <a:cubicBezTo>
                  <a:pt x="2191" y="10342"/>
                  <a:pt x="2149" y="10344"/>
                  <a:pt x="2108" y="10344"/>
                </a:cubicBezTo>
                <a:cubicBezTo>
                  <a:pt x="2192" y="10448"/>
                  <a:pt x="2147" y="10599"/>
                  <a:pt x="2133" y="10740"/>
                </a:cubicBezTo>
                <a:cubicBezTo>
                  <a:pt x="2127" y="10801"/>
                  <a:pt x="2148" y="10841"/>
                  <a:pt x="2158" y="10889"/>
                </a:cubicBezTo>
                <a:cubicBezTo>
                  <a:pt x="2169" y="10942"/>
                  <a:pt x="2181" y="10995"/>
                  <a:pt x="2208" y="11038"/>
                </a:cubicBezTo>
                <a:cubicBezTo>
                  <a:pt x="2267" y="11129"/>
                  <a:pt x="2261" y="11148"/>
                  <a:pt x="2381" y="11112"/>
                </a:cubicBezTo>
                <a:cubicBezTo>
                  <a:pt x="2398" y="11104"/>
                  <a:pt x="2414" y="11096"/>
                  <a:pt x="2431" y="11088"/>
                </a:cubicBezTo>
              </a:path>
              <a:path w="1762" h="1365">
                <a:moveTo>
                  <a:pt x="1736" y="10790"/>
                </a:moveTo>
                <a:cubicBezTo>
                  <a:pt x="1644" y="10790"/>
                  <a:pt x="1664" y="10723"/>
                  <a:pt x="1662" y="10641"/>
                </a:cubicBezTo>
                <a:cubicBezTo>
                  <a:pt x="1657" y="10433"/>
                  <a:pt x="1651" y="10295"/>
                  <a:pt x="1761" y="10120"/>
                </a:cubicBezTo>
                <a:cubicBezTo>
                  <a:pt x="1787" y="10079"/>
                  <a:pt x="1905" y="10031"/>
                  <a:pt x="1836" y="9996"/>
                </a:cubicBezTo>
                <a:cubicBezTo>
                  <a:pt x="1786" y="9970"/>
                  <a:pt x="1717" y="9949"/>
                  <a:pt x="1662" y="9922"/>
                </a:cubicBezTo>
                <a:cubicBezTo>
                  <a:pt x="1645" y="9914"/>
                  <a:pt x="1629" y="9905"/>
                  <a:pt x="1612" y="9897"/>
                </a:cubicBezTo>
                <a:cubicBezTo>
                  <a:pt x="1604" y="9897"/>
                  <a:pt x="1596" y="9897"/>
                  <a:pt x="1588" y="9897"/>
                </a:cubicBezTo>
                <a:cubicBezTo>
                  <a:pt x="1609" y="10046"/>
                  <a:pt x="1598" y="10170"/>
                  <a:pt x="1588" y="10319"/>
                </a:cubicBezTo>
                <a:cubicBezTo>
                  <a:pt x="1583" y="10392"/>
                  <a:pt x="1588" y="10468"/>
                  <a:pt x="1588" y="105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5120" y="2081160"/>
            <a:ext cx="1697040" cy="1473120"/>
          </a:xfrm>
          <a:custGeom>
            <a:avLst/>
            <a:gdLst/>
            <a:ahLst/>
            <a:rect l="l" t="t" r="r" b="b"/>
            <a:pathLst>
              <a:path w="4714" h="4094">
                <a:moveTo>
                  <a:pt x="1339" y="9748"/>
                </a:moveTo>
                <a:cubicBezTo>
                  <a:pt x="1275" y="9597"/>
                  <a:pt x="1286" y="9467"/>
                  <a:pt x="1339" y="9302"/>
                </a:cubicBezTo>
                <a:cubicBezTo>
                  <a:pt x="1359" y="9241"/>
                  <a:pt x="1400" y="9166"/>
                  <a:pt x="1463" y="9153"/>
                </a:cubicBezTo>
                <a:cubicBezTo>
                  <a:pt x="1521" y="9141"/>
                  <a:pt x="1536" y="9131"/>
                  <a:pt x="1588" y="9153"/>
                </a:cubicBezTo>
                <a:cubicBezTo>
                  <a:pt x="1604" y="9161"/>
                  <a:pt x="1621" y="9170"/>
                  <a:pt x="1637" y="9178"/>
                </a:cubicBezTo>
                <a:cubicBezTo>
                  <a:pt x="1678" y="9342"/>
                  <a:pt x="1565" y="9497"/>
                  <a:pt x="1488" y="9649"/>
                </a:cubicBezTo>
                <a:cubicBezTo>
                  <a:pt x="1428" y="9770"/>
                  <a:pt x="1403" y="9789"/>
                  <a:pt x="1414" y="9872"/>
                </a:cubicBezTo>
                <a:cubicBezTo>
                  <a:pt x="1398" y="9746"/>
                  <a:pt x="1298" y="9615"/>
                  <a:pt x="1290" y="9500"/>
                </a:cubicBezTo>
                <a:cubicBezTo>
                  <a:pt x="1298" y="9459"/>
                  <a:pt x="1307" y="9417"/>
                  <a:pt x="1315" y="9376"/>
                </a:cubicBezTo>
              </a:path>
              <a:path w="4714" h="4094">
                <a:moveTo>
                  <a:pt x="1414" y="8806"/>
                </a:moveTo>
                <a:cubicBezTo>
                  <a:pt x="1423" y="8620"/>
                  <a:pt x="1459" y="8480"/>
                  <a:pt x="1538" y="8310"/>
                </a:cubicBezTo>
                <a:cubicBezTo>
                  <a:pt x="1568" y="8246"/>
                  <a:pt x="1613" y="8247"/>
                  <a:pt x="1662" y="8285"/>
                </a:cubicBezTo>
                <a:cubicBezTo>
                  <a:pt x="1740" y="8345"/>
                  <a:pt x="1790" y="8466"/>
                  <a:pt x="1811" y="8558"/>
                </a:cubicBezTo>
                <a:cubicBezTo>
                  <a:pt x="1837" y="8672"/>
                  <a:pt x="1720" y="8814"/>
                  <a:pt x="1637" y="8880"/>
                </a:cubicBezTo>
                <a:cubicBezTo>
                  <a:pt x="1610" y="8901"/>
                  <a:pt x="1504" y="8936"/>
                  <a:pt x="1488" y="8880"/>
                </a:cubicBezTo>
                <a:cubicBezTo>
                  <a:pt x="1488" y="8804"/>
                  <a:pt x="1489" y="8778"/>
                  <a:pt x="1513" y="8731"/>
                </a:cubicBezTo>
              </a:path>
              <a:path w="4714" h="4094">
                <a:moveTo>
                  <a:pt x="1637" y="8062"/>
                </a:moveTo>
                <a:cubicBezTo>
                  <a:pt x="1646" y="7920"/>
                  <a:pt x="1685" y="7822"/>
                  <a:pt x="1736" y="7689"/>
                </a:cubicBezTo>
                <a:cubicBezTo>
                  <a:pt x="1756" y="7636"/>
                  <a:pt x="1789" y="7569"/>
                  <a:pt x="1836" y="7565"/>
                </a:cubicBezTo>
                <a:cubicBezTo>
                  <a:pt x="1955" y="7556"/>
                  <a:pt x="1964" y="7704"/>
                  <a:pt x="1984" y="7789"/>
                </a:cubicBezTo>
                <a:cubicBezTo>
                  <a:pt x="2002" y="7866"/>
                  <a:pt x="2029" y="8109"/>
                  <a:pt x="1935" y="8136"/>
                </a:cubicBezTo>
                <a:cubicBezTo>
                  <a:pt x="1879" y="8152"/>
                  <a:pt x="1793" y="8136"/>
                  <a:pt x="1736" y="8136"/>
                </a:cubicBezTo>
              </a:path>
              <a:path w="4714" h="4094">
                <a:moveTo>
                  <a:pt x="2307" y="6995"/>
                </a:moveTo>
                <a:cubicBezTo>
                  <a:pt x="2346" y="7250"/>
                  <a:pt x="2348" y="7458"/>
                  <a:pt x="2307" y="7714"/>
                </a:cubicBezTo>
                <a:cubicBezTo>
                  <a:pt x="2397" y="7701"/>
                  <a:pt x="2554" y="7678"/>
                  <a:pt x="2629" y="7640"/>
                </a:cubicBezTo>
                <a:cubicBezTo>
                  <a:pt x="2787" y="7560"/>
                  <a:pt x="2526" y="7320"/>
                  <a:pt x="2505" y="7144"/>
                </a:cubicBezTo>
                <a:cubicBezTo>
                  <a:pt x="2505" y="7026"/>
                  <a:pt x="2491" y="7004"/>
                  <a:pt x="2530" y="6945"/>
                </a:cubicBezTo>
                <a:cubicBezTo>
                  <a:pt x="2438" y="7002"/>
                  <a:pt x="2192" y="7072"/>
                  <a:pt x="2257" y="7094"/>
                </a:cubicBezTo>
              </a:path>
              <a:path w="4714" h="4094">
                <a:moveTo>
                  <a:pt x="3076" y="6796"/>
                </a:moveTo>
                <a:cubicBezTo>
                  <a:pt x="3098" y="6982"/>
                  <a:pt x="3107" y="7159"/>
                  <a:pt x="3150" y="7342"/>
                </a:cubicBezTo>
                <a:cubicBezTo>
                  <a:pt x="3220" y="7324"/>
                  <a:pt x="3293" y="7284"/>
                  <a:pt x="3373" y="7268"/>
                </a:cubicBezTo>
                <a:cubicBezTo>
                  <a:pt x="3448" y="7253"/>
                  <a:pt x="3374" y="6879"/>
                  <a:pt x="3373" y="6871"/>
                </a:cubicBezTo>
                <a:cubicBezTo>
                  <a:pt x="3362" y="6769"/>
                  <a:pt x="3340" y="6692"/>
                  <a:pt x="3324" y="6598"/>
                </a:cubicBezTo>
                <a:cubicBezTo>
                  <a:pt x="3180" y="6658"/>
                  <a:pt x="3039" y="6760"/>
                  <a:pt x="2877" y="6821"/>
                </a:cubicBezTo>
              </a:path>
              <a:path w="4714" h="4094">
                <a:moveTo>
                  <a:pt x="3621" y="6499"/>
                </a:moveTo>
                <a:cubicBezTo>
                  <a:pt x="3667" y="6696"/>
                  <a:pt x="3682" y="6904"/>
                  <a:pt x="3746" y="7094"/>
                </a:cubicBezTo>
                <a:cubicBezTo>
                  <a:pt x="3818" y="7082"/>
                  <a:pt x="3875" y="7035"/>
                  <a:pt x="3944" y="7020"/>
                </a:cubicBezTo>
                <a:cubicBezTo>
                  <a:pt x="4059" y="6995"/>
                  <a:pt x="4054" y="6891"/>
                  <a:pt x="4043" y="6772"/>
                </a:cubicBezTo>
                <a:cubicBezTo>
                  <a:pt x="4036" y="6698"/>
                  <a:pt x="4014" y="6504"/>
                  <a:pt x="3969" y="6474"/>
                </a:cubicBezTo>
                <a:cubicBezTo>
                  <a:pt x="3896" y="6425"/>
                  <a:pt x="3721" y="6409"/>
                  <a:pt x="3646" y="6474"/>
                </a:cubicBezTo>
                <a:cubicBezTo>
                  <a:pt x="3646" y="6482"/>
                  <a:pt x="3646" y="6491"/>
                  <a:pt x="3646" y="6499"/>
                </a:cubicBezTo>
              </a:path>
              <a:path w="4714" h="4094">
                <a:moveTo>
                  <a:pt x="4465" y="6251"/>
                </a:moveTo>
                <a:cubicBezTo>
                  <a:pt x="4506" y="6455"/>
                  <a:pt x="4509" y="6670"/>
                  <a:pt x="4564" y="6871"/>
                </a:cubicBezTo>
                <a:cubicBezTo>
                  <a:pt x="4589" y="6921"/>
                  <a:pt x="4597" y="6938"/>
                  <a:pt x="4638" y="6896"/>
                </a:cubicBezTo>
                <a:cubicBezTo>
                  <a:pt x="4769" y="6896"/>
                  <a:pt x="4760" y="6931"/>
                  <a:pt x="4762" y="6772"/>
                </a:cubicBezTo>
                <a:cubicBezTo>
                  <a:pt x="4763" y="6704"/>
                  <a:pt x="4797" y="6246"/>
                  <a:pt x="4713" y="6201"/>
                </a:cubicBezTo>
                <a:cubicBezTo>
                  <a:pt x="4635" y="6159"/>
                  <a:pt x="4534" y="6071"/>
                  <a:pt x="4465" y="6127"/>
                </a:cubicBezTo>
                <a:cubicBezTo>
                  <a:pt x="4418" y="6197"/>
                  <a:pt x="4401" y="6217"/>
                  <a:pt x="4415" y="6276"/>
                </a:cubicBezTo>
              </a:path>
              <a:path w="4714" h="4094">
                <a:moveTo>
                  <a:pt x="5110" y="6077"/>
                </a:moveTo>
                <a:cubicBezTo>
                  <a:pt x="5144" y="6270"/>
                  <a:pt x="5166" y="6477"/>
                  <a:pt x="5209" y="6672"/>
                </a:cubicBezTo>
                <a:cubicBezTo>
                  <a:pt x="5217" y="6689"/>
                  <a:pt x="5226" y="6705"/>
                  <a:pt x="5234" y="6722"/>
                </a:cubicBezTo>
                <a:cubicBezTo>
                  <a:pt x="5305" y="6651"/>
                  <a:pt x="5427" y="6601"/>
                  <a:pt x="5482" y="6548"/>
                </a:cubicBezTo>
                <a:cubicBezTo>
                  <a:pt x="5482" y="6540"/>
                  <a:pt x="5482" y="6532"/>
                  <a:pt x="5482" y="6524"/>
                </a:cubicBezTo>
                <a:cubicBezTo>
                  <a:pt x="5429" y="6332"/>
                  <a:pt x="5390" y="6180"/>
                  <a:pt x="5383" y="5978"/>
                </a:cubicBezTo>
                <a:cubicBezTo>
                  <a:pt x="5383" y="5970"/>
                  <a:pt x="5383" y="5961"/>
                  <a:pt x="5383" y="5953"/>
                </a:cubicBezTo>
                <a:cubicBezTo>
                  <a:pt x="5327" y="5999"/>
                  <a:pt x="5112" y="6096"/>
                  <a:pt x="5011" y="6102"/>
                </a:cubicBezTo>
                <a:cubicBezTo>
                  <a:pt x="5011" y="6094"/>
                  <a:pt x="5011" y="6085"/>
                  <a:pt x="5011" y="6077"/>
                </a:cubicBezTo>
              </a:path>
              <a:path w="4714" h="4094">
                <a:moveTo>
                  <a:pt x="5730" y="5978"/>
                </a:moveTo>
                <a:cubicBezTo>
                  <a:pt x="5752" y="6176"/>
                  <a:pt x="5766" y="6374"/>
                  <a:pt x="5779" y="6573"/>
                </a:cubicBezTo>
                <a:cubicBezTo>
                  <a:pt x="5779" y="6598"/>
                  <a:pt x="5779" y="6623"/>
                  <a:pt x="5779" y="6648"/>
                </a:cubicBezTo>
                <a:cubicBezTo>
                  <a:pt x="5821" y="6592"/>
                  <a:pt x="5780" y="6559"/>
                  <a:pt x="5854" y="6524"/>
                </a:cubicBezTo>
                <a:cubicBezTo>
                  <a:pt x="5910" y="6497"/>
                  <a:pt x="5946" y="6499"/>
                  <a:pt x="6003" y="6499"/>
                </a:cubicBezTo>
                <a:cubicBezTo>
                  <a:pt x="6003" y="6341"/>
                  <a:pt x="6080" y="5946"/>
                  <a:pt x="5978" y="5829"/>
                </a:cubicBezTo>
                <a:cubicBezTo>
                  <a:pt x="5920" y="5763"/>
                  <a:pt x="5832" y="5762"/>
                  <a:pt x="5755" y="5804"/>
                </a:cubicBezTo>
                <a:cubicBezTo>
                  <a:pt x="5725" y="5834"/>
                  <a:pt x="5714" y="5848"/>
                  <a:pt x="5705" y="58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8960" y="2938320"/>
            <a:ext cx="1805040" cy="1000440"/>
          </a:xfrm>
          <a:custGeom>
            <a:avLst/>
            <a:gdLst/>
            <a:ahLst/>
            <a:rect l="l" t="t" r="r" b="b"/>
            <a:pathLst>
              <a:path w="5011" h="2779">
                <a:moveTo>
                  <a:pt x="4887" y="10790"/>
                </a:moveTo>
                <a:cubicBezTo>
                  <a:pt x="4912" y="10790"/>
                  <a:pt x="4936" y="10790"/>
                  <a:pt x="4961" y="10790"/>
                </a:cubicBezTo>
              </a:path>
              <a:path w="5011" h="2779">
                <a:moveTo>
                  <a:pt x="4961" y="10790"/>
                </a:moveTo>
                <a:lnTo>
                  <a:pt x="4961" y="10790"/>
                </a:lnTo>
              </a:path>
              <a:path w="5011" h="2779">
                <a:moveTo>
                  <a:pt x="4961" y="10790"/>
                </a:moveTo>
                <a:lnTo>
                  <a:pt x="4961" y="10790"/>
                </a:lnTo>
              </a:path>
              <a:path w="5011" h="2779">
                <a:moveTo>
                  <a:pt x="4911" y="10790"/>
                </a:moveTo>
                <a:cubicBezTo>
                  <a:pt x="4911" y="10798"/>
                  <a:pt x="4911" y="10807"/>
                  <a:pt x="4911" y="10815"/>
                </a:cubicBezTo>
              </a:path>
              <a:path w="5011" h="2779">
                <a:moveTo>
                  <a:pt x="4911" y="10840"/>
                </a:moveTo>
                <a:lnTo>
                  <a:pt x="4911" y="10840"/>
                </a:lnTo>
              </a:path>
              <a:path w="5011" h="2779">
                <a:moveTo>
                  <a:pt x="4911" y="10840"/>
                </a:moveTo>
                <a:cubicBezTo>
                  <a:pt x="4953" y="10848"/>
                  <a:pt x="4993" y="10856"/>
                  <a:pt x="5035" y="10864"/>
                </a:cubicBezTo>
                <a:cubicBezTo>
                  <a:pt x="5086" y="10874"/>
                  <a:pt x="5133" y="10880"/>
                  <a:pt x="5184" y="10889"/>
                </a:cubicBezTo>
                <a:cubicBezTo>
                  <a:pt x="5262" y="10902"/>
                  <a:pt x="5357" y="10941"/>
                  <a:pt x="5432" y="10939"/>
                </a:cubicBezTo>
                <a:cubicBezTo>
                  <a:pt x="5486" y="10938"/>
                  <a:pt x="5532" y="10934"/>
                  <a:pt x="5581" y="10914"/>
                </a:cubicBezTo>
                <a:cubicBezTo>
                  <a:pt x="5647" y="10888"/>
                  <a:pt x="5737" y="10834"/>
                  <a:pt x="5804" y="10790"/>
                </a:cubicBezTo>
                <a:cubicBezTo>
                  <a:pt x="5846" y="10763"/>
                  <a:pt x="5924" y="10684"/>
                  <a:pt x="5978" y="10641"/>
                </a:cubicBezTo>
                <a:cubicBezTo>
                  <a:pt x="6045" y="10588"/>
                  <a:pt x="6121" y="10548"/>
                  <a:pt x="6176" y="10468"/>
                </a:cubicBezTo>
                <a:cubicBezTo>
                  <a:pt x="6224" y="10399"/>
                  <a:pt x="6268" y="10313"/>
                  <a:pt x="6300" y="10244"/>
                </a:cubicBezTo>
                <a:cubicBezTo>
                  <a:pt x="6325" y="10191"/>
                  <a:pt x="6344" y="10131"/>
                  <a:pt x="6375" y="10071"/>
                </a:cubicBezTo>
                <a:cubicBezTo>
                  <a:pt x="6406" y="10011"/>
                  <a:pt x="6444" y="9959"/>
                  <a:pt x="6474" y="9897"/>
                </a:cubicBezTo>
                <a:cubicBezTo>
                  <a:pt x="6493" y="9857"/>
                  <a:pt x="6541" y="9789"/>
                  <a:pt x="6548" y="9773"/>
                </a:cubicBezTo>
                <a:cubicBezTo>
                  <a:pt x="6570" y="9721"/>
                  <a:pt x="6564" y="9706"/>
                  <a:pt x="6598" y="9649"/>
                </a:cubicBezTo>
                <a:cubicBezTo>
                  <a:pt x="6615" y="9620"/>
                  <a:pt x="6622" y="9614"/>
                  <a:pt x="6648" y="9575"/>
                </a:cubicBezTo>
                <a:cubicBezTo>
                  <a:pt x="6681" y="9525"/>
                  <a:pt x="6709" y="9479"/>
                  <a:pt x="6747" y="9426"/>
                </a:cubicBezTo>
                <a:cubicBezTo>
                  <a:pt x="6763" y="9403"/>
                  <a:pt x="6807" y="9340"/>
                  <a:pt x="6821" y="9327"/>
                </a:cubicBezTo>
                <a:cubicBezTo>
                  <a:pt x="6867" y="9283"/>
                  <a:pt x="6918" y="9241"/>
                  <a:pt x="6970" y="9203"/>
                </a:cubicBezTo>
                <a:cubicBezTo>
                  <a:pt x="6984" y="9193"/>
                  <a:pt x="7043" y="9154"/>
                  <a:pt x="7045" y="9153"/>
                </a:cubicBezTo>
                <a:cubicBezTo>
                  <a:pt x="7101" y="9122"/>
                  <a:pt x="7159" y="9111"/>
                  <a:pt x="7218" y="9103"/>
                </a:cubicBezTo>
                <a:cubicBezTo>
                  <a:pt x="7278" y="9095"/>
                  <a:pt x="7319" y="9106"/>
                  <a:pt x="7367" y="9128"/>
                </a:cubicBezTo>
                <a:cubicBezTo>
                  <a:pt x="7449" y="9166"/>
                  <a:pt x="7429" y="9170"/>
                  <a:pt x="7491" y="9227"/>
                </a:cubicBezTo>
                <a:cubicBezTo>
                  <a:pt x="7555" y="9286"/>
                  <a:pt x="7592" y="9391"/>
                  <a:pt x="7615" y="9475"/>
                </a:cubicBezTo>
                <a:cubicBezTo>
                  <a:pt x="7633" y="9542"/>
                  <a:pt x="7645" y="9609"/>
                  <a:pt x="7665" y="9674"/>
                </a:cubicBezTo>
                <a:cubicBezTo>
                  <a:pt x="7687" y="9744"/>
                  <a:pt x="7713" y="9802"/>
                  <a:pt x="7739" y="9872"/>
                </a:cubicBezTo>
                <a:cubicBezTo>
                  <a:pt x="7761" y="9932"/>
                  <a:pt x="7765" y="9992"/>
                  <a:pt x="7813" y="10046"/>
                </a:cubicBezTo>
                <a:cubicBezTo>
                  <a:pt x="7912" y="10157"/>
                  <a:pt x="8085" y="10266"/>
                  <a:pt x="8235" y="10269"/>
                </a:cubicBezTo>
                <a:cubicBezTo>
                  <a:pt x="8339" y="10271"/>
                  <a:pt x="8394" y="10229"/>
                  <a:pt x="8458" y="10170"/>
                </a:cubicBezTo>
                <a:cubicBezTo>
                  <a:pt x="8561" y="10074"/>
                  <a:pt x="8628" y="9883"/>
                  <a:pt x="8657" y="9748"/>
                </a:cubicBezTo>
                <a:cubicBezTo>
                  <a:pt x="8691" y="9592"/>
                  <a:pt x="8700" y="9432"/>
                  <a:pt x="8756" y="9277"/>
                </a:cubicBezTo>
                <a:cubicBezTo>
                  <a:pt x="8811" y="9125"/>
                  <a:pt x="8866" y="8944"/>
                  <a:pt x="8954" y="8806"/>
                </a:cubicBezTo>
                <a:cubicBezTo>
                  <a:pt x="8961" y="8795"/>
                  <a:pt x="9033" y="8704"/>
                  <a:pt x="9054" y="8682"/>
                </a:cubicBezTo>
                <a:cubicBezTo>
                  <a:pt x="9100" y="8633"/>
                  <a:pt x="9159" y="8605"/>
                  <a:pt x="9203" y="8558"/>
                </a:cubicBezTo>
                <a:cubicBezTo>
                  <a:pt x="9224" y="8535"/>
                  <a:pt x="9271" y="8461"/>
                  <a:pt x="9302" y="8434"/>
                </a:cubicBezTo>
                <a:cubicBezTo>
                  <a:pt x="9369" y="8376"/>
                  <a:pt x="9450" y="8308"/>
                  <a:pt x="9525" y="8260"/>
                </a:cubicBezTo>
                <a:cubicBezTo>
                  <a:pt x="9551" y="8243"/>
                  <a:pt x="9612" y="8191"/>
                  <a:pt x="9624" y="8186"/>
                </a:cubicBezTo>
                <a:cubicBezTo>
                  <a:pt x="9664" y="8169"/>
                  <a:pt x="9698" y="8156"/>
                  <a:pt x="9748" y="8161"/>
                </a:cubicBezTo>
                <a:cubicBezTo>
                  <a:pt x="9782" y="8164"/>
                  <a:pt x="9806" y="8210"/>
                  <a:pt x="9847" y="8210"/>
                </a:cubicBezTo>
                <a:cubicBezTo>
                  <a:pt x="9872" y="8210"/>
                  <a:pt x="9872" y="8185"/>
                  <a:pt x="9897" y="81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68840" y="5089680"/>
            <a:ext cx="963360" cy="339480"/>
          </a:xfrm>
          <a:custGeom>
            <a:avLst/>
            <a:gdLst/>
            <a:ahLst/>
            <a:rect l="l" t="t" r="r" b="b"/>
            <a:pathLst>
              <a:path w="2679" h="943">
                <a:moveTo>
                  <a:pt x="10468" y="14734"/>
                </a:moveTo>
                <a:cubicBezTo>
                  <a:pt x="10487" y="14874"/>
                  <a:pt x="10495" y="14899"/>
                  <a:pt x="10492" y="14982"/>
                </a:cubicBezTo>
                <a:cubicBezTo>
                  <a:pt x="10479" y="14871"/>
                  <a:pt x="10395" y="14594"/>
                  <a:pt x="10492" y="14511"/>
                </a:cubicBezTo>
                <a:cubicBezTo>
                  <a:pt x="10514" y="14492"/>
                  <a:pt x="10641" y="14802"/>
                  <a:pt x="10666" y="14858"/>
                </a:cubicBezTo>
                <a:cubicBezTo>
                  <a:pt x="10683" y="14801"/>
                  <a:pt x="10772" y="14355"/>
                  <a:pt x="10840" y="14511"/>
                </a:cubicBezTo>
                <a:cubicBezTo>
                  <a:pt x="10906" y="14661"/>
                  <a:pt x="10908" y="14817"/>
                  <a:pt x="10988" y="14957"/>
                </a:cubicBezTo>
              </a:path>
              <a:path w="2679" h="943">
                <a:moveTo>
                  <a:pt x="11112" y="14635"/>
                </a:moveTo>
                <a:cubicBezTo>
                  <a:pt x="10986" y="14752"/>
                  <a:pt x="10967" y="14730"/>
                  <a:pt x="11013" y="14883"/>
                </a:cubicBezTo>
                <a:cubicBezTo>
                  <a:pt x="11177" y="14835"/>
                  <a:pt x="11240" y="14796"/>
                  <a:pt x="11286" y="14610"/>
                </a:cubicBezTo>
                <a:cubicBezTo>
                  <a:pt x="11295" y="14663"/>
                  <a:pt x="11329" y="14882"/>
                  <a:pt x="11410" y="14858"/>
                </a:cubicBezTo>
                <a:cubicBezTo>
                  <a:pt x="11522" y="14824"/>
                  <a:pt x="11517" y="14622"/>
                  <a:pt x="11534" y="14536"/>
                </a:cubicBezTo>
                <a:cubicBezTo>
                  <a:pt x="11542" y="14642"/>
                  <a:pt x="11532" y="14906"/>
                  <a:pt x="11708" y="14808"/>
                </a:cubicBezTo>
                <a:cubicBezTo>
                  <a:pt x="11741" y="14775"/>
                  <a:pt x="11774" y="14742"/>
                  <a:pt x="11807" y="14709"/>
                </a:cubicBezTo>
              </a:path>
              <a:path w="2679" h="943">
                <a:moveTo>
                  <a:pt x="11832" y="14560"/>
                </a:moveTo>
                <a:cubicBezTo>
                  <a:pt x="11707" y="14560"/>
                  <a:pt x="11739" y="14614"/>
                  <a:pt x="11782" y="14709"/>
                </a:cubicBezTo>
                <a:cubicBezTo>
                  <a:pt x="11826" y="14806"/>
                  <a:pt x="11819" y="14785"/>
                  <a:pt x="11733" y="14833"/>
                </a:cubicBezTo>
                <a:cubicBezTo>
                  <a:pt x="11716" y="14833"/>
                  <a:pt x="11700" y="14833"/>
                  <a:pt x="11683" y="14833"/>
                </a:cubicBezTo>
                <a:cubicBezTo>
                  <a:pt x="11788" y="14750"/>
                  <a:pt x="11935" y="14705"/>
                  <a:pt x="12030" y="14610"/>
                </a:cubicBezTo>
                <a:cubicBezTo>
                  <a:pt x="12054" y="14562"/>
                  <a:pt x="12062" y="14548"/>
                  <a:pt x="12055" y="14511"/>
                </a:cubicBezTo>
                <a:cubicBezTo>
                  <a:pt x="11952" y="14526"/>
                  <a:pt x="11866" y="14664"/>
                  <a:pt x="11981" y="14759"/>
                </a:cubicBezTo>
                <a:cubicBezTo>
                  <a:pt x="12022" y="14767"/>
                  <a:pt x="12064" y="14776"/>
                  <a:pt x="12105" y="14784"/>
                </a:cubicBezTo>
              </a:path>
              <a:path w="2679" h="943">
                <a:moveTo>
                  <a:pt x="12254" y="14139"/>
                </a:moveTo>
                <a:cubicBezTo>
                  <a:pt x="12262" y="14317"/>
                  <a:pt x="12404" y="14681"/>
                  <a:pt x="12353" y="14833"/>
                </a:cubicBezTo>
                <a:cubicBezTo>
                  <a:pt x="12336" y="14817"/>
                  <a:pt x="12320" y="14800"/>
                  <a:pt x="12303" y="14784"/>
                </a:cubicBezTo>
              </a:path>
              <a:path w="2679" h="943">
                <a:moveTo>
                  <a:pt x="12179" y="14635"/>
                </a:moveTo>
                <a:cubicBezTo>
                  <a:pt x="12301" y="14642"/>
                  <a:pt x="12453" y="14871"/>
                  <a:pt x="12502" y="14759"/>
                </a:cubicBezTo>
                <a:cubicBezTo>
                  <a:pt x="12543" y="14665"/>
                  <a:pt x="12405" y="14529"/>
                  <a:pt x="12526" y="14461"/>
                </a:cubicBezTo>
                <a:cubicBezTo>
                  <a:pt x="12559" y="14461"/>
                  <a:pt x="12593" y="14461"/>
                  <a:pt x="12626" y="14461"/>
                </a:cubicBezTo>
                <a:cubicBezTo>
                  <a:pt x="12651" y="14461"/>
                  <a:pt x="12675" y="14461"/>
                  <a:pt x="12700" y="14461"/>
                </a:cubicBezTo>
                <a:cubicBezTo>
                  <a:pt x="12682" y="14477"/>
                  <a:pt x="12535" y="14565"/>
                  <a:pt x="12576" y="14610"/>
                </a:cubicBezTo>
                <a:cubicBezTo>
                  <a:pt x="12667" y="14709"/>
                  <a:pt x="12780" y="14556"/>
                  <a:pt x="12799" y="14560"/>
                </a:cubicBezTo>
                <a:cubicBezTo>
                  <a:pt x="12949" y="14588"/>
                  <a:pt x="13005" y="14878"/>
                  <a:pt x="13047" y="14982"/>
                </a:cubicBezTo>
                <a:cubicBezTo>
                  <a:pt x="13047" y="15015"/>
                  <a:pt x="13047" y="15048"/>
                  <a:pt x="13047" y="15081"/>
                </a:cubicBezTo>
                <a:cubicBezTo>
                  <a:pt x="12969" y="14766"/>
                  <a:pt x="12931" y="14547"/>
                  <a:pt x="13097" y="14263"/>
                </a:cubicBezTo>
                <a:cubicBezTo>
                  <a:pt x="13188" y="14538"/>
                  <a:pt x="13060" y="14583"/>
                  <a:pt x="12824" y="146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5960" y="3303720"/>
            <a:ext cx="322200" cy="322200"/>
          </a:xfrm>
          <a:custGeom>
            <a:avLst/>
            <a:gdLst/>
            <a:ahLst/>
            <a:rect l="l" t="t" r="r" b="b"/>
            <a:pathLst>
              <a:path w="894" h="894">
                <a:moveTo>
                  <a:pt x="5234" y="9575"/>
                </a:moveTo>
                <a:cubicBezTo>
                  <a:pt x="5158" y="9549"/>
                  <a:pt x="5221" y="9769"/>
                  <a:pt x="5234" y="9847"/>
                </a:cubicBezTo>
                <a:cubicBezTo>
                  <a:pt x="5310" y="9772"/>
                  <a:pt x="5383" y="9712"/>
                  <a:pt x="5482" y="9674"/>
                </a:cubicBezTo>
                <a:cubicBezTo>
                  <a:pt x="5490" y="9674"/>
                  <a:pt x="5499" y="9674"/>
                  <a:pt x="5507" y="9674"/>
                </a:cubicBezTo>
              </a:path>
              <a:path w="894" h="894">
                <a:moveTo>
                  <a:pt x="5407" y="9451"/>
                </a:moveTo>
                <a:cubicBezTo>
                  <a:pt x="5416" y="9494"/>
                  <a:pt x="5574" y="10129"/>
                  <a:pt x="5507" y="9922"/>
                </a:cubicBezTo>
              </a:path>
              <a:path w="894" h="894">
                <a:moveTo>
                  <a:pt x="5308" y="9178"/>
                </a:moveTo>
                <a:cubicBezTo>
                  <a:pt x="5041" y="9388"/>
                  <a:pt x="4695" y="9802"/>
                  <a:pt x="5209" y="10046"/>
                </a:cubicBezTo>
                <a:cubicBezTo>
                  <a:pt x="5623" y="10242"/>
                  <a:pt x="6027" y="9796"/>
                  <a:pt x="5755" y="9426"/>
                </a:cubicBezTo>
                <a:cubicBezTo>
                  <a:pt x="5603" y="9350"/>
                  <a:pt x="5551" y="9325"/>
                  <a:pt x="5432" y="937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09880" y="2482920"/>
            <a:ext cx="339480" cy="374760"/>
          </a:xfrm>
          <a:custGeom>
            <a:avLst/>
            <a:gdLst/>
            <a:ahLst/>
            <a:rect l="l" t="t" r="r" b="b"/>
            <a:pathLst>
              <a:path w="944" h="1043">
                <a:moveTo>
                  <a:pt x="6102" y="7218"/>
                </a:moveTo>
                <a:cubicBezTo>
                  <a:pt x="6115" y="7284"/>
                  <a:pt x="6142" y="7347"/>
                  <a:pt x="6152" y="7417"/>
                </a:cubicBezTo>
                <a:cubicBezTo>
                  <a:pt x="6223" y="7357"/>
                  <a:pt x="6261" y="7347"/>
                  <a:pt x="6350" y="7317"/>
                </a:cubicBezTo>
                <a:cubicBezTo>
                  <a:pt x="6354" y="7339"/>
                  <a:pt x="6351" y="7814"/>
                  <a:pt x="6176" y="7714"/>
                </a:cubicBezTo>
                <a:cubicBezTo>
                  <a:pt x="6151" y="7673"/>
                  <a:pt x="6127" y="7631"/>
                  <a:pt x="6102" y="7590"/>
                </a:cubicBezTo>
              </a:path>
              <a:path w="944" h="1043">
                <a:moveTo>
                  <a:pt x="6127" y="7144"/>
                </a:moveTo>
                <a:cubicBezTo>
                  <a:pt x="6215" y="7085"/>
                  <a:pt x="6228" y="7061"/>
                  <a:pt x="6325" y="7045"/>
                </a:cubicBezTo>
              </a:path>
              <a:path w="944" h="1043">
                <a:moveTo>
                  <a:pt x="5904" y="6896"/>
                </a:moveTo>
                <a:cubicBezTo>
                  <a:pt x="5650" y="7165"/>
                  <a:pt x="5309" y="7697"/>
                  <a:pt x="5879" y="7938"/>
                </a:cubicBezTo>
                <a:cubicBezTo>
                  <a:pt x="6415" y="8165"/>
                  <a:pt x="6746" y="7362"/>
                  <a:pt x="6251" y="7094"/>
                </a:cubicBezTo>
                <a:cubicBezTo>
                  <a:pt x="6177" y="7069"/>
                  <a:pt x="6102" y="7045"/>
                  <a:pt x="6028" y="70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30760" y="901800"/>
            <a:ext cx="339480" cy="330120"/>
          </a:xfrm>
          <a:custGeom>
            <a:avLst/>
            <a:gdLst/>
            <a:ahLst/>
            <a:rect l="l" t="t" r="r" b="b"/>
            <a:pathLst>
              <a:path w="944" h="919">
                <a:moveTo>
                  <a:pt x="10988" y="2927"/>
                </a:moveTo>
                <a:cubicBezTo>
                  <a:pt x="11094" y="2879"/>
                  <a:pt x="11214" y="2852"/>
                  <a:pt x="11311" y="2803"/>
                </a:cubicBezTo>
                <a:cubicBezTo>
                  <a:pt x="11274" y="2950"/>
                  <a:pt x="11193" y="3083"/>
                  <a:pt x="11137" y="3225"/>
                </a:cubicBezTo>
                <a:cubicBezTo>
                  <a:pt x="11129" y="3250"/>
                  <a:pt x="11120" y="3274"/>
                  <a:pt x="11112" y="3299"/>
                </a:cubicBezTo>
              </a:path>
              <a:path w="944" h="919">
                <a:moveTo>
                  <a:pt x="11162" y="2505"/>
                </a:moveTo>
                <a:cubicBezTo>
                  <a:pt x="10915" y="2601"/>
                  <a:pt x="10457" y="2890"/>
                  <a:pt x="10666" y="3249"/>
                </a:cubicBezTo>
                <a:cubicBezTo>
                  <a:pt x="10899" y="3648"/>
                  <a:pt x="11679" y="3354"/>
                  <a:pt x="11584" y="2902"/>
                </a:cubicBezTo>
                <a:cubicBezTo>
                  <a:pt x="11425" y="2676"/>
                  <a:pt x="11394" y="2593"/>
                  <a:pt x="11187" y="26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60880" y="1928880"/>
            <a:ext cx="349200" cy="401400"/>
          </a:xfrm>
          <a:custGeom>
            <a:avLst/>
            <a:gdLst/>
            <a:ahLst/>
            <a:rect l="l" t="t" r="r" b="b"/>
            <a:pathLst>
              <a:path w="968" h="1117">
                <a:moveTo>
                  <a:pt x="12105" y="5655"/>
                </a:moveTo>
                <a:cubicBezTo>
                  <a:pt x="12069" y="5691"/>
                  <a:pt x="11795" y="6034"/>
                  <a:pt x="12055" y="5978"/>
                </a:cubicBezTo>
                <a:cubicBezTo>
                  <a:pt x="12212" y="5944"/>
                  <a:pt x="12211" y="5827"/>
                  <a:pt x="12229" y="5705"/>
                </a:cubicBezTo>
                <a:cubicBezTo>
                  <a:pt x="12111" y="5676"/>
                  <a:pt x="12063" y="5679"/>
                  <a:pt x="12005" y="5779"/>
                </a:cubicBezTo>
              </a:path>
              <a:path w="968" h="1117">
                <a:moveTo>
                  <a:pt x="12105" y="6003"/>
                </a:moveTo>
                <a:cubicBezTo>
                  <a:pt x="11965" y="6028"/>
                  <a:pt x="11954" y="6054"/>
                  <a:pt x="11857" y="6152"/>
                </a:cubicBezTo>
                <a:cubicBezTo>
                  <a:pt x="12016" y="6325"/>
                  <a:pt x="12230" y="6290"/>
                  <a:pt x="12278" y="6003"/>
                </a:cubicBezTo>
                <a:cubicBezTo>
                  <a:pt x="12305" y="5844"/>
                  <a:pt x="12208" y="5864"/>
                  <a:pt x="12105" y="5854"/>
                </a:cubicBezTo>
              </a:path>
              <a:path w="968" h="1117">
                <a:moveTo>
                  <a:pt x="11956" y="5358"/>
                </a:moveTo>
                <a:cubicBezTo>
                  <a:pt x="11719" y="5616"/>
                  <a:pt x="11200" y="6293"/>
                  <a:pt x="11881" y="6474"/>
                </a:cubicBezTo>
                <a:cubicBezTo>
                  <a:pt x="12378" y="6606"/>
                  <a:pt x="12685" y="6006"/>
                  <a:pt x="12427" y="5631"/>
                </a:cubicBezTo>
                <a:cubicBezTo>
                  <a:pt x="12279" y="5546"/>
                  <a:pt x="12248" y="5499"/>
                  <a:pt x="12154" y="55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520" y="85680"/>
            <a:ext cx="132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dskin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70840" y="3456000"/>
            <a:ext cx="633240" cy="785880"/>
          </a:xfrm>
          <a:custGeom>
            <a:avLst/>
            <a:gdLst/>
            <a:ahLst/>
            <a:rect l="l" t="t" r="r" b="b"/>
            <a:pathLst>
              <a:path w="1762" h="2184">
                <a:moveTo>
                  <a:pt x="21158" y="9872"/>
                </a:moveTo>
                <a:cubicBezTo>
                  <a:pt x="21093" y="9823"/>
                  <a:pt x="20921" y="9874"/>
                  <a:pt x="20861" y="9971"/>
                </a:cubicBezTo>
                <a:cubicBezTo>
                  <a:pt x="20861" y="9996"/>
                  <a:pt x="20861" y="10021"/>
                  <a:pt x="20861" y="10046"/>
                </a:cubicBezTo>
                <a:cubicBezTo>
                  <a:pt x="20966" y="10132"/>
                  <a:pt x="21187" y="10151"/>
                  <a:pt x="21134" y="9922"/>
                </a:cubicBezTo>
                <a:cubicBezTo>
                  <a:pt x="21117" y="9905"/>
                  <a:pt x="21101" y="9889"/>
                  <a:pt x="21084" y="9872"/>
                </a:cubicBezTo>
              </a:path>
              <a:path w="1762" h="2184">
                <a:moveTo>
                  <a:pt x="21282" y="9922"/>
                </a:moveTo>
                <a:cubicBezTo>
                  <a:pt x="21234" y="10043"/>
                  <a:pt x="21085" y="10093"/>
                  <a:pt x="21059" y="10244"/>
                </a:cubicBezTo>
                <a:cubicBezTo>
                  <a:pt x="21067" y="10269"/>
                  <a:pt x="21076" y="10294"/>
                  <a:pt x="21084" y="10319"/>
                </a:cubicBezTo>
                <a:cubicBezTo>
                  <a:pt x="21195" y="10361"/>
                  <a:pt x="21363" y="10376"/>
                  <a:pt x="21307" y="10195"/>
                </a:cubicBezTo>
                <a:cubicBezTo>
                  <a:pt x="21266" y="10112"/>
                  <a:pt x="21266" y="10087"/>
                  <a:pt x="21208" y="10071"/>
                </a:cubicBezTo>
              </a:path>
              <a:path w="1762" h="2184">
                <a:moveTo>
                  <a:pt x="21034" y="9798"/>
                </a:moveTo>
                <a:cubicBezTo>
                  <a:pt x="21158" y="9859"/>
                  <a:pt x="21245" y="10005"/>
                  <a:pt x="21357" y="10096"/>
                </a:cubicBezTo>
                <a:cubicBezTo>
                  <a:pt x="21417" y="10145"/>
                  <a:pt x="21401" y="10147"/>
                  <a:pt x="21456" y="10195"/>
                </a:cubicBezTo>
                <a:cubicBezTo>
                  <a:pt x="21482" y="10218"/>
                  <a:pt x="21490" y="10208"/>
                  <a:pt x="21506" y="10244"/>
                </a:cubicBezTo>
                <a:cubicBezTo>
                  <a:pt x="21530" y="10297"/>
                  <a:pt x="21582" y="10311"/>
                  <a:pt x="21605" y="10368"/>
                </a:cubicBezTo>
                <a:cubicBezTo>
                  <a:pt x="21605" y="10393"/>
                  <a:pt x="21605" y="10401"/>
                  <a:pt x="21630" y="10393"/>
                </a:cubicBezTo>
                <a:cubicBezTo>
                  <a:pt x="21660" y="10342"/>
                  <a:pt x="21674" y="10283"/>
                  <a:pt x="21679" y="10220"/>
                </a:cubicBezTo>
                <a:cubicBezTo>
                  <a:pt x="21684" y="10157"/>
                  <a:pt x="21650" y="10121"/>
                  <a:pt x="21605" y="10096"/>
                </a:cubicBezTo>
                <a:cubicBezTo>
                  <a:pt x="21550" y="10065"/>
                  <a:pt x="21517" y="10071"/>
                  <a:pt x="21456" y="10071"/>
                </a:cubicBezTo>
                <a:cubicBezTo>
                  <a:pt x="21412" y="10071"/>
                  <a:pt x="21363" y="10091"/>
                  <a:pt x="21357" y="10046"/>
                </a:cubicBezTo>
                <a:cubicBezTo>
                  <a:pt x="21357" y="10038"/>
                  <a:pt x="21357" y="10029"/>
                  <a:pt x="21357" y="10021"/>
                </a:cubicBezTo>
              </a:path>
              <a:path w="1762" h="2184">
                <a:moveTo>
                  <a:pt x="21034" y="9872"/>
                </a:moveTo>
                <a:cubicBezTo>
                  <a:pt x="21026" y="9848"/>
                  <a:pt x="21003" y="9825"/>
                  <a:pt x="20985" y="9798"/>
                </a:cubicBezTo>
                <a:cubicBezTo>
                  <a:pt x="20953" y="9750"/>
                  <a:pt x="20912" y="9716"/>
                  <a:pt x="20886" y="9699"/>
                </a:cubicBezTo>
                <a:cubicBezTo>
                  <a:pt x="20844" y="9672"/>
                  <a:pt x="20821" y="9659"/>
                  <a:pt x="20786" y="9624"/>
                </a:cubicBezTo>
                <a:cubicBezTo>
                  <a:pt x="20856" y="9624"/>
                  <a:pt x="20898" y="9590"/>
                  <a:pt x="20960" y="9624"/>
                </a:cubicBezTo>
                <a:cubicBezTo>
                  <a:pt x="21004" y="9648"/>
                  <a:pt x="21041" y="9649"/>
                  <a:pt x="21084" y="9674"/>
                </a:cubicBezTo>
                <a:cubicBezTo>
                  <a:pt x="21120" y="9695"/>
                  <a:pt x="21159" y="9720"/>
                  <a:pt x="21183" y="9723"/>
                </a:cubicBezTo>
                <a:cubicBezTo>
                  <a:pt x="21252" y="9731"/>
                  <a:pt x="21278" y="9675"/>
                  <a:pt x="21332" y="9649"/>
                </a:cubicBezTo>
                <a:cubicBezTo>
                  <a:pt x="21391" y="9621"/>
                  <a:pt x="21451" y="9616"/>
                  <a:pt x="21506" y="9649"/>
                </a:cubicBezTo>
                <a:cubicBezTo>
                  <a:pt x="21615" y="9716"/>
                  <a:pt x="21587" y="9802"/>
                  <a:pt x="21580" y="9897"/>
                </a:cubicBezTo>
                <a:cubicBezTo>
                  <a:pt x="21574" y="9980"/>
                  <a:pt x="21576" y="9983"/>
                  <a:pt x="21555" y="10046"/>
                </a:cubicBezTo>
                <a:cubicBezTo>
                  <a:pt x="21555" y="10054"/>
                  <a:pt x="21555" y="10063"/>
                  <a:pt x="21555" y="10071"/>
                </a:cubicBezTo>
              </a:path>
              <a:path w="1762" h="2184">
                <a:moveTo>
                  <a:pt x="20191" y="10195"/>
                </a:moveTo>
                <a:cubicBezTo>
                  <a:pt x="20174" y="10332"/>
                  <a:pt x="20133" y="10460"/>
                  <a:pt x="20092" y="10592"/>
                </a:cubicBezTo>
                <a:cubicBezTo>
                  <a:pt x="20101" y="10433"/>
                  <a:pt x="20084" y="10122"/>
                  <a:pt x="20241" y="10021"/>
                </a:cubicBezTo>
                <a:cubicBezTo>
                  <a:pt x="20274" y="10021"/>
                  <a:pt x="20307" y="10021"/>
                  <a:pt x="20340" y="10021"/>
                </a:cubicBezTo>
                <a:cubicBezTo>
                  <a:pt x="20409" y="10256"/>
                  <a:pt x="20341" y="10290"/>
                  <a:pt x="20117" y="10368"/>
                </a:cubicBezTo>
                <a:cubicBezTo>
                  <a:pt x="20229" y="10437"/>
                  <a:pt x="20246" y="10571"/>
                  <a:pt x="20290" y="10691"/>
                </a:cubicBezTo>
                <a:cubicBezTo>
                  <a:pt x="20310" y="10731"/>
                  <a:pt x="20309" y="10747"/>
                  <a:pt x="20340" y="10740"/>
                </a:cubicBezTo>
              </a:path>
              <a:path w="1762" h="2184">
                <a:moveTo>
                  <a:pt x="20489" y="10468"/>
                </a:moveTo>
                <a:cubicBezTo>
                  <a:pt x="20334" y="10503"/>
                  <a:pt x="20288" y="10532"/>
                  <a:pt x="20315" y="10691"/>
                </a:cubicBezTo>
                <a:cubicBezTo>
                  <a:pt x="20426" y="10663"/>
                  <a:pt x="20440" y="10640"/>
                  <a:pt x="20513" y="10542"/>
                </a:cubicBezTo>
                <a:cubicBezTo>
                  <a:pt x="20496" y="10629"/>
                  <a:pt x="20405" y="10767"/>
                  <a:pt x="20513" y="10840"/>
                </a:cubicBezTo>
                <a:cubicBezTo>
                  <a:pt x="20546" y="10840"/>
                  <a:pt x="20580" y="10840"/>
                  <a:pt x="20613" y="10840"/>
                </a:cubicBezTo>
              </a:path>
              <a:path w="1762" h="2184">
                <a:moveTo>
                  <a:pt x="20662" y="10616"/>
                </a:moveTo>
                <a:cubicBezTo>
                  <a:pt x="20572" y="10699"/>
                  <a:pt x="20388" y="10882"/>
                  <a:pt x="20538" y="11013"/>
                </a:cubicBezTo>
                <a:cubicBezTo>
                  <a:pt x="20585" y="11054"/>
                  <a:pt x="20746" y="11031"/>
                  <a:pt x="20786" y="10988"/>
                </a:cubicBezTo>
                <a:cubicBezTo>
                  <a:pt x="20842" y="10928"/>
                  <a:pt x="20860" y="10911"/>
                  <a:pt x="20836" y="10864"/>
                </a:cubicBezTo>
                <a:cubicBezTo>
                  <a:pt x="20699" y="10853"/>
                  <a:pt x="20600" y="10912"/>
                  <a:pt x="20687" y="11063"/>
                </a:cubicBezTo>
                <a:cubicBezTo>
                  <a:pt x="20712" y="11096"/>
                  <a:pt x="20737" y="11129"/>
                  <a:pt x="20762" y="11162"/>
                </a:cubicBezTo>
              </a:path>
              <a:path w="1762" h="2184">
                <a:moveTo>
                  <a:pt x="20216" y="11311"/>
                </a:moveTo>
                <a:cubicBezTo>
                  <a:pt x="20274" y="11176"/>
                  <a:pt x="20121" y="11232"/>
                  <a:pt x="20042" y="11286"/>
                </a:cubicBezTo>
                <a:cubicBezTo>
                  <a:pt x="19853" y="11414"/>
                  <a:pt x="19882" y="11691"/>
                  <a:pt x="20141" y="11683"/>
                </a:cubicBezTo>
                <a:cubicBezTo>
                  <a:pt x="20216" y="11666"/>
                  <a:pt x="20290" y="11650"/>
                  <a:pt x="20365" y="11633"/>
                </a:cubicBezTo>
              </a:path>
              <a:path w="1762" h="2184">
                <a:moveTo>
                  <a:pt x="20464" y="11534"/>
                </a:moveTo>
                <a:cubicBezTo>
                  <a:pt x="20425" y="11547"/>
                  <a:pt x="20141" y="11718"/>
                  <a:pt x="20315" y="11782"/>
                </a:cubicBezTo>
                <a:cubicBezTo>
                  <a:pt x="20383" y="11807"/>
                  <a:pt x="20482" y="11681"/>
                  <a:pt x="20538" y="11658"/>
                </a:cubicBezTo>
                <a:cubicBezTo>
                  <a:pt x="20592" y="11636"/>
                  <a:pt x="20582" y="11724"/>
                  <a:pt x="20588" y="11757"/>
                </a:cubicBezTo>
                <a:cubicBezTo>
                  <a:pt x="20588" y="11642"/>
                  <a:pt x="20612" y="11540"/>
                  <a:pt x="20662" y="11435"/>
                </a:cubicBezTo>
                <a:cubicBezTo>
                  <a:pt x="20712" y="11330"/>
                  <a:pt x="20774" y="11488"/>
                  <a:pt x="20786" y="115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23200" y="1143000"/>
            <a:ext cx="401760" cy="588960"/>
          </a:xfrm>
          <a:custGeom>
            <a:avLst/>
            <a:gdLst/>
            <a:ahLst/>
            <a:rect l="l" t="t" r="r" b="b"/>
            <a:pathLst>
              <a:path w="1117" h="1638">
                <a:moveTo>
                  <a:pt x="23465" y="3795"/>
                </a:moveTo>
                <a:cubicBezTo>
                  <a:pt x="23465" y="4010"/>
                  <a:pt x="23358" y="4224"/>
                  <a:pt x="23540" y="4043"/>
                </a:cubicBezTo>
              </a:path>
              <a:path w="1117" h="1638">
                <a:moveTo>
                  <a:pt x="23763" y="3597"/>
                </a:moveTo>
                <a:cubicBezTo>
                  <a:pt x="23628" y="3704"/>
                  <a:pt x="23657" y="3881"/>
                  <a:pt x="23664" y="4043"/>
                </a:cubicBezTo>
                <a:cubicBezTo>
                  <a:pt x="23816" y="4002"/>
                  <a:pt x="24110" y="3816"/>
                  <a:pt x="23986" y="3597"/>
                </a:cubicBezTo>
                <a:cubicBezTo>
                  <a:pt x="23881" y="3411"/>
                  <a:pt x="23714" y="3503"/>
                  <a:pt x="23614" y="3572"/>
                </a:cubicBezTo>
              </a:path>
              <a:path w="1117" h="1638">
                <a:moveTo>
                  <a:pt x="23887" y="3324"/>
                </a:moveTo>
                <a:cubicBezTo>
                  <a:pt x="23410" y="3323"/>
                  <a:pt x="23155" y="3612"/>
                  <a:pt x="23118" y="4118"/>
                </a:cubicBezTo>
                <a:cubicBezTo>
                  <a:pt x="23190" y="4525"/>
                  <a:pt x="23205" y="4656"/>
                  <a:pt x="23465" y="4812"/>
                </a:cubicBezTo>
                <a:cubicBezTo>
                  <a:pt x="24077" y="4623"/>
                  <a:pt x="24379" y="4260"/>
                  <a:pt x="24209" y="3522"/>
                </a:cubicBezTo>
                <a:cubicBezTo>
                  <a:pt x="24043" y="3237"/>
                  <a:pt x="23999" y="3140"/>
                  <a:pt x="23738" y="31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88000" y="231840"/>
            <a:ext cx="1662120" cy="571320"/>
          </a:xfrm>
          <a:custGeom>
            <a:avLst/>
            <a:gdLst/>
            <a:ahLst/>
            <a:rect l="l" t="t" r="r" b="b"/>
            <a:pathLst>
              <a:path w="4614" h="1588">
                <a:moveTo>
                  <a:pt x="19248" y="1488"/>
                </a:moveTo>
                <a:cubicBezTo>
                  <a:pt x="19217" y="1531"/>
                  <a:pt x="19202" y="1557"/>
                  <a:pt x="19199" y="1612"/>
                </a:cubicBezTo>
                <a:cubicBezTo>
                  <a:pt x="19194" y="1691"/>
                  <a:pt x="19174" y="1752"/>
                  <a:pt x="19174" y="1836"/>
                </a:cubicBezTo>
                <a:cubicBezTo>
                  <a:pt x="19174" y="1889"/>
                  <a:pt x="19210" y="1919"/>
                  <a:pt x="19224" y="1960"/>
                </a:cubicBezTo>
                <a:cubicBezTo>
                  <a:pt x="19224" y="1992"/>
                  <a:pt x="19232" y="2000"/>
                  <a:pt x="19273" y="1984"/>
                </a:cubicBezTo>
                <a:cubicBezTo>
                  <a:pt x="19290" y="1902"/>
                  <a:pt x="19353" y="1846"/>
                  <a:pt x="19372" y="1761"/>
                </a:cubicBezTo>
                <a:cubicBezTo>
                  <a:pt x="19388" y="1690"/>
                  <a:pt x="19365" y="1620"/>
                  <a:pt x="19348" y="1563"/>
                </a:cubicBezTo>
                <a:cubicBezTo>
                  <a:pt x="19348" y="1555"/>
                  <a:pt x="19348" y="1546"/>
                  <a:pt x="19348" y="1538"/>
                </a:cubicBezTo>
              </a:path>
              <a:path w="4614" h="1588">
                <a:moveTo>
                  <a:pt x="19596" y="1414"/>
                </a:moveTo>
                <a:cubicBezTo>
                  <a:pt x="19578" y="1519"/>
                  <a:pt x="19564" y="1584"/>
                  <a:pt x="19571" y="1687"/>
                </a:cubicBezTo>
                <a:cubicBezTo>
                  <a:pt x="19578" y="1779"/>
                  <a:pt x="19575" y="1814"/>
                  <a:pt x="19645" y="1860"/>
                </a:cubicBezTo>
                <a:cubicBezTo>
                  <a:pt x="19717" y="1776"/>
                  <a:pt x="19740" y="1721"/>
                  <a:pt x="19745" y="1612"/>
                </a:cubicBezTo>
                <a:cubicBezTo>
                  <a:pt x="19748" y="1550"/>
                  <a:pt x="19720" y="1503"/>
                  <a:pt x="19720" y="1439"/>
                </a:cubicBezTo>
                <a:cubicBezTo>
                  <a:pt x="19720" y="1398"/>
                  <a:pt x="19707" y="1426"/>
                  <a:pt x="19695" y="1389"/>
                </a:cubicBezTo>
              </a:path>
              <a:path w="4614" h="1588">
                <a:moveTo>
                  <a:pt x="19918" y="1290"/>
                </a:moveTo>
                <a:cubicBezTo>
                  <a:pt x="19892" y="1394"/>
                  <a:pt x="19909" y="1436"/>
                  <a:pt x="19918" y="1538"/>
                </a:cubicBezTo>
                <a:cubicBezTo>
                  <a:pt x="19918" y="1546"/>
                  <a:pt x="19918" y="1555"/>
                  <a:pt x="19918" y="1563"/>
                </a:cubicBezTo>
                <a:cubicBezTo>
                  <a:pt x="19983" y="1563"/>
                  <a:pt x="20024" y="1565"/>
                  <a:pt x="20042" y="1488"/>
                </a:cubicBezTo>
                <a:cubicBezTo>
                  <a:pt x="20058" y="1419"/>
                  <a:pt x="20027" y="1344"/>
                  <a:pt x="20017" y="1290"/>
                </a:cubicBezTo>
                <a:cubicBezTo>
                  <a:pt x="20009" y="1245"/>
                  <a:pt x="20003" y="1230"/>
                  <a:pt x="19993" y="1191"/>
                </a:cubicBezTo>
              </a:path>
              <a:path w="4614" h="1588">
                <a:moveTo>
                  <a:pt x="20315" y="1067"/>
                </a:moveTo>
                <a:cubicBezTo>
                  <a:pt x="20267" y="1115"/>
                  <a:pt x="20249" y="1228"/>
                  <a:pt x="20265" y="1315"/>
                </a:cubicBezTo>
                <a:cubicBezTo>
                  <a:pt x="20282" y="1406"/>
                  <a:pt x="20274" y="1403"/>
                  <a:pt x="20340" y="1414"/>
                </a:cubicBezTo>
                <a:cubicBezTo>
                  <a:pt x="20361" y="1323"/>
                  <a:pt x="20395" y="1196"/>
                  <a:pt x="20315" y="1116"/>
                </a:cubicBezTo>
                <a:cubicBezTo>
                  <a:pt x="20298" y="1108"/>
                  <a:pt x="20282" y="1099"/>
                  <a:pt x="20265" y="1091"/>
                </a:cubicBezTo>
              </a:path>
              <a:path w="4614" h="1588">
                <a:moveTo>
                  <a:pt x="19819" y="1712"/>
                </a:moveTo>
                <a:cubicBezTo>
                  <a:pt x="19819" y="1654"/>
                  <a:pt x="19819" y="1778"/>
                  <a:pt x="19819" y="1836"/>
                </a:cubicBezTo>
                <a:cubicBezTo>
                  <a:pt x="19819" y="1936"/>
                  <a:pt x="19822" y="2019"/>
                  <a:pt x="19943" y="2034"/>
                </a:cubicBezTo>
                <a:cubicBezTo>
                  <a:pt x="20095" y="2053"/>
                  <a:pt x="20036" y="1813"/>
                  <a:pt x="20017" y="1736"/>
                </a:cubicBezTo>
                <a:cubicBezTo>
                  <a:pt x="19993" y="1641"/>
                  <a:pt x="19973" y="1667"/>
                  <a:pt x="19893" y="1637"/>
                </a:cubicBezTo>
              </a:path>
              <a:path w="4614" h="1588">
                <a:moveTo>
                  <a:pt x="19397" y="2009"/>
                </a:moveTo>
                <a:cubicBezTo>
                  <a:pt x="19378" y="2078"/>
                  <a:pt x="19303" y="2189"/>
                  <a:pt x="19422" y="2232"/>
                </a:cubicBezTo>
                <a:cubicBezTo>
                  <a:pt x="19565" y="2284"/>
                  <a:pt x="19628" y="2105"/>
                  <a:pt x="19645" y="2009"/>
                </a:cubicBezTo>
                <a:cubicBezTo>
                  <a:pt x="19664" y="1902"/>
                  <a:pt x="19607" y="1857"/>
                  <a:pt x="19521" y="1836"/>
                </a:cubicBezTo>
              </a:path>
              <a:path w="4614" h="1588">
                <a:moveTo>
                  <a:pt x="19248" y="1786"/>
                </a:moveTo>
                <a:cubicBezTo>
                  <a:pt x="19248" y="1715"/>
                  <a:pt x="19259" y="1659"/>
                  <a:pt x="19323" y="1612"/>
                </a:cubicBezTo>
                <a:cubicBezTo>
                  <a:pt x="19424" y="1538"/>
                  <a:pt x="19442" y="1663"/>
                  <a:pt x="19447" y="1736"/>
                </a:cubicBezTo>
                <a:cubicBezTo>
                  <a:pt x="19447" y="1744"/>
                  <a:pt x="19447" y="1753"/>
                  <a:pt x="19447" y="1761"/>
                </a:cubicBezTo>
              </a:path>
              <a:path w="4614" h="1588">
                <a:moveTo>
                  <a:pt x="19621" y="1637"/>
                </a:moveTo>
                <a:cubicBezTo>
                  <a:pt x="19705" y="1594"/>
                  <a:pt x="19718" y="1599"/>
                  <a:pt x="19769" y="1662"/>
                </a:cubicBezTo>
                <a:cubicBezTo>
                  <a:pt x="19799" y="1692"/>
                  <a:pt x="19804" y="1706"/>
                  <a:pt x="19769" y="1736"/>
                </a:cubicBezTo>
              </a:path>
              <a:path w="4614" h="1588">
                <a:moveTo>
                  <a:pt x="19298" y="2108"/>
                </a:moveTo>
                <a:cubicBezTo>
                  <a:pt x="19317" y="2013"/>
                  <a:pt x="19382" y="1986"/>
                  <a:pt x="19472" y="1960"/>
                </a:cubicBezTo>
                <a:cubicBezTo>
                  <a:pt x="19509" y="1949"/>
                  <a:pt x="19570" y="2055"/>
                  <a:pt x="19596" y="2084"/>
                </a:cubicBezTo>
              </a:path>
              <a:path w="4614" h="1588">
                <a:moveTo>
                  <a:pt x="20017" y="1811"/>
                </a:moveTo>
                <a:cubicBezTo>
                  <a:pt x="20109" y="1708"/>
                  <a:pt x="20127" y="1722"/>
                  <a:pt x="20166" y="1860"/>
                </a:cubicBezTo>
                <a:cubicBezTo>
                  <a:pt x="20166" y="1885"/>
                  <a:pt x="20166" y="1893"/>
                  <a:pt x="20141" y="1885"/>
                </a:cubicBezTo>
              </a:path>
              <a:path w="4614" h="1588">
                <a:moveTo>
                  <a:pt x="19943" y="1488"/>
                </a:moveTo>
                <a:cubicBezTo>
                  <a:pt x="19956" y="1438"/>
                  <a:pt x="20006" y="1395"/>
                  <a:pt x="20067" y="1414"/>
                </a:cubicBezTo>
                <a:cubicBezTo>
                  <a:pt x="20115" y="1429"/>
                  <a:pt x="20074" y="1449"/>
                  <a:pt x="20117" y="1463"/>
                </a:cubicBezTo>
              </a:path>
              <a:path w="4614" h="1588">
                <a:moveTo>
                  <a:pt x="20290" y="1191"/>
                </a:moveTo>
                <a:cubicBezTo>
                  <a:pt x="20367" y="1191"/>
                  <a:pt x="20403" y="1198"/>
                  <a:pt x="20414" y="1290"/>
                </a:cubicBezTo>
                <a:cubicBezTo>
                  <a:pt x="20414" y="1341"/>
                  <a:pt x="20412" y="1358"/>
                  <a:pt x="20365" y="1364"/>
                </a:cubicBezTo>
              </a:path>
              <a:path w="4614" h="1588">
                <a:moveTo>
                  <a:pt x="19199" y="794"/>
                </a:moveTo>
                <a:cubicBezTo>
                  <a:pt x="19111" y="714"/>
                  <a:pt x="19052" y="645"/>
                  <a:pt x="18901" y="645"/>
                </a:cubicBezTo>
                <a:cubicBezTo>
                  <a:pt x="18566" y="645"/>
                  <a:pt x="18163" y="732"/>
                  <a:pt x="17859" y="868"/>
                </a:cubicBezTo>
                <a:cubicBezTo>
                  <a:pt x="17652" y="961"/>
                  <a:pt x="17447" y="1051"/>
                  <a:pt x="17239" y="1141"/>
                </a:cubicBezTo>
                <a:cubicBezTo>
                  <a:pt x="17149" y="1180"/>
                  <a:pt x="17088" y="1191"/>
                  <a:pt x="16991" y="1215"/>
                </a:cubicBezTo>
                <a:cubicBezTo>
                  <a:pt x="16858" y="1248"/>
                  <a:pt x="16749" y="1267"/>
                  <a:pt x="16619" y="1315"/>
                </a:cubicBezTo>
                <a:cubicBezTo>
                  <a:pt x="16467" y="1371"/>
                  <a:pt x="16295" y="1422"/>
                  <a:pt x="16173" y="1488"/>
                </a:cubicBezTo>
                <a:cubicBezTo>
                  <a:pt x="16057" y="1551"/>
                  <a:pt x="16004" y="1576"/>
                  <a:pt x="15875" y="1612"/>
                </a:cubicBezTo>
                <a:cubicBezTo>
                  <a:pt x="15840" y="1612"/>
                  <a:pt x="15823" y="1617"/>
                  <a:pt x="15801" y="163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41920" y="258840"/>
            <a:ext cx="366480" cy="420480"/>
          </a:xfrm>
          <a:custGeom>
            <a:avLst/>
            <a:gdLst/>
            <a:ahLst/>
            <a:rect l="l" t="t" r="r" b="b"/>
            <a:pathLst>
              <a:path w="1018" h="1167">
                <a:moveTo>
                  <a:pt x="13866" y="1067"/>
                </a:moveTo>
                <a:cubicBezTo>
                  <a:pt x="13761" y="1083"/>
                  <a:pt x="13541" y="1148"/>
                  <a:pt x="13618" y="1315"/>
                </a:cubicBezTo>
                <a:cubicBezTo>
                  <a:pt x="13704" y="1503"/>
                  <a:pt x="13915" y="1214"/>
                  <a:pt x="13965" y="1166"/>
                </a:cubicBezTo>
                <a:cubicBezTo>
                  <a:pt x="13864" y="1003"/>
                  <a:pt x="13580" y="1036"/>
                  <a:pt x="13618" y="1290"/>
                </a:cubicBezTo>
                <a:cubicBezTo>
                  <a:pt x="13632" y="1384"/>
                  <a:pt x="13774" y="1389"/>
                  <a:pt x="13841" y="1389"/>
                </a:cubicBezTo>
                <a:cubicBezTo>
                  <a:pt x="13603" y="1376"/>
                  <a:pt x="13531" y="1409"/>
                  <a:pt x="13519" y="1637"/>
                </a:cubicBezTo>
                <a:cubicBezTo>
                  <a:pt x="13704" y="1659"/>
                  <a:pt x="14057" y="1657"/>
                  <a:pt x="13965" y="1339"/>
                </a:cubicBezTo>
                <a:cubicBezTo>
                  <a:pt x="13892" y="1266"/>
                  <a:pt x="13869" y="1241"/>
                  <a:pt x="13791" y="1265"/>
                </a:cubicBezTo>
              </a:path>
              <a:path w="1018" h="1167">
                <a:moveTo>
                  <a:pt x="13767" y="719"/>
                </a:moveTo>
                <a:cubicBezTo>
                  <a:pt x="13354" y="857"/>
                  <a:pt x="13017" y="1088"/>
                  <a:pt x="13221" y="1612"/>
                </a:cubicBezTo>
                <a:cubicBezTo>
                  <a:pt x="13412" y="2101"/>
                  <a:pt x="13996" y="1885"/>
                  <a:pt x="14163" y="1513"/>
                </a:cubicBezTo>
                <a:cubicBezTo>
                  <a:pt x="14287" y="1238"/>
                  <a:pt x="14096" y="1193"/>
                  <a:pt x="13915" y="10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56160" y="750960"/>
            <a:ext cx="419040" cy="285840"/>
          </a:xfrm>
          <a:custGeom>
            <a:avLst/>
            <a:gdLst/>
            <a:ahLst/>
            <a:rect l="l" t="t" r="r" b="b"/>
            <a:pathLst>
              <a:path w="1166" h="794">
                <a:moveTo>
                  <a:pt x="15429" y="2555"/>
                </a:moveTo>
                <a:cubicBezTo>
                  <a:pt x="15429" y="2530"/>
                  <a:pt x="15429" y="2522"/>
                  <a:pt x="15429" y="2505"/>
                </a:cubicBezTo>
              </a:path>
              <a:path w="1166" h="794">
                <a:moveTo>
                  <a:pt x="15156" y="2505"/>
                </a:moveTo>
                <a:cubicBezTo>
                  <a:pt x="15171" y="2457"/>
                  <a:pt x="15222" y="2488"/>
                  <a:pt x="15280" y="2480"/>
                </a:cubicBezTo>
                <a:cubicBezTo>
                  <a:pt x="15463" y="2455"/>
                  <a:pt x="15641" y="2457"/>
                  <a:pt x="15825" y="2480"/>
                </a:cubicBezTo>
                <a:cubicBezTo>
                  <a:pt x="15961" y="2497"/>
                  <a:pt x="16083" y="2505"/>
                  <a:pt x="16222" y="2505"/>
                </a:cubicBezTo>
                <a:cubicBezTo>
                  <a:pt x="16255" y="2505"/>
                  <a:pt x="16288" y="2505"/>
                  <a:pt x="16321" y="2505"/>
                </a:cubicBezTo>
                <a:cubicBezTo>
                  <a:pt x="16321" y="2629"/>
                  <a:pt x="16321" y="2753"/>
                  <a:pt x="16321" y="2877"/>
                </a:cubicBezTo>
                <a:cubicBezTo>
                  <a:pt x="16227" y="2877"/>
                  <a:pt x="16116" y="2864"/>
                  <a:pt x="16024" y="2853"/>
                </a:cubicBezTo>
                <a:cubicBezTo>
                  <a:pt x="15841" y="2832"/>
                  <a:pt x="15661" y="2771"/>
                  <a:pt x="15478" y="2753"/>
                </a:cubicBezTo>
                <a:cubicBezTo>
                  <a:pt x="15453" y="2750"/>
                  <a:pt x="15254" y="2706"/>
                  <a:pt x="15230" y="2729"/>
                </a:cubicBezTo>
                <a:cubicBezTo>
                  <a:pt x="15213" y="2746"/>
                  <a:pt x="15197" y="2780"/>
                  <a:pt x="15180" y="2729"/>
                </a:cubicBezTo>
                <a:cubicBezTo>
                  <a:pt x="15152" y="2643"/>
                  <a:pt x="15160" y="2604"/>
                  <a:pt x="15180" y="2555"/>
                </a:cubicBezTo>
                <a:cubicBezTo>
                  <a:pt x="15180" y="2547"/>
                  <a:pt x="15180" y="2538"/>
                  <a:pt x="15180" y="2530"/>
                </a:cubicBezTo>
              </a:path>
              <a:path w="1166" h="794">
                <a:moveTo>
                  <a:pt x="15925" y="2555"/>
                </a:moveTo>
                <a:cubicBezTo>
                  <a:pt x="15900" y="2555"/>
                  <a:pt x="15875" y="2555"/>
                  <a:pt x="15850" y="2555"/>
                </a:cubicBezTo>
              </a:path>
              <a:path w="1166" h="794">
                <a:moveTo>
                  <a:pt x="15726" y="2505"/>
                </a:moveTo>
                <a:cubicBezTo>
                  <a:pt x="15697" y="2591"/>
                  <a:pt x="15663" y="2431"/>
                  <a:pt x="15652" y="2406"/>
                </a:cubicBezTo>
                <a:cubicBezTo>
                  <a:pt x="15610" y="2308"/>
                  <a:pt x="15516" y="2228"/>
                  <a:pt x="15478" y="2133"/>
                </a:cubicBezTo>
                <a:cubicBezTo>
                  <a:pt x="15478" y="2108"/>
                  <a:pt x="15478" y="2100"/>
                  <a:pt x="15478" y="2084"/>
                </a:cubicBezTo>
                <a:cubicBezTo>
                  <a:pt x="15564" y="2093"/>
                  <a:pt x="15626" y="2131"/>
                  <a:pt x="15701" y="2158"/>
                </a:cubicBezTo>
                <a:cubicBezTo>
                  <a:pt x="15747" y="2175"/>
                  <a:pt x="15757" y="2150"/>
                  <a:pt x="15801" y="2183"/>
                </a:cubicBezTo>
                <a:cubicBezTo>
                  <a:pt x="15785" y="2254"/>
                  <a:pt x="15789" y="2354"/>
                  <a:pt x="15825" y="2431"/>
                </a:cubicBezTo>
                <a:cubicBezTo>
                  <a:pt x="15841" y="2465"/>
                  <a:pt x="15887" y="2571"/>
                  <a:pt x="15900" y="2580"/>
                </a:cubicBezTo>
              </a:path>
              <a:path w="1166" h="794">
                <a:moveTo>
                  <a:pt x="15379" y="2604"/>
                </a:moveTo>
                <a:cubicBezTo>
                  <a:pt x="15379" y="2533"/>
                  <a:pt x="15346" y="2535"/>
                  <a:pt x="15280" y="2604"/>
                </a:cubicBezTo>
                <a:cubicBezTo>
                  <a:pt x="15213" y="2674"/>
                  <a:pt x="15173" y="2960"/>
                  <a:pt x="15354" y="2853"/>
                </a:cubicBezTo>
                <a:cubicBezTo>
                  <a:pt x="15459" y="2791"/>
                  <a:pt x="15511" y="2666"/>
                  <a:pt x="15404" y="2604"/>
                </a:cubicBezTo>
                <a:cubicBezTo>
                  <a:pt x="15387" y="2596"/>
                  <a:pt x="15371" y="2588"/>
                  <a:pt x="15354" y="2580"/>
                </a:cubicBezTo>
              </a:path>
              <a:path w="1166" h="794">
                <a:moveTo>
                  <a:pt x="15677" y="2654"/>
                </a:moveTo>
                <a:cubicBezTo>
                  <a:pt x="15677" y="2727"/>
                  <a:pt x="15654" y="2786"/>
                  <a:pt x="15627" y="2853"/>
                </a:cubicBezTo>
                <a:cubicBezTo>
                  <a:pt x="15627" y="2918"/>
                  <a:pt x="15649" y="2674"/>
                  <a:pt x="15652" y="2654"/>
                </a:cubicBezTo>
                <a:cubicBezTo>
                  <a:pt x="15652" y="2646"/>
                  <a:pt x="15652" y="2637"/>
                  <a:pt x="15652" y="2629"/>
                </a:cubicBezTo>
                <a:cubicBezTo>
                  <a:pt x="15754" y="2686"/>
                  <a:pt x="15806" y="2765"/>
                  <a:pt x="15900" y="2828"/>
                </a:cubicBezTo>
                <a:cubicBezTo>
                  <a:pt x="15916" y="2836"/>
                  <a:pt x="15933" y="2845"/>
                  <a:pt x="15949" y="2853"/>
                </a:cubicBezTo>
                <a:cubicBezTo>
                  <a:pt x="16053" y="2827"/>
                  <a:pt x="16009" y="2711"/>
                  <a:pt x="16024" y="2629"/>
                </a:cubicBezTo>
                <a:cubicBezTo>
                  <a:pt x="16035" y="2569"/>
                  <a:pt x="16049" y="2540"/>
                  <a:pt x="16049" y="24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48160" y="1554120"/>
            <a:ext cx="366840" cy="438120"/>
          </a:xfrm>
          <a:custGeom>
            <a:avLst/>
            <a:gdLst/>
            <a:ahLst/>
            <a:rect l="l" t="t" r="r" b="b"/>
            <a:pathLst>
              <a:path w="1018" h="1216">
                <a:moveTo>
                  <a:pt x="14858" y="4936"/>
                </a:moveTo>
                <a:lnTo>
                  <a:pt x="14858" y="4936"/>
                </a:lnTo>
              </a:path>
              <a:path w="1018" h="1216">
                <a:moveTo>
                  <a:pt x="15156" y="4787"/>
                </a:moveTo>
                <a:cubicBezTo>
                  <a:pt x="15130" y="4872"/>
                  <a:pt x="15056" y="4966"/>
                  <a:pt x="15156" y="5011"/>
                </a:cubicBezTo>
                <a:cubicBezTo>
                  <a:pt x="15335" y="5091"/>
                  <a:pt x="15447" y="5123"/>
                  <a:pt x="15230" y="5259"/>
                </a:cubicBezTo>
                <a:cubicBezTo>
                  <a:pt x="15117" y="5315"/>
                  <a:pt x="15079" y="5316"/>
                  <a:pt x="15081" y="5159"/>
                </a:cubicBezTo>
              </a:path>
              <a:path w="1018" h="1216">
                <a:moveTo>
                  <a:pt x="15131" y="4837"/>
                </a:moveTo>
                <a:cubicBezTo>
                  <a:pt x="15272" y="4775"/>
                  <a:pt x="15376" y="4732"/>
                  <a:pt x="15528" y="4713"/>
                </a:cubicBezTo>
              </a:path>
              <a:path w="1018" h="1216">
                <a:moveTo>
                  <a:pt x="15379" y="4316"/>
                </a:moveTo>
                <a:cubicBezTo>
                  <a:pt x="15013" y="4515"/>
                  <a:pt x="14663" y="4838"/>
                  <a:pt x="14957" y="5308"/>
                </a:cubicBezTo>
                <a:cubicBezTo>
                  <a:pt x="15291" y="5843"/>
                  <a:pt x="15856" y="5325"/>
                  <a:pt x="15875" y="4887"/>
                </a:cubicBezTo>
                <a:cubicBezTo>
                  <a:pt x="15800" y="4659"/>
                  <a:pt x="15771" y="4584"/>
                  <a:pt x="15553" y="46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11880" y="2340000"/>
            <a:ext cx="1062000" cy="892080"/>
          </a:xfrm>
          <a:custGeom>
            <a:avLst/>
            <a:gdLst/>
            <a:ahLst/>
            <a:rect l="l" t="t" r="r" b="b"/>
            <a:pathLst>
              <a:path w="2952" h="2481">
                <a:moveTo>
                  <a:pt x="15032" y="7863"/>
                </a:moveTo>
                <a:cubicBezTo>
                  <a:pt x="15078" y="8060"/>
                  <a:pt x="15075" y="8077"/>
                  <a:pt x="15230" y="8186"/>
                </a:cubicBezTo>
                <a:cubicBezTo>
                  <a:pt x="15390" y="7999"/>
                  <a:pt x="15481" y="7914"/>
                  <a:pt x="15354" y="7665"/>
                </a:cubicBezTo>
                <a:cubicBezTo>
                  <a:pt x="15405" y="7920"/>
                  <a:pt x="15466" y="8084"/>
                  <a:pt x="15701" y="8210"/>
                </a:cubicBezTo>
              </a:path>
              <a:path w="2952" h="2481">
                <a:moveTo>
                  <a:pt x="15850" y="8186"/>
                </a:moveTo>
                <a:cubicBezTo>
                  <a:pt x="15889" y="8302"/>
                  <a:pt x="15891" y="8322"/>
                  <a:pt x="15925" y="8384"/>
                </a:cubicBezTo>
                <a:cubicBezTo>
                  <a:pt x="15807" y="8149"/>
                  <a:pt x="15651" y="7935"/>
                  <a:pt x="15701" y="7665"/>
                </a:cubicBezTo>
                <a:cubicBezTo>
                  <a:pt x="15709" y="7665"/>
                  <a:pt x="15718" y="7665"/>
                  <a:pt x="15726" y="7665"/>
                </a:cubicBezTo>
                <a:cubicBezTo>
                  <a:pt x="15780" y="7778"/>
                  <a:pt x="15892" y="8035"/>
                  <a:pt x="15701" y="7962"/>
                </a:cubicBezTo>
              </a:path>
              <a:path w="2952" h="2481">
                <a:moveTo>
                  <a:pt x="16272" y="7243"/>
                </a:moveTo>
                <a:cubicBezTo>
                  <a:pt x="16297" y="7279"/>
                  <a:pt x="16511" y="7627"/>
                  <a:pt x="16495" y="7640"/>
                </a:cubicBezTo>
                <a:cubicBezTo>
                  <a:pt x="16428" y="7696"/>
                  <a:pt x="16285" y="7572"/>
                  <a:pt x="16222" y="7541"/>
                </a:cubicBezTo>
                <a:cubicBezTo>
                  <a:pt x="16327" y="7506"/>
                  <a:pt x="16435" y="7487"/>
                  <a:pt x="16545" y="7466"/>
                </a:cubicBezTo>
              </a:path>
              <a:path w="2952" h="2481">
                <a:moveTo>
                  <a:pt x="16793" y="6970"/>
                </a:moveTo>
                <a:cubicBezTo>
                  <a:pt x="16868" y="7077"/>
                  <a:pt x="16946" y="7184"/>
                  <a:pt x="17016" y="7293"/>
                </a:cubicBezTo>
                <a:cubicBezTo>
                  <a:pt x="16968" y="7256"/>
                  <a:pt x="16890" y="7112"/>
                  <a:pt x="16842" y="7094"/>
                </a:cubicBezTo>
                <a:cubicBezTo>
                  <a:pt x="16631" y="7016"/>
                  <a:pt x="16610" y="7384"/>
                  <a:pt x="16669" y="7491"/>
                </a:cubicBezTo>
                <a:cubicBezTo>
                  <a:pt x="16811" y="7750"/>
                  <a:pt x="16987" y="7503"/>
                  <a:pt x="16966" y="7317"/>
                </a:cubicBezTo>
                <a:cubicBezTo>
                  <a:pt x="16944" y="7295"/>
                  <a:pt x="16936" y="7290"/>
                  <a:pt x="16942" y="7268"/>
                </a:cubicBezTo>
              </a:path>
              <a:path w="2952" h="2481">
                <a:moveTo>
                  <a:pt x="17115" y="6970"/>
                </a:moveTo>
                <a:cubicBezTo>
                  <a:pt x="16997" y="7089"/>
                  <a:pt x="17008" y="7100"/>
                  <a:pt x="17016" y="7268"/>
                </a:cubicBezTo>
                <a:cubicBezTo>
                  <a:pt x="17225" y="7312"/>
                  <a:pt x="17271" y="7187"/>
                  <a:pt x="17214" y="6970"/>
                </a:cubicBezTo>
                <a:cubicBezTo>
                  <a:pt x="17206" y="6962"/>
                  <a:pt x="17198" y="6953"/>
                  <a:pt x="17190" y="6945"/>
                </a:cubicBezTo>
                <a:cubicBezTo>
                  <a:pt x="17219" y="6981"/>
                  <a:pt x="17283" y="7123"/>
                  <a:pt x="17314" y="7119"/>
                </a:cubicBezTo>
                <a:cubicBezTo>
                  <a:pt x="17545" y="7089"/>
                  <a:pt x="17274" y="6869"/>
                  <a:pt x="17487" y="6995"/>
                </a:cubicBezTo>
                <a:cubicBezTo>
                  <a:pt x="17512" y="7003"/>
                  <a:pt x="17537" y="7012"/>
                  <a:pt x="17562" y="7020"/>
                </a:cubicBezTo>
                <a:cubicBezTo>
                  <a:pt x="17596" y="6892"/>
                  <a:pt x="17606" y="6780"/>
                  <a:pt x="17611" y="6648"/>
                </a:cubicBezTo>
                <a:cubicBezTo>
                  <a:pt x="17638" y="6691"/>
                  <a:pt x="17722" y="6942"/>
                  <a:pt x="17735" y="6821"/>
                </a:cubicBezTo>
                <a:cubicBezTo>
                  <a:pt x="17748" y="6704"/>
                  <a:pt x="17823" y="6543"/>
                  <a:pt x="17835" y="6524"/>
                </a:cubicBezTo>
                <a:cubicBezTo>
                  <a:pt x="17893" y="6619"/>
                  <a:pt x="18070" y="6874"/>
                  <a:pt x="17959" y="6995"/>
                </a:cubicBezTo>
                <a:cubicBezTo>
                  <a:pt x="17868" y="7069"/>
                  <a:pt x="17777" y="7144"/>
                  <a:pt x="17686" y="7218"/>
                </a:cubicBezTo>
              </a:path>
              <a:path w="2952" h="2481">
                <a:moveTo>
                  <a:pt x="16321" y="8508"/>
                </a:moveTo>
                <a:cubicBezTo>
                  <a:pt x="16355" y="8405"/>
                  <a:pt x="16418" y="8635"/>
                  <a:pt x="16470" y="8731"/>
                </a:cubicBezTo>
                <a:cubicBezTo>
                  <a:pt x="16551" y="8873"/>
                  <a:pt x="16564" y="8900"/>
                  <a:pt x="16619" y="8979"/>
                </a:cubicBezTo>
                <a:cubicBezTo>
                  <a:pt x="16619" y="8820"/>
                  <a:pt x="16603" y="8688"/>
                  <a:pt x="16669" y="8558"/>
                </a:cubicBezTo>
                <a:cubicBezTo>
                  <a:pt x="16766" y="8643"/>
                  <a:pt x="16882" y="8954"/>
                  <a:pt x="16917" y="8830"/>
                </a:cubicBezTo>
                <a:cubicBezTo>
                  <a:pt x="16925" y="8772"/>
                  <a:pt x="16934" y="8715"/>
                  <a:pt x="16942" y="8657"/>
                </a:cubicBezTo>
              </a:path>
              <a:path w="2952" h="2481">
                <a:moveTo>
                  <a:pt x="16966" y="8483"/>
                </a:moveTo>
                <a:cubicBezTo>
                  <a:pt x="17016" y="8558"/>
                  <a:pt x="17032" y="8583"/>
                  <a:pt x="17066" y="8632"/>
                </a:cubicBezTo>
              </a:path>
              <a:path w="2952" h="2481">
                <a:moveTo>
                  <a:pt x="17066" y="8632"/>
                </a:moveTo>
                <a:lnTo>
                  <a:pt x="17066" y="8632"/>
                </a:lnTo>
              </a:path>
              <a:path w="2952" h="2481">
                <a:moveTo>
                  <a:pt x="16842" y="8161"/>
                </a:moveTo>
                <a:cubicBezTo>
                  <a:pt x="16867" y="8161"/>
                  <a:pt x="16892" y="8161"/>
                  <a:pt x="16917" y="8161"/>
                </a:cubicBezTo>
              </a:path>
              <a:path w="2952" h="2481">
                <a:moveTo>
                  <a:pt x="17066" y="7863"/>
                </a:moveTo>
                <a:cubicBezTo>
                  <a:pt x="17150" y="8070"/>
                  <a:pt x="17110" y="8572"/>
                  <a:pt x="17314" y="8483"/>
                </a:cubicBezTo>
                <a:cubicBezTo>
                  <a:pt x="17322" y="8433"/>
                  <a:pt x="17330" y="8384"/>
                  <a:pt x="17338" y="8334"/>
                </a:cubicBezTo>
              </a:path>
              <a:path w="2952" h="2481">
                <a:moveTo>
                  <a:pt x="17264" y="7714"/>
                </a:moveTo>
                <a:cubicBezTo>
                  <a:pt x="17356" y="7944"/>
                  <a:pt x="17409" y="8176"/>
                  <a:pt x="17487" y="8409"/>
                </a:cubicBezTo>
                <a:cubicBezTo>
                  <a:pt x="17487" y="8401"/>
                  <a:pt x="17487" y="8392"/>
                  <a:pt x="17487" y="8384"/>
                </a:cubicBezTo>
              </a:path>
              <a:path w="2952" h="2481">
                <a:moveTo>
                  <a:pt x="16867" y="6945"/>
                </a:moveTo>
                <a:cubicBezTo>
                  <a:pt x="16860" y="6975"/>
                  <a:pt x="16849" y="6990"/>
                  <a:pt x="16842" y="7020"/>
                </a:cubicBezTo>
                <a:cubicBezTo>
                  <a:pt x="16761" y="6992"/>
                  <a:pt x="16671" y="6770"/>
                  <a:pt x="16619" y="6697"/>
                </a:cubicBezTo>
                <a:cubicBezTo>
                  <a:pt x="16581" y="6643"/>
                  <a:pt x="16518" y="6527"/>
                  <a:pt x="16495" y="6573"/>
                </a:cubicBezTo>
                <a:cubicBezTo>
                  <a:pt x="16579" y="6657"/>
                  <a:pt x="16611" y="6693"/>
                  <a:pt x="16644" y="677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18080" y="3786120"/>
            <a:ext cx="2359080" cy="1874880"/>
          </a:xfrm>
          <a:custGeom>
            <a:avLst/>
            <a:gdLst/>
            <a:ahLst/>
            <a:rect l="l" t="t" r="r" b="b"/>
            <a:pathLst>
              <a:path w="6550" h="5210">
                <a:moveTo>
                  <a:pt x="21481" y="10840"/>
                </a:moveTo>
                <a:cubicBezTo>
                  <a:pt x="21461" y="10880"/>
                  <a:pt x="21452" y="10886"/>
                  <a:pt x="21456" y="10914"/>
                </a:cubicBezTo>
              </a:path>
              <a:path w="6550" h="5210">
                <a:moveTo>
                  <a:pt x="21431" y="10939"/>
                </a:moveTo>
                <a:cubicBezTo>
                  <a:pt x="21447" y="11024"/>
                  <a:pt x="21417" y="10999"/>
                  <a:pt x="21481" y="11063"/>
                </a:cubicBezTo>
                <a:cubicBezTo>
                  <a:pt x="21530" y="11112"/>
                  <a:pt x="21575" y="11142"/>
                  <a:pt x="21605" y="11212"/>
                </a:cubicBezTo>
                <a:cubicBezTo>
                  <a:pt x="21630" y="11271"/>
                  <a:pt x="21651" y="11326"/>
                  <a:pt x="21679" y="11385"/>
                </a:cubicBezTo>
                <a:cubicBezTo>
                  <a:pt x="21711" y="11451"/>
                  <a:pt x="21742" y="11520"/>
                  <a:pt x="21779" y="11584"/>
                </a:cubicBezTo>
                <a:cubicBezTo>
                  <a:pt x="21820" y="11654"/>
                  <a:pt x="21827" y="11702"/>
                  <a:pt x="21853" y="11782"/>
                </a:cubicBezTo>
                <a:cubicBezTo>
                  <a:pt x="21876" y="11853"/>
                  <a:pt x="21878" y="11920"/>
                  <a:pt x="21878" y="12005"/>
                </a:cubicBezTo>
                <a:cubicBezTo>
                  <a:pt x="21878" y="12125"/>
                  <a:pt x="21833" y="12193"/>
                  <a:pt x="21803" y="12303"/>
                </a:cubicBezTo>
                <a:cubicBezTo>
                  <a:pt x="21775" y="12403"/>
                  <a:pt x="21736" y="12500"/>
                  <a:pt x="21704" y="12601"/>
                </a:cubicBezTo>
                <a:cubicBezTo>
                  <a:pt x="21666" y="12724"/>
                  <a:pt x="21640" y="12806"/>
                  <a:pt x="21580" y="12898"/>
                </a:cubicBezTo>
                <a:cubicBezTo>
                  <a:pt x="21513" y="13000"/>
                  <a:pt x="21484" y="13055"/>
                  <a:pt x="21382" y="13122"/>
                </a:cubicBezTo>
                <a:cubicBezTo>
                  <a:pt x="21316" y="13166"/>
                  <a:pt x="21249" y="13203"/>
                  <a:pt x="21183" y="13246"/>
                </a:cubicBezTo>
                <a:cubicBezTo>
                  <a:pt x="21118" y="13288"/>
                  <a:pt x="21061" y="13319"/>
                  <a:pt x="20985" y="13345"/>
                </a:cubicBezTo>
                <a:cubicBezTo>
                  <a:pt x="20922" y="13367"/>
                  <a:pt x="20836" y="13387"/>
                  <a:pt x="20762" y="13395"/>
                </a:cubicBezTo>
                <a:cubicBezTo>
                  <a:pt x="20713" y="13400"/>
                  <a:pt x="20698" y="13377"/>
                  <a:pt x="20662" y="13370"/>
                </a:cubicBezTo>
              </a:path>
              <a:path w="6550" h="5210">
                <a:moveTo>
                  <a:pt x="19968" y="12774"/>
                </a:moveTo>
                <a:cubicBezTo>
                  <a:pt x="19876" y="12790"/>
                  <a:pt x="19815" y="12814"/>
                  <a:pt x="19745" y="12874"/>
                </a:cubicBezTo>
                <a:cubicBezTo>
                  <a:pt x="19709" y="12908"/>
                  <a:pt x="19696" y="12930"/>
                  <a:pt x="19695" y="12973"/>
                </a:cubicBezTo>
                <a:cubicBezTo>
                  <a:pt x="19875" y="13063"/>
                  <a:pt x="19947" y="13042"/>
                  <a:pt x="20141" y="12998"/>
                </a:cubicBezTo>
                <a:cubicBezTo>
                  <a:pt x="20183" y="12988"/>
                  <a:pt x="20392" y="12936"/>
                  <a:pt x="20389" y="12874"/>
                </a:cubicBezTo>
                <a:cubicBezTo>
                  <a:pt x="20377" y="12651"/>
                  <a:pt x="20069" y="12715"/>
                  <a:pt x="19943" y="12774"/>
                </a:cubicBezTo>
                <a:cubicBezTo>
                  <a:pt x="19863" y="12811"/>
                  <a:pt x="19691" y="12879"/>
                  <a:pt x="19745" y="12948"/>
                </a:cubicBezTo>
                <a:cubicBezTo>
                  <a:pt x="19835" y="13009"/>
                  <a:pt x="19880" y="13026"/>
                  <a:pt x="19968" y="12998"/>
                </a:cubicBezTo>
                <a:cubicBezTo>
                  <a:pt x="20157" y="12958"/>
                  <a:pt x="20184" y="12975"/>
                  <a:pt x="20017" y="12898"/>
                </a:cubicBezTo>
                <a:cubicBezTo>
                  <a:pt x="19885" y="12878"/>
                  <a:pt x="19777" y="12813"/>
                  <a:pt x="19769" y="12973"/>
                </a:cubicBezTo>
                <a:cubicBezTo>
                  <a:pt x="19762" y="13112"/>
                  <a:pt x="19937" y="13034"/>
                  <a:pt x="20017" y="13022"/>
                </a:cubicBezTo>
                <a:cubicBezTo>
                  <a:pt x="20198" y="12996"/>
                  <a:pt x="20247" y="12944"/>
                  <a:pt x="20389" y="12874"/>
                </a:cubicBezTo>
                <a:cubicBezTo>
                  <a:pt x="20397" y="12874"/>
                  <a:pt x="20406" y="12874"/>
                  <a:pt x="20414" y="12874"/>
                </a:cubicBezTo>
                <a:cubicBezTo>
                  <a:pt x="20237" y="12715"/>
                  <a:pt x="20026" y="12749"/>
                  <a:pt x="19819" y="12874"/>
                </a:cubicBezTo>
                <a:cubicBezTo>
                  <a:pt x="19573" y="13023"/>
                  <a:pt x="19879" y="13225"/>
                  <a:pt x="20042" y="13246"/>
                </a:cubicBezTo>
                <a:cubicBezTo>
                  <a:pt x="20255" y="13274"/>
                  <a:pt x="20399" y="13121"/>
                  <a:pt x="20513" y="12973"/>
                </a:cubicBezTo>
                <a:cubicBezTo>
                  <a:pt x="20397" y="12866"/>
                  <a:pt x="20113" y="12792"/>
                  <a:pt x="19943" y="12948"/>
                </a:cubicBezTo>
                <a:cubicBezTo>
                  <a:pt x="19943" y="12973"/>
                  <a:pt x="19943" y="12997"/>
                  <a:pt x="19943" y="13022"/>
                </a:cubicBezTo>
              </a:path>
              <a:path w="6550" h="5210">
                <a:moveTo>
                  <a:pt x="20117" y="13643"/>
                </a:moveTo>
                <a:cubicBezTo>
                  <a:pt x="19864" y="13736"/>
                  <a:pt x="19735" y="13781"/>
                  <a:pt x="19670" y="14039"/>
                </a:cubicBezTo>
                <a:cubicBezTo>
                  <a:pt x="19891" y="14203"/>
                  <a:pt x="20113" y="14230"/>
                  <a:pt x="20389" y="14114"/>
                </a:cubicBezTo>
                <a:cubicBezTo>
                  <a:pt x="20434" y="14095"/>
                  <a:pt x="20646" y="13966"/>
                  <a:pt x="20687" y="13915"/>
                </a:cubicBezTo>
                <a:cubicBezTo>
                  <a:pt x="20629" y="13661"/>
                  <a:pt x="20447" y="13705"/>
                  <a:pt x="20216" y="13767"/>
                </a:cubicBezTo>
                <a:cubicBezTo>
                  <a:pt x="20034" y="13835"/>
                  <a:pt x="19981" y="13848"/>
                  <a:pt x="19893" y="13940"/>
                </a:cubicBezTo>
                <a:cubicBezTo>
                  <a:pt x="19962" y="14147"/>
                  <a:pt x="20152" y="14197"/>
                  <a:pt x="20389" y="14139"/>
                </a:cubicBezTo>
                <a:cubicBezTo>
                  <a:pt x="20646" y="14077"/>
                  <a:pt x="20694" y="13959"/>
                  <a:pt x="20638" y="13742"/>
                </a:cubicBezTo>
                <a:cubicBezTo>
                  <a:pt x="20389" y="13642"/>
                  <a:pt x="20101" y="13722"/>
                  <a:pt x="19968" y="14015"/>
                </a:cubicBezTo>
                <a:cubicBezTo>
                  <a:pt x="19823" y="14333"/>
                  <a:pt x="20341" y="14170"/>
                  <a:pt x="20439" y="14114"/>
                </a:cubicBezTo>
                <a:cubicBezTo>
                  <a:pt x="20595" y="14025"/>
                  <a:pt x="20510" y="13939"/>
                  <a:pt x="20464" y="13816"/>
                </a:cubicBezTo>
              </a:path>
              <a:path w="6550" h="5210">
                <a:moveTo>
                  <a:pt x="19720" y="13047"/>
                </a:moveTo>
                <a:cubicBezTo>
                  <a:pt x="19750" y="13080"/>
                  <a:pt x="19901" y="13043"/>
                  <a:pt x="19645" y="13072"/>
                </a:cubicBezTo>
                <a:cubicBezTo>
                  <a:pt x="19390" y="13101"/>
                  <a:pt x="19133" y="13145"/>
                  <a:pt x="18876" y="13122"/>
                </a:cubicBezTo>
                <a:cubicBezTo>
                  <a:pt x="18761" y="13103"/>
                  <a:pt x="18745" y="13094"/>
                  <a:pt x="18678" y="13097"/>
                </a:cubicBezTo>
                <a:cubicBezTo>
                  <a:pt x="18689" y="13246"/>
                  <a:pt x="18718" y="13394"/>
                  <a:pt x="18728" y="13543"/>
                </a:cubicBezTo>
                <a:cubicBezTo>
                  <a:pt x="18737" y="13674"/>
                  <a:pt x="18715" y="13819"/>
                  <a:pt x="18678" y="13940"/>
                </a:cubicBezTo>
                <a:cubicBezTo>
                  <a:pt x="18809" y="13931"/>
                  <a:pt x="18945" y="13889"/>
                  <a:pt x="19075" y="13891"/>
                </a:cubicBezTo>
                <a:cubicBezTo>
                  <a:pt x="19288" y="13894"/>
                  <a:pt x="19482" y="13925"/>
                  <a:pt x="19695" y="13891"/>
                </a:cubicBezTo>
              </a:path>
              <a:path w="6550" h="5210">
                <a:moveTo>
                  <a:pt x="20315" y="13047"/>
                </a:moveTo>
                <a:cubicBezTo>
                  <a:pt x="20483" y="13047"/>
                  <a:pt x="20702" y="13004"/>
                  <a:pt x="20861" y="13022"/>
                </a:cubicBezTo>
                <a:cubicBezTo>
                  <a:pt x="20894" y="13026"/>
                  <a:pt x="20939" y="13047"/>
                  <a:pt x="20985" y="13047"/>
                </a:cubicBezTo>
              </a:path>
              <a:path w="6550" h="5210">
                <a:moveTo>
                  <a:pt x="21034" y="13072"/>
                </a:moveTo>
                <a:cubicBezTo>
                  <a:pt x="21095" y="13026"/>
                  <a:pt x="21199" y="12950"/>
                  <a:pt x="21282" y="12898"/>
                </a:cubicBezTo>
                <a:cubicBezTo>
                  <a:pt x="21396" y="12826"/>
                  <a:pt x="21477" y="12760"/>
                  <a:pt x="21555" y="12650"/>
                </a:cubicBezTo>
                <a:cubicBezTo>
                  <a:pt x="21626" y="12549"/>
                  <a:pt x="21650" y="12451"/>
                  <a:pt x="21654" y="12328"/>
                </a:cubicBezTo>
                <a:cubicBezTo>
                  <a:pt x="21657" y="12242"/>
                  <a:pt x="21671" y="12163"/>
                  <a:pt x="21679" y="12080"/>
                </a:cubicBezTo>
                <a:cubicBezTo>
                  <a:pt x="21689" y="11974"/>
                  <a:pt x="21648" y="11854"/>
                  <a:pt x="21605" y="11757"/>
                </a:cubicBezTo>
                <a:cubicBezTo>
                  <a:pt x="21555" y="11644"/>
                  <a:pt x="21496" y="11553"/>
                  <a:pt x="21456" y="11435"/>
                </a:cubicBezTo>
                <a:cubicBezTo>
                  <a:pt x="21413" y="11308"/>
                  <a:pt x="21290" y="11219"/>
                  <a:pt x="21208" y="11112"/>
                </a:cubicBezTo>
                <a:cubicBezTo>
                  <a:pt x="21115" y="10990"/>
                  <a:pt x="21028" y="10826"/>
                  <a:pt x="20935" y="10716"/>
                </a:cubicBezTo>
                <a:cubicBezTo>
                  <a:pt x="20874" y="10644"/>
                  <a:pt x="20758" y="10582"/>
                  <a:pt x="20687" y="10517"/>
                </a:cubicBezTo>
              </a:path>
              <a:path w="6550" h="5210">
                <a:moveTo>
                  <a:pt x="20613" y="13643"/>
                </a:moveTo>
                <a:cubicBezTo>
                  <a:pt x="20713" y="13542"/>
                  <a:pt x="20808" y="13485"/>
                  <a:pt x="20935" y="13419"/>
                </a:cubicBezTo>
                <a:cubicBezTo>
                  <a:pt x="21053" y="13358"/>
                  <a:pt x="21186" y="13265"/>
                  <a:pt x="21307" y="13221"/>
                </a:cubicBezTo>
                <a:cubicBezTo>
                  <a:pt x="21315" y="13221"/>
                  <a:pt x="21324" y="13221"/>
                  <a:pt x="21332" y="13221"/>
                </a:cubicBezTo>
              </a:path>
              <a:path w="6550" h="5210">
                <a:moveTo>
                  <a:pt x="19025" y="14511"/>
                </a:moveTo>
                <a:cubicBezTo>
                  <a:pt x="19025" y="14639"/>
                  <a:pt x="19028" y="14755"/>
                  <a:pt x="19050" y="14883"/>
                </a:cubicBezTo>
                <a:cubicBezTo>
                  <a:pt x="19076" y="15035"/>
                  <a:pt x="19059" y="15017"/>
                  <a:pt x="19124" y="14908"/>
                </a:cubicBezTo>
              </a:path>
              <a:path w="6550" h="5210">
                <a:moveTo>
                  <a:pt x="19224" y="14387"/>
                </a:moveTo>
                <a:cubicBezTo>
                  <a:pt x="19247" y="14568"/>
                  <a:pt x="19259" y="14750"/>
                  <a:pt x="19273" y="14932"/>
                </a:cubicBezTo>
              </a:path>
              <a:path w="6550" h="5210">
                <a:moveTo>
                  <a:pt x="19075" y="14883"/>
                </a:moveTo>
                <a:cubicBezTo>
                  <a:pt x="19178" y="14831"/>
                  <a:pt x="19215" y="14814"/>
                  <a:pt x="19298" y="14833"/>
                </a:cubicBezTo>
              </a:path>
              <a:path w="6550" h="5210">
                <a:moveTo>
                  <a:pt x="19298" y="14833"/>
                </a:moveTo>
                <a:lnTo>
                  <a:pt x="19298" y="14833"/>
                </a:lnTo>
              </a:path>
              <a:path w="6550" h="5210">
                <a:moveTo>
                  <a:pt x="19496" y="14759"/>
                </a:moveTo>
                <a:cubicBezTo>
                  <a:pt x="19449" y="14820"/>
                  <a:pt x="19370" y="15010"/>
                  <a:pt x="19546" y="14982"/>
                </a:cubicBezTo>
                <a:cubicBezTo>
                  <a:pt x="19683" y="14961"/>
                  <a:pt x="19622" y="14822"/>
                  <a:pt x="19571" y="14759"/>
                </a:cubicBezTo>
              </a:path>
              <a:path w="6550" h="5210">
                <a:moveTo>
                  <a:pt x="19794" y="14337"/>
                </a:moveTo>
                <a:cubicBezTo>
                  <a:pt x="19772" y="14542"/>
                  <a:pt x="19806" y="14711"/>
                  <a:pt x="19869" y="14908"/>
                </a:cubicBezTo>
              </a:path>
              <a:path w="6550" h="5210">
                <a:moveTo>
                  <a:pt x="19695" y="14684"/>
                </a:moveTo>
                <a:cubicBezTo>
                  <a:pt x="19781" y="14711"/>
                  <a:pt x="19854" y="14727"/>
                  <a:pt x="19943" y="14734"/>
                </a:cubicBezTo>
              </a:path>
              <a:path w="6550" h="5210">
                <a:moveTo>
                  <a:pt x="20166" y="14610"/>
                </a:moveTo>
                <a:cubicBezTo>
                  <a:pt x="20166" y="14707"/>
                  <a:pt x="20174" y="14788"/>
                  <a:pt x="20191" y="14883"/>
                </a:cubicBezTo>
                <a:cubicBezTo>
                  <a:pt x="20242" y="14836"/>
                  <a:pt x="20300" y="14722"/>
                  <a:pt x="20340" y="14709"/>
                </a:cubicBezTo>
                <a:cubicBezTo>
                  <a:pt x="20473" y="14882"/>
                  <a:pt x="20452" y="14651"/>
                  <a:pt x="20464" y="14536"/>
                </a:cubicBezTo>
              </a:path>
              <a:path w="6550" h="5210">
                <a:moveTo>
                  <a:pt x="20513" y="14362"/>
                </a:moveTo>
                <a:cubicBezTo>
                  <a:pt x="20559" y="14568"/>
                  <a:pt x="20573" y="14625"/>
                  <a:pt x="20588" y="14759"/>
                </a:cubicBezTo>
                <a:cubicBezTo>
                  <a:pt x="20588" y="14910"/>
                  <a:pt x="20579" y="14600"/>
                  <a:pt x="20613" y="14610"/>
                </a:cubicBezTo>
                <a:cubicBezTo>
                  <a:pt x="20714" y="14638"/>
                  <a:pt x="20707" y="14902"/>
                  <a:pt x="20836" y="14759"/>
                </a:cubicBezTo>
                <a:cubicBezTo>
                  <a:pt x="20900" y="14688"/>
                  <a:pt x="20897" y="14656"/>
                  <a:pt x="20861" y="14585"/>
                </a:cubicBezTo>
                <a:cubicBezTo>
                  <a:pt x="20838" y="14724"/>
                  <a:pt x="20818" y="14731"/>
                  <a:pt x="20910" y="14833"/>
                </a:cubicBezTo>
                <a:cubicBezTo>
                  <a:pt x="21043" y="14759"/>
                  <a:pt x="21049" y="14735"/>
                  <a:pt x="21059" y="14585"/>
                </a:cubicBezTo>
                <a:cubicBezTo>
                  <a:pt x="20999" y="14631"/>
                  <a:pt x="20984" y="14752"/>
                  <a:pt x="21034" y="14833"/>
                </a:cubicBezTo>
                <a:cubicBezTo>
                  <a:pt x="21080" y="14833"/>
                  <a:pt x="21101" y="14815"/>
                  <a:pt x="21109" y="14759"/>
                </a:cubicBezTo>
              </a:path>
              <a:path w="6550" h="5210">
                <a:moveTo>
                  <a:pt x="21109" y="14089"/>
                </a:moveTo>
                <a:cubicBezTo>
                  <a:pt x="21112" y="14178"/>
                  <a:pt x="21074" y="14663"/>
                  <a:pt x="21158" y="14709"/>
                </a:cubicBezTo>
                <a:cubicBezTo>
                  <a:pt x="21183" y="14701"/>
                  <a:pt x="21208" y="14692"/>
                  <a:pt x="21233" y="14684"/>
                </a:cubicBezTo>
              </a:path>
              <a:path w="6550" h="5210">
                <a:moveTo>
                  <a:pt x="21307" y="14312"/>
                </a:moveTo>
                <a:cubicBezTo>
                  <a:pt x="21259" y="14472"/>
                  <a:pt x="21341" y="14494"/>
                  <a:pt x="21382" y="14635"/>
                </a:cubicBezTo>
                <a:cubicBezTo>
                  <a:pt x="21424" y="14781"/>
                  <a:pt x="21345" y="14802"/>
                  <a:pt x="21233" y="14858"/>
                </a:cubicBezTo>
              </a:path>
              <a:path w="6550" h="5210">
                <a:moveTo>
                  <a:pt x="19745" y="15205"/>
                </a:moveTo>
                <a:cubicBezTo>
                  <a:pt x="19675" y="15216"/>
                  <a:pt x="19436" y="15249"/>
                  <a:pt x="19496" y="15379"/>
                </a:cubicBezTo>
                <a:cubicBezTo>
                  <a:pt x="19527" y="15445"/>
                  <a:pt x="19749" y="15552"/>
                  <a:pt x="19695" y="15652"/>
                </a:cubicBezTo>
                <a:cubicBezTo>
                  <a:pt x="19635" y="15764"/>
                  <a:pt x="19608" y="15715"/>
                  <a:pt x="19521" y="15701"/>
                </a:cubicBezTo>
              </a:path>
              <a:path w="6550" h="5210">
                <a:moveTo>
                  <a:pt x="19893" y="15056"/>
                </a:moveTo>
                <a:cubicBezTo>
                  <a:pt x="19911" y="15239"/>
                  <a:pt x="19939" y="15404"/>
                  <a:pt x="19993" y="15577"/>
                </a:cubicBezTo>
                <a:cubicBezTo>
                  <a:pt x="20001" y="15602"/>
                  <a:pt x="20009" y="15627"/>
                  <a:pt x="20017" y="15652"/>
                </a:cubicBezTo>
              </a:path>
              <a:path w="6550" h="5210">
                <a:moveTo>
                  <a:pt x="19943" y="15379"/>
                </a:moveTo>
                <a:cubicBezTo>
                  <a:pt x="19968" y="15379"/>
                  <a:pt x="19992" y="15379"/>
                  <a:pt x="20017" y="15379"/>
                </a:cubicBezTo>
              </a:path>
              <a:path w="6550" h="5210">
                <a:moveTo>
                  <a:pt x="20315" y="15453"/>
                </a:moveTo>
                <a:cubicBezTo>
                  <a:pt x="20232" y="15464"/>
                  <a:pt x="20010" y="15505"/>
                  <a:pt x="20117" y="15652"/>
                </a:cubicBezTo>
                <a:cubicBezTo>
                  <a:pt x="20236" y="15816"/>
                  <a:pt x="20265" y="15606"/>
                  <a:pt x="20340" y="15602"/>
                </a:cubicBezTo>
                <a:cubicBezTo>
                  <a:pt x="20411" y="15599"/>
                  <a:pt x="20511" y="15646"/>
                  <a:pt x="20588" y="15652"/>
                </a:cubicBezTo>
              </a:path>
              <a:path w="6550" h="5210">
                <a:moveTo>
                  <a:pt x="20613" y="15652"/>
                </a:moveTo>
                <a:cubicBezTo>
                  <a:pt x="20613" y="15589"/>
                  <a:pt x="20599" y="15451"/>
                  <a:pt x="20662" y="15404"/>
                </a:cubicBezTo>
                <a:cubicBezTo>
                  <a:pt x="20687" y="15396"/>
                  <a:pt x="20712" y="15387"/>
                  <a:pt x="20737" y="15379"/>
                </a:cubicBezTo>
              </a:path>
              <a:path w="6550" h="5210">
                <a:moveTo>
                  <a:pt x="20861" y="14957"/>
                </a:moveTo>
                <a:cubicBezTo>
                  <a:pt x="20861" y="15219"/>
                  <a:pt x="20874" y="15446"/>
                  <a:pt x="20935" y="15701"/>
                </a:cubicBezTo>
                <a:cubicBezTo>
                  <a:pt x="20899" y="15680"/>
                  <a:pt x="20701" y="15562"/>
                  <a:pt x="20737" y="15503"/>
                </a:cubicBezTo>
                <a:cubicBezTo>
                  <a:pt x="20749" y="15484"/>
                  <a:pt x="21049" y="15491"/>
                  <a:pt x="21109" y="15453"/>
                </a:cubicBezTo>
                <a:cubicBezTo>
                  <a:pt x="21129" y="15440"/>
                  <a:pt x="20954" y="15404"/>
                  <a:pt x="21109" y="15528"/>
                </a:cubicBezTo>
                <a:cubicBezTo>
                  <a:pt x="21202" y="15574"/>
                  <a:pt x="21229" y="15586"/>
                  <a:pt x="21282" y="15627"/>
                </a:cubicBezTo>
                <a:cubicBezTo>
                  <a:pt x="21274" y="15516"/>
                  <a:pt x="21205" y="15364"/>
                  <a:pt x="21233" y="15255"/>
                </a:cubicBezTo>
                <a:cubicBezTo>
                  <a:pt x="21281" y="15157"/>
                  <a:pt x="21297" y="15125"/>
                  <a:pt x="21357" y="15081"/>
                </a:cubicBezTo>
              </a:path>
              <a:path w="6550" h="5210">
                <a:moveTo>
                  <a:pt x="18852" y="13271"/>
                </a:moveTo>
                <a:cubicBezTo>
                  <a:pt x="18844" y="13271"/>
                  <a:pt x="18835" y="13271"/>
                  <a:pt x="18827" y="13271"/>
                </a:cubicBezTo>
              </a:path>
              <a:path w="6550" h="5210">
                <a:moveTo>
                  <a:pt x="18827" y="13271"/>
                </a:moveTo>
                <a:lnTo>
                  <a:pt x="18827" y="13271"/>
                </a:lnTo>
              </a:path>
              <a:path w="6550" h="5210">
                <a:moveTo>
                  <a:pt x="18876" y="13568"/>
                </a:moveTo>
                <a:cubicBezTo>
                  <a:pt x="18748" y="13568"/>
                  <a:pt x="18667" y="13612"/>
                  <a:pt x="18752" y="13767"/>
                </a:cubicBezTo>
                <a:cubicBezTo>
                  <a:pt x="18777" y="13792"/>
                  <a:pt x="18802" y="13816"/>
                  <a:pt x="18827" y="13841"/>
                </a:cubicBezTo>
                <a:cubicBezTo>
                  <a:pt x="18899" y="13801"/>
                  <a:pt x="19035" y="13719"/>
                  <a:pt x="18926" y="13618"/>
                </a:cubicBezTo>
                <a:cubicBezTo>
                  <a:pt x="18909" y="13610"/>
                  <a:pt x="18893" y="13601"/>
                  <a:pt x="18876" y="13593"/>
                </a:cubicBezTo>
              </a:path>
              <a:path w="6550" h="5210">
                <a:moveTo>
                  <a:pt x="19149" y="13568"/>
                </a:moveTo>
                <a:cubicBezTo>
                  <a:pt x="19080" y="13644"/>
                  <a:pt x="18926" y="13863"/>
                  <a:pt x="19174" y="13841"/>
                </a:cubicBezTo>
                <a:cubicBezTo>
                  <a:pt x="19356" y="13825"/>
                  <a:pt x="19267" y="13686"/>
                  <a:pt x="19199" y="13618"/>
                </a:cubicBezTo>
              </a:path>
              <a:path w="6550" h="5210">
                <a:moveTo>
                  <a:pt x="18728" y="13543"/>
                </a:moveTo>
                <a:cubicBezTo>
                  <a:pt x="18954" y="13543"/>
                  <a:pt x="19173" y="13556"/>
                  <a:pt x="19397" y="13568"/>
                </a:cubicBezTo>
                <a:cubicBezTo>
                  <a:pt x="19679" y="13583"/>
                  <a:pt x="19377" y="13560"/>
                  <a:pt x="19496" y="13593"/>
                </a:cubicBezTo>
                <a:cubicBezTo>
                  <a:pt x="19504" y="13593"/>
                  <a:pt x="19513" y="13593"/>
                  <a:pt x="19521" y="13593"/>
                </a:cubicBezTo>
                <a:cubicBezTo>
                  <a:pt x="19521" y="13449"/>
                  <a:pt x="19463" y="13477"/>
                  <a:pt x="19323" y="13444"/>
                </a:cubicBezTo>
                <a:cubicBezTo>
                  <a:pt x="19257" y="13428"/>
                  <a:pt x="19177" y="13429"/>
                  <a:pt x="19149" y="13395"/>
                </a:cubicBezTo>
                <a:cubicBezTo>
                  <a:pt x="19066" y="13294"/>
                  <a:pt x="19127" y="13125"/>
                  <a:pt x="19050" y="13047"/>
                </a:cubicBezTo>
                <a:cubicBezTo>
                  <a:pt x="19001" y="12998"/>
                  <a:pt x="18873" y="12986"/>
                  <a:pt x="18827" y="13047"/>
                </a:cubicBezTo>
                <a:cubicBezTo>
                  <a:pt x="18740" y="13163"/>
                  <a:pt x="18770" y="13246"/>
                  <a:pt x="18777" y="13370"/>
                </a:cubicBezTo>
                <a:cubicBezTo>
                  <a:pt x="18783" y="13481"/>
                  <a:pt x="18623" y="13405"/>
                  <a:pt x="18554" y="13395"/>
                </a:cubicBezTo>
                <a:cubicBezTo>
                  <a:pt x="18546" y="13395"/>
                  <a:pt x="18537" y="13395"/>
                  <a:pt x="18529" y="13395"/>
                </a:cubicBezTo>
                <a:cubicBezTo>
                  <a:pt x="18529" y="13447"/>
                  <a:pt x="18499" y="13615"/>
                  <a:pt x="18554" y="13618"/>
                </a:cubicBezTo>
                <a:cubicBezTo>
                  <a:pt x="18648" y="13623"/>
                  <a:pt x="18641" y="13639"/>
                  <a:pt x="18653" y="13568"/>
                </a:cubicBezTo>
              </a:path>
              <a:path w="6550" h="5210">
                <a:moveTo>
                  <a:pt x="15900" y="13221"/>
                </a:moveTo>
                <a:cubicBezTo>
                  <a:pt x="15818" y="13315"/>
                  <a:pt x="15686" y="13370"/>
                  <a:pt x="15577" y="13444"/>
                </a:cubicBezTo>
                <a:cubicBezTo>
                  <a:pt x="15534" y="13473"/>
                  <a:pt x="15472" y="13551"/>
                  <a:pt x="15453" y="13494"/>
                </a:cubicBezTo>
              </a:path>
              <a:path w="6550" h="5210">
                <a:moveTo>
                  <a:pt x="15429" y="13271"/>
                </a:moveTo>
                <a:cubicBezTo>
                  <a:pt x="15429" y="13363"/>
                  <a:pt x="15364" y="13415"/>
                  <a:pt x="15329" y="13494"/>
                </a:cubicBezTo>
                <a:cubicBezTo>
                  <a:pt x="15299" y="13561"/>
                  <a:pt x="15413" y="13613"/>
                  <a:pt x="15453" y="13618"/>
                </a:cubicBezTo>
                <a:cubicBezTo>
                  <a:pt x="15496" y="13624"/>
                  <a:pt x="15555" y="13618"/>
                  <a:pt x="15602" y="13618"/>
                </a:cubicBezTo>
              </a:path>
              <a:path w="6550" h="5210">
                <a:moveTo>
                  <a:pt x="16694" y="13940"/>
                </a:moveTo>
                <a:cubicBezTo>
                  <a:pt x="16754" y="13940"/>
                  <a:pt x="17032" y="13970"/>
                  <a:pt x="17041" y="13915"/>
                </a:cubicBezTo>
                <a:cubicBezTo>
                  <a:pt x="17041" y="13899"/>
                  <a:pt x="17041" y="13882"/>
                  <a:pt x="17041" y="13866"/>
                </a:cubicBezTo>
              </a:path>
              <a:path w="6550" h="5210">
                <a:moveTo>
                  <a:pt x="16917" y="13791"/>
                </a:moveTo>
                <a:cubicBezTo>
                  <a:pt x="16952" y="13798"/>
                  <a:pt x="17071" y="13822"/>
                  <a:pt x="17090" y="13841"/>
                </a:cubicBezTo>
                <a:cubicBezTo>
                  <a:pt x="17152" y="13904"/>
                  <a:pt x="17064" y="13972"/>
                  <a:pt x="17016" y="14039"/>
                </a:cubicBezTo>
                <a:cubicBezTo>
                  <a:pt x="16978" y="14096"/>
                  <a:pt x="16984" y="14121"/>
                  <a:pt x="16942" y="14114"/>
                </a:cubicBezTo>
              </a:path>
              <a:path w="6550" h="5210">
                <a:moveTo>
                  <a:pt x="16991" y="11782"/>
                </a:moveTo>
                <a:cubicBezTo>
                  <a:pt x="16991" y="11815"/>
                  <a:pt x="16991" y="11848"/>
                  <a:pt x="16991" y="11881"/>
                </a:cubicBezTo>
                <a:cubicBezTo>
                  <a:pt x="17040" y="11895"/>
                  <a:pt x="17210" y="11831"/>
                  <a:pt x="17239" y="11881"/>
                </a:cubicBezTo>
                <a:cubicBezTo>
                  <a:pt x="17239" y="11898"/>
                  <a:pt x="17239" y="11914"/>
                  <a:pt x="17239" y="11931"/>
                </a:cubicBezTo>
              </a:path>
              <a:path w="6550" h="5210">
                <a:moveTo>
                  <a:pt x="17165" y="11633"/>
                </a:moveTo>
                <a:cubicBezTo>
                  <a:pt x="17113" y="11802"/>
                  <a:pt x="17104" y="12002"/>
                  <a:pt x="17140" y="12179"/>
                </a:cubicBezTo>
                <a:cubicBezTo>
                  <a:pt x="17180" y="12219"/>
                  <a:pt x="17188" y="12206"/>
                  <a:pt x="17165" y="12105"/>
                </a:cubicBezTo>
              </a:path>
              <a:path w="6550" h="5210">
                <a:moveTo>
                  <a:pt x="17165" y="11485"/>
                </a:moveTo>
                <a:cubicBezTo>
                  <a:pt x="16949" y="11501"/>
                  <a:pt x="16574" y="11532"/>
                  <a:pt x="16594" y="11857"/>
                </a:cubicBezTo>
                <a:cubicBezTo>
                  <a:pt x="16619" y="12276"/>
                  <a:pt x="17013" y="12530"/>
                  <a:pt x="17388" y="12328"/>
                </a:cubicBezTo>
                <a:cubicBezTo>
                  <a:pt x="17793" y="12110"/>
                  <a:pt x="17532" y="11729"/>
                  <a:pt x="17289" y="11534"/>
                </a:cubicBezTo>
                <a:cubicBezTo>
                  <a:pt x="17248" y="11509"/>
                  <a:pt x="17206" y="11485"/>
                  <a:pt x="17165" y="1146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77960" y="1312920"/>
            <a:ext cx="6064200" cy="2652480"/>
          </a:xfrm>
          <a:custGeom>
            <a:avLst/>
            <a:gdLst/>
            <a:ahLst/>
            <a:rect l="l" t="t" r="r" b="b"/>
            <a:pathLst>
              <a:path w="16844" h="7368">
                <a:moveTo>
                  <a:pt x="5457" y="3696"/>
                </a:moveTo>
                <a:cubicBezTo>
                  <a:pt x="5439" y="3678"/>
                  <a:pt x="5442" y="3669"/>
                  <a:pt x="5407" y="3646"/>
                </a:cubicBezTo>
                <a:cubicBezTo>
                  <a:pt x="5401" y="3699"/>
                  <a:pt x="5391" y="3617"/>
                  <a:pt x="5432" y="3795"/>
                </a:cubicBezTo>
                <a:cubicBezTo>
                  <a:pt x="5533" y="4233"/>
                  <a:pt x="5636" y="4676"/>
                  <a:pt x="5755" y="5110"/>
                </a:cubicBezTo>
                <a:cubicBezTo>
                  <a:pt x="5831" y="5389"/>
                  <a:pt x="5920" y="5670"/>
                  <a:pt x="5953" y="5953"/>
                </a:cubicBezTo>
                <a:cubicBezTo>
                  <a:pt x="5912" y="5995"/>
                  <a:pt x="5910" y="5795"/>
                  <a:pt x="5879" y="5655"/>
                </a:cubicBezTo>
              </a:path>
              <a:path w="16844" h="7368">
                <a:moveTo>
                  <a:pt x="5234" y="3894"/>
                </a:moveTo>
                <a:cubicBezTo>
                  <a:pt x="5227" y="3780"/>
                  <a:pt x="5225" y="3736"/>
                  <a:pt x="5159" y="3671"/>
                </a:cubicBezTo>
                <a:cubicBezTo>
                  <a:pt x="5241" y="4013"/>
                  <a:pt x="5299" y="4351"/>
                  <a:pt x="5407" y="4688"/>
                </a:cubicBezTo>
                <a:cubicBezTo>
                  <a:pt x="5553" y="5142"/>
                  <a:pt x="5701" y="5592"/>
                  <a:pt x="5829" y="6052"/>
                </a:cubicBezTo>
                <a:cubicBezTo>
                  <a:pt x="5862" y="6169"/>
                  <a:pt x="5926" y="6313"/>
                  <a:pt x="5953" y="6424"/>
                </a:cubicBezTo>
                <a:cubicBezTo>
                  <a:pt x="5953" y="6441"/>
                  <a:pt x="5953" y="6457"/>
                  <a:pt x="5953" y="6474"/>
                </a:cubicBezTo>
                <a:cubicBezTo>
                  <a:pt x="6017" y="6437"/>
                  <a:pt x="6089" y="6415"/>
                  <a:pt x="6077" y="6375"/>
                </a:cubicBezTo>
                <a:cubicBezTo>
                  <a:pt x="6057" y="6309"/>
                  <a:pt x="6036" y="6374"/>
                  <a:pt x="6028" y="6276"/>
                </a:cubicBezTo>
                <a:cubicBezTo>
                  <a:pt x="6016" y="6121"/>
                  <a:pt x="6028" y="6014"/>
                  <a:pt x="5978" y="5854"/>
                </a:cubicBezTo>
                <a:cubicBezTo>
                  <a:pt x="5966" y="5815"/>
                  <a:pt x="5799" y="5374"/>
                  <a:pt x="5804" y="5383"/>
                </a:cubicBezTo>
                <a:cubicBezTo>
                  <a:pt x="5853" y="5430"/>
                  <a:pt x="5873" y="5468"/>
                  <a:pt x="5879" y="5531"/>
                </a:cubicBezTo>
              </a:path>
              <a:path w="16844" h="7368">
                <a:moveTo>
                  <a:pt x="4936" y="6052"/>
                </a:moveTo>
                <a:cubicBezTo>
                  <a:pt x="4926" y="6013"/>
                  <a:pt x="4911" y="5986"/>
                  <a:pt x="4887" y="5953"/>
                </a:cubicBezTo>
                <a:cubicBezTo>
                  <a:pt x="4737" y="5978"/>
                  <a:pt x="4646" y="6072"/>
                  <a:pt x="4663" y="6251"/>
                </a:cubicBezTo>
                <a:cubicBezTo>
                  <a:pt x="4691" y="6541"/>
                  <a:pt x="4926" y="6412"/>
                  <a:pt x="4936" y="6201"/>
                </a:cubicBezTo>
                <a:cubicBezTo>
                  <a:pt x="4917" y="6124"/>
                  <a:pt x="4924" y="6107"/>
                  <a:pt x="4887" y="6077"/>
                </a:cubicBezTo>
              </a:path>
              <a:path w="16844" h="7368">
                <a:moveTo>
                  <a:pt x="5035" y="6028"/>
                </a:moveTo>
                <a:cubicBezTo>
                  <a:pt x="5054" y="6085"/>
                  <a:pt x="5063" y="6092"/>
                  <a:pt x="5060" y="6127"/>
                </a:cubicBezTo>
                <a:cubicBezTo>
                  <a:pt x="5060" y="6015"/>
                  <a:pt x="5063" y="5913"/>
                  <a:pt x="5085" y="5804"/>
                </a:cubicBezTo>
                <a:cubicBezTo>
                  <a:pt x="5151" y="5907"/>
                  <a:pt x="5214" y="6160"/>
                  <a:pt x="5259" y="6028"/>
                </a:cubicBezTo>
              </a:path>
              <a:path w="16844" h="7368">
                <a:moveTo>
                  <a:pt x="5283" y="5904"/>
                </a:moveTo>
                <a:cubicBezTo>
                  <a:pt x="5328" y="5850"/>
                  <a:pt x="5452" y="5735"/>
                  <a:pt x="5383" y="5655"/>
                </a:cubicBezTo>
                <a:cubicBezTo>
                  <a:pt x="5375" y="5655"/>
                  <a:pt x="5366" y="5655"/>
                  <a:pt x="5358" y="5655"/>
                </a:cubicBezTo>
                <a:cubicBezTo>
                  <a:pt x="5242" y="5760"/>
                  <a:pt x="5192" y="5888"/>
                  <a:pt x="5358" y="6003"/>
                </a:cubicBezTo>
                <a:cubicBezTo>
                  <a:pt x="5492" y="6037"/>
                  <a:pt x="5551" y="6020"/>
                  <a:pt x="5606" y="5879"/>
                </a:cubicBezTo>
              </a:path>
              <a:path w="16844" h="7368">
                <a:moveTo>
                  <a:pt x="5854" y="5035"/>
                </a:moveTo>
                <a:cubicBezTo>
                  <a:pt x="5878" y="5204"/>
                  <a:pt x="5953" y="5351"/>
                  <a:pt x="6028" y="5507"/>
                </a:cubicBezTo>
                <a:cubicBezTo>
                  <a:pt x="6036" y="5523"/>
                  <a:pt x="6044" y="5540"/>
                  <a:pt x="6052" y="5556"/>
                </a:cubicBezTo>
              </a:path>
              <a:path w="16844" h="7368">
                <a:moveTo>
                  <a:pt x="6102" y="5358"/>
                </a:moveTo>
                <a:cubicBezTo>
                  <a:pt x="6187" y="5311"/>
                  <a:pt x="6226" y="5307"/>
                  <a:pt x="6226" y="5209"/>
                </a:cubicBezTo>
                <a:cubicBezTo>
                  <a:pt x="6120" y="5217"/>
                  <a:pt x="5955" y="5260"/>
                  <a:pt x="6102" y="5407"/>
                </a:cubicBezTo>
                <a:cubicBezTo>
                  <a:pt x="6211" y="5462"/>
                  <a:pt x="6254" y="5473"/>
                  <a:pt x="6325" y="5383"/>
                </a:cubicBezTo>
              </a:path>
              <a:path w="16844" h="7368">
                <a:moveTo>
                  <a:pt x="6350" y="5159"/>
                </a:moveTo>
                <a:cubicBezTo>
                  <a:pt x="6328" y="5224"/>
                  <a:pt x="6320" y="5239"/>
                  <a:pt x="6325" y="5283"/>
                </a:cubicBezTo>
                <a:cubicBezTo>
                  <a:pt x="6401" y="5238"/>
                  <a:pt x="6409" y="5143"/>
                  <a:pt x="6449" y="5283"/>
                </a:cubicBezTo>
                <a:cubicBezTo>
                  <a:pt x="6498" y="5453"/>
                  <a:pt x="6510" y="5562"/>
                  <a:pt x="6474" y="5730"/>
                </a:cubicBezTo>
              </a:path>
              <a:path w="16844" h="7368">
                <a:moveTo>
                  <a:pt x="6573" y="5085"/>
                </a:moveTo>
                <a:cubicBezTo>
                  <a:pt x="6499" y="5096"/>
                  <a:pt x="6513" y="5091"/>
                  <a:pt x="6474" y="5159"/>
                </a:cubicBezTo>
                <a:cubicBezTo>
                  <a:pt x="6518" y="5168"/>
                  <a:pt x="6615" y="5176"/>
                  <a:pt x="6648" y="5209"/>
                </a:cubicBezTo>
                <a:cubicBezTo>
                  <a:pt x="6755" y="5316"/>
                  <a:pt x="6691" y="5486"/>
                  <a:pt x="6648" y="5606"/>
                </a:cubicBezTo>
                <a:cubicBezTo>
                  <a:pt x="6629" y="5406"/>
                  <a:pt x="6665" y="5274"/>
                  <a:pt x="6722" y="5085"/>
                </a:cubicBezTo>
                <a:cubicBezTo>
                  <a:pt x="6722" y="5060"/>
                  <a:pt x="6722" y="5052"/>
                  <a:pt x="6722" y="5035"/>
                </a:cubicBezTo>
                <a:cubicBezTo>
                  <a:pt x="6676" y="5095"/>
                  <a:pt x="6640" y="5285"/>
                  <a:pt x="6796" y="5184"/>
                </a:cubicBezTo>
                <a:cubicBezTo>
                  <a:pt x="6829" y="5143"/>
                  <a:pt x="6863" y="5101"/>
                  <a:pt x="6896" y="5060"/>
                </a:cubicBezTo>
              </a:path>
              <a:path w="16844" h="7368">
                <a:moveTo>
                  <a:pt x="6871" y="4812"/>
                </a:moveTo>
                <a:cubicBezTo>
                  <a:pt x="6871" y="4829"/>
                  <a:pt x="6871" y="4845"/>
                  <a:pt x="6871" y="4862"/>
                </a:cubicBezTo>
                <a:cubicBezTo>
                  <a:pt x="6871" y="5175"/>
                  <a:pt x="6885" y="4856"/>
                  <a:pt x="6871" y="4738"/>
                </a:cubicBezTo>
                <a:cubicBezTo>
                  <a:pt x="6836" y="4433"/>
                  <a:pt x="6811" y="4283"/>
                  <a:pt x="6648" y="4043"/>
                </a:cubicBezTo>
                <a:cubicBezTo>
                  <a:pt x="6599" y="4352"/>
                  <a:pt x="6640" y="4542"/>
                  <a:pt x="6697" y="4862"/>
                </a:cubicBezTo>
              </a:path>
              <a:path w="16844" h="7368">
                <a:moveTo>
                  <a:pt x="5655" y="6276"/>
                </a:moveTo>
                <a:cubicBezTo>
                  <a:pt x="5679" y="6438"/>
                  <a:pt x="5743" y="6606"/>
                  <a:pt x="5829" y="6747"/>
                </a:cubicBezTo>
                <a:cubicBezTo>
                  <a:pt x="5880" y="6797"/>
                  <a:pt x="5895" y="6813"/>
                  <a:pt x="5804" y="6796"/>
                </a:cubicBezTo>
              </a:path>
              <a:path w="16844" h="7368">
                <a:moveTo>
                  <a:pt x="5457" y="6747"/>
                </a:moveTo>
                <a:cubicBezTo>
                  <a:pt x="5621" y="6637"/>
                  <a:pt x="5785" y="6528"/>
                  <a:pt x="5978" y="6474"/>
                </a:cubicBezTo>
                <a:cubicBezTo>
                  <a:pt x="6057" y="6452"/>
                  <a:pt x="6043" y="6434"/>
                  <a:pt x="6052" y="6350"/>
                </a:cubicBezTo>
                <a:cubicBezTo>
                  <a:pt x="5956" y="6359"/>
                  <a:pt x="5793" y="6470"/>
                  <a:pt x="5953" y="6573"/>
                </a:cubicBezTo>
                <a:cubicBezTo>
                  <a:pt x="6135" y="6689"/>
                  <a:pt x="6127" y="6370"/>
                  <a:pt x="6127" y="6300"/>
                </a:cubicBezTo>
                <a:cubicBezTo>
                  <a:pt x="6164" y="6349"/>
                  <a:pt x="6244" y="6475"/>
                  <a:pt x="6325" y="6449"/>
                </a:cubicBezTo>
                <a:cubicBezTo>
                  <a:pt x="6350" y="6424"/>
                  <a:pt x="6375" y="6400"/>
                  <a:pt x="6400" y="6375"/>
                </a:cubicBezTo>
              </a:path>
              <a:path w="16844" h="7368">
                <a:moveTo>
                  <a:pt x="6226" y="5755"/>
                </a:moveTo>
                <a:cubicBezTo>
                  <a:pt x="6290" y="5864"/>
                  <a:pt x="6417" y="6229"/>
                  <a:pt x="6524" y="6276"/>
                </a:cubicBezTo>
                <a:cubicBezTo>
                  <a:pt x="6623" y="6320"/>
                  <a:pt x="6572" y="6073"/>
                  <a:pt x="6623" y="5978"/>
                </a:cubicBezTo>
                <a:cubicBezTo>
                  <a:pt x="6653" y="6038"/>
                  <a:pt x="6632" y="6414"/>
                  <a:pt x="6524" y="6350"/>
                </a:cubicBezTo>
                <a:cubicBezTo>
                  <a:pt x="6516" y="6309"/>
                  <a:pt x="6507" y="6267"/>
                  <a:pt x="6499" y="6226"/>
                </a:cubicBezTo>
              </a:path>
              <a:path w="16844" h="7368">
                <a:moveTo>
                  <a:pt x="6623" y="5556"/>
                </a:moveTo>
                <a:cubicBezTo>
                  <a:pt x="6685" y="5741"/>
                  <a:pt x="6747" y="5942"/>
                  <a:pt x="6846" y="6102"/>
                </a:cubicBezTo>
                <a:cubicBezTo>
                  <a:pt x="6950" y="6045"/>
                  <a:pt x="6981" y="6002"/>
                  <a:pt x="7045" y="5904"/>
                </a:cubicBezTo>
                <a:cubicBezTo>
                  <a:pt x="7162" y="5724"/>
                  <a:pt x="7146" y="5665"/>
                  <a:pt x="7045" y="5482"/>
                </a:cubicBezTo>
                <a:cubicBezTo>
                  <a:pt x="6886" y="5568"/>
                  <a:pt x="6863" y="5799"/>
                  <a:pt x="6995" y="5978"/>
                </a:cubicBezTo>
                <a:cubicBezTo>
                  <a:pt x="7120" y="6148"/>
                  <a:pt x="7242" y="6092"/>
                  <a:pt x="7317" y="5953"/>
                </a:cubicBezTo>
              </a:path>
              <a:path w="16844" h="7368">
                <a:moveTo>
                  <a:pt x="7094" y="6970"/>
                </a:moveTo>
                <a:cubicBezTo>
                  <a:pt x="7094" y="7029"/>
                  <a:pt x="7115" y="6905"/>
                  <a:pt x="7119" y="6846"/>
                </a:cubicBezTo>
                <a:cubicBezTo>
                  <a:pt x="7135" y="6621"/>
                  <a:pt x="7118" y="6400"/>
                  <a:pt x="7144" y="6176"/>
                </a:cubicBezTo>
                <a:cubicBezTo>
                  <a:pt x="7149" y="6129"/>
                  <a:pt x="7118" y="6093"/>
                  <a:pt x="7169" y="6127"/>
                </a:cubicBezTo>
              </a:path>
              <a:path w="16844" h="7368">
                <a:moveTo>
                  <a:pt x="7169" y="6400"/>
                </a:moveTo>
                <a:cubicBezTo>
                  <a:pt x="7169" y="6288"/>
                  <a:pt x="7184" y="6186"/>
                  <a:pt x="7193" y="6077"/>
                </a:cubicBezTo>
                <a:cubicBezTo>
                  <a:pt x="7209" y="5877"/>
                  <a:pt x="7228" y="5629"/>
                  <a:pt x="7218" y="5432"/>
                </a:cubicBezTo>
                <a:cubicBezTo>
                  <a:pt x="7213" y="5333"/>
                  <a:pt x="7193" y="5237"/>
                  <a:pt x="7193" y="5135"/>
                </a:cubicBezTo>
                <a:cubicBezTo>
                  <a:pt x="7193" y="5110"/>
                  <a:pt x="7193" y="5102"/>
                  <a:pt x="7193" y="5085"/>
                </a:cubicBezTo>
                <a:cubicBezTo>
                  <a:pt x="7291" y="5091"/>
                  <a:pt x="7371" y="5118"/>
                  <a:pt x="7466" y="5135"/>
                </a:cubicBezTo>
                <a:cubicBezTo>
                  <a:pt x="7497" y="5140"/>
                  <a:pt x="7534" y="5135"/>
                  <a:pt x="7565" y="5135"/>
                </a:cubicBezTo>
                <a:cubicBezTo>
                  <a:pt x="7565" y="5409"/>
                  <a:pt x="7551" y="5680"/>
                  <a:pt x="7541" y="5953"/>
                </a:cubicBezTo>
                <a:cubicBezTo>
                  <a:pt x="7533" y="6186"/>
                  <a:pt x="7565" y="6415"/>
                  <a:pt x="7565" y="6648"/>
                </a:cubicBezTo>
                <a:cubicBezTo>
                  <a:pt x="7565" y="6777"/>
                  <a:pt x="7578" y="6894"/>
                  <a:pt x="7590" y="7020"/>
                </a:cubicBezTo>
                <a:cubicBezTo>
                  <a:pt x="7590" y="7053"/>
                  <a:pt x="7590" y="7069"/>
                  <a:pt x="7590" y="7094"/>
                </a:cubicBezTo>
                <a:cubicBezTo>
                  <a:pt x="7518" y="7112"/>
                  <a:pt x="7446" y="7132"/>
                  <a:pt x="7367" y="7119"/>
                </a:cubicBezTo>
                <a:cubicBezTo>
                  <a:pt x="7281" y="7105"/>
                  <a:pt x="7246" y="7122"/>
                  <a:pt x="7218" y="7094"/>
                </a:cubicBezTo>
                <a:cubicBezTo>
                  <a:pt x="7218" y="7086"/>
                  <a:pt x="7218" y="7077"/>
                  <a:pt x="7218" y="7069"/>
                </a:cubicBezTo>
              </a:path>
              <a:path w="16844" h="7368">
                <a:moveTo>
                  <a:pt x="8384" y="5531"/>
                </a:moveTo>
                <a:cubicBezTo>
                  <a:pt x="8358" y="5786"/>
                  <a:pt x="8394" y="6067"/>
                  <a:pt x="8434" y="6325"/>
                </a:cubicBezTo>
                <a:cubicBezTo>
                  <a:pt x="8463" y="6514"/>
                  <a:pt x="8508" y="6680"/>
                  <a:pt x="8508" y="6871"/>
                </a:cubicBezTo>
                <a:cubicBezTo>
                  <a:pt x="8508" y="6956"/>
                  <a:pt x="8476" y="7069"/>
                  <a:pt x="8483" y="7144"/>
                </a:cubicBezTo>
                <a:cubicBezTo>
                  <a:pt x="8488" y="7197"/>
                  <a:pt x="8714" y="7264"/>
                  <a:pt x="8756" y="7268"/>
                </a:cubicBezTo>
                <a:cubicBezTo>
                  <a:pt x="8784" y="7268"/>
                  <a:pt x="8795" y="7266"/>
                  <a:pt x="8806" y="7243"/>
                </a:cubicBezTo>
                <a:cubicBezTo>
                  <a:pt x="8788" y="7030"/>
                  <a:pt x="8703" y="6815"/>
                  <a:pt x="8706" y="6598"/>
                </a:cubicBezTo>
                <a:cubicBezTo>
                  <a:pt x="8709" y="6417"/>
                  <a:pt x="8731" y="6235"/>
                  <a:pt x="8731" y="6052"/>
                </a:cubicBezTo>
                <a:cubicBezTo>
                  <a:pt x="8731" y="6006"/>
                  <a:pt x="8737" y="5989"/>
                  <a:pt x="8706" y="5953"/>
                </a:cubicBezTo>
                <a:cubicBezTo>
                  <a:pt x="8666" y="5907"/>
                  <a:pt x="8591" y="5878"/>
                  <a:pt x="8533" y="5829"/>
                </a:cubicBezTo>
                <a:cubicBezTo>
                  <a:pt x="8472" y="5778"/>
                  <a:pt x="8499" y="5813"/>
                  <a:pt x="8508" y="5779"/>
                </a:cubicBezTo>
              </a:path>
              <a:path w="16844" h="7368">
                <a:moveTo>
                  <a:pt x="9227" y="6127"/>
                </a:moveTo>
                <a:cubicBezTo>
                  <a:pt x="9249" y="6187"/>
                  <a:pt x="9263" y="6195"/>
                  <a:pt x="9277" y="6350"/>
                </a:cubicBezTo>
                <a:cubicBezTo>
                  <a:pt x="9303" y="6634"/>
                  <a:pt x="9351" y="6909"/>
                  <a:pt x="9351" y="7193"/>
                </a:cubicBezTo>
                <a:cubicBezTo>
                  <a:pt x="9351" y="7226"/>
                  <a:pt x="9351" y="7260"/>
                  <a:pt x="9351" y="7293"/>
                </a:cubicBezTo>
                <a:cubicBezTo>
                  <a:pt x="9440" y="7314"/>
                  <a:pt x="9526" y="7329"/>
                  <a:pt x="9624" y="7317"/>
                </a:cubicBezTo>
                <a:cubicBezTo>
                  <a:pt x="9690" y="7309"/>
                  <a:pt x="9797" y="7301"/>
                  <a:pt x="9823" y="7293"/>
                </a:cubicBezTo>
                <a:cubicBezTo>
                  <a:pt x="9743" y="7104"/>
                  <a:pt x="9649" y="6902"/>
                  <a:pt x="9624" y="6697"/>
                </a:cubicBezTo>
                <a:cubicBezTo>
                  <a:pt x="9610" y="6583"/>
                  <a:pt x="9617" y="6453"/>
                  <a:pt x="9599" y="6350"/>
                </a:cubicBezTo>
                <a:cubicBezTo>
                  <a:pt x="9590" y="6300"/>
                  <a:pt x="9624" y="6240"/>
                  <a:pt x="9575" y="6226"/>
                </a:cubicBezTo>
                <a:cubicBezTo>
                  <a:pt x="9488" y="6202"/>
                  <a:pt x="9385" y="6235"/>
                  <a:pt x="9302" y="6251"/>
                </a:cubicBezTo>
              </a:path>
              <a:path w="16844" h="7368">
                <a:moveTo>
                  <a:pt x="10120" y="6548"/>
                </a:moveTo>
                <a:cubicBezTo>
                  <a:pt x="10120" y="6466"/>
                  <a:pt x="10120" y="6665"/>
                  <a:pt x="10120" y="6747"/>
                </a:cubicBezTo>
                <a:cubicBezTo>
                  <a:pt x="10120" y="6896"/>
                  <a:pt x="10159" y="7023"/>
                  <a:pt x="10170" y="7169"/>
                </a:cubicBezTo>
                <a:cubicBezTo>
                  <a:pt x="10174" y="7216"/>
                  <a:pt x="10186" y="7259"/>
                  <a:pt x="10220" y="7268"/>
                </a:cubicBezTo>
                <a:cubicBezTo>
                  <a:pt x="10328" y="7296"/>
                  <a:pt x="10398" y="7260"/>
                  <a:pt x="10492" y="7268"/>
                </a:cubicBezTo>
                <a:cubicBezTo>
                  <a:pt x="10550" y="7268"/>
                  <a:pt x="10559" y="7268"/>
                  <a:pt x="10592" y="7268"/>
                </a:cubicBezTo>
                <a:cubicBezTo>
                  <a:pt x="10544" y="7143"/>
                  <a:pt x="10487" y="7023"/>
                  <a:pt x="10443" y="6896"/>
                </a:cubicBezTo>
                <a:cubicBezTo>
                  <a:pt x="10420" y="6829"/>
                  <a:pt x="10418" y="6732"/>
                  <a:pt x="10393" y="6672"/>
                </a:cubicBezTo>
                <a:cubicBezTo>
                  <a:pt x="10376" y="6631"/>
                  <a:pt x="10356" y="6614"/>
                  <a:pt x="10319" y="6598"/>
                </a:cubicBezTo>
                <a:cubicBezTo>
                  <a:pt x="10304" y="6591"/>
                  <a:pt x="10151" y="6537"/>
                  <a:pt x="10145" y="6548"/>
                </a:cubicBezTo>
                <a:cubicBezTo>
                  <a:pt x="10145" y="6565"/>
                  <a:pt x="10145" y="6581"/>
                  <a:pt x="10145" y="6598"/>
                </a:cubicBezTo>
              </a:path>
              <a:path w="16844" h="7368">
                <a:moveTo>
                  <a:pt x="10691" y="6722"/>
                </a:moveTo>
                <a:cubicBezTo>
                  <a:pt x="10712" y="6828"/>
                  <a:pt x="10703" y="6934"/>
                  <a:pt x="10716" y="7045"/>
                </a:cubicBezTo>
                <a:cubicBezTo>
                  <a:pt x="10728" y="7147"/>
                  <a:pt x="10740" y="7238"/>
                  <a:pt x="10740" y="7342"/>
                </a:cubicBezTo>
                <a:cubicBezTo>
                  <a:pt x="10740" y="7375"/>
                  <a:pt x="10740" y="7392"/>
                  <a:pt x="10740" y="7417"/>
                </a:cubicBezTo>
                <a:cubicBezTo>
                  <a:pt x="10839" y="7417"/>
                  <a:pt x="10939" y="7417"/>
                  <a:pt x="11038" y="7417"/>
                </a:cubicBezTo>
                <a:cubicBezTo>
                  <a:pt x="11038" y="7284"/>
                  <a:pt x="11023" y="7149"/>
                  <a:pt x="11063" y="7020"/>
                </a:cubicBezTo>
                <a:cubicBezTo>
                  <a:pt x="11083" y="6979"/>
                  <a:pt x="11092" y="6973"/>
                  <a:pt x="11088" y="6945"/>
                </a:cubicBezTo>
                <a:cubicBezTo>
                  <a:pt x="11004" y="6925"/>
                  <a:pt x="10908" y="6888"/>
                  <a:pt x="10815" y="6871"/>
                </a:cubicBezTo>
                <a:cubicBezTo>
                  <a:pt x="10807" y="6871"/>
                  <a:pt x="10798" y="6871"/>
                  <a:pt x="10790" y="6871"/>
                </a:cubicBezTo>
              </a:path>
              <a:path w="16844" h="7368">
                <a:moveTo>
                  <a:pt x="11410" y="6896"/>
                </a:moveTo>
                <a:cubicBezTo>
                  <a:pt x="11421" y="7020"/>
                  <a:pt x="11439" y="7144"/>
                  <a:pt x="11410" y="7268"/>
                </a:cubicBezTo>
                <a:cubicBezTo>
                  <a:pt x="11390" y="7308"/>
                  <a:pt x="11381" y="7314"/>
                  <a:pt x="11385" y="7342"/>
                </a:cubicBezTo>
                <a:cubicBezTo>
                  <a:pt x="11479" y="7342"/>
                  <a:pt x="11531" y="7368"/>
                  <a:pt x="11559" y="7293"/>
                </a:cubicBezTo>
                <a:cubicBezTo>
                  <a:pt x="11593" y="7203"/>
                  <a:pt x="11574" y="7149"/>
                  <a:pt x="11559" y="7069"/>
                </a:cubicBezTo>
                <a:cubicBezTo>
                  <a:pt x="11553" y="7038"/>
                  <a:pt x="11585" y="6882"/>
                  <a:pt x="11534" y="6871"/>
                </a:cubicBezTo>
                <a:cubicBezTo>
                  <a:pt x="11476" y="6871"/>
                  <a:pt x="11468" y="6871"/>
                  <a:pt x="11435" y="6871"/>
                </a:cubicBezTo>
              </a:path>
              <a:path w="16844" h="7368">
                <a:moveTo>
                  <a:pt x="11782" y="6945"/>
                </a:moveTo>
                <a:cubicBezTo>
                  <a:pt x="11782" y="7073"/>
                  <a:pt x="11771" y="7192"/>
                  <a:pt x="11757" y="7317"/>
                </a:cubicBezTo>
                <a:cubicBezTo>
                  <a:pt x="11751" y="7372"/>
                  <a:pt x="11743" y="7423"/>
                  <a:pt x="11782" y="7441"/>
                </a:cubicBezTo>
                <a:cubicBezTo>
                  <a:pt x="11833" y="7464"/>
                  <a:pt x="11882" y="7479"/>
                  <a:pt x="11931" y="7491"/>
                </a:cubicBezTo>
                <a:cubicBezTo>
                  <a:pt x="11948" y="7423"/>
                  <a:pt x="11944" y="7374"/>
                  <a:pt x="11956" y="7293"/>
                </a:cubicBezTo>
                <a:cubicBezTo>
                  <a:pt x="11968" y="7215"/>
                  <a:pt x="12000" y="7139"/>
                  <a:pt x="12030" y="7069"/>
                </a:cubicBezTo>
                <a:cubicBezTo>
                  <a:pt x="11970" y="7059"/>
                  <a:pt x="11919" y="7045"/>
                  <a:pt x="11857" y="7045"/>
                </a:cubicBezTo>
                <a:cubicBezTo>
                  <a:pt x="11849" y="7045"/>
                  <a:pt x="11840" y="7045"/>
                  <a:pt x="11832" y="7045"/>
                </a:cubicBezTo>
              </a:path>
              <a:path w="16844" h="7368">
                <a:moveTo>
                  <a:pt x="12303" y="7144"/>
                </a:moveTo>
                <a:cubicBezTo>
                  <a:pt x="12329" y="7184"/>
                  <a:pt x="12289" y="7260"/>
                  <a:pt x="12278" y="7342"/>
                </a:cubicBezTo>
                <a:cubicBezTo>
                  <a:pt x="12272" y="7386"/>
                  <a:pt x="12259" y="7461"/>
                  <a:pt x="12303" y="7466"/>
                </a:cubicBezTo>
                <a:cubicBezTo>
                  <a:pt x="12371" y="7475"/>
                  <a:pt x="12381" y="7467"/>
                  <a:pt x="12452" y="7441"/>
                </a:cubicBezTo>
                <a:cubicBezTo>
                  <a:pt x="12535" y="7411"/>
                  <a:pt x="12542" y="7333"/>
                  <a:pt x="12551" y="7243"/>
                </a:cubicBezTo>
                <a:cubicBezTo>
                  <a:pt x="12554" y="7210"/>
                  <a:pt x="12554" y="7093"/>
                  <a:pt x="12526" y="7069"/>
                </a:cubicBezTo>
                <a:cubicBezTo>
                  <a:pt x="12506" y="7052"/>
                  <a:pt x="12406" y="7069"/>
                  <a:pt x="12378" y="7069"/>
                </a:cubicBezTo>
              </a:path>
              <a:path w="16844" h="7368">
                <a:moveTo>
                  <a:pt x="12849" y="7441"/>
                </a:moveTo>
                <a:cubicBezTo>
                  <a:pt x="12824" y="7441"/>
                  <a:pt x="12816" y="7441"/>
                  <a:pt x="12799" y="7441"/>
                </a:cubicBezTo>
                <a:cubicBezTo>
                  <a:pt x="12926" y="7441"/>
                  <a:pt x="13059" y="7450"/>
                  <a:pt x="13171" y="7417"/>
                </a:cubicBezTo>
                <a:cubicBezTo>
                  <a:pt x="13229" y="7400"/>
                  <a:pt x="13261" y="7420"/>
                  <a:pt x="13320" y="7392"/>
                </a:cubicBezTo>
                <a:cubicBezTo>
                  <a:pt x="13358" y="7374"/>
                  <a:pt x="13413" y="7359"/>
                  <a:pt x="13444" y="7342"/>
                </a:cubicBezTo>
                <a:cubicBezTo>
                  <a:pt x="13452" y="7334"/>
                  <a:pt x="13461" y="7325"/>
                  <a:pt x="13469" y="7317"/>
                </a:cubicBezTo>
              </a:path>
              <a:path w="16844" h="7368">
                <a:moveTo>
                  <a:pt x="13469" y="7317"/>
                </a:moveTo>
                <a:lnTo>
                  <a:pt x="13469" y="7317"/>
                </a:lnTo>
              </a:path>
              <a:path w="16844" h="7368">
                <a:moveTo>
                  <a:pt x="13469" y="7317"/>
                </a:moveTo>
                <a:lnTo>
                  <a:pt x="13469" y="7317"/>
                </a:lnTo>
              </a:path>
              <a:path w="16844" h="7368">
                <a:moveTo>
                  <a:pt x="13494" y="7317"/>
                </a:moveTo>
                <a:lnTo>
                  <a:pt x="13494" y="7317"/>
                </a:lnTo>
              </a:path>
              <a:path w="16844" h="7368">
                <a:moveTo>
                  <a:pt x="13494" y="7293"/>
                </a:moveTo>
                <a:lnTo>
                  <a:pt x="13494" y="7293"/>
                </a:lnTo>
              </a:path>
              <a:path w="16844" h="7368">
                <a:moveTo>
                  <a:pt x="13494" y="7293"/>
                </a:moveTo>
                <a:lnTo>
                  <a:pt x="13494" y="7293"/>
                </a:lnTo>
              </a:path>
              <a:path w="16844" h="7368">
                <a:moveTo>
                  <a:pt x="13469" y="7293"/>
                </a:moveTo>
                <a:cubicBezTo>
                  <a:pt x="13499" y="7272"/>
                  <a:pt x="13490" y="7290"/>
                  <a:pt x="13519" y="7268"/>
                </a:cubicBezTo>
                <a:cubicBezTo>
                  <a:pt x="13541" y="7252"/>
                  <a:pt x="13550" y="7232"/>
                  <a:pt x="13568" y="7218"/>
                </a:cubicBezTo>
                <a:cubicBezTo>
                  <a:pt x="13584" y="7205"/>
                  <a:pt x="13628" y="7208"/>
                  <a:pt x="13643" y="7193"/>
                </a:cubicBezTo>
                <a:cubicBezTo>
                  <a:pt x="13655" y="7181"/>
                  <a:pt x="13683" y="7155"/>
                  <a:pt x="13692" y="7144"/>
                </a:cubicBezTo>
                <a:cubicBezTo>
                  <a:pt x="13711" y="7120"/>
                  <a:pt x="13756" y="7060"/>
                  <a:pt x="13767" y="7045"/>
                </a:cubicBezTo>
                <a:cubicBezTo>
                  <a:pt x="13781" y="7026"/>
                  <a:pt x="13810" y="6979"/>
                  <a:pt x="13816" y="6970"/>
                </a:cubicBezTo>
                <a:cubicBezTo>
                  <a:pt x="13836" y="6942"/>
                  <a:pt x="13842" y="6903"/>
                  <a:pt x="13866" y="6871"/>
                </a:cubicBezTo>
                <a:cubicBezTo>
                  <a:pt x="13884" y="6846"/>
                  <a:pt x="13901" y="6815"/>
                  <a:pt x="13915" y="6796"/>
                </a:cubicBezTo>
                <a:cubicBezTo>
                  <a:pt x="13944" y="6757"/>
                  <a:pt x="13972" y="6722"/>
                  <a:pt x="13990" y="6697"/>
                </a:cubicBezTo>
                <a:cubicBezTo>
                  <a:pt x="14005" y="6676"/>
                  <a:pt x="14027" y="6665"/>
                  <a:pt x="14039" y="6648"/>
                </a:cubicBezTo>
                <a:cubicBezTo>
                  <a:pt x="14058" y="6621"/>
                  <a:pt x="14060" y="6610"/>
                  <a:pt x="14089" y="6573"/>
                </a:cubicBezTo>
                <a:cubicBezTo>
                  <a:pt x="14109" y="6548"/>
                  <a:pt x="14109" y="6534"/>
                  <a:pt x="14139" y="6499"/>
                </a:cubicBezTo>
                <a:cubicBezTo>
                  <a:pt x="14156" y="6480"/>
                  <a:pt x="14171" y="6473"/>
                  <a:pt x="14188" y="6449"/>
                </a:cubicBezTo>
                <a:cubicBezTo>
                  <a:pt x="14213" y="6415"/>
                  <a:pt x="14219" y="6396"/>
                  <a:pt x="14238" y="6375"/>
                </a:cubicBezTo>
                <a:cubicBezTo>
                  <a:pt x="14253" y="6358"/>
                  <a:pt x="14269" y="6328"/>
                  <a:pt x="14288" y="6300"/>
                </a:cubicBezTo>
                <a:cubicBezTo>
                  <a:pt x="14292" y="6294"/>
                  <a:pt x="14357" y="6259"/>
                  <a:pt x="14362" y="6251"/>
                </a:cubicBezTo>
                <a:cubicBezTo>
                  <a:pt x="14380" y="6222"/>
                  <a:pt x="14373" y="6201"/>
                  <a:pt x="14387" y="6176"/>
                </a:cubicBezTo>
                <a:cubicBezTo>
                  <a:pt x="14397" y="6157"/>
                  <a:pt x="14435" y="6105"/>
                  <a:pt x="14436" y="6102"/>
                </a:cubicBezTo>
                <a:cubicBezTo>
                  <a:pt x="14453" y="6064"/>
                  <a:pt x="14470" y="6015"/>
                  <a:pt x="14486" y="5978"/>
                </a:cubicBezTo>
                <a:cubicBezTo>
                  <a:pt x="14514" y="5912"/>
                  <a:pt x="14546" y="5827"/>
                  <a:pt x="14560" y="5755"/>
                </a:cubicBezTo>
                <a:cubicBezTo>
                  <a:pt x="14582" y="5641"/>
                  <a:pt x="14576" y="5491"/>
                  <a:pt x="14560" y="5383"/>
                </a:cubicBezTo>
                <a:cubicBezTo>
                  <a:pt x="14533" y="5199"/>
                  <a:pt x="14428" y="5011"/>
                  <a:pt x="14238" y="5184"/>
                </a:cubicBezTo>
                <a:cubicBezTo>
                  <a:pt x="14111" y="5300"/>
                  <a:pt x="14122" y="5451"/>
                  <a:pt x="14114" y="5606"/>
                </a:cubicBezTo>
                <a:cubicBezTo>
                  <a:pt x="14101" y="5881"/>
                  <a:pt x="14187" y="6165"/>
                  <a:pt x="14263" y="6424"/>
                </a:cubicBezTo>
                <a:cubicBezTo>
                  <a:pt x="14301" y="6552"/>
                  <a:pt x="14347" y="6704"/>
                  <a:pt x="14412" y="6821"/>
                </a:cubicBezTo>
                <a:cubicBezTo>
                  <a:pt x="14466" y="6919"/>
                  <a:pt x="14530" y="6991"/>
                  <a:pt x="14610" y="7069"/>
                </a:cubicBezTo>
                <a:cubicBezTo>
                  <a:pt x="14702" y="7158"/>
                  <a:pt x="14758" y="7207"/>
                  <a:pt x="14883" y="7243"/>
                </a:cubicBezTo>
                <a:cubicBezTo>
                  <a:pt x="15000" y="7277"/>
                  <a:pt x="15053" y="7285"/>
                  <a:pt x="15180" y="7268"/>
                </a:cubicBezTo>
                <a:cubicBezTo>
                  <a:pt x="15365" y="7244"/>
                  <a:pt x="15535" y="7157"/>
                  <a:pt x="15677" y="7045"/>
                </a:cubicBezTo>
                <a:cubicBezTo>
                  <a:pt x="15874" y="6890"/>
                  <a:pt x="16044" y="6632"/>
                  <a:pt x="16173" y="6424"/>
                </a:cubicBezTo>
                <a:cubicBezTo>
                  <a:pt x="16248" y="6302"/>
                  <a:pt x="16291" y="6185"/>
                  <a:pt x="16346" y="6052"/>
                </a:cubicBezTo>
                <a:cubicBezTo>
                  <a:pt x="16404" y="5912"/>
                  <a:pt x="16456" y="5770"/>
                  <a:pt x="16520" y="5631"/>
                </a:cubicBezTo>
                <a:cubicBezTo>
                  <a:pt x="16623" y="5408"/>
                  <a:pt x="16727" y="5188"/>
                  <a:pt x="16867" y="4986"/>
                </a:cubicBezTo>
                <a:cubicBezTo>
                  <a:pt x="16918" y="4913"/>
                  <a:pt x="16973" y="4820"/>
                  <a:pt x="17041" y="4762"/>
                </a:cubicBezTo>
                <a:cubicBezTo>
                  <a:pt x="17121" y="4694"/>
                  <a:pt x="17217" y="4651"/>
                  <a:pt x="17314" y="4614"/>
                </a:cubicBezTo>
                <a:cubicBezTo>
                  <a:pt x="17452" y="4561"/>
                  <a:pt x="17689" y="4496"/>
                  <a:pt x="17835" y="4514"/>
                </a:cubicBezTo>
                <a:cubicBezTo>
                  <a:pt x="17979" y="4532"/>
                  <a:pt x="18261" y="4648"/>
                  <a:pt x="18355" y="4738"/>
                </a:cubicBezTo>
                <a:cubicBezTo>
                  <a:pt x="18375" y="4757"/>
                  <a:pt x="18377" y="4780"/>
                  <a:pt x="18405" y="4812"/>
                </a:cubicBezTo>
                <a:cubicBezTo>
                  <a:pt x="18469" y="4884"/>
                  <a:pt x="18523" y="4980"/>
                  <a:pt x="18579" y="5060"/>
                </a:cubicBezTo>
                <a:cubicBezTo>
                  <a:pt x="18643" y="5150"/>
                  <a:pt x="18733" y="5235"/>
                  <a:pt x="18777" y="5333"/>
                </a:cubicBezTo>
                <a:cubicBezTo>
                  <a:pt x="18814" y="5415"/>
                  <a:pt x="18829" y="5519"/>
                  <a:pt x="18852" y="5606"/>
                </a:cubicBezTo>
                <a:cubicBezTo>
                  <a:pt x="18883" y="5724"/>
                  <a:pt x="18897" y="5837"/>
                  <a:pt x="18926" y="5953"/>
                </a:cubicBezTo>
                <a:cubicBezTo>
                  <a:pt x="18973" y="6140"/>
                  <a:pt x="19033" y="6320"/>
                  <a:pt x="19100" y="6499"/>
                </a:cubicBezTo>
                <a:cubicBezTo>
                  <a:pt x="19143" y="6614"/>
                  <a:pt x="19176" y="6735"/>
                  <a:pt x="19224" y="6846"/>
                </a:cubicBezTo>
                <a:cubicBezTo>
                  <a:pt x="19326" y="7084"/>
                  <a:pt x="19421" y="7315"/>
                  <a:pt x="19496" y="7565"/>
                </a:cubicBezTo>
                <a:cubicBezTo>
                  <a:pt x="19607" y="7936"/>
                  <a:pt x="19754" y="8282"/>
                  <a:pt x="19918" y="8632"/>
                </a:cubicBezTo>
                <a:cubicBezTo>
                  <a:pt x="20064" y="8944"/>
                  <a:pt x="20210" y="9231"/>
                  <a:pt x="20389" y="9525"/>
                </a:cubicBezTo>
                <a:cubicBezTo>
                  <a:pt x="20507" y="9719"/>
                  <a:pt x="20638" y="9905"/>
                  <a:pt x="20762" y="10096"/>
                </a:cubicBezTo>
                <a:cubicBezTo>
                  <a:pt x="20812" y="10173"/>
                  <a:pt x="20858" y="10278"/>
                  <a:pt x="20910" y="10344"/>
                </a:cubicBezTo>
                <a:cubicBezTo>
                  <a:pt x="20938" y="10380"/>
                  <a:pt x="21021" y="10445"/>
                  <a:pt x="21059" y="10492"/>
                </a:cubicBezTo>
                <a:cubicBezTo>
                  <a:pt x="21137" y="10588"/>
                  <a:pt x="21204" y="10694"/>
                  <a:pt x="21282" y="10790"/>
                </a:cubicBezTo>
                <a:cubicBezTo>
                  <a:pt x="21325" y="10843"/>
                  <a:pt x="21392" y="10926"/>
                  <a:pt x="21431" y="10964"/>
                </a:cubicBezTo>
                <a:cubicBezTo>
                  <a:pt x="21470" y="11002"/>
                  <a:pt x="21472" y="11019"/>
                  <a:pt x="21506" y="11013"/>
                </a:cubicBezTo>
              </a:path>
              <a:path w="16844" h="7368">
                <a:moveTo>
                  <a:pt x="13568" y="8880"/>
                </a:moveTo>
                <a:cubicBezTo>
                  <a:pt x="13626" y="8979"/>
                  <a:pt x="13653" y="9046"/>
                  <a:pt x="13692" y="9153"/>
                </a:cubicBezTo>
                <a:cubicBezTo>
                  <a:pt x="13717" y="9079"/>
                  <a:pt x="13726" y="9054"/>
                  <a:pt x="13742" y="9004"/>
                </a:cubicBezTo>
                <a:cubicBezTo>
                  <a:pt x="13815" y="9053"/>
                  <a:pt x="13805" y="9142"/>
                  <a:pt x="13841" y="9178"/>
                </a:cubicBezTo>
                <a:cubicBezTo>
                  <a:pt x="13849" y="9178"/>
                  <a:pt x="13858" y="9178"/>
                  <a:pt x="13866" y="9178"/>
                </a:cubicBezTo>
              </a:path>
              <a:path w="16844" h="7368">
                <a:moveTo>
                  <a:pt x="13866" y="8682"/>
                </a:moveTo>
                <a:cubicBezTo>
                  <a:pt x="13910" y="8856"/>
                  <a:pt x="13865" y="9331"/>
                  <a:pt x="13990" y="9203"/>
                </a:cubicBezTo>
                <a:cubicBezTo>
                  <a:pt x="13990" y="9178"/>
                  <a:pt x="13990" y="9153"/>
                  <a:pt x="13990" y="9128"/>
                </a:cubicBezTo>
              </a:path>
              <a:path w="16844" h="7368">
                <a:moveTo>
                  <a:pt x="13866" y="9029"/>
                </a:moveTo>
                <a:cubicBezTo>
                  <a:pt x="13951" y="9024"/>
                  <a:pt x="14030" y="9012"/>
                  <a:pt x="14114" y="9004"/>
                </a:cubicBezTo>
              </a:path>
              <a:path w="16844" h="7368">
                <a:moveTo>
                  <a:pt x="14337" y="9029"/>
                </a:moveTo>
                <a:cubicBezTo>
                  <a:pt x="14337" y="9117"/>
                  <a:pt x="14388" y="9120"/>
                  <a:pt x="14461" y="9153"/>
                </a:cubicBezTo>
                <a:cubicBezTo>
                  <a:pt x="14486" y="9054"/>
                  <a:pt x="14505" y="8997"/>
                  <a:pt x="14486" y="8905"/>
                </a:cubicBezTo>
              </a:path>
              <a:path w="16844" h="7368">
                <a:moveTo>
                  <a:pt x="14610" y="9079"/>
                </a:moveTo>
                <a:cubicBezTo>
                  <a:pt x="14611" y="9081"/>
                  <a:pt x="14722" y="9257"/>
                  <a:pt x="14684" y="9203"/>
                </a:cubicBezTo>
                <a:cubicBezTo>
                  <a:pt x="14676" y="9195"/>
                  <a:pt x="14668" y="9186"/>
                  <a:pt x="14660" y="9178"/>
                </a:cubicBezTo>
                <a:cubicBezTo>
                  <a:pt x="14643" y="9062"/>
                  <a:pt x="14575" y="8835"/>
                  <a:pt x="14635" y="8756"/>
                </a:cubicBezTo>
                <a:cubicBezTo>
                  <a:pt x="14717" y="8805"/>
                  <a:pt x="14802" y="8894"/>
                  <a:pt x="14660" y="8979"/>
                </a:cubicBezTo>
                <a:cubicBezTo>
                  <a:pt x="14635" y="8987"/>
                  <a:pt x="14610" y="8996"/>
                  <a:pt x="14585" y="9004"/>
                </a:cubicBezTo>
              </a:path>
              <a:path w="16844" h="7368">
                <a:moveTo>
                  <a:pt x="14585" y="9401"/>
                </a:moveTo>
                <a:cubicBezTo>
                  <a:pt x="14616" y="9473"/>
                  <a:pt x="14627" y="9544"/>
                  <a:pt x="14635" y="9624"/>
                </a:cubicBezTo>
                <a:cubicBezTo>
                  <a:pt x="14635" y="9516"/>
                  <a:pt x="14581" y="9405"/>
                  <a:pt x="14585" y="9302"/>
                </a:cubicBezTo>
                <a:cubicBezTo>
                  <a:pt x="14593" y="9285"/>
                  <a:pt x="14602" y="9269"/>
                  <a:pt x="14610" y="9252"/>
                </a:cubicBezTo>
                <a:cubicBezTo>
                  <a:pt x="14693" y="9273"/>
                  <a:pt x="14706" y="9379"/>
                  <a:pt x="14660" y="9451"/>
                </a:cubicBezTo>
                <a:cubicBezTo>
                  <a:pt x="14641" y="9481"/>
                  <a:pt x="14645" y="9421"/>
                  <a:pt x="14660" y="9401"/>
                </a:cubicBezTo>
                <a:cubicBezTo>
                  <a:pt x="14795" y="9418"/>
                  <a:pt x="14806" y="9547"/>
                  <a:pt x="14709" y="9649"/>
                </a:cubicBezTo>
                <a:cubicBezTo>
                  <a:pt x="14610" y="9753"/>
                  <a:pt x="14614" y="9613"/>
                  <a:pt x="14610" y="9575"/>
                </a:cubicBezTo>
              </a:path>
              <a:path w="16844" h="7368">
                <a:moveTo>
                  <a:pt x="14908" y="9327"/>
                </a:moveTo>
                <a:cubicBezTo>
                  <a:pt x="14786" y="9344"/>
                  <a:pt x="14814" y="9414"/>
                  <a:pt x="14858" y="9500"/>
                </a:cubicBezTo>
                <a:cubicBezTo>
                  <a:pt x="14937" y="9457"/>
                  <a:pt x="14950" y="9289"/>
                  <a:pt x="15032" y="9327"/>
                </a:cubicBezTo>
                <a:cubicBezTo>
                  <a:pt x="15080" y="9349"/>
                  <a:pt x="15060" y="9427"/>
                  <a:pt x="15081" y="9475"/>
                </a:cubicBezTo>
                <a:cubicBezTo>
                  <a:pt x="15114" y="9394"/>
                  <a:pt x="15084" y="9178"/>
                  <a:pt x="15156" y="9227"/>
                </a:cubicBezTo>
                <a:cubicBezTo>
                  <a:pt x="15190" y="9251"/>
                  <a:pt x="15206" y="9340"/>
                  <a:pt x="15230" y="9376"/>
                </a:cubicBezTo>
                <a:cubicBezTo>
                  <a:pt x="15230" y="9307"/>
                  <a:pt x="15238" y="9269"/>
                  <a:pt x="15255" y="9203"/>
                </a:cubicBezTo>
                <a:cubicBezTo>
                  <a:pt x="15268" y="9265"/>
                  <a:pt x="15298" y="9345"/>
                  <a:pt x="15329" y="9376"/>
                </a:cubicBezTo>
              </a:path>
              <a:path w="16844" h="7368">
                <a:moveTo>
                  <a:pt x="15404" y="9153"/>
                </a:moveTo>
                <a:cubicBezTo>
                  <a:pt x="15345" y="9212"/>
                  <a:pt x="15343" y="9293"/>
                  <a:pt x="15379" y="9376"/>
                </a:cubicBezTo>
                <a:cubicBezTo>
                  <a:pt x="15455" y="9338"/>
                  <a:pt x="15493" y="9321"/>
                  <a:pt x="15503" y="9227"/>
                </a:cubicBezTo>
                <a:cubicBezTo>
                  <a:pt x="15503" y="9219"/>
                  <a:pt x="15503" y="9211"/>
                  <a:pt x="15503" y="9203"/>
                </a:cubicBezTo>
                <a:cubicBezTo>
                  <a:pt x="15503" y="9223"/>
                  <a:pt x="15509" y="9342"/>
                  <a:pt x="15553" y="9302"/>
                </a:cubicBezTo>
                <a:cubicBezTo>
                  <a:pt x="15582" y="9242"/>
                  <a:pt x="15596" y="9216"/>
                  <a:pt x="15627" y="9178"/>
                </a:cubicBezTo>
                <a:cubicBezTo>
                  <a:pt x="15627" y="9265"/>
                  <a:pt x="15666" y="9482"/>
                  <a:pt x="15602" y="9550"/>
                </a:cubicBezTo>
                <a:cubicBezTo>
                  <a:pt x="15577" y="9566"/>
                  <a:pt x="15553" y="9583"/>
                  <a:pt x="15528" y="9599"/>
                </a:cubicBezTo>
              </a:path>
              <a:path w="16844" h="7368">
                <a:moveTo>
                  <a:pt x="15056" y="9823"/>
                </a:moveTo>
                <a:cubicBezTo>
                  <a:pt x="15056" y="9882"/>
                  <a:pt x="15065" y="9901"/>
                  <a:pt x="15081" y="9971"/>
                </a:cubicBezTo>
                <a:cubicBezTo>
                  <a:pt x="15143" y="10012"/>
                  <a:pt x="15076" y="9731"/>
                  <a:pt x="15081" y="9674"/>
                </a:cubicBezTo>
                <a:cubicBezTo>
                  <a:pt x="15089" y="9641"/>
                  <a:pt x="15098" y="9608"/>
                  <a:pt x="15106" y="9575"/>
                </a:cubicBezTo>
                <a:cubicBezTo>
                  <a:pt x="15130" y="9718"/>
                  <a:pt x="15071" y="9870"/>
                  <a:pt x="15180" y="9823"/>
                </a:cubicBezTo>
                <a:cubicBezTo>
                  <a:pt x="15374" y="9740"/>
                  <a:pt x="15223" y="9940"/>
                  <a:pt x="15180" y="9996"/>
                </a:cubicBezTo>
                <a:cubicBezTo>
                  <a:pt x="15096" y="9997"/>
                  <a:pt x="15189" y="9927"/>
                  <a:pt x="15230" y="9872"/>
                </a:cubicBezTo>
              </a:path>
              <a:path w="16844" h="7368">
                <a:moveTo>
                  <a:pt x="15429" y="9723"/>
                </a:moveTo>
                <a:cubicBezTo>
                  <a:pt x="15329" y="9691"/>
                  <a:pt x="15311" y="9724"/>
                  <a:pt x="15304" y="9823"/>
                </a:cubicBezTo>
                <a:cubicBezTo>
                  <a:pt x="15304" y="9831"/>
                  <a:pt x="15304" y="9839"/>
                  <a:pt x="15304" y="9847"/>
                </a:cubicBezTo>
                <a:cubicBezTo>
                  <a:pt x="15437" y="9795"/>
                  <a:pt x="15374" y="9796"/>
                  <a:pt x="15503" y="9847"/>
                </a:cubicBezTo>
                <a:cubicBezTo>
                  <a:pt x="15546" y="9847"/>
                  <a:pt x="15560" y="9830"/>
                  <a:pt x="15553" y="9773"/>
                </a:cubicBezTo>
              </a:path>
              <a:path w="16844" h="7368">
                <a:moveTo>
                  <a:pt x="15553" y="9475"/>
                </a:moveTo>
                <a:cubicBezTo>
                  <a:pt x="15574" y="9584"/>
                  <a:pt x="15586" y="9757"/>
                  <a:pt x="15652" y="9823"/>
                </a:cubicBezTo>
              </a:path>
              <a:path w="16844" h="7368">
                <a:moveTo>
                  <a:pt x="15677" y="9401"/>
                </a:moveTo>
                <a:cubicBezTo>
                  <a:pt x="15736" y="9523"/>
                  <a:pt x="15754" y="9684"/>
                  <a:pt x="15776" y="9823"/>
                </a:cubicBezTo>
                <a:cubicBezTo>
                  <a:pt x="15776" y="9847"/>
                  <a:pt x="15776" y="9856"/>
                  <a:pt x="15776" y="987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7800" y="3125880"/>
            <a:ext cx="2313000" cy="2009520"/>
          </a:xfrm>
          <a:custGeom>
            <a:avLst/>
            <a:gdLst/>
            <a:ahLst/>
            <a:rect l="l" t="t" r="r" b="b"/>
            <a:pathLst>
              <a:path w="6425" h="5582">
                <a:moveTo>
                  <a:pt x="13940" y="10244"/>
                </a:moveTo>
                <a:cubicBezTo>
                  <a:pt x="14010" y="10263"/>
                  <a:pt x="14062" y="10269"/>
                  <a:pt x="14139" y="10269"/>
                </a:cubicBezTo>
                <a:cubicBezTo>
                  <a:pt x="14280" y="10269"/>
                  <a:pt x="14381" y="10320"/>
                  <a:pt x="14511" y="10368"/>
                </a:cubicBezTo>
                <a:cubicBezTo>
                  <a:pt x="14655" y="10421"/>
                  <a:pt x="14815" y="10472"/>
                  <a:pt x="14957" y="10517"/>
                </a:cubicBezTo>
                <a:cubicBezTo>
                  <a:pt x="15102" y="10563"/>
                  <a:pt x="15256" y="10603"/>
                  <a:pt x="15404" y="10641"/>
                </a:cubicBezTo>
                <a:cubicBezTo>
                  <a:pt x="15539" y="10676"/>
                  <a:pt x="15666" y="10698"/>
                  <a:pt x="15801" y="10740"/>
                </a:cubicBezTo>
                <a:cubicBezTo>
                  <a:pt x="15865" y="10760"/>
                  <a:pt x="15920" y="10769"/>
                  <a:pt x="15974" y="10790"/>
                </a:cubicBezTo>
              </a:path>
              <a:path w="6425" h="5582">
                <a:moveTo>
                  <a:pt x="17090" y="10939"/>
                </a:moveTo>
                <a:cubicBezTo>
                  <a:pt x="16994" y="11005"/>
                  <a:pt x="16899" y="11059"/>
                  <a:pt x="16793" y="11112"/>
                </a:cubicBezTo>
                <a:cubicBezTo>
                  <a:pt x="16662" y="11178"/>
                  <a:pt x="16535" y="11243"/>
                  <a:pt x="16421" y="11336"/>
                </a:cubicBezTo>
                <a:cubicBezTo>
                  <a:pt x="16349" y="11395"/>
                  <a:pt x="16260" y="11474"/>
                  <a:pt x="16173" y="11509"/>
                </a:cubicBezTo>
                <a:cubicBezTo>
                  <a:pt x="16023" y="11570"/>
                  <a:pt x="15836" y="11600"/>
                  <a:pt x="15677" y="11633"/>
                </a:cubicBezTo>
                <a:cubicBezTo>
                  <a:pt x="15554" y="11659"/>
                  <a:pt x="15426" y="11715"/>
                  <a:pt x="15304" y="11733"/>
                </a:cubicBezTo>
                <a:cubicBezTo>
                  <a:pt x="15218" y="11746"/>
                  <a:pt x="15130" y="11769"/>
                  <a:pt x="15056" y="11807"/>
                </a:cubicBezTo>
                <a:cubicBezTo>
                  <a:pt x="15022" y="11824"/>
                  <a:pt x="14994" y="11845"/>
                  <a:pt x="14957" y="11857"/>
                </a:cubicBezTo>
              </a:path>
              <a:path w="6425" h="5582">
                <a:moveTo>
                  <a:pt x="13816" y="12204"/>
                </a:moveTo>
                <a:cubicBezTo>
                  <a:pt x="13931" y="12283"/>
                  <a:pt x="14034" y="12348"/>
                  <a:pt x="14163" y="12402"/>
                </a:cubicBezTo>
                <a:cubicBezTo>
                  <a:pt x="14320" y="12469"/>
                  <a:pt x="14472" y="12527"/>
                  <a:pt x="14635" y="12576"/>
                </a:cubicBezTo>
                <a:cubicBezTo>
                  <a:pt x="14758" y="12613"/>
                  <a:pt x="14884" y="12638"/>
                  <a:pt x="15007" y="12675"/>
                </a:cubicBezTo>
                <a:cubicBezTo>
                  <a:pt x="15114" y="12707"/>
                  <a:pt x="15222" y="12740"/>
                  <a:pt x="15329" y="12774"/>
                </a:cubicBezTo>
                <a:cubicBezTo>
                  <a:pt x="15451" y="12813"/>
                  <a:pt x="15577" y="12841"/>
                  <a:pt x="15701" y="12874"/>
                </a:cubicBezTo>
                <a:cubicBezTo>
                  <a:pt x="15789" y="12898"/>
                  <a:pt x="15890" y="12918"/>
                  <a:pt x="15974" y="12948"/>
                </a:cubicBezTo>
                <a:cubicBezTo>
                  <a:pt x="16018" y="12964"/>
                  <a:pt x="16047" y="12968"/>
                  <a:pt x="16098" y="12973"/>
                </a:cubicBezTo>
              </a:path>
              <a:path w="6425" h="5582">
                <a:moveTo>
                  <a:pt x="17165" y="12799"/>
                </a:moveTo>
                <a:cubicBezTo>
                  <a:pt x="17137" y="12827"/>
                  <a:pt x="17148" y="12826"/>
                  <a:pt x="17115" y="12849"/>
                </a:cubicBezTo>
                <a:cubicBezTo>
                  <a:pt x="17085" y="12870"/>
                  <a:pt x="17049" y="12892"/>
                  <a:pt x="17016" y="12923"/>
                </a:cubicBezTo>
                <a:cubicBezTo>
                  <a:pt x="16926" y="13007"/>
                  <a:pt x="16843" y="13074"/>
                  <a:pt x="16743" y="13146"/>
                </a:cubicBezTo>
                <a:cubicBezTo>
                  <a:pt x="16615" y="13238"/>
                  <a:pt x="16480" y="13313"/>
                  <a:pt x="16346" y="13395"/>
                </a:cubicBezTo>
                <a:cubicBezTo>
                  <a:pt x="16191" y="13489"/>
                  <a:pt x="16046" y="13629"/>
                  <a:pt x="15875" y="13692"/>
                </a:cubicBezTo>
                <a:cubicBezTo>
                  <a:pt x="15774" y="13730"/>
                  <a:pt x="15651" y="13789"/>
                  <a:pt x="15553" y="13816"/>
                </a:cubicBezTo>
                <a:cubicBezTo>
                  <a:pt x="15528" y="13816"/>
                  <a:pt x="15520" y="13816"/>
                  <a:pt x="15503" y="13816"/>
                </a:cubicBezTo>
              </a:path>
              <a:path w="6425" h="5582">
                <a:moveTo>
                  <a:pt x="14387" y="14139"/>
                </a:moveTo>
                <a:cubicBezTo>
                  <a:pt x="14435" y="14162"/>
                  <a:pt x="14435" y="14151"/>
                  <a:pt x="14486" y="14163"/>
                </a:cubicBezTo>
                <a:cubicBezTo>
                  <a:pt x="14652" y="14203"/>
                  <a:pt x="14782" y="14235"/>
                  <a:pt x="14957" y="14238"/>
                </a:cubicBezTo>
                <a:cubicBezTo>
                  <a:pt x="15138" y="14241"/>
                  <a:pt x="15321" y="14283"/>
                  <a:pt x="15503" y="14263"/>
                </a:cubicBezTo>
                <a:cubicBezTo>
                  <a:pt x="15647" y="14247"/>
                  <a:pt x="15779" y="14238"/>
                  <a:pt x="15925" y="14238"/>
                </a:cubicBezTo>
                <a:cubicBezTo>
                  <a:pt x="16091" y="14238"/>
                  <a:pt x="16253" y="14213"/>
                  <a:pt x="16421" y="14213"/>
                </a:cubicBezTo>
                <a:cubicBezTo>
                  <a:pt x="16591" y="14213"/>
                  <a:pt x="16774" y="14188"/>
                  <a:pt x="16942" y="14163"/>
                </a:cubicBezTo>
                <a:cubicBezTo>
                  <a:pt x="17094" y="14141"/>
                  <a:pt x="17234" y="14118"/>
                  <a:pt x="17388" y="14114"/>
                </a:cubicBezTo>
                <a:cubicBezTo>
                  <a:pt x="17529" y="14111"/>
                  <a:pt x="17667" y="14139"/>
                  <a:pt x="17810" y="14139"/>
                </a:cubicBezTo>
                <a:cubicBezTo>
                  <a:pt x="18050" y="14139"/>
                  <a:pt x="18289" y="14139"/>
                  <a:pt x="18529" y="14139"/>
                </a:cubicBezTo>
              </a:path>
              <a:path w="6425" h="5582">
                <a:moveTo>
                  <a:pt x="13841" y="9699"/>
                </a:moveTo>
                <a:cubicBezTo>
                  <a:pt x="13743" y="9712"/>
                  <a:pt x="13643" y="9749"/>
                  <a:pt x="13593" y="9847"/>
                </a:cubicBezTo>
                <a:cubicBezTo>
                  <a:pt x="13539" y="9952"/>
                  <a:pt x="13554" y="10071"/>
                  <a:pt x="13667" y="10120"/>
                </a:cubicBezTo>
                <a:cubicBezTo>
                  <a:pt x="13808" y="10181"/>
                  <a:pt x="13981" y="10199"/>
                  <a:pt x="14114" y="10120"/>
                </a:cubicBezTo>
                <a:cubicBezTo>
                  <a:pt x="14178" y="10082"/>
                  <a:pt x="14240" y="9941"/>
                  <a:pt x="14238" y="9872"/>
                </a:cubicBezTo>
                <a:cubicBezTo>
                  <a:pt x="14235" y="9756"/>
                  <a:pt x="14125" y="9632"/>
                  <a:pt x="14015" y="9599"/>
                </a:cubicBezTo>
                <a:cubicBezTo>
                  <a:pt x="13912" y="9568"/>
                  <a:pt x="13737" y="9652"/>
                  <a:pt x="13667" y="9723"/>
                </a:cubicBezTo>
                <a:cubicBezTo>
                  <a:pt x="13580" y="9810"/>
                  <a:pt x="13523" y="9978"/>
                  <a:pt x="13593" y="10096"/>
                </a:cubicBezTo>
                <a:cubicBezTo>
                  <a:pt x="13666" y="10218"/>
                  <a:pt x="13811" y="10266"/>
                  <a:pt x="13940" y="10220"/>
                </a:cubicBezTo>
                <a:cubicBezTo>
                  <a:pt x="14096" y="10165"/>
                  <a:pt x="14210" y="10126"/>
                  <a:pt x="14188" y="9971"/>
                </a:cubicBezTo>
                <a:cubicBezTo>
                  <a:pt x="14188" y="9963"/>
                  <a:pt x="14188" y="9955"/>
                  <a:pt x="14188" y="9947"/>
                </a:cubicBezTo>
              </a:path>
              <a:path w="6425" h="5582">
                <a:moveTo>
                  <a:pt x="13122" y="9004"/>
                </a:moveTo>
                <a:cubicBezTo>
                  <a:pt x="13099" y="9164"/>
                  <a:pt x="13088" y="9289"/>
                  <a:pt x="13097" y="9451"/>
                </a:cubicBezTo>
                <a:cubicBezTo>
                  <a:pt x="13097" y="9495"/>
                  <a:pt x="13094" y="9509"/>
                  <a:pt x="13122" y="9525"/>
                </a:cubicBezTo>
                <a:cubicBezTo>
                  <a:pt x="13172" y="9507"/>
                  <a:pt x="13221" y="9485"/>
                  <a:pt x="13271" y="9475"/>
                </a:cubicBezTo>
              </a:path>
              <a:path w="6425" h="5582">
                <a:moveTo>
                  <a:pt x="13345" y="9302"/>
                </a:moveTo>
                <a:cubicBezTo>
                  <a:pt x="13345" y="9350"/>
                  <a:pt x="13348" y="9351"/>
                  <a:pt x="13370" y="9401"/>
                </a:cubicBezTo>
              </a:path>
              <a:path w="6425" h="5582">
                <a:moveTo>
                  <a:pt x="13370" y="9401"/>
                </a:moveTo>
                <a:lnTo>
                  <a:pt x="13370" y="9401"/>
                </a:lnTo>
              </a:path>
              <a:path w="6425" h="5582">
                <a:moveTo>
                  <a:pt x="13246" y="9103"/>
                </a:moveTo>
                <a:cubicBezTo>
                  <a:pt x="13254" y="9103"/>
                  <a:pt x="13263" y="9103"/>
                  <a:pt x="13271" y="9103"/>
                </a:cubicBezTo>
              </a:path>
              <a:path w="6425" h="5582">
                <a:moveTo>
                  <a:pt x="13444" y="9128"/>
                </a:moveTo>
                <a:cubicBezTo>
                  <a:pt x="13409" y="9186"/>
                  <a:pt x="13419" y="9186"/>
                  <a:pt x="13444" y="9252"/>
                </a:cubicBezTo>
                <a:cubicBezTo>
                  <a:pt x="13617" y="9178"/>
                  <a:pt x="13548" y="9408"/>
                  <a:pt x="13519" y="9500"/>
                </a:cubicBezTo>
                <a:cubicBezTo>
                  <a:pt x="13476" y="9543"/>
                  <a:pt x="13457" y="9529"/>
                  <a:pt x="13444" y="9426"/>
                </a:cubicBezTo>
              </a:path>
              <a:path w="6425" h="5582">
                <a:moveTo>
                  <a:pt x="13742" y="10170"/>
                </a:moveTo>
                <a:cubicBezTo>
                  <a:pt x="13734" y="10202"/>
                  <a:pt x="13703" y="10253"/>
                  <a:pt x="13667" y="10269"/>
                </a:cubicBezTo>
                <a:cubicBezTo>
                  <a:pt x="13639" y="10282"/>
                  <a:pt x="13884" y="10269"/>
                  <a:pt x="13940" y="10269"/>
                </a:cubicBezTo>
                <a:cubicBezTo>
                  <a:pt x="13973" y="10269"/>
                  <a:pt x="14006" y="10269"/>
                  <a:pt x="14039" y="10269"/>
                </a:cubicBezTo>
                <a:cubicBezTo>
                  <a:pt x="14140" y="10269"/>
                  <a:pt x="13891" y="10285"/>
                  <a:pt x="13791" y="10269"/>
                </a:cubicBezTo>
                <a:cubicBezTo>
                  <a:pt x="13717" y="10250"/>
                  <a:pt x="13710" y="10242"/>
                  <a:pt x="13667" y="10244"/>
                </a:cubicBezTo>
                <a:cubicBezTo>
                  <a:pt x="13800" y="10250"/>
                  <a:pt x="13931" y="10262"/>
                  <a:pt x="14064" y="10269"/>
                </a:cubicBezTo>
                <a:cubicBezTo>
                  <a:pt x="14028" y="10265"/>
                  <a:pt x="13794" y="10234"/>
                  <a:pt x="13841" y="10220"/>
                </a:cubicBezTo>
                <a:cubicBezTo>
                  <a:pt x="13910" y="10199"/>
                  <a:pt x="14048" y="10242"/>
                  <a:pt x="14064" y="10195"/>
                </a:cubicBezTo>
              </a:path>
              <a:path w="6425" h="5582">
                <a:moveTo>
                  <a:pt x="14238" y="10170"/>
                </a:moveTo>
                <a:cubicBezTo>
                  <a:pt x="14182" y="10218"/>
                  <a:pt x="14149" y="10255"/>
                  <a:pt x="14213" y="10195"/>
                </a:cubicBezTo>
                <a:cubicBezTo>
                  <a:pt x="14233" y="10176"/>
                  <a:pt x="14389" y="10032"/>
                  <a:pt x="14436" y="10071"/>
                </a:cubicBezTo>
                <a:cubicBezTo>
                  <a:pt x="14531" y="10149"/>
                  <a:pt x="14245" y="10208"/>
                  <a:pt x="14139" y="10269"/>
                </a:cubicBezTo>
                <a:cubicBezTo>
                  <a:pt x="13870" y="10416"/>
                  <a:pt x="14258" y="10165"/>
                  <a:pt x="14288" y="10145"/>
                </a:cubicBezTo>
                <a:cubicBezTo>
                  <a:pt x="14589" y="9941"/>
                  <a:pt x="14373" y="10103"/>
                  <a:pt x="14213" y="10195"/>
                </a:cubicBezTo>
                <a:cubicBezTo>
                  <a:pt x="14097" y="10262"/>
                  <a:pt x="13840" y="10400"/>
                  <a:pt x="14139" y="10195"/>
                </a:cubicBezTo>
                <a:cubicBezTo>
                  <a:pt x="14162" y="10179"/>
                  <a:pt x="14414" y="10050"/>
                  <a:pt x="14387" y="10071"/>
                </a:cubicBezTo>
                <a:cubicBezTo>
                  <a:pt x="14273" y="10160"/>
                  <a:pt x="14146" y="10323"/>
                  <a:pt x="13990" y="10344"/>
                </a:cubicBezTo>
                <a:cubicBezTo>
                  <a:pt x="13816" y="10367"/>
                  <a:pt x="14268" y="10148"/>
                  <a:pt x="14412" y="10046"/>
                </a:cubicBezTo>
                <a:cubicBezTo>
                  <a:pt x="14420" y="10038"/>
                  <a:pt x="14428" y="10029"/>
                  <a:pt x="14436" y="10021"/>
                </a:cubicBezTo>
                <a:cubicBezTo>
                  <a:pt x="14252" y="10169"/>
                  <a:pt x="13683" y="10440"/>
                  <a:pt x="13915" y="10393"/>
                </a:cubicBezTo>
                <a:cubicBezTo>
                  <a:pt x="13989" y="10378"/>
                  <a:pt x="13893" y="10481"/>
                  <a:pt x="13866" y="10492"/>
                </a:cubicBezTo>
                <a:cubicBezTo>
                  <a:pt x="13774" y="10530"/>
                  <a:pt x="13997" y="10430"/>
                  <a:pt x="14089" y="10393"/>
                </a:cubicBezTo>
                <a:cubicBezTo>
                  <a:pt x="14194" y="10351"/>
                  <a:pt x="14442" y="10257"/>
                  <a:pt x="14560" y="10294"/>
                </a:cubicBezTo>
                <a:cubicBezTo>
                  <a:pt x="14738" y="10350"/>
                  <a:pt x="14219" y="10393"/>
                  <a:pt x="14039" y="10443"/>
                </a:cubicBezTo>
                <a:cubicBezTo>
                  <a:pt x="13974" y="10461"/>
                  <a:pt x="13900" y="10475"/>
                  <a:pt x="13990" y="10492"/>
                </a:cubicBezTo>
                <a:cubicBezTo>
                  <a:pt x="14155" y="10461"/>
                  <a:pt x="14654" y="10418"/>
                  <a:pt x="14486" y="10418"/>
                </a:cubicBezTo>
                <a:cubicBezTo>
                  <a:pt x="14442" y="10418"/>
                  <a:pt x="13971" y="10451"/>
                  <a:pt x="13990" y="10492"/>
                </a:cubicBezTo>
                <a:cubicBezTo>
                  <a:pt x="14002" y="10518"/>
                  <a:pt x="14471" y="10391"/>
                  <a:pt x="14536" y="10393"/>
                </a:cubicBezTo>
                <a:cubicBezTo>
                  <a:pt x="14544" y="10401"/>
                  <a:pt x="14552" y="10410"/>
                  <a:pt x="14560" y="10418"/>
                </a:cubicBezTo>
                <a:cubicBezTo>
                  <a:pt x="14423" y="10435"/>
                  <a:pt x="14281" y="10453"/>
                  <a:pt x="14139" y="10468"/>
                </a:cubicBezTo>
                <a:cubicBezTo>
                  <a:pt x="14103" y="10472"/>
                  <a:pt x="14423" y="10424"/>
                  <a:pt x="14486" y="10418"/>
                </a:cubicBezTo>
                <a:cubicBezTo>
                  <a:pt x="14765" y="10393"/>
                  <a:pt x="14230" y="10464"/>
                  <a:pt x="14188" y="10468"/>
                </a:cubicBezTo>
                <a:cubicBezTo>
                  <a:pt x="14127" y="10474"/>
                  <a:pt x="14053" y="10482"/>
                  <a:pt x="14114" y="10418"/>
                </a:cubicBezTo>
                <a:cubicBezTo>
                  <a:pt x="14211" y="10315"/>
                  <a:pt x="14389" y="10197"/>
                  <a:pt x="14461" y="10096"/>
                </a:cubicBezTo>
                <a:cubicBezTo>
                  <a:pt x="14535" y="9992"/>
                  <a:pt x="14306" y="10231"/>
                  <a:pt x="14213" y="10319"/>
                </a:cubicBezTo>
                <a:cubicBezTo>
                  <a:pt x="14152" y="10376"/>
                  <a:pt x="14084" y="10488"/>
                  <a:pt x="14039" y="10443"/>
                </a:cubicBezTo>
                <a:cubicBezTo>
                  <a:pt x="14133" y="10330"/>
                  <a:pt x="14236" y="10176"/>
                  <a:pt x="14362" y="10096"/>
                </a:cubicBezTo>
                <a:cubicBezTo>
                  <a:pt x="14455" y="10037"/>
                  <a:pt x="14271" y="10247"/>
                  <a:pt x="14188" y="10319"/>
                </a:cubicBezTo>
                <a:cubicBezTo>
                  <a:pt x="14178" y="10328"/>
                  <a:pt x="13981" y="10465"/>
                  <a:pt x="13990" y="10468"/>
                </a:cubicBezTo>
                <a:cubicBezTo>
                  <a:pt x="14117" y="10511"/>
                  <a:pt x="14366" y="10429"/>
                  <a:pt x="14486" y="10393"/>
                </a:cubicBezTo>
                <a:cubicBezTo>
                  <a:pt x="14586" y="10363"/>
                  <a:pt x="14487" y="10392"/>
                  <a:pt x="14436" y="10418"/>
                </a:cubicBezTo>
                <a:cubicBezTo>
                  <a:pt x="14289" y="10455"/>
                  <a:pt x="13891" y="10521"/>
                  <a:pt x="14039" y="10492"/>
                </a:cubicBezTo>
                <a:cubicBezTo>
                  <a:pt x="14149" y="10471"/>
                  <a:pt x="14255" y="10449"/>
                  <a:pt x="14362" y="10418"/>
                </a:cubicBezTo>
              </a:path>
              <a:path w="6425" h="5582">
                <a:moveTo>
                  <a:pt x="14312" y="10492"/>
                </a:moveTo>
                <a:lnTo>
                  <a:pt x="14312" y="10492"/>
                </a:lnTo>
              </a:path>
              <a:path w="6425" h="5582">
                <a:moveTo>
                  <a:pt x="14288" y="10492"/>
                </a:moveTo>
                <a:lnTo>
                  <a:pt x="14288" y="10492"/>
                </a:lnTo>
              </a:path>
              <a:path w="6425" h="5582">
                <a:moveTo>
                  <a:pt x="14288" y="10492"/>
                </a:moveTo>
                <a:cubicBezTo>
                  <a:pt x="14288" y="10500"/>
                  <a:pt x="14288" y="10509"/>
                  <a:pt x="14288" y="10517"/>
                </a:cubicBezTo>
              </a:path>
              <a:path w="6425" h="5582">
                <a:moveTo>
                  <a:pt x="13271" y="10666"/>
                </a:moveTo>
                <a:cubicBezTo>
                  <a:pt x="13295" y="10666"/>
                  <a:pt x="13303" y="10666"/>
                  <a:pt x="13295" y="10641"/>
                </a:cubicBezTo>
              </a:path>
              <a:path w="6425" h="5582">
                <a:moveTo>
                  <a:pt x="12601" y="9029"/>
                </a:moveTo>
                <a:cubicBezTo>
                  <a:pt x="12621" y="8949"/>
                  <a:pt x="12700" y="8945"/>
                  <a:pt x="12774" y="8930"/>
                </a:cubicBezTo>
                <a:cubicBezTo>
                  <a:pt x="12759" y="9050"/>
                  <a:pt x="12739" y="9098"/>
                  <a:pt x="12675" y="9203"/>
                </a:cubicBezTo>
                <a:cubicBezTo>
                  <a:pt x="12726" y="9190"/>
                  <a:pt x="12784" y="9165"/>
                  <a:pt x="12750" y="9277"/>
                </a:cubicBezTo>
                <a:cubicBezTo>
                  <a:pt x="12724" y="9364"/>
                  <a:pt x="12503" y="9519"/>
                  <a:pt x="12502" y="9351"/>
                </a:cubicBezTo>
                <a:cubicBezTo>
                  <a:pt x="12510" y="9335"/>
                  <a:pt x="12518" y="9318"/>
                  <a:pt x="12526" y="9302"/>
                </a:cubicBezTo>
              </a:path>
              <a:path w="6425" h="5582">
                <a:moveTo>
                  <a:pt x="12750" y="8682"/>
                </a:moveTo>
                <a:cubicBezTo>
                  <a:pt x="12469" y="8796"/>
                  <a:pt x="12113" y="8934"/>
                  <a:pt x="12105" y="9302"/>
                </a:cubicBezTo>
                <a:cubicBezTo>
                  <a:pt x="12098" y="9658"/>
                  <a:pt x="12530" y="10074"/>
                  <a:pt x="12874" y="9773"/>
                </a:cubicBezTo>
                <a:cubicBezTo>
                  <a:pt x="13189" y="9497"/>
                  <a:pt x="13020" y="9099"/>
                  <a:pt x="12774" y="8880"/>
                </a:cubicBezTo>
                <a:cubicBezTo>
                  <a:pt x="12749" y="8863"/>
                  <a:pt x="12725" y="8847"/>
                  <a:pt x="12700" y="88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94080" y="1027080"/>
            <a:ext cx="27000" cy="204840"/>
          </a:xfrm>
          <a:custGeom>
            <a:avLst/>
            <a:gdLst/>
            <a:ahLst/>
            <a:rect l="l" t="t" r="r" b="b"/>
            <a:pathLst>
              <a:path w="75" h="571">
                <a:moveTo>
                  <a:pt x="9451" y="2952"/>
                </a:moveTo>
                <a:cubicBezTo>
                  <a:pt x="9451" y="2894"/>
                  <a:pt x="9451" y="2886"/>
                  <a:pt x="9451" y="2853"/>
                </a:cubicBezTo>
                <a:cubicBezTo>
                  <a:pt x="9451" y="3001"/>
                  <a:pt x="9428" y="3146"/>
                  <a:pt x="9426" y="3299"/>
                </a:cubicBezTo>
                <a:cubicBezTo>
                  <a:pt x="9423" y="3472"/>
                  <a:pt x="9411" y="3429"/>
                  <a:pt x="9500" y="32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43200" y="1089000"/>
            <a:ext cx="196920" cy="125280"/>
          </a:xfrm>
          <a:custGeom>
            <a:avLst/>
            <a:gdLst/>
            <a:ahLst/>
            <a:rect l="l" t="t" r="r" b="b"/>
            <a:pathLst>
              <a:path w="547" h="348">
                <a:moveTo>
                  <a:pt x="10120" y="3150"/>
                </a:moveTo>
                <a:cubicBezTo>
                  <a:pt x="10137" y="3232"/>
                  <a:pt x="10145" y="3291"/>
                  <a:pt x="10145" y="3373"/>
                </a:cubicBezTo>
                <a:cubicBezTo>
                  <a:pt x="10162" y="3276"/>
                  <a:pt x="10180" y="3135"/>
                  <a:pt x="10269" y="3076"/>
                </a:cubicBezTo>
                <a:cubicBezTo>
                  <a:pt x="10350" y="3022"/>
                  <a:pt x="10382" y="3222"/>
                  <a:pt x="10393" y="3274"/>
                </a:cubicBezTo>
                <a:cubicBezTo>
                  <a:pt x="10408" y="3247"/>
                  <a:pt x="10541" y="2964"/>
                  <a:pt x="10592" y="3026"/>
                </a:cubicBezTo>
                <a:cubicBezTo>
                  <a:pt x="10643" y="3155"/>
                  <a:pt x="10659" y="3201"/>
                  <a:pt x="10641" y="3299"/>
                </a:cubicBezTo>
                <a:cubicBezTo>
                  <a:pt x="10641" y="3401"/>
                  <a:pt x="10638" y="3367"/>
                  <a:pt x="10666" y="32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98960" y="973080"/>
            <a:ext cx="758880" cy="295200"/>
          </a:xfrm>
          <a:custGeom>
            <a:avLst/>
            <a:gdLst/>
            <a:ahLst/>
            <a:rect l="l" t="t" r="r" b="b"/>
            <a:pathLst>
              <a:path w="2110" h="819">
                <a:moveTo>
                  <a:pt x="11633" y="2704"/>
                </a:moveTo>
                <a:cubicBezTo>
                  <a:pt x="11673" y="2929"/>
                  <a:pt x="11664" y="3167"/>
                  <a:pt x="11683" y="3398"/>
                </a:cubicBezTo>
                <a:cubicBezTo>
                  <a:pt x="11683" y="3433"/>
                  <a:pt x="11678" y="3432"/>
                  <a:pt x="11658" y="3373"/>
                </a:cubicBezTo>
              </a:path>
              <a:path w="2110" h="819">
                <a:moveTo>
                  <a:pt x="11385" y="3150"/>
                </a:moveTo>
                <a:cubicBezTo>
                  <a:pt x="11594" y="3124"/>
                  <a:pt x="11796" y="3108"/>
                  <a:pt x="12005" y="3150"/>
                </a:cubicBezTo>
                <a:cubicBezTo>
                  <a:pt x="12030" y="3158"/>
                  <a:pt x="12055" y="3167"/>
                  <a:pt x="12080" y="3175"/>
                </a:cubicBezTo>
              </a:path>
              <a:path w="2110" h="819">
                <a:moveTo>
                  <a:pt x="12229" y="3423"/>
                </a:moveTo>
                <a:cubicBezTo>
                  <a:pt x="12176" y="3303"/>
                  <a:pt x="12120" y="3198"/>
                  <a:pt x="12204" y="3076"/>
                </a:cubicBezTo>
                <a:cubicBezTo>
                  <a:pt x="12280" y="2965"/>
                  <a:pt x="12409" y="3072"/>
                  <a:pt x="12477" y="3101"/>
                </a:cubicBezTo>
              </a:path>
              <a:path w="2110" h="819">
                <a:moveTo>
                  <a:pt x="12650" y="3175"/>
                </a:moveTo>
                <a:cubicBezTo>
                  <a:pt x="12569" y="3142"/>
                  <a:pt x="12462" y="3086"/>
                  <a:pt x="12402" y="3225"/>
                </a:cubicBezTo>
                <a:cubicBezTo>
                  <a:pt x="12402" y="3307"/>
                  <a:pt x="12402" y="3324"/>
                  <a:pt x="12402" y="3373"/>
                </a:cubicBezTo>
                <a:cubicBezTo>
                  <a:pt x="12467" y="3343"/>
                  <a:pt x="12624" y="3220"/>
                  <a:pt x="12626" y="3225"/>
                </a:cubicBezTo>
                <a:cubicBezTo>
                  <a:pt x="12665" y="3345"/>
                  <a:pt x="12617" y="3319"/>
                  <a:pt x="12700" y="3373"/>
                </a:cubicBezTo>
              </a:path>
              <a:path w="2110" h="819">
                <a:moveTo>
                  <a:pt x="12923" y="3101"/>
                </a:moveTo>
                <a:cubicBezTo>
                  <a:pt x="12756" y="3123"/>
                  <a:pt x="12650" y="3211"/>
                  <a:pt x="12774" y="3398"/>
                </a:cubicBezTo>
                <a:cubicBezTo>
                  <a:pt x="12873" y="3546"/>
                  <a:pt x="13061" y="3370"/>
                  <a:pt x="13146" y="3324"/>
                </a:cubicBezTo>
              </a:path>
              <a:path w="2110" h="819">
                <a:moveTo>
                  <a:pt x="13122" y="2952"/>
                </a:moveTo>
                <a:cubicBezTo>
                  <a:pt x="13140" y="3098"/>
                  <a:pt x="13106" y="3382"/>
                  <a:pt x="13221" y="3497"/>
                </a:cubicBezTo>
                <a:cubicBezTo>
                  <a:pt x="13229" y="3489"/>
                  <a:pt x="13238" y="3481"/>
                  <a:pt x="13246" y="3473"/>
                </a:cubicBezTo>
              </a:path>
              <a:path w="2110" h="819">
                <a:moveTo>
                  <a:pt x="13345" y="3274"/>
                </a:moveTo>
                <a:cubicBezTo>
                  <a:pt x="13247" y="3327"/>
                  <a:pt x="13219" y="3385"/>
                  <a:pt x="13146" y="3473"/>
                </a:cubicBezTo>
                <a:cubicBezTo>
                  <a:pt x="13279" y="3529"/>
                  <a:pt x="13351" y="3511"/>
                  <a:pt x="13494" y="349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68840" y="3456000"/>
            <a:ext cx="1803240" cy="1000080"/>
          </a:xfrm>
          <a:custGeom>
            <a:avLst/>
            <a:gdLst/>
            <a:ahLst/>
            <a:rect l="l" t="t" r="r" b="b"/>
            <a:pathLst>
              <a:path w="5011" h="2780">
                <a:moveTo>
                  <a:pt x="12030" y="10071"/>
                </a:moveTo>
                <a:cubicBezTo>
                  <a:pt x="12046" y="10079"/>
                  <a:pt x="11985" y="10264"/>
                  <a:pt x="11981" y="10319"/>
                </a:cubicBezTo>
                <a:cubicBezTo>
                  <a:pt x="11973" y="10419"/>
                  <a:pt x="11965" y="10493"/>
                  <a:pt x="12030" y="10542"/>
                </a:cubicBezTo>
                <a:cubicBezTo>
                  <a:pt x="11988" y="10528"/>
                  <a:pt x="11983" y="10472"/>
                  <a:pt x="11981" y="10418"/>
                </a:cubicBezTo>
                <a:cubicBezTo>
                  <a:pt x="11978" y="10332"/>
                  <a:pt x="11985" y="10268"/>
                  <a:pt x="12005" y="10220"/>
                </a:cubicBezTo>
                <a:cubicBezTo>
                  <a:pt x="12020" y="10184"/>
                  <a:pt x="11999" y="10157"/>
                  <a:pt x="12055" y="10145"/>
                </a:cubicBezTo>
                <a:cubicBezTo>
                  <a:pt x="12139" y="10127"/>
                  <a:pt x="12221" y="10164"/>
                  <a:pt x="12303" y="10170"/>
                </a:cubicBezTo>
                <a:cubicBezTo>
                  <a:pt x="12328" y="10170"/>
                  <a:pt x="12336" y="10170"/>
                  <a:pt x="12353" y="10170"/>
                </a:cubicBezTo>
              </a:path>
              <a:path w="5011" h="2780">
                <a:moveTo>
                  <a:pt x="12254" y="10170"/>
                </a:moveTo>
                <a:cubicBezTo>
                  <a:pt x="12246" y="10110"/>
                  <a:pt x="12230" y="10025"/>
                  <a:pt x="12204" y="9971"/>
                </a:cubicBezTo>
                <a:cubicBezTo>
                  <a:pt x="12179" y="9971"/>
                  <a:pt x="12171" y="9971"/>
                  <a:pt x="12179" y="9947"/>
                </a:cubicBezTo>
                <a:cubicBezTo>
                  <a:pt x="12240" y="9938"/>
                  <a:pt x="12262" y="9921"/>
                  <a:pt x="12328" y="9897"/>
                </a:cubicBezTo>
                <a:cubicBezTo>
                  <a:pt x="12384" y="9877"/>
                  <a:pt x="12481" y="9898"/>
                  <a:pt x="12526" y="9872"/>
                </a:cubicBezTo>
                <a:cubicBezTo>
                  <a:pt x="12526" y="9864"/>
                  <a:pt x="12526" y="9855"/>
                  <a:pt x="12526" y="9847"/>
                </a:cubicBezTo>
                <a:cubicBezTo>
                  <a:pt x="12526" y="9950"/>
                  <a:pt x="12515" y="10045"/>
                  <a:pt x="12502" y="10145"/>
                </a:cubicBezTo>
                <a:cubicBezTo>
                  <a:pt x="12498" y="10176"/>
                  <a:pt x="12502" y="10212"/>
                  <a:pt x="12502" y="10244"/>
                </a:cubicBezTo>
                <a:cubicBezTo>
                  <a:pt x="12606" y="10238"/>
                  <a:pt x="12724" y="10192"/>
                  <a:pt x="12824" y="10195"/>
                </a:cubicBezTo>
                <a:cubicBezTo>
                  <a:pt x="12908" y="10197"/>
                  <a:pt x="12964" y="10199"/>
                  <a:pt x="13047" y="10195"/>
                </a:cubicBezTo>
                <a:cubicBezTo>
                  <a:pt x="13111" y="10192"/>
                  <a:pt x="13082" y="10198"/>
                  <a:pt x="13097" y="10244"/>
                </a:cubicBezTo>
                <a:cubicBezTo>
                  <a:pt x="13113" y="10293"/>
                  <a:pt x="13131" y="10346"/>
                  <a:pt x="13146" y="10393"/>
                </a:cubicBezTo>
                <a:cubicBezTo>
                  <a:pt x="13004" y="10456"/>
                  <a:pt x="12863" y="10525"/>
                  <a:pt x="12700" y="10542"/>
                </a:cubicBezTo>
                <a:cubicBezTo>
                  <a:pt x="12592" y="10553"/>
                  <a:pt x="12473" y="10549"/>
                  <a:pt x="12378" y="10567"/>
                </a:cubicBezTo>
                <a:cubicBezTo>
                  <a:pt x="12319" y="10578"/>
                  <a:pt x="12281" y="10562"/>
                  <a:pt x="12229" y="10542"/>
                </a:cubicBezTo>
                <a:cubicBezTo>
                  <a:pt x="12213" y="10536"/>
                  <a:pt x="12229" y="10531"/>
                  <a:pt x="12229" y="10517"/>
                </a:cubicBezTo>
                <a:cubicBezTo>
                  <a:pt x="12179" y="10560"/>
                  <a:pt x="11938" y="10803"/>
                  <a:pt x="12229" y="10740"/>
                </a:cubicBezTo>
                <a:cubicBezTo>
                  <a:pt x="12421" y="10698"/>
                  <a:pt x="12509" y="10506"/>
                  <a:pt x="12303" y="10443"/>
                </a:cubicBezTo>
                <a:cubicBezTo>
                  <a:pt x="12227" y="10420"/>
                  <a:pt x="12331" y="10506"/>
                  <a:pt x="12402" y="10542"/>
                </a:cubicBezTo>
              </a:path>
              <a:path w="5011" h="2780">
                <a:moveTo>
                  <a:pt x="12948" y="10492"/>
                </a:moveTo>
                <a:cubicBezTo>
                  <a:pt x="12948" y="10484"/>
                  <a:pt x="12948" y="10476"/>
                  <a:pt x="12948" y="10468"/>
                </a:cubicBezTo>
              </a:path>
              <a:path w="5011" h="2780">
                <a:moveTo>
                  <a:pt x="13047" y="10418"/>
                </a:moveTo>
                <a:cubicBezTo>
                  <a:pt x="12845" y="10485"/>
                  <a:pt x="12763" y="10509"/>
                  <a:pt x="12725" y="10716"/>
                </a:cubicBezTo>
                <a:cubicBezTo>
                  <a:pt x="12858" y="10786"/>
                  <a:pt x="13094" y="10858"/>
                  <a:pt x="13047" y="10592"/>
                </a:cubicBezTo>
                <a:cubicBezTo>
                  <a:pt x="12998" y="10517"/>
                  <a:pt x="12982" y="10492"/>
                  <a:pt x="12923" y="10468"/>
                </a:cubicBezTo>
              </a:path>
              <a:path w="5011" h="2780">
                <a:moveTo>
                  <a:pt x="13097" y="10220"/>
                </a:moveTo>
                <a:cubicBezTo>
                  <a:pt x="13163" y="10154"/>
                  <a:pt x="13175" y="10127"/>
                  <a:pt x="13271" y="10120"/>
                </a:cubicBezTo>
                <a:cubicBezTo>
                  <a:pt x="13320" y="10117"/>
                  <a:pt x="13349" y="10159"/>
                  <a:pt x="13370" y="10195"/>
                </a:cubicBezTo>
                <a:cubicBezTo>
                  <a:pt x="13406" y="10258"/>
                  <a:pt x="13391" y="10292"/>
                  <a:pt x="13444" y="10344"/>
                </a:cubicBezTo>
                <a:cubicBezTo>
                  <a:pt x="13482" y="10382"/>
                  <a:pt x="13514" y="10404"/>
                  <a:pt x="13568" y="10418"/>
                </a:cubicBezTo>
                <a:cubicBezTo>
                  <a:pt x="13632" y="10434"/>
                  <a:pt x="13662" y="10412"/>
                  <a:pt x="13717" y="10443"/>
                </a:cubicBezTo>
                <a:cubicBezTo>
                  <a:pt x="13772" y="10474"/>
                  <a:pt x="13786" y="10542"/>
                  <a:pt x="13841" y="10567"/>
                </a:cubicBezTo>
                <a:cubicBezTo>
                  <a:pt x="13850" y="10571"/>
                  <a:pt x="13936" y="10610"/>
                  <a:pt x="13940" y="10616"/>
                </a:cubicBezTo>
                <a:cubicBezTo>
                  <a:pt x="13943" y="10620"/>
                  <a:pt x="14015" y="10671"/>
                  <a:pt x="14039" y="10641"/>
                </a:cubicBezTo>
                <a:cubicBezTo>
                  <a:pt x="14047" y="10631"/>
                  <a:pt x="14055" y="10574"/>
                  <a:pt x="14064" y="10567"/>
                </a:cubicBezTo>
                <a:cubicBezTo>
                  <a:pt x="14089" y="10567"/>
                  <a:pt x="14097" y="10567"/>
                  <a:pt x="14089" y="10542"/>
                </a:cubicBezTo>
                <a:cubicBezTo>
                  <a:pt x="14076" y="10504"/>
                  <a:pt x="14064" y="10521"/>
                  <a:pt x="14064" y="10468"/>
                </a:cubicBezTo>
              </a:path>
              <a:path w="5011" h="2780">
                <a:moveTo>
                  <a:pt x="11683" y="9823"/>
                </a:moveTo>
                <a:cubicBezTo>
                  <a:pt x="11443" y="9892"/>
                  <a:pt x="11260" y="9903"/>
                  <a:pt x="11013" y="9872"/>
                </a:cubicBezTo>
                <a:cubicBezTo>
                  <a:pt x="10971" y="9867"/>
                  <a:pt x="10683" y="9846"/>
                  <a:pt x="10716" y="9823"/>
                </a:cubicBezTo>
                <a:cubicBezTo>
                  <a:pt x="10749" y="9798"/>
                  <a:pt x="10782" y="9773"/>
                  <a:pt x="10815" y="9748"/>
                </a:cubicBezTo>
              </a:path>
              <a:path w="5011" h="2780">
                <a:moveTo>
                  <a:pt x="11013" y="9599"/>
                </a:moveTo>
                <a:cubicBezTo>
                  <a:pt x="10992" y="9684"/>
                  <a:pt x="10717" y="9834"/>
                  <a:pt x="10641" y="9872"/>
                </a:cubicBezTo>
                <a:cubicBezTo>
                  <a:pt x="10531" y="9909"/>
                  <a:pt x="10509" y="9896"/>
                  <a:pt x="10468" y="9947"/>
                </a:cubicBezTo>
                <a:cubicBezTo>
                  <a:pt x="10598" y="10011"/>
                  <a:pt x="10747" y="10013"/>
                  <a:pt x="10864" y="10120"/>
                </a:cubicBezTo>
                <a:cubicBezTo>
                  <a:pt x="10945" y="10194"/>
                  <a:pt x="10849" y="10198"/>
                  <a:pt x="10988" y="10170"/>
                </a:cubicBezTo>
              </a:path>
              <a:path w="5011" h="2780">
                <a:moveTo>
                  <a:pt x="14883" y="10170"/>
                </a:moveTo>
                <a:cubicBezTo>
                  <a:pt x="14882" y="10140"/>
                  <a:pt x="15044" y="10257"/>
                  <a:pt x="15131" y="10294"/>
                </a:cubicBezTo>
                <a:cubicBezTo>
                  <a:pt x="15158" y="10305"/>
                  <a:pt x="15309" y="10399"/>
                  <a:pt x="15230" y="10294"/>
                </a:cubicBezTo>
                <a:cubicBezTo>
                  <a:pt x="15184" y="10248"/>
                  <a:pt x="15170" y="10236"/>
                  <a:pt x="15156" y="10195"/>
                </a:cubicBezTo>
                <a:cubicBezTo>
                  <a:pt x="15148" y="10195"/>
                  <a:pt x="15139" y="10195"/>
                  <a:pt x="15131" y="10195"/>
                </a:cubicBezTo>
                <a:cubicBezTo>
                  <a:pt x="15200" y="10209"/>
                  <a:pt x="15223" y="10275"/>
                  <a:pt x="15280" y="10294"/>
                </a:cubicBezTo>
                <a:cubicBezTo>
                  <a:pt x="15296" y="10294"/>
                  <a:pt x="15313" y="10294"/>
                  <a:pt x="15329" y="10294"/>
                </a:cubicBezTo>
                <a:cubicBezTo>
                  <a:pt x="15329" y="10380"/>
                  <a:pt x="15252" y="10376"/>
                  <a:pt x="15205" y="10443"/>
                </a:cubicBezTo>
                <a:cubicBezTo>
                  <a:pt x="15205" y="10471"/>
                  <a:pt x="15203" y="10482"/>
                  <a:pt x="15180" y="10492"/>
                </a:cubicBezTo>
              </a:path>
              <a:path w="5011" h="2780">
                <a:moveTo>
                  <a:pt x="15478" y="11063"/>
                </a:moveTo>
                <a:cubicBezTo>
                  <a:pt x="15425" y="11189"/>
                  <a:pt x="15317" y="11256"/>
                  <a:pt x="15205" y="11336"/>
                </a:cubicBezTo>
                <a:cubicBezTo>
                  <a:pt x="15156" y="11371"/>
                  <a:pt x="15070" y="11417"/>
                  <a:pt x="15056" y="11460"/>
                </a:cubicBezTo>
              </a:path>
              <a:path w="5011" h="2780">
                <a:moveTo>
                  <a:pt x="15106" y="11286"/>
                </a:moveTo>
                <a:lnTo>
                  <a:pt x="15106" y="11286"/>
                </a:lnTo>
                <a:lnTo>
                  <a:pt x="15081" y="11336"/>
                </a:lnTo>
                <a:lnTo>
                  <a:pt x="15032" y="11385"/>
                </a:lnTo>
                <a:lnTo>
                  <a:pt x="15032" y="11435"/>
                </a:lnTo>
                <a:lnTo>
                  <a:pt x="15056" y="11435"/>
                </a:lnTo>
                <a:lnTo>
                  <a:pt x="15131" y="11485"/>
                </a:lnTo>
                <a:lnTo>
                  <a:pt x="15205" y="11460"/>
                </a:lnTo>
                <a:lnTo>
                  <a:pt x="15255" y="11460"/>
                </a:lnTo>
                <a:lnTo>
                  <a:pt x="15280" y="11460"/>
                </a:lnTo>
                <a:lnTo>
                  <a:pt x="15255" y="11460"/>
                </a:lnTo>
              </a:path>
              <a:path w="5011" h="2780">
                <a:moveTo>
                  <a:pt x="14288" y="11956"/>
                </a:moveTo>
                <a:cubicBezTo>
                  <a:pt x="14362" y="12016"/>
                  <a:pt x="14461" y="12047"/>
                  <a:pt x="14536" y="12105"/>
                </a:cubicBezTo>
                <a:cubicBezTo>
                  <a:pt x="14614" y="12165"/>
                  <a:pt x="14660" y="12234"/>
                  <a:pt x="14759" y="12254"/>
                </a:cubicBezTo>
                <a:cubicBezTo>
                  <a:pt x="14735" y="12188"/>
                  <a:pt x="14697" y="12121"/>
                  <a:pt x="14684" y="12055"/>
                </a:cubicBezTo>
                <a:cubicBezTo>
                  <a:pt x="14723" y="12094"/>
                  <a:pt x="14808" y="12134"/>
                  <a:pt x="14833" y="12179"/>
                </a:cubicBezTo>
                <a:cubicBezTo>
                  <a:pt x="14888" y="12279"/>
                  <a:pt x="14709" y="12321"/>
                  <a:pt x="14660" y="12353"/>
                </a:cubicBezTo>
                <a:cubicBezTo>
                  <a:pt x="14652" y="12361"/>
                  <a:pt x="14643" y="12370"/>
                  <a:pt x="14635" y="123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31920" y="3956040"/>
            <a:ext cx="750960" cy="517680"/>
          </a:xfrm>
          <a:custGeom>
            <a:avLst/>
            <a:gdLst/>
            <a:ahLst/>
            <a:rect l="l" t="t" r="r" b="b"/>
            <a:pathLst>
              <a:path w="2085" h="1440">
                <a:moveTo>
                  <a:pt x="3522" y="10988"/>
                </a:moveTo>
                <a:lnTo>
                  <a:pt x="3522" y="10988"/>
                </a:lnTo>
              </a:path>
              <a:path w="2085" h="1440">
                <a:moveTo>
                  <a:pt x="3522" y="10988"/>
                </a:moveTo>
                <a:cubicBezTo>
                  <a:pt x="3466" y="10988"/>
                  <a:pt x="3444" y="10993"/>
                  <a:pt x="3423" y="11038"/>
                </a:cubicBezTo>
              </a:path>
              <a:path w="2085" h="1440">
                <a:moveTo>
                  <a:pt x="4713" y="11981"/>
                </a:moveTo>
                <a:cubicBezTo>
                  <a:pt x="4764" y="11938"/>
                  <a:pt x="4893" y="11831"/>
                  <a:pt x="4936" y="11956"/>
                </a:cubicBezTo>
                <a:cubicBezTo>
                  <a:pt x="4978" y="12079"/>
                  <a:pt x="4870" y="12188"/>
                  <a:pt x="4812" y="12278"/>
                </a:cubicBezTo>
                <a:cubicBezTo>
                  <a:pt x="4886" y="12264"/>
                  <a:pt x="4962" y="12229"/>
                  <a:pt x="5035" y="12204"/>
                </a:cubicBezTo>
              </a:path>
              <a:path w="2085" h="1440">
                <a:moveTo>
                  <a:pt x="4862" y="11509"/>
                </a:moveTo>
                <a:cubicBezTo>
                  <a:pt x="4660" y="11567"/>
                  <a:pt x="4283" y="11672"/>
                  <a:pt x="4291" y="11956"/>
                </a:cubicBezTo>
                <a:cubicBezTo>
                  <a:pt x="4302" y="12338"/>
                  <a:pt x="4704" y="12480"/>
                  <a:pt x="5011" y="12378"/>
                </a:cubicBezTo>
                <a:cubicBezTo>
                  <a:pt x="5265" y="12293"/>
                  <a:pt x="5567" y="12137"/>
                  <a:pt x="5482" y="11832"/>
                </a:cubicBezTo>
                <a:cubicBezTo>
                  <a:pt x="5406" y="11558"/>
                  <a:pt x="5176" y="11440"/>
                  <a:pt x="4911" y="11485"/>
                </a:cubicBezTo>
                <a:cubicBezTo>
                  <a:pt x="4861" y="11501"/>
                  <a:pt x="4812" y="11518"/>
                  <a:pt x="4762" y="115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38240" y="2517840"/>
            <a:ext cx="419040" cy="465120"/>
          </a:xfrm>
          <a:custGeom>
            <a:avLst/>
            <a:gdLst/>
            <a:ahLst/>
            <a:rect l="l" t="t" r="r" b="b"/>
            <a:pathLst>
              <a:path w="1166" h="1291">
                <a:moveTo>
                  <a:pt x="5953" y="7392"/>
                </a:moveTo>
                <a:cubicBezTo>
                  <a:pt x="5844" y="7483"/>
                  <a:pt x="5756" y="7682"/>
                  <a:pt x="5829" y="7838"/>
                </a:cubicBezTo>
                <a:cubicBezTo>
                  <a:pt x="5893" y="7976"/>
                  <a:pt x="6203" y="8031"/>
                  <a:pt x="6176" y="7813"/>
                </a:cubicBezTo>
                <a:cubicBezTo>
                  <a:pt x="6160" y="7680"/>
                  <a:pt x="5987" y="7809"/>
                  <a:pt x="5953" y="7838"/>
                </a:cubicBezTo>
                <a:cubicBezTo>
                  <a:pt x="5981" y="7895"/>
                  <a:pt x="5997" y="7909"/>
                  <a:pt x="6052" y="7863"/>
                </a:cubicBezTo>
              </a:path>
              <a:path w="1166" h="1291">
                <a:moveTo>
                  <a:pt x="5879" y="6995"/>
                </a:moveTo>
                <a:cubicBezTo>
                  <a:pt x="5539" y="7234"/>
                  <a:pt x="5207" y="7533"/>
                  <a:pt x="5507" y="7987"/>
                </a:cubicBezTo>
                <a:cubicBezTo>
                  <a:pt x="5720" y="8309"/>
                  <a:pt x="6312" y="8423"/>
                  <a:pt x="6499" y="8012"/>
                </a:cubicBezTo>
                <a:cubicBezTo>
                  <a:pt x="6683" y="7607"/>
                  <a:pt x="6447" y="7282"/>
                  <a:pt x="6077" y="7169"/>
                </a:cubicBezTo>
                <a:cubicBezTo>
                  <a:pt x="6019" y="7161"/>
                  <a:pt x="5962" y="7152"/>
                  <a:pt x="5904" y="71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90760" y="731880"/>
            <a:ext cx="866520" cy="911160"/>
          </a:xfrm>
          <a:custGeom>
            <a:avLst/>
            <a:gdLst/>
            <a:ahLst/>
            <a:rect l="l" t="t" r="r" b="b"/>
            <a:pathLst>
              <a:path w="2407" h="2531">
                <a:moveTo>
                  <a:pt x="5358" y="2208"/>
                </a:moveTo>
                <a:cubicBezTo>
                  <a:pt x="5310" y="2201"/>
                  <a:pt x="5315" y="2202"/>
                  <a:pt x="5283" y="2183"/>
                </a:cubicBezTo>
                <a:cubicBezTo>
                  <a:pt x="5303" y="2163"/>
                  <a:pt x="5331" y="2120"/>
                  <a:pt x="5383" y="2108"/>
                </a:cubicBezTo>
                <a:cubicBezTo>
                  <a:pt x="5442" y="2094"/>
                  <a:pt x="5528" y="2093"/>
                  <a:pt x="5581" y="2084"/>
                </a:cubicBezTo>
                <a:cubicBezTo>
                  <a:pt x="5654" y="2071"/>
                  <a:pt x="5710" y="2105"/>
                  <a:pt x="5779" y="2108"/>
                </a:cubicBezTo>
                <a:cubicBezTo>
                  <a:pt x="5854" y="2111"/>
                  <a:pt x="5906" y="2129"/>
                  <a:pt x="5978" y="2133"/>
                </a:cubicBezTo>
                <a:cubicBezTo>
                  <a:pt x="6056" y="2137"/>
                  <a:pt x="6129" y="2149"/>
                  <a:pt x="6201" y="2158"/>
                </a:cubicBezTo>
                <a:cubicBezTo>
                  <a:pt x="6280" y="2168"/>
                  <a:pt x="6329" y="2143"/>
                  <a:pt x="6400" y="2133"/>
                </a:cubicBezTo>
                <a:cubicBezTo>
                  <a:pt x="6425" y="2129"/>
                  <a:pt x="6500" y="2146"/>
                  <a:pt x="6524" y="2158"/>
                </a:cubicBezTo>
                <a:cubicBezTo>
                  <a:pt x="6575" y="2184"/>
                  <a:pt x="6533" y="2216"/>
                  <a:pt x="6524" y="2282"/>
                </a:cubicBezTo>
                <a:cubicBezTo>
                  <a:pt x="6517" y="2331"/>
                  <a:pt x="6532" y="2340"/>
                  <a:pt x="6499" y="2381"/>
                </a:cubicBezTo>
                <a:cubicBezTo>
                  <a:pt x="6445" y="2448"/>
                  <a:pt x="6373" y="2442"/>
                  <a:pt x="6300" y="2456"/>
                </a:cubicBezTo>
                <a:cubicBezTo>
                  <a:pt x="6153" y="2484"/>
                  <a:pt x="6001" y="2509"/>
                  <a:pt x="5854" y="2530"/>
                </a:cubicBezTo>
                <a:cubicBezTo>
                  <a:pt x="5751" y="2545"/>
                  <a:pt x="5634" y="2550"/>
                  <a:pt x="5531" y="2555"/>
                </a:cubicBezTo>
                <a:cubicBezTo>
                  <a:pt x="5482" y="2557"/>
                  <a:pt x="5432" y="2555"/>
                  <a:pt x="5383" y="2555"/>
                </a:cubicBezTo>
              </a:path>
              <a:path w="2407" h="2531">
                <a:moveTo>
                  <a:pt x="6176" y="2332"/>
                </a:moveTo>
                <a:cubicBezTo>
                  <a:pt x="6237" y="2316"/>
                  <a:pt x="6297" y="2299"/>
                  <a:pt x="6350" y="2282"/>
                </a:cubicBezTo>
                <a:cubicBezTo>
                  <a:pt x="6402" y="2265"/>
                  <a:pt x="6439" y="2252"/>
                  <a:pt x="6499" y="2232"/>
                </a:cubicBezTo>
                <a:cubicBezTo>
                  <a:pt x="6441" y="2282"/>
                  <a:pt x="6435" y="2285"/>
                  <a:pt x="6375" y="2332"/>
                </a:cubicBezTo>
                <a:cubicBezTo>
                  <a:pt x="6242" y="2437"/>
                  <a:pt x="6099" y="2536"/>
                  <a:pt x="5978" y="2654"/>
                </a:cubicBezTo>
                <a:cubicBezTo>
                  <a:pt x="5804" y="2824"/>
                  <a:pt x="5645" y="3005"/>
                  <a:pt x="5507" y="3200"/>
                </a:cubicBezTo>
                <a:cubicBezTo>
                  <a:pt x="5362" y="3406"/>
                  <a:pt x="5201" y="3581"/>
                  <a:pt x="5035" y="3770"/>
                </a:cubicBezTo>
                <a:cubicBezTo>
                  <a:pt x="4898" y="3926"/>
                  <a:pt x="4798" y="4109"/>
                  <a:pt x="4663" y="4266"/>
                </a:cubicBezTo>
                <a:cubicBezTo>
                  <a:pt x="4587" y="4355"/>
                  <a:pt x="4531" y="4443"/>
                  <a:pt x="4465" y="4539"/>
                </a:cubicBezTo>
                <a:cubicBezTo>
                  <a:pt x="4457" y="4547"/>
                  <a:pt x="4448" y="4556"/>
                  <a:pt x="4440" y="4564"/>
                </a:cubicBezTo>
                <a:cubicBezTo>
                  <a:pt x="4343" y="4512"/>
                  <a:pt x="4293" y="4472"/>
                  <a:pt x="4217" y="4390"/>
                </a:cubicBezTo>
                <a:cubicBezTo>
                  <a:pt x="4182" y="4352"/>
                  <a:pt x="4165" y="4323"/>
                  <a:pt x="4142" y="4291"/>
                </a:cubicBezTo>
                <a:cubicBezTo>
                  <a:pt x="4298" y="4146"/>
                  <a:pt x="4455" y="3966"/>
                  <a:pt x="4589" y="3795"/>
                </a:cubicBezTo>
                <a:cubicBezTo>
                  <a:pt x="4726" y="3620"/>
                  <a:pt x="4885" y="3487"/>
                  <a:pt x="5035" y="3324"/>
                </a:cubicBezTo>
                <a:cubicBezTo>
                  <a:pt x="5153" y="3196"/>
                  <a:pt x="5261" y="3045"/>
                  <a:pt x="5358" y="2902"/>
                </a:cubicBezTo>
                <a:cubicBezTo>
                  <a:pt x="5443" y="2776"/>
                  <a:pt x="5499" y="2632"/>
                  <a:pt x="5581" y="2505"/>
                </a:cubicBezTo>
                <a:cubicBezTo>
                  <a:pt x="5639" y="2416"/>
                  <a:pt x="5710" y="2311"/>
                  <a:pt x="5779" y="2232"/>
                </a:cubicBezTo>
                <a:cubicBezTo>
                  <a:pt x="5835" y="2169"/>
                  <a:pt x="5894" y="2136"/>
                  <a:pt x="5953" y="2084"/>
                </a:cubicBezTo>
                <a:cubicBezTo>
                  <a:pt x="5992" y="2050"/>
                  <a:pt x="5967" y="2025"/>
                  <a:pt x="6028" y="2034"/>
                </a:cubicBezTo>
                <a:cubicBezTo>
                  <a:pt x="6115" y="2046"/>
                  <a:pt x="6198" y="2146"/>
                  <a:pt x="6276" y="2183"/>
                </a:cubicBezTo>
                <a:cubicBezTo>
                  <a:pt x="6297" y="2193"/>
                  <a:pt x="6390" y="2188"/>
                  <a:pt x="6375" y="2232"/>
                </a:cubicBezTo>
                <a:cubicBezTo>
                  <a:pt x="6285" y="2277"/>
                  <a:pt x="6251" y="2326"/>
                  <a:pt x="6251" y="24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77920" y="4179960"/>
            <a:ext cx="2733840" cy="1035000"/>
          </a:xfrm>
          <a:custGeom>
            <a:avLst/>
            <a:gdLst/>
            <a:ahLst/>
            <a:rect l="l" t="t" r="r" b="b"/>
            <a:pathLst>
              <a:path w="7591" h="2878">
                <a:moveTo>
                  <a:pt x="3324" y="13146"/>
                </a:moveTo>
                <a:cubicBezTo>
                  <a:pt x="3421" y="13139"/>
                  <a:pt x="3525" y="13137"/>
                  <a:pt x="3621" y="13122"/>
                </a:cubicBezTo>
                <a:cubicBezTo>
                  <a:pt x="3761" y="13100"/>
                  <a:pt x="3904" y="13118"/>
                  <a:pt x="4043" y="13097"/>
                </a:cubicBezTo>
                <a:cubicBezTo>
                  <a:pt x="4150" y="13081"/>
                  <a:pt x="4247" y="13098"/>
                  <a:pt x="4341" y="13072"/>
                </a:cubicBezTo>
                <a:cubicBezTo>
                  <a:pt x="4349" y="13072"/>
                  <a:pt x="4358" y="13072"/>
                  <a:pt x="4366" y="13072"/>
                </a:cubicBezTo>
                <a:cubicBezTo>
                  <a:pt x="4387" y="13203"/>
                  <a:pt x="4416" y="13336"/>
                  <a:pt x="4440" y="13469"/>
                </a:cubicBezTo>
                <a:cubicBezTo>
                  <a:pt x="4463" y="13596"/>
                  <a:pt x="4512" y="13706"/>
                  <a:pt x="4564" y="13816"/>
                </a:cubicBezTo>
                <a:cubicBezTo>
                  <a:pt x="4464" y="13839"/>
                  <a:pt x="4372" y="13831"/>
                  <a:pt x="4266" y="13841"/>
                </a:cubicBezTo>
                <a:cubicBezTo>
                  <a:pt x="4048" y="13861"/>
                  <a:pt x="3836" y="13873"/>
                  <a:pt x="3621" y="13915"/>
                </a:cubicBezTo>
                <a:cubicBezTo>
                  <a:pt x="3562" y="13926"/>
                  <a:pt x="3447" y="13992"/>
                  <a:pt x="3398" y="13940"/>
                </a:cubicBezTo>
                <a:cubicBezTo>
                  <a:pt x="3283" y="13816"/>
                  <a:pt x="3332" y="13595"/>
                  <a:pt x="3299" y="13444"/>
                </a:cubicBezTo>
                <a:cubicBezTo>
                  <a:pt x="3285" y="13382"/>
                  <a:pt x="3280" y="13353"/>
                  <a:pt x="3274" y="13295"/>
                </a:cubicBezTo>
              </a:path>
              <a:path w="7591" h="2878">
                <a:moveTo>
                  <a:pt x="3795" y="13097"/>
                </a:moveTo>
                <a:cubicBezTo>
                  <a:pt x="3783" y="13049"/>
                  <a:pt x="3731" y="13026"/>
                  <a:pt x="3721" y="12973"/>
                </a:cubicBezTo>
                <a:cubicBezTo>
                  <a:pt x="3703" y="12872"/>
                  <a:pt x="3719" y="12773"/>
                  <a:pt x="3696" y="12675"/>
                </a:cubicBezTo>
                <a:cubicBezTo>
                  <a:pt x="3691" y="12654"/>
                  <a:pt x="3696" y="12623"/>
                  <a:pt x="3696" y="12601"/>
                </a:cubicBezTo>
                <a:cubicBezTo>
                  <a:pt x="3770" y="12601"/>
                  <a:pt x="3845" y="12601"/>
                  <a:pt x="3919" y="12601"/>
                </a:cubicBezTo>
                <a:cubicBezTo>
                  <a:pt x="3919" y="12738"/>
                  <a:pt x="3920" y="12865"/>
                  <a:pt x="3944" y="12998"/>
                </a:cubicBezTo>
                <a:cubicBezTo>
                  <a:pt x="3951" y="13036"/>
                  <a:pt x="3944" y="13083"/>
                  <a:pt x="3944" y="13122"/>
                </a:cubicBezTo>
              </a:path>
              <a:path w="7591" h="2878">
                <a:moveTo>
                  <a:pt x="7590" y="12254"/>
                </a:moveTo>
                <a:cubicBezTo>
                  <a:pt x="7519" y="12207"/>
                  <a:pt x="7520" y="12053"/>
                  <a:pt x="7541" y="11956"/>
                </a:cubicBezTo>
                <a:cubicBezTo>
                  <a:pt x="7584" y="11824"/>
                  <a:pt x="7596" y="11792"/>
                  <a:pt x="7615" y="11708"/>
                </a:cubicBezTo>
              </a:path>
              <a:path w="7591" h="2878">
                <a:moveTo>
                  <a:pt x="3721" y="12799"/>
                </a:moveTo>
                <a:cubicBezTo>
                  <a:pt x="3721" y="12888"/>
                  <a:pt x="3745" y="12888"/>
                  <a:pt x="3646" y="12898"/>
                </a:cubicBezTo>
                <a:cubicBezTo>
                  <a:pt x="3621" y="12898"/>
                  <a:pt x="3613" y="12898"/>
                  <a:pt x="3597" y="12898"/>
                </a:cubicBezTo>
                <a:cubicBezTo>
                  <a:pt x="3665" y="12789"/>
                  <a:pt x="3697" y="12811"/>
                  <a:pt x="3795" y="12799"/>
                </a:cubicBezTo>
                <a:cubicBezTo>
                  <a:pt x="3749" y="12851"/>
                  <a:pt x="3742" y="12897"/>
                  <a:pt x="3646" y="12898"/>
                </a:cubicBezTo>
                <a:cubicBezTo>
                  <a:pt x="3646" y="12890"/>
                  <a:pt x="3646" y="12882"/>
                  <a:pt x="3646" y="12874"/>
                </a:cubicBezTo>
                <a:cubicBezTo>
                  <a:pt x="3687" y="12850"/>
                  <a:pt x="3744" y="12838"/>
                  <a:pt x="3820" y="12824"/>
                </a:cubicBezTo>
                <a:cubicBezTo>
                  <a:pt x="3975" y="12796"/>
                  <a:pt x="4158" y="12777"/>
                  <a:pt x="4316" y="12799"/>
                </a:cubicBezTo>
                <a:cubicBezTo>
                  <a:pt x="4415" y="12812"/>
                  <a:pt x="4520" y="12837"/>
                  <a:pt x="4614" y="12849"/>
                </a:cubicBezTo>
                <a:cubicBezTo>
                  <a:pt x="4779" y="12870"/>
                  <a:pt x="4951" y="12843"/>
                  <a:pt x="5110" y="12824"/>
                </a:cubicBezTo>
                <a:cubicBezTo>
                  <a:pt x="5569" y="12771"/>
                  <a:pt x="6061" y="12824"/>
                  <a:pt x="6524" y="12824"/>
                </a:cubicBezTo>
              </a:path>
              <a:path w="7591" h="2878">
                <a:moveTo>
                  <a:pt x="6474" y="13022"/>
                </a:moveTo>
                <a:cubicBezTo>
                  <a:pt x="6431" y="13034"/>
                  <a:pt x="6395" y="13041"/>
                  <a:pt x="6350" y="13047"/>
                </a:cubicBezTo>
                <a:cubicBezTo>
                  <a:pt x="6379" y="13062"/>
                  <a:pt x="6397" y="13066"/>
                  <a:pt x="6474" y="13047"/>
                </a:cubicBezTo>
                <a:cubicBezTo>
                  <a:pt x="6606" y="13015"/>
                  <a:pt x="6734" y="13022"/>
                  <a:pt x="6871" y="13022"/>
                </a:cubicBezTo>
                <a:cubicBezTo>
                  <a:pt x="7023" y="13022"/>
                  <a:pt x="7167" y="13003"/>
                  <a:pt x="7317" y="12998"/>
                </a:cubicBezTo>
                <a:cubicBezTo>
                  <a:pt x="7391" y="12996"/>
                  <a:pt x="7657" y="12963"/>
                  <a:pt x="7689" y="13022"/>
                </a:cubicBezTo>
                <a:cubicBezTo>
                  <a:pt x="7760" y="13151"/>
                  <a:pt x="7772" y="13313"/>
                  <a:pt x="7838" y="13444"/>
                </a:cubicBezTo>
                <a:cubicBezTo>
                  <a:pt x="7861" y="13467"/>
                  <a:pt x="7869" y="13471"/>
                  <a:pt x="7863" y="13494"/>
                </a:cubicBezTo>
                <a:cubicBezTo>
                  <a:pt x="7725" y="13563"/>
                  <a:pt x="7617" y="13566"/>
                  <a:pt x="7466" y="13593"/>
                </a:cubicBezTo>
                <a:cubicBezTo>
                  <a:pt x="7318" y="13620"/>
                  <a:pt x="7169" y="13655"/>
                  <a:pt x="7020" y="13667"/>
                </a:cubicBezTo>
                <a:cubicBezTo>
                  <a:pt x="6920" y="13675"/>
                  <a:pt x="6840" y="13653"/>
                  <a:pt x="6747" y="13667"/>
                </a:cubicBezTo>
                <a:cubicBezTo>
                  <a:pt x="6694" y="13675"/>
                  <a:pt x="6653" y="13703"/>
                  <a:pt x="6598" y="13692"/>
                </a:cubicBezTo>
                <a:cubicBezTo>
                  <a:pt x="6567" y="13686"/>
                  <a:pt x="6521" y="13670"/>
                  <a:pt x="6499" y="13643"/>
                </a:cubicBezTo>
                <a:cubicBezTo>
                  <a:pt x="6410" y="13531"/>
                  <a:pt x="6364" y="13387"/>
                  <a:pt x="6350" y="13246"/>
                </a:cubicBezTo>
                <a:cubicBezTo>
                  <a:pt x="6337" y="13118"/>
                  <a:pt x="6306" y="13113"/>
                  <a:pt x="6375" y="13072"/>
                </a:cubicBezTo>
              </a:path>
              <a:path w="7591" h="2878">
                <a:moveTo>
                  <a:pt x="6772" y="13047"/>
                </a:moveTo>
                <a:cubicBezTo>
                  <a:pt x="6856" y="13047"/>
                  <a:pt x="6831" y="13068"/>
                  <a:pt x="6896" y="13097"/>
                </a:cubicBezTo>
                <a:cubicBezTo>
                  <a:pt x="6929" y="13111"/>
                  <a:pt x="6917" y="13108"/>
                  <a:pt x="6945" y="13146"/>
                </a:cubicBezTo>
                <a:cubicBezTo>
                  <a:pt x="6877" y="13158"/>
                  <a:pt x="6788" y="13155"/>
                  <a:pt x="6722" y="13171"/>
                </a:cubicBezTo>
                <a:cubicBezTo>
                  <a:pt x="6677" y="13182"/>
                  <a:pt x="6586" y="13198"/>
                  <a:pt x="6548" y="13221"/>
                </a:cubicBezTo>
                <a:cubicBezTo>
                  <a:pt x="6518" y="13240"/>
                  <a:pt x="6476" y="13241"/>
                  <a:pt x="6474" y="13271"/>
                </a:cubicBezTo>
                <a:cubicBezTo>
                  <a:pt x="6467" y="13388"/>
                  <a:pt x="6493" y="13461"/>
                  <a:pt x="6524" y="13568"/>
                </a:cubicBezTo>
                <a:cubicBezTo>
                  <a:pt x="6532" y="13597"/>
                  <a:pt x="6524" y="13636"/>
                  <a:pt x="6524" y="13667"/>
                </a:cubicBezTo>
                <a:cubicBezTo>
                  <a:pt x="6602" y="13667"/>
                  <a:pt x="6670" y="13650"/>
                  <a:pt x="6747" y="13643"/>
                </a:cubicBezTo>
                <a:cubicBezTo>
                  <a:pt x="6828" y="13635"/>
                  <a:pt x="6898" y="13662"/>
                  <a:pt x="6945" y="13643"/>
                </a:cubicBezTo>
                <a:cubicBezTo>
                  <a:pt x="6953" y="13643"/>
                  <a:pt x="6962" y="13643"/>
                  <a:pt x="6970" y="13643"/>
                </a:cubicBezTo>
                <a:cubicBezTo>
                  <a:pt x="6962" y="13574"/>
                  <a:pt x="6945" y="13514"/>
                  <a:pt x="6945" y="13444"/>
                </a:cubicBezTo>
              </a:path>
              <a:path w="7591" h="2878">
                <a:moveTo>
                  <a:pt x="6871" y="13146"/>
                </a:moveTo>
                <a:cubicBezTo>
                  <a:pt x="6941" y="13163"/>
                  <a:pt x="6969" y="13280"/>
                  <a:pt x="6995" y="13345"/>
                </a:cubicBezTo>
                <a:cubicBezTo>
                  <a:pt x="7003" y="13370"/>
                  <a:pt x="7012" y="13394"/>
                  <a:pt x="7020" y="13419"/>
                </a:cubicBezTo>
              </a:path>
              <a:path w="7591" h="2878">
                <a:moveTo>
                  <a:pt x="7417" y="13295"/>
                </a:moveTo>
                <a:cubicBezTo>
                  <a:pt x="7396" y="13235"/>
                  <a:pt x="7281" y="13259"/>
                  <a:pt x="7243" y="13320"/>
                </a:cubicBezTo>
                <a:cubicBezTo>
                  <a:pt x="7243" y="13337"/>
                  <a:pt x="7243" y="13353"/>
                  <a:pt x="7243" y="13370"/>
                </a:cubicBezTo>
                <a:cubicBezTo>
                  <a:pt x="7327" y="13383"/>
                  <a:pt x="7529" y="13380"/>
                  <a:pt x="7392" y="13271"/>
                </a:cubicBezTo>
                <a:cubicBezTo>
                  <a:pt x="7367" y="13254"/>
                  <a:pt x="7342" y="13238"/>
                  <a:pt x="7317" y="13221"/>
                </a:cubicBezTo>
              </a:path>
              <a:path w="7591" h="2878">
                <a:moveTo>
                  <a:pt x="6350" y="12874"/>
                </a:moveTo>
                <a:cubicBezTo>
                  <a:pt x="6333" y="12874"/>
                  <a:pt x="6317" y="12874"/>
                  <a:pt x="6300" y="12874"/>
                </a:cubicBezTo>
                <a:cubicBezTo>
                  <a:pt x="6291" y="12846"/>
                  <a:pt x="6270" y="12814"/>
                  <a:pt x="6375" y="12849"/>
                </a:cubicBezTo>
                <a:cubicBezTo>
                  <a:pt x="6461" y="12878"/>
                  <a:pt x="6439" y="12988"/>
                  <a:pt x="6424" y="13047"/>
                </a:cubicBezTo>
                <a:cubicBezTo>
                  <a:pt x="6414" y="13088"/>
                  <a:pt x="6359" y="13150"/>
                  <a:pt x="6375" y="13196"/>
                </a:cubicBezTo>
                <a:cubicBezTo>
                  <a:pt x="6393" y="13246"/>
                  <a:pt x="6408" y="13273"/>
                  <a:pt x="6424" y="13295"/>
                </a:cubicBezTo>
                <a:cubicBezTo>
                  <a:pt x="6458" y="13342"/>
                  <a:pt x="6494" y="13380"/>
                  <a:pt x="6424" y="13345"/>
                </a:cubicBezTo>
                <a:cubicBezTo>
                  <a:pt x="6393" y="13288"/>
                  <a:pt x="6226" y="13067"/>
                  <a:pt x="6449" y="13122"/>
                </a:cubicBezTo>
                <a:cubicBezTo>
                  <a:pt x="6519" y="13167"/>
                  <a:pt x="6539" y="13179"/>
                  <a:pt x="6573" y="13221"/>
                </a:cubicBezTo>
                <a:cubicBezTo>
                  <a:pt x="6545" y="13245"/>
                  <a:pt x="6348" y="13308"/>
                  <a:pt x="6375" y="13196"/>
                </a:cubicBezTo>
                <a:cubicBezTo>
                  <a:pt x="6401" y="13088"/>
                  <a:pt x="6607" y="13053"/>
                  <a:pt x="6573" y="13196"/>
                </a:cubicBezTo>
                <a:cubicBezTo>
                  <a:pt x="6535" y="13357"/>
                  <a:pt x="6449" y="13245"/>
                  <a:pt x="6400" y="13196"/>
                </a:cubicBezTo>
                <a:cubicBezTo>
                  <a:pt x="6432" y="13082"/>
                  <a:pt x="6533" y="13107"/>
                  <a:pt x="6573" y="13221"/>
                </a:cubicBezTo>
                <a:cubicBezTo>
                  <a:pt x="6573" y="13238"/>
                  <a:pt x="6573" y="13254"/>
                  <a:pt x="6573" y="13271"/>
                </a:cubicBezTo>
                <a:cubicBezTo>
                  <a:pt x="6481" y="13291"/>
                  <a:pt x="6368" y="13241"/>
                  <a:pt x="6499" y="13171"/>
                </a:cubicBezTo>
                <a:cubicBezTo>
                  <a:pt x="6612" y="13111"/>
                  <a:pt x="6573" y="13191"/>
                  <a:pt x="6573" y="13271"/>
                </a:cubicBezTo>
                <a:cubicBezTo>
                  <a:pt x="6505" y="13299"/>
                  <a:pt x="6415" y="13236"/>
                  <a:pt x="6499" y="13196"/>
                </a:cubicBezTo>
                <a:cubicBezTo>
                  <a:pt x="6592" y="13152"/>
                  <a:pt x="6649" y="13285"/>
                  <a:pt x="6573" y="13320"/>
                </a:cubicBezTo>
                <a:cubicBezTo>
                  <a:pt x="6524" y="13320"/>
                  <a:pt x="6508" y="13320"/>
                  <a:pt x="6524" y="13271"/>
                </a:cubicBezTo>
              </a:path>
              <a:path w="7591" h="2878">
                <a:moveTo>
                  <a:pt x="6821" y="12998"/>
                </a:moveTo>
                <a:cubicBezTo>
                  <a:pt x="6821" y="12907"/>
                  <a:pt x="6810" y="12812"/>
                  <a:pt x="6846" y="12725"/>
                </a:cubicBezTo>
                <a:cubicBezTo>
                  <a:pt x="6887" y="12625"/>
                  <a:pt x="6988" y="12433"/>
                  <a:pt x="7094" y="12378"/>
                </a:cubicBezTo>
                <a:cubicBezTo>
                  <a:pt x="7179" y="12334"/>
                  <a:pt x="7318" y="12268"/>
                  <a:pt x="7417" y="12254"/>
                </a:cubicBezTo>
                <a:cubicBezTo>
                  <a:pt x="7536" y="12237"/>
                  <a:pt x="7623" y="12292"/>
                  <a:pt x="7689" y="12378"/>
                </a:cubicBezTo>
                <a:cubicBezTo>
                  <a:pt x="7735" y="12439"/>
                  <a:pt x="7789" y="12532"/>
                  <a:pt x="7813" y="12601"/>
                </a:cubicBezTo>
                <a:cubicBezTo>
                  <a:pt x="7813" y="12609"/>
                  <a:pt x="7813" y="12618"/>
                  <a:pt x="7813" y="12626"/>
                </a:cubicBezTo>
                <a:cubicBezTo>
                  <a:pt x="7697" y="12605"/>
                  <a:pt x="7585" y="12547"/>
                  <a:pt x="7466" y="12526"/>
                </a:cubicBezTo>
                <a:cubicBezTo>
                  <a:pt x="7441" y="12526"/>
                  <a:pt x="7433" y="12526"/>
                  <a:pt x="7417" y="12526"/>
                </a:cubicBezTo>
                <a:cubicBezTo>
                  <a:pt x="7480" y="12562"/>
                  <a:pt x="7577" y="12604"/>
                  <a:pt x="7640" y="12650"/>
                </a:cubicBezTo>
                <a:cubicBezTo>
                  <a:pt x="7678" y="12678"/>
                  <a:pt x="7706" y="12704"/>
                  <a:pt x="7739" y="12725"/>
                </a:cubicBezTo>
                <a:cubicBezTo>
                  <a:pt x="7767" y="12607"/>
                  <a:pt x="7821" y="12472"/>
                  <a:pt x="7838" y="12353"/>
                </a:cubicBezTo>
                <a:cubicBezTo>
                  <a:pt x="7849" y="12277"/>
                  <a:pt x="7829" y="12248"/>
                  <a:pt x="7863" y="12179"/>
                </a:cubicBezTo>
              </a:path>
              <a:path w="7591" h="2878">
                <a:moveTo>
                  <a:pt x="9103" y="14139"/>
                </a:moveTo>
                <a:cubicBezTo>
                  <a:pt x="9081" y="14206"/>
                  <a:pt x="9263" y="14119"/>
                  <a:pt x="9327" y="14114"/>
                </a:cubicBezTo>
                <a:cubicBezTo>
                  <a:pt x="9532" y="14097"/>
                  <a:pt x="9743" y="14106"/>
                  <a:pt x="9947" y="14089"/>
                </a:cubicBezTo>
                <a:cubicBezTo>
                  <a:pt x="10074" y="14079"/>
                  <a:pt x="10193" y="14054"/>
                  <a:pt x="10319" y="14039"/>
                </a:cubicBezTo>
                <a:cubicBezTo>
                  <a:pt x="10381" y="14031"/>
                  <a:pt x="10441" y="14025"/>
                  <a:pt x="10492" y="14015"/>
                </a:cubicBezTo>
                <a:cubicBezTo>
                  <a:pt x="10525" y="14009"/>
                  <a:pt x="10572" y="14008"/>
                  <a:pt x="10592" y="14039"/>
                </a:cubicBezTo>
                <a:cubicBezTo>
                  <a:pt x="10617" y="14078"/>
                  <a:pt x="10655" y="14168"/>
                  <a:pt x="10666" y="14238"/>
                </a:cubicBezTo>
                <a:cubicBezTo>
                  <a:pt x="10677" y="14312"/>
                  <a:pt x="10670" y="14384"/>
                  <a:pt x="10592" y="14412"/>
                </a:cubicBezTo>
                <a:cubicBezTo>
                  <a:pt x="10421" y="14474"/>
                  <a:pt x="10223" y="14419"/>
                  <a:pt x="10046" y="14436"/>
                </a:cubicBezTo>
                <a:cubicBezTo>
                  <a:pt x="9883" y="14452"/>
                  <a:pt x="9738" y="14462"/>
                  <a:pt x="9575" y="14436"/>
                </a:cubicBezTo>
                <a:cubicBezTo>
                  <a:pt x="9454" y="14417"/>
                  <a:pt x="9390" y="14447"/>
                  <a:pt x="9277" y="14461"/>
                </a:cubicBezTo>
                <a:cubicBezTo>
                  <a:pt x="9203" y="14470"/>
                  <a:pt x="9188" y="14468"/>
                  <a:pt x="9128" y="14486"/>
                </a:cubicBezTo>
                <a:cubicBezTo>
                  <a:pt x="9120" y="14404"/>
                  <a:pt x="9063" y="14243"/>
                  <a:pt x="9103" y="14163"/>
                </a:cubicBezTo>
                <a:cubicBezTo>
                  <a:pt x="9103" y="14128"/>
                  <a:pt x="9113" y="14116"/>
                  <a:pt x="9153" y="14114"/>
                </a:cubicBezTo>
              </a:path>
              <a:path w="7591" h="2878">
                <a:moveTo>
                  <a:pt x="9971" y="14163"/>
                </a:moveTo>
                <a:cubicBezTo>
                  <a:pt x="9883" y="14163"/>
                  <a:pt x="9909" y="14171"/>
                  <a:pt x="9872" y="14114"/>
                </a:cubicBezTo>
                <a:cubicBezTo>
                  <a:pt x="9863" y="14100"/>
                  <a:pt x="9822" y="14038"/>
                  <a:pt x="9847" y="14015"/>
                </a:cubicBezTo>
                <a:cubicBezTo>
                  <a:pt x="9882" y="14015"/>
                  <a:pt x="9900" y="14010"/>
                  <a:pt x="9922" y="13990"/>
                </a:cubicBezTo>
                <a:cubicBezTo>
                  <a:pt x="9890" y="14022"/>
                  <a:pt x="9887" y="14036"/>
                  <a:pt x="9847" y="14015"/>
                </a:cubicBezTo>
                <a:cubicBezTo>
                  <a:pt x="9762" y="13969"/>
                  <a:pt x="9801" y="13906"/>
                  <a:pt x="9823" y="13841"/>
                </a:cubicBezTo>
                <a:cubicBezTo>
                  <a:pt x="9903" y="13857"/>
                  <a:pt x="9839" y="13895"/>
                  <a:pt x="9773" y="13891"/>
                </a:cubicBezTo>
                <a:cubicBezTo>
                  <a:pt x="9645" y="13882"/>
                  <a:pt x="9841" y="13746"/>
                  <a:pt x="9847" y="13742"/>
                </a:cubicBezTo>
                <a:cubicBezTo>
                  <a:pt x="9847" y="13767"/>
                  <a:pt x="9791" y="13880"/>
                  <a:pt x="9723" y="13717"/>
                </a:cubicBezTo>
                <a:cubicBezTo>
                  <a:pt x="9682" y="13619"/>
                  <a:pt x="9950" y="13452"/>
                  <a:pt x="9897" y="13543"/>
                </a:cubicBezTo>
                <a:cubicBezTo>
                  <a:pt x="9880" y="13551"/>
                  <a:pt x="9864" y="13560"/>
                  <a:pt x="9847" y="13568"/>
                </a:cubicBezTo>
                <a:cubicBezTo>
                  <a:pt x="9712" y="13490"/>
                  <a:pt x="9602" y="13292"/>
                  <a:pt x="9847" y="13221"/>
                </a:cubicBezTo>
                <a:cubicBezTo>
                  <a:pt x="9895" y="13245"/>
                  <a:pt x="9912" y="13251"/>
                  <a:pt x="9897" y="13295"/>
                </a:cubicBezTo>
                <a:cubicBezTo>
                  <a:pt x="9705" y="13355"/>
                  <a:pt x="9624" y="13182"/>
                  <a:pt x="9823" y="13072"/>
                </a:cubicBezTo>
                <a:cubicBezTo>
                  <a:pt x="9884" y="13072"/>
                  <a:pt x="9900" y="13063"/>
                  <a:pt x="9922" y="13097"/>
                </a:cubicBezTo>
                <a:cubicBezTo>
                  <a:pt x="9850" y="13141"/>
                  <a:pt x="9594" y="13175"/>
                  <a:pt x="9723" y="12998"/>
                </a:cubicBezTo>
                <a:cubicBezTo>
                  <a:pt x="9809" y="12880"/>
                  <a:pt x="9807" y="12980"/>
                  <a:pt x="9847" y="12998"/>
                </a:cubicBezTo>
                <a:cubicBezTo>
                  <a:pt x="9790" y="13003"/>
                  <a:pt x="9540" y="12955"/>
                  <a:pt x="9699" y="12849"/>
                </a:cubicBezTo>
                <a:cubicBezTo>
                  <a:pt x="9801" y="12781"/>
                  <a:pt x="9828" y="12830"/>
                  <a:pt x="9847" y="12898"/>
                </a:cubicBezTo>
                <a:cubicBezTo>
                  <a:pt x="9788" y="12892"/>
                  <a:pt x="9577" y="12865"/>
                  <a:pt x="9699" y="12750"/>
                </a:cubicBezTo>
                <a:cubicBezTo>
                  <a:pt x="9772" y="12725"/>
                  <a:pt x="9795" y="12717"/>
                  <a:pt x="9847" y="12725"/>
                </a:cubicBezTo>
                <a:cubicBezTo>
                  <a:pt x="9855" y="12725"/>
                  <a:pt x="9864" y="12725"/>
                  <a:pt x="9872" y="12725"/>
                </a:cubicBezTo>
                <a:cubicBezTo>
                  <a:pt x="9800" y="12775"/>
                  <a:pt x="9572" y="12840"/>
                  <a:pt x="9699" y="12650"/>
                </a:cubicBezTo>
                <a:cubicBezTo>
                  <a:pt x="9789" y="12515"/>
                  <a:pt x="9829" y="12662"/>
                  <a:pt x="9723" y="12626"/>
                </a:cubicBezTo>
                <a:cubicBezTo>
                  <a:pt x="9715" y="12618"/>
                  <a:pt x="9707" y="12609"/>
                  <a:pt x="9699" y="12601"/>
                </a:cubicBezTo>
                <a:cubicBezTo>
                  <a:pt x="9709" y="12530"/>
                  <a:pt x="9726" y="12503"/>
                  <a:pt x="9773" y="12551"/>
                </a:cubicBezTo>
                <a:cubicBezTo>
                  <a:pt x="9765" y="12551"/>
                  <a:pt x="9756" y="12551"/>
                  <a:pt x="9748" y="12551"/>
                </a:cubicBezTo>
              </a:path>
              <a:path w="7591" h="2878">
                <a:moveTo>
                  <a:pt x="9872" y="12129"/>
                </a:moveTo>
                <a:cubicBezTo>
                  <a:pt x="9725" y="12108"/>
                  <a:pt x="9522" y="12050"/>
                  <a:pt x="9475" y="12254"/>
                </a:cubicBezTo>
                <a:cubicBezTo>
                  <a:pt x="9434" y="12433"/>
                  <a:pt x="9582" y="12700"/>
                  <a:pt x="9798" y="12626"/>
                </a:cubicBezTo>
                <a:cubicBezTo>
                  <a:pt x="10087" y="12527"/>
                  <a:pt x="10059" y="12282"/>
                  <a:pt x="9947" y="12080"/>
                </a:cubicBezTo>
                <a:cubicBezTo>
                  <a:pt x="9658" y="12091"/>
                  <a:pt x="9574" y="12081"/>
                  <a:pt x="9475" y="12353"/>
                </a:cubicBezTo>
                <a:cubicBezTo>
                  <a:pt x="9595" y="12563"/>
                  <a:pt x="9807" y="12689"/>
                  <a:pt x="10021" y="12427"/>
                </a:cubicBezTo>
                <a:cubicBezTo>
                  <a:pt x="10243" y="12156"/>
                  <a:pt x="9792" y="12122"/>
                  <a:pt x="9649" y="12154"/>
                </a:cubicBezTo>
                <a:cubicBezTo>
                  <a:pt x="9395" y="12210"/>
                  <a:pt x="9659" y="12467"/>
                  <a:pt x="9798" y="12477"/>
                </a:cubicBezTo>
                <a:cubicBezTo>
                  <a:pt x="9848" y="12460"/>
                  <a:pt x="9897" y="12444"/>
                  <a:pt x="9947" y="12427"/>
                </a:cubicBezTo>
                <a:cubicBezTo>
                  <a:pt x="9977" y="12179"/>
                  <a:pt x="9831" y="11936"/>
                  <a:pt x="9525" y="12154"/>
                </a:cubicBezTo>
                <a:cubicBezTo>
                  <a:pt x="9326" y="12296"/>
                  <a:pt x="9628" y="12471"/>
                  <a:pt x="9773" y="12402"/>
                </a:cubicBezTo>
                <a:cubicBezTo>
                  <a:pt x="9856" y="12362"/>
                  <a:pt x="9766" y="12315"/>
                  <a:pt x="9748" y="12303"/>
                </a:cubicBezTo>
              </a:path>
              <a:path w="7591" h="2878">
                <a:moveTo>
                  <a:pt x="9351" y="12179"/>
                </a:moveTo>
                <a:lnTo>
                  <a:pt x="9351" y="12179"/>
                </a:lnTo>
                <a:lnTo>
                  <a:pt x="9351" y="12179"/>
                </a:lnTo>
              </a:path>
              <a:path w="7591" h="2878">
                <a:moveTo>
                  <a:pt x="9277" y="12229"/>
                </a:moveTo>
                <a:cubicBezTo>
                  <a:pt x="9308" y="12244"/>
                  <a:pt x="9372" y="12241"/>
                  <a:pt x="9426" y="12229"/>
                </a:cubicBezTo>
                <a:cubicBezTo>
                  <a:pt x="9489" y="12215"/>
                  <a:pt x="9616" y="12151"/>
                  <a:pt x="9674" y="12154"/>
                </a:cubicBezTo>
                <a:cubicBezTo>
                  <a:pt x="9739" y="12157"/>
                  <a:pt x="9795" y="12157"/>
                  <a:pt x="9872" y="12154"/>
                </a:cubicBezTo>
                <a:cubicBezTo>
                  <a:pt x="9941" y="12151"/>
                  <a:pt x="10001" y="12132"/>
                  <a:pt x="10071" y="12129"/>
                </a:cubicBezTo>
                <a:cubicBezTo>
                  <a:pt x="10145" y="12126"/>
                  <a:pt x="10220" y="12129"/>
                  <a:pt x="10294" y="12129"/>
                </a:cubicBezTo>
                <a:cubicBezTo>
                  <a:pt x="10307" y="12122"/>
                  <a:pt x="10398" y="12089"/>
                  <a:pt x="10344" y="12105"/>
                </a:cubicBezTo>
                <a:cubicBezTo>
                  <a:pt x="10224" y="12140"/>
                  <a:pt x="10095" y="12153"/>
                  <a:pt x="9971" y="12179"/>
                </a:cubicBezTo>
                <a:cubicBezTo>
                  <a:pt x="9846" y="12205"/>
                  <a:pt x="9718" y="12230"/>
                  <a:pt x="9599" y="12278"/>
                </a:cubicBezTo>
                <a:cubicBezTo>
                  <a:pt x="9546" y="12300"/>
                  <a:pt x="9496" y="12328"/>
                  <a:pt x="9451" y="12353"/>
                </a:cubicBezTo>
                <a:cubicBezTo>
                  <a:pt x="9403" y="12380"/>
                  <a:pt x="9329" y="12440"/>
                  <a:pt x="9277" y="12452"/>
                </a:cubicBezTo>
                <a:cubicBezTo>
                  <a:pt x="9227" y="12464"/>
                  <a:pt x="9179" y="12471"/>
                  <a:pt x="9128" y="12477"/>
                </a:cubicBezTo>
                <a:cubicBezTo>
                  <a:pt x="9135" y="12413"/>
                  <a:pt x="9153" y="12356"/>
                  <a:pt x="9178" y="12303"/>
                </a:cubicBezTo>
                <a:cubicBezTo>
                  <a:pt x="9209" y="12238"/>
                  <a:pt x="9235" y="12216"/>
                  <a:pt x="9277" y="12179"/>
                </a:cubicBezTo>
                <a:cubicBezTo>
                  <a:pt x="9338" y="12125"/>
                  <a:pt x="9319" y="12117"/>
                  <a:pt x="9376" y="12080"/>
                </a:cubicBezTo>
                <a:cubicBezTo>
                  <a:pt x="9430" y="12046"/>
                  <a:pt x="9492" y="12026"/>
                  <a:pt x="9550" y="12005"/>
                </a:cubicBezTo>
                <a:cubicBezTo>
                  <a:pt x="9599" y="11987"/>
                  <a:pt x="9672" y="11965"/>
                  <a:pt x="9723" y="11956"/>
                </a:cubicBezTo>
                <a:cubicBezTo>
                  <a:pt x="9785" y="11946"/>
                  <a:pt x="9841" y="11926"/>
                  <a:pt x="9897" y="11906"/>
                </a:cubicBezTo>
                <a:cubicBezTo>
                  <a:pt x="9974" y="11879"/>
                  <a:pt x="9989" y="11852"/>
                  <a:pt x="10046" y="11807"/>
                </a:cubicBezTo>
                <a:cubicBezTo>
                  <a:pt x="10077" y="11782"/>
                  <a:pt x="10182" y="11742"/>
                  <a:pt x="10145" y="11757"/>
                </a:cubicBezTo>
                <a:cubicBezTo>
                  <a:pt x="9936" y="11842"/>
                  <a:pt x="9722" y="11969"/>
                  <a:pt x="9525" y="12080"/>
                </a:cubicBezTo>
                <a:cubicBezTo>
                  <a:pt x="9468" y="12112"/>
                  <a:pt x="9391" y="12151"/>
                  <a:pt x="9351" y="12179"/>
                </a:cubicBezTo>
                <a:cubicBezTo>
                  <a:pt x="9351" y="12187"/>
                  <a:pt x="9351" y="12196"/>
                  <a:pt x="9351" y="12204"/>
                </a:cubicBezTo>
                <a:cubicBezTo>
                  <a:pt x="9368" y="12118"/>
                  <a:pt x="9377" y="12052"/>
                  <a:pt x="9451" y="11981"/>
                </a:cubicBezTo>
                <a:cubicBezTo>
                  <a:pt x="9535" y="11900"/>
                  <a:pt x="9667" y="11850"/>
                  <a:pt x="9773" y="11807"/>
                </a:cubicBezTo>
                <a:cubicBezTo>
                  <a:pt x="9856" y="11774"/>
                  <a:pt x="9983" y="11747"/>
                  <a:pt x="10071" y="11733"/>
                </a:cubicBezTo>
                <a:cubicBezTo>
                  <a:pt x="10127" y="11724"/>
                  <a:pt x="10247" y="11712"/>
                  <a:pt x="10269" y="11708"/>
                </a:cubicBezTo>
                <a:cubicBezTo>
                  <a:pt x="10353" y="11693"/>
                  <a:pt x="10375" y="11849"/>
                  <a:pt x="10393" y="11906"/>
                </a:cubicBezTo>
                <a:cubicBezTo>
                  <a:pt x="10412" y="11980"/>
                  <a:pt x="10420" y="11987"/>
                  <a:pt x="10418" y="12030"/>
                </a:cubicBezTo>
              </a:path>
              <a:path w="7591" h="2878">
                <a:moveTo>
                  <a:pt x="9426" y="12229"/>
                </a:moveTo>
                <a:cubicBezTo>
                  <a:pt x="9426" y="12396"/>
                  <a:pt x="9373" y="12539"/>
                  <a:pt x="9351" y="12700"/>
                </a:cubicBezTo>
                <a:cubicBezTo>
                  <a:pt x="9320" y="12932"/>
                  <a:pt x="9340" y="12700"/>
                  <a:pt x="9351" y="12626"/>
                </a:cubicBezTo>
              </a:path>
              <a:path w="7591" h="2878">
                <a:moveTo>
                  <a:pt x="9376" y="12129"/>
                </a:moveTo>
                <a:cubicBezTo>
                  <a:pt x="9281" y="12244"/>
                  <a:pt x="9226" y="12403"/>
                  <a:pt x="9203" y="12551"/>
                </a:cubicBezTo>
                <a:cubicBezTo>
                  <a:pt x="9159" y="12836"/>
                  <a:pt x="9252" y="12531"/>
                  <a:pt x="9277" y="12477"/>
                </a:cubicBezTo>
              </a:path>
              <a:path w="7591" h="2878">
                <a:moveTo>
                  <a:pt x="9376" y="12278"/>
                </a:moveTo>
                <a:cubicBezTo>
                  <a:pt x="9242" y="12212"/>
                  <a:pt x="9137" y="12089"/>
                  <a:pt x="9029" y="11981"/>
                </a:cubicBezTo>
                <a:cubicBezTo>
                  <a:pt x="8965" y="11917"/>
                  <a:pt x="9058" y="12014"/>
                  <a:pt x="9079" y="12030"/>
                </a:cubicBezTo>
              </a:path>
              <a:path w="7591" h="2878">
                <a:moveTo>
                  <a:pt x="9351" y="12229"/>
                </a:moveTo>
                <a:cubicBezTo>
                  <a:pt x="9410" y="12190"/>
                  <a:pt x="9321" y="11963"/>
                  <a:pt x="9302" y="11881"/>
                </a:cubicBezTo>
                <a:cubicBezTo>
                  <a:pt x="9287" y="11816"/>
                  <a:pt x="9280" y="11694"/>
                  <a:pt x="9302" y="11757"/>
                </a:cubicBezTo>
              </a:path>
              <a:path w="7591" h="2878">
                <a:moveTo>
                  <a:pt x="9376" y="12080"/>
                </a:moveTo>
                <a:cubicBezTo>
                  <a:pt x="9311" y="12106"/>
                  <a:pt x="9317" y="12116"/>
                  <a:pt x="9302" y="12179"/>
                </a:cubicBezTo>
                <a:cubicBezTo>
                  <a:pt x="9356" y="12172"/>
                  <a:pt x="9443" y="12163"/>
                  <a:pt x="9401" y="12080"/>
                </a:cubicBezTo>
                <a:cubicBezTo>
                  <a:pt x="9371" y="12050"/>
                  <a:pt x="9360" y="12048"/>
                  <a:pt x="9351" y="12105"/>
                </a:cubicBezTo>
              </a:path>
              <a:path w="7591" h="2878">
                <a:moveTo>
                  <a:pt x="9401" y="12204"/>
                </a:moveTo>
                <a:cubicBezTo>
                  <a:pt x="9388" y="12255"/>
                  <a:pt x="9378" y="12249"/>
                  <a:pt x="9327" y="12278"/>
                </a:cubicBezTo>
                <a:cubicBezTo>
                  <a:pt x="9378" y="12309"/>
                  <a:pt x="9401" y="12324"/>
                  <a:pt x="9401" y="12254"/>
                </a:cubicBezTo>
              </a:path>
              <a:path w="7591" h="2878">
                <a:moveTo>
                  <a:pt x="10468" y="12129"/>
                </a:moveTo>
                <a:cubicBezTo>
                  <a:pt x="10581" y="12044"/>
                  <a:pt x="10640" y="11960"/>
                  <a:pt x="10790" y="12030"/>
                </a:cubicBezTo>
                <a:cubicBezTo>
                  <a:pt x="11020" y="12138"/>
                  <a:pt x="10729" y="12305"/>
                  <a:pt x="10641" y="12378"/>
                </a:cubicBezTo>
                <a:cubicBezTo>
                  <a:pt x="10574" y="12433"/>
                  <a:pt x="10522" y="12411"/>
                  <a:pt x="10517" y="12502"/>
                </a:cubicBezTo>
                <a:cubicBezTo>
                  <a:pt x="10512" y="12592"/>
                  <a:pt x="10519" y="12576"/>
                  <a:pt x="10567" y="12650"/>
                </a:cubicBezTo>
                <a:cubicBezTo>
                  <a:pt x="10575" y="12667"/>
                  <a:pt x="10584" y="12683"/>
                  <a:pt x="10592" y="12700"/>
                </a:cubicBezTo>
              </a:path>
              <a:path w="7591" h="2878">
                <a:moveTo>
                  <a:pt x="10170" y="12874"/>
                </a:moveTo>
                <a:cubicBezTo>
                  <a:pt x="10240" y="12851"/>
                  <a:pt x="10368" y="12821"/>
                  <a:pt x="10443" y="12849"/>
                </a:cubicBezTo>
                <a:cubicBezTo>
                  <a:pt x="10485" y="12865"/>
                  <a:pt x="10661" y="13016"/>
                  <a:pt x="10691" y="12998"/>
                </a:cubicBezTo>
                <a:cubicBezTo>
                  <a:pt x="10695" y="12995"/>
                  <a:pt x="10668" y="12888"/>
                  <a:pt x="10666" y="12874"/>
                </a:cubicBezTo>
                <a:cubicBezTo>
                  <a:pt x="10712" y="12931"/>
                  <a:pt x="10724" y="12940"/>
                  <a:pt x="10691" y="12998"/>
                </a:cubicBezTo>
                <a:cubicBezTo>
                  <a:pt x="10624" y="13113"/>
                  <a:pt x="10608" y="13038"/>
                  <a:pt x="10542" y="12948"/>
                </a:cubicBezTo>
              </a:path>
              <a:path w="7591" h="2878">
                <a:moveTo>
                  <a:pt x="9227" y="12874"/>
                </a:moveTo>
                <a:cubicBezTo>
                  <a:pt x="9172" y="12846"/>
                  <a:pt x="9161" y="12844"/>
                  <a:pt x="9103" y="12824"/>
                </a:cubicBezTo>
                <a:cubicBezTo>
                  <a:pt x="9005" y="12790"/>
                  <a:pt x="8909" y="12799"/>
                  <a:pt x="8806" y="12799"/>
                </a:cubicBezTo>
                <a:cubicBezTo>
                  <a:pt x="8749" y="12799"/>
                  <a:pt x="8709" y="12815"/>
                  <a:pt x="8657" y="12824"/>
                </a:cubicBezTo>
                <a:cubicBezTo>
                  <a:pt x="8569" y="12839"/>
                  <a:pt x="8498" y="12845"/>
                  <a:pt x="8409" y="12874"/>
                </a:cubicBezTo>
                <a:cubicBezTo>
                  <a:pt x="8339" y="12897"/>
                  <a:pt x="8277" y="12923"/>
                  <a:pt x="8210" y="12948"/>
                </a:cubicBezTo>
                <a:cubicBezTo>
                  <a:pt x="8201" y="12951"/>
                  <a:pt x="8040" y="12993"/>
                  <a:pt x="8037" y="12998"/>
                </a:cubicBezTo>
                <a:cubicBezTo>
                  <a:pt x="7975" y="13093"/>
                  <a:pt x="7896" y="13259"/>
                  <a:pt x="7863" y="13370"/>
                </a:cubicBezTo>
                <a:cubicBezTo>
                  <a:pt x="7863" y="13378"/>
                  <a:pt x="7863" y="13387"/>
                  <a:pt x="7863" y="13395"/>
                </a:cubicBezTo>
                <a:cubicBezTo>
                  <a:pt x="7863" y="13284"/>
                  <a:pt x="7867" y="13181"/>
                  <a:pt x="7888" y="13072"/>
                </a:cubicBezTo>
                <a:cubicBezTo>
                  <a:pt x="7910" y="12964"/>
                  <a:pt x="7913" y="12938"/>
                  <a:pt x="7938" y="12874"/>
                </a:cubicBezTo>
                <a:cubicBezTo>
                  <a:pt x="7914" y="12965"/>
                  <a:pt x="7881" y="13056"/>
                  <a:pt x="7863" y="13146"/>
                </a:cubicBezTo>
                <a:cubicBezTo>
                  <a:pt x="7937" y="13146"/>
                  <a:pt x="8012" y="13146"/>
                  <a:pt x="8086" y="13146"/>
                </a:cubicBezTo>
              </a:path>
              <a:path w="7591" h="2878">
                <a:moveTo>
                  <a:pt x="8483" y="12105"/>
                </a:moveTo>
                <a:cubicBezTo>
                  <a:pt x="8485" y="12114"/>
                  <a:pt x="8508" y="12430"/>
                  <a:pt x="8508" y="12229"/>
                </a:cubicBezTo>
              </a:path>
              <a:path w="7591" h="2878">
                <a:moveTo>
                  <a:pt x="8558" y="11609"/>
                </a:moveTo>
                <a:cubicBezTo>
                  <a:pt x="8333" y="11690"/>
                  <a:pt x="8009" y="11841"/>
                  <a:pt x="8111" y="12154"/>
                </a:cubicBezTo>
                <a:cubicBezTo>
                  <a:pt x="8210" y="12459"/>
                  <a:pt x="8664" y="12536"/>
                  <a:pt x="8806" y="12229"/>
                </a:cubicBezTo>
                <a:cubicBezTo>
                  <a:pt x="8890" y="12047"/>
                  <a:pt x="8800" y="11717"/>
                  <a:pt x="8558" y="11733"/>
                </a:cubicBezTo>
                <a:cubicBezTo>
                  <a:pt x="8517" y="11749"/>
                  <a:pt x="8475" y="11766"/>
                  <a:pt x="8434" y="117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97080" y="750960"/>
            <a:ext cx="785880" cy="276120"/>
          </a:xfrm>
          <a:custGeom>
            <a:avLst/>
            <a:gdLst/>
            <a:ahLst/>
            <a:rect l="l" t="t" r="r" b="b"/>
            <a:pathLst>
              <a:path w="2184" h="770">
                <a:moveTo>
                  <a:pt x="6424" y="2356"/>
                </a:moveTo>
                <a:cubicBezTo>
                  <a:pt x="6342" y="2388"/>
                  <a:pt x="6220" y="2423"/>
                  <a:pt x="6176" y="2480"/>
                </a:cubicBezTo>
                <a:cubicBezTo>
                  <a:pt x="6258" y="2554"/>
                  <a:pt x="6487" y="2693"/>
                  <a:pt x="6325" y="2828"/>
                </a:cubicBezTo>
                <a:cubicBezTo>
                  <a:pt x="6156" y="2968"/>
                  <a:pt x="6121" y="2762"/>
                  <a:pt x="6102" y="2679"/>
                </a:cubicBezTo>
              </a:path>
              <a:path w="2184" h="770">
                <a:moveTo>
                  <a:pt x="6598" y="2555"/>
                </a:moveTo>
                <a:cubicBezTo>
                  <a:pt x="6636" y="2687"/>
                  <a:pt x="6653" y="2701"/>
                  <a:pt x="6648" y="2778"/>
                </a:cubicBezTo>
                <a:cubicBezTo>
                  <a:pt x="6662" y="2674"/>
                  <a:pt x="6666" y="2554"/>
                  <a:pt x="6747" y="2480"/>
                </a:cubicBezTo>
                <a:cubicBezTo>
                  <a:pt x="6808" y="2425"/>
                  <a:pt x="6811" y="2661"/>
                  <a:pt x="6821" y="2679"/>
                </a:cubicBezTo>
                <a:cubicBezTo>
                  <a:pt x="6829" y="2679"/>
                  <a:pt x="6838" y="2679"/>
                  <a:pt x="6846" y="2679"/>
                </a:cubicBezTo>
              </a:path>
              <a:path w="2184" h="770">
                <a:moveTo>
                  <a:pt x="7094" y="2480"/>
                </a:moveTo>
                <a:cubicBezTo>
                  <a:pt x="7046" y="2504"/>
                  <a:pt x="6795" y="2659"/>
                  <a:pt x="6970" y="2729"/>
                </a:cubicBezTo>
                <a:cubicBezTo>
                  <a:pt x="7129" y="2793"/>
                  <a:pt x="7236" y="2606"/>
                  <a:pt x="7169" y="2480"/>
                </a:cubicBezTo>
                <a:cubicBezTo>
                  <a:pt x="7161" y="2480"/>
                  <a:pt x="7152" y="2480"/>
                  <a:pt x="7144" y="2480"/>
                </a:cubicBezTo>
              </a:path>
              <a:path w="2184" h="770">
                <a:moveTo>
                  <a:pt x="7417" y="2505"/>
                </a:moveTo>
                <a:cubicBezTo>
                  <a:pt x="7523" y="2475"/>
                  <a:pt x="7536" y="2478"/>
                  <a:pt x="7590" y="2406"/>
                </a:cubicBezTo>
                <a:cubicBezTo>
                  <a:pt x="7545" y="2315"/>
                  <a:pt x="7441" y="2283"/>
                  <a:pt x="7342" y="2356"/>
                </a:cubicBezTo>
                <a:cubicBezTo>
                  <a:pt x="7190" y="2467"/>
                  <a:pt x="7279" y="2724"/>
                  <a:pt x="7466" y="2729"/>
                </a:cubicBezTo>
                <a:cubicBezTo>
                  <a:pt x="7596" y="2732"/>
                  <a:pt x="7581" y="2645"/>
                  <a:pt x="7565" y="2580"/>
                </a:cubicBezTo>
              </a:path>
              <a:path w="2184" h="770">
                <a:moveTo>
                  <a:pt x="6499" y="2282"/>
                </a:moveTo>
                <a:cubicBezTo>
                  <a:pt x="6467" y="2392"/>
                  <a:pt x="6518" y="2510"/>
                  <a:pt x="6548" y="2629"/>
                </a:cubicBezTo>
                <a:cubicBezTo>
                  <a:pt x="6571" y="2721"/>
                  <a:pt x="6605" y="2773"/>
                  <a:pt x="6623" y="2828"/>
                </a:cubicBezTo>
              </a:path>
              <a:path w="2184" h="770">
                <a:moveTo>
                  <a:pt x="6623" y="2753"/>
                </a:moveTo>
                <a:cubicBezTo>
                  <a:pt x="6623" y="2696"/>
                  <a:pt x="6612" y="2630"/>
                  <a:pt x="6648" y="2580"/>
                </a:cubicBezTo>
                <a:cubicBezTo>
                  <a:pt x="6684" y="2530"/>
                  <a:pt x="6776" y="2568"/>
                  <a:pt x="6796" y="2604"/>
                </a:cubicBezTo>
                <a:cubicBezTo>
                  <a:pt x="6813" y="2637"/>
                  <a:pt x="6829" y="2671"/>
                  <a:pt x="6846" y="2704"/>
                </a:cubicBezTo>
              </a:path>
              <a:path w="2184" h="770">
                <a:moveTo>
                  <a:pt x="7739" y="2084"/>
                </a:moveTo>
                <a:cubicBezTo>
                  <a:pt x="7731" y="2084"/>
                  <a:pt x="7722" y="2084"/>
                  <a:pt x="7714" y="2084"/>
                </a:cubicBezTo>
              </a:path>
              <a:path w="2184" h="770">
                <a:moveTo>
                  <a:pt x="7541" y="2158"/>
                </a:moveTo>
                <a:cubicBezTo>
                  <a:pt x="7658" y="2158"/>
                  <a:pt x="7732" y="2216"/>
                  <a:pt x="7838" y="2232"/>
                </a:cubicBezTo>
                <a:cubicBezTo>
                  <a:pt x="7971" y="2252"/>
                  <a:pt x="8124" y="2232"/>
                  <a:pt x="8260" y="2232"/>
                </a:cubicBezTo>
                <a:cubicBezTo>
                  <a:pt x="8175" y="2207"/>
                  <a:pt x="7987" y="2151"/>
                  <a:pt x="7987" y="2133"/>
                </a:cubicBezTo>
                <a:cubicBezTo>
                  <a:pt x="8085" y="2182"/>
                  <a:pt x="8197" y="2223"/>
                  <a:pt x="8285" y="2282"/>
                </a:cubicBezTo>
                <a:cubicBezTo>
                  <a:pt x="8258" y="2363"/>
                  <a:pt x="8188" y="2456"/>
                  <a:pt x="8111" y="2505"/>
                </a:cubicBezTo>
                <a:cubicBezTo>
                  <a:pt x="8051" y="2543"/>
                  <a:pt x="8080" y="2475"/>
                  <a:pt x="8086" y="24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21000" y="419040"/>
            <a:ext cx="438120" cy="233280"/>
          </a:xfrm>
          <a:custGeom>
            <a:avLst/>
            <a:gdLst/>
            <a:ahLst/>
            <a:rect l="l" t="t" r="r" b="b"/>
            <a:pathLst>
              <a:path w="1217" h="646">
                <a:moveTo>
                  <a:pt x="9252" y="1414"/>
                </a:moveTo>
                <a:cubicBezTo>
                  <a:pt x="9335" y="1372"/>
                  <a:pt x="9382" y="1384"/>
                  <a:pt x="9475" y="1389"/>
                </a:cubicBezTo>
                <a:cubicBezTo>
                  <a:pt x="9741" y="1404"/>
                  <a:pt x="10054" y="1504"/>
                  <a:pt x="10319" y="1463"/>
                </a:cubicBezTo>
                <a:cubicBezTo>
                  <a:pt x="10327" y="1455"/>
                  <a:pt x="10336" y="1447"/>
                  <a:pt x="10344" y="1439"/>
                </a:cubicBezTo>
                <a:cubicBezTo>
                  <a:pt x="10243" y="1359"/>
                  <a:pt x="10103" y="1281"/>
                  <a:pt x="9971" y="1215"/>
                </a:cubicBezTo>
                <a:cubicBezTo>
                  <a:pt x="9923" y="1191"/>
                  <a:pt x="9920" y="1190"/>
                  <a:pt x="9872" y="1166"/>
                </a:cubicBezTo>
                <a:cubicBezTo>
                  <a:pt x="10021" y="1234"/>
                  <a:pt x="10332" y="1297"/>
                  <a:pt x="10443" y="1414"/>
                </a:cubicBezTo>
                <a:cubicBezTo>
                  <a:pt x="10443" y="1430"/>
                  <a:pt x="10443" y="1447"/>
                  <a:pt x="10443" y="1463"/>
                </a:cubicBezTo>
                <a:cubicBezTo>
                  <a:pt x="10338" y="1592"/>
                  <a:pt x="10233" y="1694"/>
                  <a:pt x="10096" y="1786"/>
                </a:cubicBezTo>
                <a:cubicBezTo>
                  <a:pt x="10079" y="1794"/>
                  <a:pt x="10063" y="1803"/>
                  <a:pt x="10046" y="18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52800" y="98280"/>
            <a:ext cx="1125360" cy="687600"/>
          </a:xfrm>
          <a:custGeom>
            <a:avLst/>
            <a:gdLst/>
            <a:ahLst/>
            <a:rect l="l" t="t" r="r" b="b"/>
            <a:pathLst>
              <a:path w="3126" h="1911">
                <a:moveTo>
                  <a:pt x="8731" y="1538"/>
                </a:moveTo>
                <a:cubicBezTo>
                  <a:pt x="8612" y="1493"/>
                  <a:pt x="8553" y="1525"/>
                  <a:pt x="8458" y="1612"/>
                </a:cubicBezTo>
                <a:cubicBezTo>
                  <a:pt x="8298" y="1758"/>
                  <a:pt x="8301" y="1855"/>
                  <a:pt x="8334" y="2059"/>
                </a:cubicBezTo>
                <a:cubicBezTo>
                  <a:pt x="8504" y="2158"/>
                  <a:pt x="8618" y="2188"/>
                  <a:pt x="8806" y="2084"/>
                </a:cubicBezTo>
                <a:cubicBezTo>
                  <a:pt x="8966" y="1996"/>
                  <a:pt x="9051" y="1760"/>
                  <a:pt x="9079" y="1588"/>
                </a:cubicBezTo>
                <a:cubicBezTo>
                  <a:pt x="9100" y="1461"/>
                  <a:pt x="9054" y="1321"/>
                  <a:pt x="8930" y="1265"/>
                </a:cubicBezTo>
                <a:cubicBezTo>
                  <a:pt x="8767" y="1191"/>
                  <a:pt x="8560" y="1316"/>
                  <a:pt x="8434" y="1414"/>
                </a:cubicBezTo>
                <a:cubicBezTo>
                  <a:pt x="8275" y="1538"/>
                  <a:pt x="8200" y="1677"/>
                  <a:pt x="8235" y="1885"/>
                </a:cubicBezTo>
                <a:cubicBezTo>
                  <a:pt x="8270" y="2096"/>
                  <a:pt x="8446" y="2219"/>
                  <a:pt x="8657" y="2183"/>
                </a:cubicBezTo>
                <a:cubicBezTo>
                  <a:pt x="8841" y="2152"/>
                  <a:pt x="8996" y="1974"/>
                  <a:pt x="9054" y="1811"/>
                </a:cubicBezTo>
                <a:cubicBezTo>
                  <a:pt x="9111" y="1653"/>
                  <a:pt x="9124" y="1502"/>
                  <a:pt x="8979" y="1389"/>
                </a:cubicBezTo>
                <a:cubicBezTo>
                  <a:pt x="8830" y="1273"/>
                  <a:pt x="8668" y="1309"/>
                  <a:pt x="8533" y="1414"/>
                </a:cubicBezTo>
                <a:cubicBezTo>
                  <a:pt x="8403" y="1515"/>
                  <a:pt x="8335" y="1649"/>
                  <a:pt x="8409" y="1811"/>
                </a:cubicBezTo>
                <a:cubicBezTo>
                  <a:pt x="8476" y="1901"/>
                  <a:pt x="8492" y="1928"/>
                  <a:pt x="8558" y="1960"/>
                </a:cubicBezTo>
              </a:path>
              <a:path w="3126" h="1911">
                <a:moveTo>
                  <a:pt x="6003" y="1588"/>
                </a:moveTo>
                <a:cubicBezTo>
                  <a:pt x="5995" y="1588"/>
                  <a:pt x="5986" y="1588"/>
                  <a:pt x="5978" y="1588"/>
                </a:cubicBezTo>
                <a:cubicBezTo>
                  <a:pt x="6012" y="1577"/>
                  <a:pt x="6019" y="1594"/>
                  <a:pt x="6077" y="1588"/>
                </a:cubicBezTo>
                <a:cubicBezTo>
                  <a:pt x="6159" y="1579"/>
                  <a:pt x="6196" y="1569"/>
                  <a:pt x="6276" y="1588"/>
                </a:cubicBezTo>
                <a:cubicBezTo>
                  <a:pt x="6393" y="1615"/>
                  <a:pt x="6435" y="1630"/>
                  <a:pt x="6548" y="1612"/>
                </a:cubicBezTo>
                <a:cubicBezTo>
                  <a:pt x="6671" y="1592"/>
                  <a:pt x="6853" y="1603"/>
                  <a:pt x="6945" y="1588"/>
                </a:cubicBezTo>
                <a:cubicBezTo>
                  <a:pt x="7003" y="1579"/>
                  <a:pt x="7021" y="1579"/>
                  <a:pt x="7069" y="1563"/>
                </a:cubicBezTo>
                <a:cubicBezTo>
                  <a:pt x="7110" y="1549"/>
                  <a:pt x="7153" y="1531"/>
                  <a:pt x="7193" y="1513"/>
                </a:cubicBezTo>
                <a:cubicBezTo>
                  <a:pt x="7209" y="1506"/>
                  <a:pt x="7268" y="1464"/>
                  <a:pt x="7268" y="1463"/>
                </a:cubicBezTo>
                <a:cubicBezTo>
                  <a:pt x="7282" y="1424"/>
                  <a:pt x="7281" y="1409"/>
                  <a:pt x="7293" y="1389"/>
                </a:cubicBezTo>
                <a:cubicBezTo>
                  <a:pt x="7256" y="1357"/>
                  <a:pt x="7233" y="1337"/>
                  <a:pt x="7193" y="1315"/>
                </a:cubicBezTo>
                <a:cubicBezTo>
                  <a:pt x="7155" y="1294"/>
                  <a:pt x="7079" y="1271"/>
                  <a:pt x="7045" y="1265"/>
                </a:cubicBezTo>
                <a:cubicBezTo>
                  <a:pt x="6948" y="1247"/>
                  <a:pt x="6860" y="1279"/>
                  <a:pt x="6772" y="1290"/>
                </a:cubicBezTo>
                <a:cubicBezTo>
                  <a:pt x="6664" y="1304"/>
                  <a:pt x="6553" y="1298"/>
                  <a:pt x="6449" y="1315"/>
                </a:cubicBezTo>
                <a:cubicBezTo>
                  <a:pt x="6376" y="1327"/>
                  <a:pt x="6294" y="1341"/>
                  <a:pt x="6226" y="1364"/>
                </a:cubicBezTo>
                <a:cubicBezTo>
                  <a:pt x="6198" y="1373"/>
                  <a:pt x="6154" y="1376"/>
                  <a:pt x="6127" y="1389"/>
                </a:cubicBezTo>
                <a:cubicBezTo>
                  <a:pt x="6093" y="1406"/>
                  <a:pt x="6029" y="1435"/>
                  <a:pt x="6003" y="1463"/>
                </a:cubicBezTo>
                <a:cubicBezTo>
                  <a:pt x="5946" y="1524"/>
                  <a:pt x="5982" y="1613"/>
                  <a:pt x="6003" y="1687"/>
                </a:cubicBezTo>
                <a:cubicBezTo>
                  <a:pt x="6025" y="1763"/>
                  <a:pt x="6009" y="1837"/>
                  <a:pt x="6028" y="1910"/>
                </a:cubicBezTo>
                <a:cubicBezTo>
                  <a:pt x="6039" y="1952"/>
                  <a:pt x="6025" y="2000"/>
                  <a:pt x="6052" y="2034"/>
                </a:cubicBezTo>
                <a:cubicBezTo>
                  <a:pt x="6088" y="2080"/>
                  <a:pt x="6126" y="2048"/>
                  <a:pt x="6176" y="2059"/>
                </a:cubicBezTo>
                <a:cubicBezTo>
                  <a:pt x="6224" y="2070"/>
                  <a:pt x="6295" y="2094"/>
                  <a:pt x="6350" y="2108"/>
                </a:cubicBezTo>
                <a:cubicBezTo>
                  <a:pt x="6417" y="2126"/>
                  <a:pt x="6555" y="2173"/>
                  <a:pt x="6623" y="2158"/>
                </a:cubicBezTo>
                <a:cubicBezTo>
                  <a:pt x="6693" y="2143"/>
                  <a:pt x="6745" y="2133"/>
                  <a:pt x="6821" y="2133"/>
                </a:cubicBezTo>
                <a:cubicBezTo>
                  <a:pt x="6875" y="2133"/>
                  <a:pt x="6900" y="2116"/>
                  <a:pt x="6945" y="2108"/>
                </a:cubicBezTo>
                <a:cubicBezTo>
                  <a:pt x="7027" y="2094"/>
                  <a:pt x="7124" y="2141"/>
                  <a:pt x="7193" y="2133"/>
                </a:cubicBezTo>
                <a:cubicBezTo>
                  <a:pt x="7235" y="2128"/>
                  <a:pt x="7322" y="2119"/>
                  <a:pt x="7367" y="2108"/>
                </a:cubicBezTo>
                <a:cubicBezTo>
                  <a:pt x="7402" y="2099"/>
                  <a:pt x="7456" y="2095"/>
                  <a:pt x="7491" y="2084"/>
                </a:cubicBezTo>
                <a:cubicBezTo>
                  <a:pt x="7545" y="2067"/>
                  <a:pt x="7588" y="2074"/>
                  <a:pt x="7640" y="2059"/>
                </a:cubicBezTo>
                <a:cubicBezTo>
                  <a:pt x="7679" y="2048"/>
                  <a:pt x="7813" y="2030"/>
                  <a:pt x="7838" y="2009"/>
                </a:cubicBezTo>
                <a:cubicBezTo>
                  <a:pt x="7897" y="1960"/>
                  <a:pt x="7917" y="1876"/>
                  <a:pt x="7938" y="1811"/>
                </a:cubicBezTo>
                <a:cubicBezTo>
                  <a:pt x="7961" y="1742"/>
                  <a:pt x="7962" y="1685"/>
                  <a:pt x="7962" y="1612"/>
                </a:cubicBezTo>
                <a:cubicBezTo>
                  <a:pt x="7962" y="1558"/>
                  <a:pt x="7935" y="1542"/>
                  <a:pt x="7913" y="1513"/>
                </a:cubicBezTo>
                <a:cubicBezTo>
                  <a:pt x="7892" y="1486"/>
                  <a:pt x="7844" y="1446"/>
                  <a:pt x="7813" y="1439"/>
                </a:cubicBezTo>
                <a:cubicBezTo>
                  <a:pt x="7733" y="1422"/>
                  <a:pt x="7638" y="1438"/>
                  <a:pt x="7565" y="1463"/>
                </a:cubicBezTo>
                <a:cubicBezTo>
                  <a:pt x="7518" y="1479"/>
                  <a:pt x="7465" y="1528"/>
                  <a:pt x="7417" y="1538"/>
                </a:cubicBezTo>
                <a:cubicBezTo>
                  <a:pt x="7342" y="1554"/>
                  <a:pt x="7246" y="1538"/>
                  <a:pt x="7169" y="1538"/>
                </a:cubicBezTo>
              </a:path>
              <a:path w="3126" h="1911">
                <a:moveTo>
                  <a:pt x="6375" y="1439"/>
                </a:moveTo>
                <a:cubicBezTo>
                  <a:pt x="6447" y="1293"/>
                  <a:pt x="6499" y="1135"/>
                  <a:pt x="6573" y="992"/>
                </a:cubicBezTo>
                <a:cubicBezTo>
                  <a:pt x="6603" y="934"/>
                  <a:pt x="6672" y="875"/>
                  <a:pt x="6697" y="819"/>
                </a:cubicBezTo>
                <a:cubicBezTo>
                  <a:pt x="6718" y="772"/>
                  <a:pt x="6742" y="751"/>
                  <a:pt x="6747" y="695"/>
                </a:cubicBezTo>
                <a:cubicBezTo>
                  <a:pt x="6747" y="670"/>
                  <a:pt x="6747" y="662"/>
                  <a:pt x="6747" y="645"/>
                </a:cubicBezTo>
              </a:path>
              <a:path w="3126" h="1911">
                <a:moveTo>
                  <a:pt x="6846" y="471"/>
                </a:moveTo>
                <a:cubicBezTo>
                  <a:pt x="6833" y="524"/>
                  <a:pt x="6762" y="652"/>
                  <a:pt x="6697" y="546"/>
                </a:cubicBezTo>
                <a:cubicBezTo>
                  <a:pt x="6630" y="437"/>
                  <a:pt x="6725" y="308"/>
                  <a:pt x="6846" y="322"/>
                </a:cubicBezTo>
                <a:cubicBezTo>
                  <a:pt x="6887" y="363"/>
                  <a:pt x="6890" y="393"/>
                  <a:pt x="6846" y="446"/>
                </a:cubicBezTo>
                <a:cubicBezTo>
                  <a:pt x="6724" y="539"/>
                  <a:pt x="6697" y="560"/>
                  <a:pt x="6697" y="397"/>
                </a:cubicBezTo>
                <a:cubicBezTo>
                  <a:pt x="6773" y="346"/>
                  <a:pt x="6904" y="327"/>
                  <a:pt x="6871" y="471"/>
                </a:cubicBezTo>
                <a:cubicBezTo>
                  <a:pt x="6826" y="671"/>
                  <a:pt x="6601" y="586"/>
                  <a:pt x="6672" y="422"/>
                </a:cubicBezTo>
                <a:cubicBezTo>
                  <a:pt x="6696" y="366"/>
                  <a:pt x="6942" y="271"/>
                  <a:pt x="6921" y="372"/>
                </a:cubicBezTo>
                <a:cubicBezTo>
                  <a:pt x="6867" y="452"/>
                  <a:pt x="6844" y="480"/>
                  <a:pt x="6772" y="496"/>
                </a:cubicBezTo>
                <a:cubicBezTo>
                  <a:pt x="6678" y="402"/>
                  <a:pt x="6747" y="285"/>
                  <a:pt x="6896" y="273"/>
                </a:cubicBezTo>
                <a:cubicBezTo>
                  <a:pt x="6979" y="266"/>
                  <a:pt x="6941" y="333"/>
                  <a:pt x="6921" y="347"/>
                </a:cubicBezTo>
              </a:path>
              <a:path w="3126" h="1911">
                <a:moveTo>
                  <a:pt x="7565" y="546"/>
                </a:moveTo>
                <a:cubicBezTo>
                  <a:pt x="7679" y="546"/>
                  <a:pt x="7778" y="539"/>
                  <a:pt x="7888" y="521"/>
                </a:cubicBezTo>
                <a:cubicBezTo>
                  <a:pt x="7913" y="521"/>
                  <a:pt x="7921" y="521"/>
                  <a:pt x="7938" y="521"/>
                </a:cubicBezTo>
                <a:cubicBezTo>
                  <a:pt x="7893" y="633"/>
                  <a:pt x="7839" y="769"/>
                  <a:pt x="7789" y="893"/>
                </a:cubicBezTo>
                <a:cubicBezTo>
                  <a:pt x="7734" y="1030"/>
                  <a:pt x="7791" y="909"/>
                  <a:pt x="7813" y="819"/>
                </a:cubicBezTo>
              </a:path>
              <a:path w="3126" h="1911">
                <a:moveTo>
                  <a:pt x="7962" y="322"/>
                </a:moveTo>
                <a:cubicBezTo>
                  <a:pt x="7790" y="300"/>
                  <a:pt x="7522" y="324"/>
                  <a:pt x="7392" y="471"/>
                </a:cubicBezTo>
                <a:cubicBezTo>
                  <a:pt x="7208" y="678"/>
                  <a:pt x="7188" y="1235"/>
                  <a:pt x="7491" y="1364"/>
                </a:cubicBezTo>
                <a:cubicBezTo>
                  <a:pt x="7875" y="1527"/>
                  <a:pt x="8198" y="1035"/>
                  <a:pt x="8161" y="719"/>
                </a:cubicBezTo>
                <a:cubicBezTo>
                  <a:pt x="8136" y="503"/>
                  <a:pt x="7984" y="521"/>
                  <a:pt x="7838" y="5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9960" y="938160"/>
            <a:ext cx="760320" cy="1687680"/>
          </a:xfrm>
          <a:custGeom>
            <a:avLst/>
            <a:gdLst/>
            <a:ahLst/>
            <a:rect l="l" t="t" r="r" b="b"/>
            <a:pathLst>
              <a:path w="2109" h="4690">
                <a:moveTo>
                  <a:pt x="21903" y="2679"/>
                </a:moveTo>
                <a:cubicBezTo>
                  <a:pt x="21880" y="2716"/>
                  <a:pt x="21881" y="2610"/>
                  <a:pt x="21878" y="2654"/>
                </a:cubicBezTo>
                <a:cubicBezTo>
                  <a:pt x="21842" y="3239"/>
                  <a:pt x="21816" y="3829"/>
                  <a:pt x="21803" y="4415"/>
                </a:cubicBezTo>
                <a:cubicBezTo>
                  <a:pt x="21795" y="4780"/>
                  <a:pt x="21793" y="5143"/>
                  <a:pt x="21779" y="5507"/>
                </a:cubicBezTo>
                <a:cubicBezTo>
                  <a:pt x="21772" y="5686"/>
                  <a:pt x="21793" y="5853"/>
                  <a:pt x="21803" y="6028"/>
                </a:cubicBezTo>
                <a:cubicBezTo>
                  <a:pt x="21810" y="6161"/>
                  <a:pt x="21870" y="6610"/>
                  <a:pt x="21779" y="6697"/>
                </a:cubicBezTo>
                <a:cubicBezTo>
                  <a:pt x="21722" y="6751"/>
                  <a:pt x="21522" y="6726"/>
                  <a:pt x="21431" y="6772"/>
                </a:cubicBezTo>
                <a:cubicBezTo>
                  <a:pt x="21210" y="6885"/>
                  <a:pt x="21017" y="7035"/>
                  <a:pt x="20886" y="7243"/>
                </a:cubicBezTo>
                <a:cubicBezTo>
                  <a:pt x="20878" y="7260"/>
                  <a:pt x="20869" y="7276"/>
                  <a:pt x="20861" y="7293"/>
                </a:cubicBezTo>
                <a:cubicBezTo>
                  <a:pt x="20950" y="7243"/>
                  <a:pt x="21046" y="7183"/>
                  <a:pt x="21134" y="7119"/>
                </a:cubicBezTo>
                <a:cubicBezTo>
                  <a:pt x="21291" y="7005"/>
                  <a:pt x="21458" y="6858"/>
                  <a:pt x="21630" y="6772"/>
                </a:cubicBezTo>
                <a:cubicBezTo>
                  <a:pt x="21748" y="6713"/>
                  <a:pt x="21869" y="6675"/>
                  <a:pt x="22002" y="6672"/>
                </a:cubicBezTo>
                <a:cubicBezTo>
                  <a:pt x="22142" y="6669"/>
                  <a:pt x="22356" y="6757"/>
                  <a:pt x="22473" y="6821"/>
                </a:cubicBezTo>
                <a:cubicBezTo>
                  <a:pt x="22559" y="6868"/>
                  <a:pt x="22635" y="6919"/>
                  <a:pt x="22721" y="6970"/>
                </a:cubicBezTo>
                <a:cubicBezTo>
                  <a:pt x="22544" y="7015"/>
                  <a:pt x="22354" y="7086"/>
                  <a:pt x="22175" y="7119"/>
                </a:cubicBezTo>
                <a:cubicBezTo>
                  <a:pt x="21889" y="7171"/>
                  <a:pt x="21596" y="7169"/>
                  <a:pt x="21307" y="7169"/>
                </a:cubicBezTo>
                <a:cubicBezTo>
                  <a:pt x="21081" y="7169"/>
                  <a:pt x="20858" y="7197"/>
                  <a:pt x="20638" y="7218"/>
                </a:cubicBezTo>
                <a:cubicBezTo>
                  <a:pt x="20480" y="7233"/>
                  <a:pt x="20902" y="7193"/>
                  <a:pt x="21059" y="71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919080"/>
            <a:ext cx="63360" cy="1455840"/>
          </a:xfrm>
          <a:custGeom>
            <a:avLst/>
            <a:gdLst/>
            <a:ahLst/>
            <a:rect l="l" t="t" r="r" b="b"/>
            <a:pathLst>
              <a:path w="175" h="4044">
                <a:moveTo>
                  <a:pt x="21977" y="6573"/>
                </a:moveTo>
                <a:cubicBezTo>
                  <a:pt x="21934" y="6482"/>
                  <a:pt x="21917" y="6450"/>
                  <a:pt x="21903" y="6350"/>
                </a:cubicBezTo>
                <a:cubicBezTo>
                  <a:pt x="21858" y="6041"/>
                  <a:pt x="21898" y="5741"/>
                  <a:pt x="21903" y="5432"/>
                </a:cubicBezTo>
                <a:cubicBezTo>
                  <a:pt x="21909" y="5059"/>
                  <a:pt x="21900" y="4687"/>
                  <a:pt x="21927" y="4316"/>
                </a:cubicBezTo>
                <a:cubicBezTo>
                  <a:pt x="21938" y="4171"/>
                  <a:pt x="21903" y="4018"/>
                  <a:pt x="21903" y="3870"/>
                </a:cubicBezTo>
                <a:cubicBezTo>
                  <a:pt x="21903" y="3709"/>
                  <a:pt x="21923" y="3557"/>
                  <a:pt x="21927" y="3398"/>
                </a:cubicBezTo>
                <a:cubicBezTo>
                  <a:pt x="21930" y="3284"/>
                  <a:pt x="21915" y="3185"/>
                  <a:pt x="21903" y="3076"/>
                </a:cubicBezTo>
                <a:cubicBezTo>
                  <a:pt x="21890" y="2956"/>
                  <a:pt x="21940" y="2847"/>
                  <a:pt x="21927" y="2729"/>
                </a:cubicBezTo>
                <a:cubicBezTo>
                  <a:pt x="21919" y="2650"/>
                  <a:pt x="21917" y="2622"/>
                  <a:pt x="21927" y="2555"/>
                </a:cubicBezTo>
                <a:cubicBezTo>
                  <a:pt x="21764" y="2591"/>
                  <a:pt x="21864" y="2558"/>
                  <a:pt x="21853" y="26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69160" y="812880"/>
            <a:ext cx="241200" cy="214200"/>
          </a:xfrm>
          <a:custGeom>
            <a:avLst/>
            <a:gdLst/>
            <a:ahLst/>
            <a:rect l="l" t="t" r="r" b="b"/>
            <a:pathLst>
              <a:path w="671" h="597">
                <a:moveTo>
                  <a:pt x="21952" y="2381"/>
                </a:moveTo>
                <a:cubicBezTo>
                  <a:pt x="21859" y="2350"/>
                  <a:pt x="21672" y="2320"/>
                  <a:pt x="21605" y="2456"/>
                </a:cubicBezTo>
                <a:cubicBezTo>
                  <a:pt x="21455" y="2762"/>
                  <a:pt x="21737" y="2907"/>
                  <a:pt x="21977" y="2778"/>
                </a:cubicBezTo>
                <a:cubicBezTo>
                  <a:pt x="22159" y="2641"/>
                  <a:pt x="22217" y="2609"/>
                  <a:pt x="22250" y="2456"/>
                </a:cubicBezTo>
                <a:cubicBezTo>
                  <a:pt x="22114" y="2309"/>
                  <a:pt x="21845" y="2263"/>
                  <a:pt x="21654" y="2431"/>
                </a:cubicBezTo>
                <a:cubicBezTo>
                  <a:pt x="21604" y="2558"/>
                  <a:pt x="21589" y="2603"/>
                  <a:pt x="21679" y="2679"/>
                </a:cubicBezTo>
                <a:cubicBezTo>
                  <a:pt x="21919" y="2741"/>
                  <a:pt x="22284" y="2798"/>
                  <a:pt x="22175" y="2381"/>
                </a:cubicBezTo>
                <a:cubicBezTo>
                  <a:pt x="22102" y="2104"/>
                  <a:pt x="21641" y="2290"/>
                  <a:pt x="21580" y="2480"/>
                </a:cubicBezTo>
                <a:cubicBezTo>
                  <a:pt x="21588" y="2538"/>
                  <a:pt x="21597" y="2596"/>
                  <a:pt x="21605" y="2654"/>
                </a:cubicBezTo>
                <a:cubicBezTo>
                  <a:pt x="21707" y="2700"/>
                  <a:pt x="22294" y="2795"/>
                  <a:pt x="22027" y="2456"/>
                </a:cubicBezTo>
                <a:cubicBezTo>
                  <a:pt x="21874" y="2379"/>
                  <a:pt x="21821" y="2356"/>
                  <a:pt x="21729" y="24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93000" y="2081160"/>
            <a:ext cx="484200" cy="276120"/>
          </a:xfrm>
          <a:custGeom>
            <a:avLst/>
            <a:gdLst/>
            <a:ahLst/>
            <a:rect l="l" t="t" r="r" b="b"/>
            <a:pathLst>
              <a:path w="1341" h="770">
                <a:moveTo>
                  <a:pt x="21927" y="5854"/>
                </a:moveTo>
                <a:cubicBezTo>
                  <a:pt x="22134" y="5862"/>
                  <a:pt x="22339" y="5888"/>
                  <a:pt x="22547" y="5879"/>
                </a:cubicBezTo>
                <a:cubicBezTo>
                  <a:pt x="22712" y="5872"/>
                  <a:pt x="22960" y="5867"/>
                  <a:pt x="23118" y="5804"/>
                </a:cubicBezTo>
                <a:cubicBezTo>
                  <a:pt x="23118" y="5796"/>
                  <a:pt x="23118" y="5787"/>
                  <a:pt x="23118" y="5779"/>
                </a:cubicBezTo>
                <a:cubicBezTo>
                  <a:pt x="23181" y="5946"/>
                  <a:pt x="23175" y="6186"/>
                  <a:pt x="23217" y="6375"/>
                </a:cubicBezTo>
                <a:cubicBezTo>
                  <a:pt x="23238" y="6459"/>
                  <a:pt x="23240" y="6478"/>
                  <a:pt x="23267" y="6524"/>
                </a:cubicBezTo>
                <a:cubicBezTo>
                  <a:pt x="23039" y="6524"/>
                  <a:pt x="22827" y="6541"/>
                  <a:pt x="22597" y="6524"/>
                </a:cubicBezTo>
                <a:cubicBezTo>
                  <a:pt x="22438" y="6513"/>
                  <a:pt x="22211" y="6533"/>
                  <a:pt x="22051" y="6499"/>
                </a:cubicBezTo>
                <a:cubicBezTo>
                  <a:pt x="22029" y="6476"/>
                  <a:pt x="22021" y="6471"/>
                  <a:pt x="22027" y="64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29720" y="2071800"/>
            <a:ext cx="98280" cy="233280"/>
          </a:xfrm>
          <a:custGeom>
            <a:avLst/>
            <a:gdLst/>
            <a:ahLst/>
            <a:rect l="l" t="t" r="r" b="b"/>
            <a:pathLst>
              <a:path w="273" h="646">
                <a:moveTo>
                  <a:pt x="22027" y="5978"/>
                </a:moveTo>
                <a:cubicBezTo>
                  <a:pt x="22047" y="6102"/>
                  <a:pt x="22096" y="6226"/>
                  <a:pt x="22126" y="6350"/>
                </a:cubicBezTo>
                <a:cubicBezTo>
                  <a:pt x="22093" y="6219"/>
                  <a:pt x="22028" y="6107"/>
                  <a:pt x="22051" y="5953"/>
                </a:cubicBezTo>
                <a:cubicBezTo>
                  <a:pt x="22097" y="5838"/>
                  <a:pt x="22107" y="5803"/>
                  <a:pt x="22175" y="5755"/>
                </a:cubicBezTo>
                <a:cubicBezTo>
                  <a:pt x="22212" y="5926"/>
                  <a:pt x="22193" y="5972"/>
                  <a:pt x="22076" y="6102"/>
                </a:cubicBezTo>
                <a:cubicBezTo>
                  <a:pt x="22193" y="6131"/>
                  <a:pt x="22223" y="6189"/>
                  <a:pt x="22275" y="6300"/>
                </a:cubicBezTo>
                <a:cubicBezTo>
                  <a:pt x="22294" y="6358"/>
                  <a:pt x="22302" y="6365"/>
                  <a:pt x="22299" y="64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45280" y="2241720"/>
            <a:ext cx="90720" cy="8064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22349" y="6325"/>
                </a:moveTo>
                <a:cubicBezTo>
                  <a:pt x="22384" y="6325"/>
                  <a:pt x="22474" y="6320"/>
                  <a:pt x="22498" y="6300"/>
                </a:cubicBezTo>
                <a:cubicBezTo>
                  <a:pt x="22498" y="6292"/>
                  <a:pt x="22498" y="6284"/>
                  <a:pt x="22498" y="6276"/>
                </a:cubicBezTo>
                <a:cubicBezTo>
                  <a:pt x="22404" y="6233"/>
                  <a:pt x="22289" y="6221"/>
                  <a:pt x="22399" y="6375"/>
                </a:cubicBezTo>
                <a:cubicBezTo>
                  <a:pt x="22478" y="6454"/>
                  <a:pt x="22509" y="6478"/>
                  <a:pt x="22597" y="64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43920" y="2081160"/>
            <a:ext cx="63360" cy="223920"/>
          </a:xfrm>
          <a:custGeom>
            <a:avLst/>
            <a:gdLst/>
            <a:ahLst/>
            <a:rect l="l" t="t" r="r" b="b"/>
            <a:pathLst>
              <a:path w="175" h="622">
                <a:moveTo>
                  <a:pt x="22622" y="6251"/>
                </a:moveTo>
                <a:cubicBezTo>
                  <a:pt x="22622" y="6276"/>
                  <a:pt x="22620" y="6476"/>
                  <a:pt x="22671" y="6276"/>
                </a:cubicBezTo>
                <a:cubicBezTo>
                  <a:pt x="22717" y="6097"/>
                  <a:pt x="22660" y="5953"/>
                  <a:pt x="22622" y="5779"/>
                </a:cubicBezTo>
                <a:cubicBezTo>
                  <a:pt x="22622" y="5926"/>
                  <a:pt x="22676" y="6088"/>
                  <a:pt x="22721" y="6226"/>
                </a:cubicBezTo>
                <a:cubicBezTo>
                  <a:pt x="22761" y="6326"/>
                  <a:pt x="22766" y="6344"/>
                  <a:pt x="22796" y="64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15200" y="2205000"/>
            <a:ext cx="36720" cy="117360"/>
          </a:xfrm>
          <a:custGeom>
            <a:avLst/>
            <a:gdLst/>
            <a:ahLst/>
            <a:rect l="l" t="t" r="r" b="b"/>
            <a:pathLst>
              <a:path w="101" h="323">
                <a:moveTo>
                  <a:pt x="22845" y="6127"/>
                </a:moveTo>
                <a:cubicBezTo>
                  <a:pt x="22798" y="6205"/>
                  <a:pt x="22835" y="6235"/>
                  <a:pt x="22895" y="6300"/>
                </a:cubicBezTo>
                <a:cubicBezTo>
                  <a:pt x="22958" y="6367"/>
                  <a:pt x="22909" y="6392"/>
                  <a:pt x="22870" y="64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51920" y="2108160"/>
            <a:ext cx="44280" cy="214200"/>
          </a:xfrm>
          <a:custGeom>
            <a:avLst/>
            <a:gdLst/>
            <a:ahLst/>
            <a:rect l="l" t="t" r="r" b="b"/>
            <a:pathLst>
              <a:path w="125" h="596">
                <a:moveTo>
                  <a:pt x="22920" y="5854"/>
                </a:moveTo>
                <a:cubicBezTo>
                  <a:pt x="22946" y="5990"/>
                  <a:pt x="22951" y="6355"/>
                  <a:pt x="23044" y="6449"/>
                </a:cubicBezTo>
                <a:cubicBezTo>
                  <a:pt x="23044" y="6433"/>
                  <a:pt x="23044" y="6416"/>
                  <a:pt x="23044" y="64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96200" y="2259000"/>
            <a:ext cx="34920" cy="54000"/>
          </a:xfrm>
          <a:custGeom>
            <a:avLst/>
            <a:gdLst/>
            <a:ahLst/>
            <a:rect l="l" t="t" r="r" b="b"/>
            <a:pathLst>
              <a:path w="100" h="149">
                <a:moveTo>
                  <a:pt x="23044" y="6276"/>
                </a:moveTo>
                <a:cubicBezTo>
                  <a:pt x="23069" y="6366"/>
                  <a:pt x="23064" y="6359"/>
                  <a:pt x="23143" y="642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48760" y="2259000"/>
            <a:ext cx="9360" cy="36360"/>
          </a:xfrm>
          <a:custGeom>
            <a:avLst/>
            <a:gdLst/>
            <a:ahLst/>
            <a:rect l="l" t="t" r="r" b="b"/>
            <a:pathLst>
              <a:path w="26" h="100">
                <a:moveTo>
                  <a:pt x="23192" y="6276"/>
                </a:moveTo>
                <a:cubicBezTo>
                  <a:pt x="23192" y="6327"/>
                  <a:pt x="23193" y="6346"/>
                  <a:pt x="23217" y="637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93040" y="2241720"/>
            <a:ext cx="100080" cy="8064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23316" y="6325"/>
                </a:moveTo>
                <a:cubicBezTo>
                  <a:pt x="23324" y="6350"/>
                  <a:pt x="23333" y="6375"/>
                  <a:pt x="23341" y="6400"/>
                </a:cubicBezTo>
                <a:cubicBezTo>
                  <a:pt x="23341" y="6444"/>
                  <a:pt x="23361" y="6271"/>
                  <a:pt x="23366" y="6226"/>
                </a:cubicBezTo>
                <a:cubicBezTo>
                  <a:pt x="23446" y="6274"/>
                  <a:pt x="23431" y="6491"/>
                  <a:pt x="23515" y="6449"/>
                </a:cubicBezTo>
                <a:cubicBezTo>
                  <a:pt x="23540" y="6416"/>
                  <a:pt x="23564" y="6383"/>
                  <a:pt x="23589" y="63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74040" y="2214720"/>
            <a:ext cx="54000" cy="71280"/>
          </a:xfrm>
          <a:custGeom>
            <a:avLst/>
            <a:gdLst/>
            <a:ahLst/>
            <a:rect l="l" t="t" r="r" b="b"/>
            <a:pathLst>
              <a:path w="149" h="199">
                <a:moveTo>
                  <a:pt x="23564" y="6152"/>
                </a:moveTo>
                <a:cubicBezTo>
                  <a:pt x="23602" y="6219"/>
                  <a:pt x="23629" y="6256"/>
                  <a:pt x="23688" y="6300"/>
                </a:cubicBezTo>
                <a:cubicBezTo>
                  <a:pt x="23654" y="6371"/>
                  <a:pt x="23623" y="6387"/>
                  <a:pt x="23540" y="63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27960" y="830160"/>
            <a:ext cx="455400" cy="1278000"/>
          </a:xfrm>
          <a:custGeom>
            <a:avLst/>
            <a:gdLst/>
            <a:ahLst/>
            <a:rect l="l" t="t" r="r" b="b"/>
            <a:pathLst>
              <a:path w="1266" h="3548">
                <a:moveTo>
                  <a:pt x="22076" y="5779"/>
                </a:moveTo>
                <a:cubicBezTo>
                  <a:pt x="22056" y="5820"/>
                  <a:pt x="22047" y="5826"/>
                  <a:pt x="22051" y="5854"/>
                </a:cubicBezTo>
                <a:cubicBezTo>
                  <a:pt x="22070" y="5752"/>
                  <a:pt x="22076" y="5662"/>
                  <a:pt x="22076" y="5556"/>
                </a:cubicBezTo>
                <a:cubicBezTo>
                  <a:pt x="22076" y="5389"/>
                  <a:pt x="22101" y="5228"/>
                  <a:pt x="22101" y="5060"/>
                </a:cubicBezTo>
                <a:cubicBezTo>
                  <a:pt x="22101" y="4904"/>
                  <a:pt x="22096" y="4741"/>
                  <a:pt x="22126" y="4589"/>
                </a:cubicBezTo>
                <a:cubicBezTo>
                  <a:pt x="22149" y="4472"/>
                  <a:pt x="22136" y="4360"/>
                  <a:pt x="22151" y="4242"/>
                </a:cubicBezTo>
                <a:cubicBezTo>
                  <a:pt x="22163" y="4149"/>
                  <a:pt x="22156" y="4081"/>
                  <a:pt x="22151" y="3994"/>
                </a:cubicBezTo>
                <a:cubicBezTo>
                  <a:pt x="22143" y="3853"/>
                  <a:pt x="22138" y="3706"/>
                  <a:pt x="22126" y="3572"/>
                </a:cubicBezTo>
                <a:cubicBezTo>
                  <a:pt x="22112" y="3415"/>
                  <a:pt x="22115" y="3255"/>
                  <a:pt x="22101" y="3101"/>
                </a:cubicBezTo>
                <a:cubicBezTo>
                  <a:pt x="22092" y="3002"/>
                  <a:pt x="22085" y="2899"/>
                  <a:pt x="22076" y="2803"/>
                </a:cubicBezTo>
                <a:cubicBezTo>
                  <a:pt x="22065" y="2686"/>
                  <a:pt x="22074" y="2616"/>
                  <a:pt x="22027" y="2505"/>
                </a:cubicBezTo>
                <a:cubicBezTo>
                  <a:pt x="22004" y="2449"/>
                  <a:pt x="21966" y="2424"/>
                  <a:pt x="21927" y="2381"/>
                </a:cubicBezTo>
                <a:cubicBezTo>
                  <a:pt x="21890" y="2340"/>
                  <a:pt x="21897" y="2315"/>
                  <a:pt x="21853" y="2307"/>
                </a:cubicBezTo>
                <a:cubicBezTo>
                  <a:pt x="21793" y="2296"/>
                  <a:pt x="21726" y="2306"/>
                  <a:pt x="21679" y="2332"/>
                </a:cubicBezTo>
                <a:cubicBezTo>
                  <a:pt x="21619" y="2365"/>
                  <a:pt x="21564" y="2448"/>
                  <a:pt x="21530" y="2505"/>
                </a:cubicBezTo>
                <a:cubicBezTo>
                  <a:pt x="21501" y="2554"/>
                  <a:pt x="21499" y="2599"/>
                  <a:pt x="21481" y="2654"/>
                </a:cubicBezTo>
                <a:cubicBezTo>
                  <a:pt x="21462" y="2714"/>
                  <a:pt x="21459" y="2738"/>
                  <a:pt x="21456" y="2803"/>
                </a:cubicBezTo>
                <a:cubicBezTo>
                  <a:pt x="21453" y="2865"/>
                  <a:pt x="21436" y="2836"/>
                  <a:pt x="21431" y="2877"/>
                </a:cubicBezTo>
                <a:cubicBezTo>
                  <a:pt x="21424" y="2938"/>
                  <a:pt x="21421" y="2992"/>
                  <a:pt x="21406" y="3051"/>
                </a:cubicBezTo>
                <a:cubicBezTo>
                  <a:pt x="21396" y="3090"/>
                  <a:pt x="21392" y="3129"/>
                  <a:pt x="21382" y="3175"/>
                </a:cubicBezTo>
                <a:cubicBezTo>
                  <a:pt x="21372" y="3222"/>
                  <a:pt x="21368" y="3276"/>
                  <a:pt x="21357" y="3324"/>
                </a:cubicBezTo>
                <a:cubicBezTo>
                  <a:pt x="21347" y="3368"/>
                  <a:pt x="21344" y="3429"/>
                  <a:pt x="21332" y="3473"/>
                </a:cubicBezTo>
                <a:cubicBezTo>
                  <a:pt x="21322" y="3509"/>
                  <a:pt x="21317" y="3498"/>
                  <a:pt x="21307" y="3547"/>
                </a:cubicBezTo>
                <a:cubicBezTo>
                  <a:pt x="21307" y="3555"/>
                  <a:pt x="21307" y="3564"/>
                  <a:pt x="21307" y="3572"/>
                </a:cubicBezTo>
                <a:cubicBezTo>
                  <a:pt x="21255" y="3562"/>
                  <a:pt x="21223" y="3539"/>
                  <a:pt x="21158" y="3547"/>
                </a:cubicBezTo>
                <a:cubicBezTo>
                  <a:pt x="21094" y="3555"/>
                  <a:pt x="21021" y="3575"/>
                  <a:pt x="20960" y="3597"/>
                </a:cubicBezTo>
                <a:cubicBezTo>
                  <a:pt x="20895" y="3621"/>
                  <a:pt x="21111" y="3574"/>
                  <a:pt x="21158" y="3572"/>
                </a:cubicBezTo>
                <a:cubicBezTo>
                  <a:pt x="21254" y="3569"/>
                  <a:pt x="21342" y="3532"/>
                  <a:pt x="21431" y="3522"/>
                </a:cubicBezTo>
                <a:cubicBezTo>
                  <a:pt x="21487" y="3516"/>
                  <a:pt x="21562" y="3502"/>
                  <a:pt x="21605" y="3497"/>
                </a:cubicBezTo>
                <a:cubicBezTo>
                  <a:pt x="21646" y="3497"/>
                  <a:pt x="21654" y="3497"/>
                  <a:pt x="21679" y="3497"/>
                </a:cubicBezTo>
                <a:cubicBezTo>
                  <a:pt x="21660" y="3546"/>
                  <a:pt x="21632" y="3589"/>
                  <a:pt x="21630" y="3671"/>
                </a:cubicBezTo>
                <a:cubicBezTo>
                  <a:pt x="21627" y="3773"/>
                  <a:pt x="21667" y="3868"/>
                  <a:pt x="21654" y="3969"/>
                </a:cubicBezTo>
                <a:cubicBezTo>
                  <a:pt x="21650" y="4002"/>
                  <a:pt x="21650" y="4044"/>
                  <a:pt x="21630" y="4068"/>
                </a:cubicBezTo>
                <a:cubicBezTo>
                  <a:pt x="21586" y="4122"/>
                  <a:pt x="21519" y="4134"/>
                  <a:pt x="21456" y="4142"/>
                </a:cubicBezTo>
                <a:cubicBezTo>
                  <a:pt x="21379" y="4151"/>
                  <a:pt x="21307" y="4160"/>
                  <a:pt x="21233" y="4167"/>
                </a:cubicBezTo>
                <a:cubicBezTo>
                  <a:pt x="21173" y="4173"/>
                  <a:pt x="21137" y="4167"/>
                  <a:pt x="21084" y="4142"/>
                </a:cubicBezTo>
                <a:cubicBezTo>
                  <a:pt x="21050" y="4126"/>
                  <a:pt x="21008" y="4109"/>
                  <a:pt x="20985" y="4068"/>
                </a:cubicBezTo>
                <a:cubicBezTo>
                  <a:pt x="20967" y="4035"/>
                  <a:pt x="20939" y="3910"/>
                  <a:pt x="20935" y="3870"/>
                </a:cubicBezTo>
                <a:cubicBezTo>
                  <a:pt x="20926" y="3789"/>
                  <a:pt x="20935" y="3703"/>
                  <a:pt x="20935" y="3621"/>
                </a:cubicBezTo>
                <a:cubicBezTo>
                  <a:pt x="20932" y="3648"/>
                  <a:pt x="20928" y="3774"/>
                  <a:pt x="20935" y="3845"/>
                </a:cubicBezTo>
                <a:cubicBezTo>
                  <a:pt x="20944" y="3934"/>
                  <a:pt x="20964" y="4012"/>
                  <a:pt x="21010" y="4093"/>
                </a:cubicBezTo>
                <a:cubicBezTo>
                  <a:pt x="21039" y="4143"/>
                  <a:pt x="21101" y="4190"/>
                  <a:pt x="21158" y="4217"/>
                </a:cubicBezTo>
                <a:cubicBezTo>
                  <a:pt x="21236" y="4254"/>
                  <a:pt x="21325" y="4256"/>
                  <a:pt x="21406" y="4217"/>
                </a:cubicBezTo>
                <a:cubicBezTo>
                  <a:pt x="21443" y="4199"/>
                  <a:pt x="21555" y="4124"/>
                  <a:pt x="21580" y="4093"/>
                </a:cubicBezTo>
                <a:cubicBezTo>
                  <a:pt x="21640" y="4019"/>
                  <a:pt x="21653" y="3907"/>
                  <a:pt x="21679" y="3820"/>
                </a:cubicBezTo>
                <a:cubicBezTo>
                  <a:pt x="21704" y="3738"/>
                  <a:pt x="21701" y="3683"/>
                  <a:pt x="21704" y="3597"/>
                </a:cubicBezTo>
                <a:cubicBezTo>
                  <a:pt x="21704" y="3580"/>
                  <a:pt x="21704" y="3564"/>
                  <a:pt x="21704" y="3547"/>
                </a:cubicBezTo>
                <a:cubicBezTo>
                  <a:pt x="21666" y="3649"/>
                  <a:pt x="21632" y="3756"/>
                  <a:pt x="21605" y="3870"/>
                </a:cubicBezTo>
                <a:cubicBezTo>
                  <a:pt x="21579" y="3983"/>
                  <a:pt x="21545" y="4076"/>
                  <a:pt x="21456" y="4142"/>
                </a:cubicBezTo>
                <a:cubicBezTo>
                  <a:pt x="21369" y="4207"/>
                  <a:pt x="21286" y="4218"/>
                  <a:pt x="21183" y="4192"/>
                </a:cubicBezTo>
                <a:cubicBezTo>
                  <a:pt x="21145" y="4183"/>
                  <a:pt x="21060" y="4152"/>
                  <a:pt x="21034" y="4118"/>
                </a:cubicBezTo>
                <a:cubicBezTo>
                  <a:pt x="21010" y="4087"/>
                  <a:pt x="20937" y="3929"/>
                  <a:pt x="20935" y="3919"/>
                </a:cubicBezTo>
                <a:cubicBezTo>
                  <a:pt x="20935" y="3886"/>
                  <a:pt x="20935" y="3853"/>
                  <a:pt x="20935" y="38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91120" y="857160"/>
            <a:ext cx="1519200" cy="420840"/>
          </a:xfrm>
          <a:custGeom>
            <a:avLst/>
            <a:gdLst/>
            <a:ahLst/>
            <a:rect l="l" t="t" r="r" b="b"/>
            <a:pathLst>
              <a:path w="4218" h="1167">
                <a:moveTo>
                  <a:pt x="20861" y="3547"/>
                </a:moveTo>
                <a:cubicBezTo>
                  <a:pt x="20835" y="3533"/>
                  <a:pt x="20767" y="3491"/>
                  <a:pt x="20712" y="3473"/>
                </a:cubicBezTo>
                <a:cubicBezTo>
                  <a:pt x="20586" y="3431"/>
                  <a:pt x="20468" y="3420"/>
                  <a:pt x="20340" y="3398"/>
                </a:cubicBezTo>
                <a:cubicBezTo>
                  <a:pt x="20199" y="3374"/>
                  <a:pt x="20057" y="3334"/>
                  <a:pt x="19918" y="3299"/>
                </a:cubicBezTo>
                <a:cubicBezTo>
                  <a:pt x="19771" y="3262"/>
                  <a:pt x="19620" y="3266"/>
                  <a:pt x="19472" y="3225"/>
                </a:cubicBezTo>
                <a:cubicBezTo>
                  <a:pt x="19378" y="3199"/>
                  <a:pt x="19291" y="3157"/>
                  <a:pt x="19199" y="3125"/>
                </a:cubicBezTo>
                <a:cubicBezTo>
                  <a:pt x="19129" y="3100"/>
                  <a:pt x="19048" y="3096"/>
                  <a:pt x="18976" y="3076"/>
                </a:cubicBezTo>
                <a:cubicBezTo>
                  <a:pt x="18900" y="3055"/>
                  <a:pt x="18828" y="3030"/>
                  <a:pt x="18752" y="3001"/>
                </a:cubicBezTo>
                <a:cubicBezTo>
                  <a:pt x="18662" y="2966"/>
                  <a:pt x="18567" y="2906"/>
                  <a:pt x="18479" y="2877"/>
                </a:cubicBezTo>
                <a:cubicBezTo>
                  <a:pt x="18381" y="2844"/>
                  <a:pt x="18246" y="2845"/>
                  <a:pt x="18157" y="2803"/>
                </a:cubicBezTo>
                <a:cubicBezTo>
                  <a:pt x="18072" y="2763"/>
                  <a:pt x="18022" y="2736"/>
                  <a:pt x="17934" y="2704"/>
                </a:cubicBezTo>
                <a:cubicBezTo>
                  <a:pt x="17823" y="2663"/>
                  <a:pt x="17733" y="2671"/>
                  <a:pt x="17611" y="2654"/>
                </a:cubicBezTo>
                <a:cubicBezTo>
                  <a:pt x="17536" y="2644"/>
                  <a:pt x="17509" y="2624"/>
                  <a:pt x="17438" y="2604"/>
                </a:cubicBezTo>
                <a:cubicBezTo>
                  <a:pt x="17369" y="2585"/>
                  <a:pt x="17311" y="2592"/>
                  <a:pt x="17239" y="2580"/>
                </a:cubicBezTo>
                <a:cubicBezTo>
                  <a:pt x="17188" y="2571"/>
                  <a:pt x="17087" y="2555"/>
                  <a:pt x="17041" y="2530"/>
                </a:cubicBezTo>
                <a:cubicBezTo>
                  <a:pt x="17027" y="2522"/>
                  <a:pt x="17000" y="2493"/>
                  <a:pt x="16966" y="2480"/>
                </a:cubicBezTo>
                <a:cubicBezTo>
                  <a:pt x="16925" y="2465"/>
                  <a:pt x="16924" y="2468"/>
                  <a:pt x="16892" y="2456"/>
                </a:cubicBezTo>
                <a:cubicBezTo>
                  <a:pt x="16829" y="2432"/>
                  <a:pt x="16852" y="2444"/>
                  <a:pt x="16768" y="2406"/>
                </a:cubicBezTo>
                <a:cubicBezTo>
                  <a:pt x="16735" y="2391"/>
                  <a:pt x="16691" y="2387"/>
                  <a:pt x="16669" y="2381"/>
                </a:cubicBezTo>
                <a:cubicBezTo>
                  <a:pt x="16661" y="2381"/>
                  <a:pt x="16652" y="2381"/>
                  <a:pt x="16644" y="23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86720" y="509760"/>
            <a:ext cx="598320" cy="714240"/>
          </a:xfrm>
          <a:custGeom>
            <a:avLst/>
            <a:gdLst/>
            <a:ahLst/>
            <a:rect l="l" t="t" r="r" b="b"/>
            <a:pathLst>
              <a:path w="1662" h="1985">
                <a:moveTo>
                  <a:pt x="20414" y="3373"/>
                </a:moveTo>
                <a:cubicBezTo>
                  <a:pt x="20460" y="3378"/>
                  <a:pt x="20472" y="3391"/>
                  <a:pt x="20489" y="3398"/>
                </a:cubicBezTo>
                <a:cubicBezTo>
                  <a:pt x="20438" y="3348"/>
                  <a:pt x="20354" y="3280"/>
                  <a:pt x="20290" y="3225"/>
                </a:cubicBezTo>
                <a:cubicBezTo>
                  <a:pt x="20195" y="3144"/>
                  <a:pt x="20122" y="3045"/>
                  <a:pt x="20042" y="2952"/>
                </a:cubicBezTo>
                <a:cubicBezTo>
                  <a:pt x="19977" y="2876"/>
                  <a:pt x="19916" y="2801"/>
                  <a:pt x="19844" y="2729"/>
                </a:cubicBezTo>
                <a:cubicBezTo>
                  <a:pt x="19778" y="2663"/>
                  <a:pt x="19696" y="2585"/>
                  <a:pt x="19621" y="2530"/>
                </a:cubicBezTo>
                <a:cubicBezTo>
                  <a:pt x="19547" y="2477"/>
                  <a:pt x="19493" y="2414"/>
                  <a:pt x="19422" y="2356"/>
                </a:cubicBezTo>
                <a:cubicBezTo>
                  <a:pt x="19368" y="2312"/>
                  <a:pt x="19323" y="2276"/>
                  <a:pt x="19273" y="2232"/>
                </a:cubicBezTo>
                <a:cubicBezTo>
                  <a:pt x="19233" y="2197"/>
                  <a:pt x="19201" y="2152"/>
                  <a:pt x="19174" y="2108"/>
                </a:cubicBezTo>
                <a:cubicBezTo>
                  <a:pt x="19152" y="2073"/>
                  <a:pt x="19149" y="2025"/>
                  <a:pt x="19124" y="1984"/>
                </a:cubicBezTo>
                <a:cubicBezTo>
                  <a:pt x="19080" y="1912"/>
                  <a:pt x="19053" y="1844"/>
                  <a:pt x="19025" y="1761"/>
                </a:cubicBezTo>
                <a:cubicBezTo>
                  <a:pt x="18997" y="1678"/>
                  <a:pt x="18958" y="1586"/>
                  <a:pt x="18926" y="1513"/>
                </a:cubicBezTo>
                <a:cubicBezTo>
                  <a:pt x="18913" y="1484"/>
                  <a:pt x="18889" y="1452"/>
                  <a:pt x="18876" y="1439"/>
                </a:cubicBezTo>
                <a:cubicBezTo>
                  <a:pt x="18859" y="1421"/>
                  <a:pt x="18874" y="1450"/>
                  <a:pt x="18852" y="1439"/>
                </a:cubicBezTo>
                <a:cubicBezTo>
                  <a:pt x="18937" y="1585"/>
                  <a:pt x="19000" y="1724"/>
                  <a:pt x="19100" y="1860"/>
                </a:cubicBezTo>
                <a:cubicBezTo>
                  <a:pt x="19216" y="2016"/>
                  <a:pt x="19322" y="2180"/>
                  <a:pt x="19472" y="2307"/>
                </a:cubicBezTo>
                <a:cubicBezTo>
                  <a:pt x="19573" y="2393"/>
                  <a:pt x="19666" y="2497"/>
                  <a:pt x="19769" y="2580"/>
                </a:cubicBezTo>
                <a:cubicBezTo>
                  <a:pt x="19852" y="2646"/>
                  <a:pt x="19917" y="2711"/>
                  <a:pt x="19993" y="2778"/>
                </a:cubicBezTo>
                <a:cubicBezTo>
                  <a:pt x="20096" y="2869"/>
                  <a:pt x="20152" y="2970"/>
                  <a:pt x="20241" y="3076"/>
                </a:cubicBezTo>
                <a:cubicBezTo>
                  <a:pt x="20314" y="3162"/>
                  <a:pt x="20408" y="3235"/>
                  <a:pt x="20464" y="3324"/>
                </a:cubicBezTo>
                <a:cubicBezTo>
                  <a:pt x="20484" y="3357"/>
                  <a:pt x="20499" y="3357"/>
                  <a:pt x="20513" y="3373"/>
                </a:cubicBezTo>
                <a:cubicBezTo>
                  <a:pt x="20432" y="3334"/>
                  <a:pt x="20330" y="3291"/>
                  <a:pt x="20241" y="324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285840"/>
            <a:ext cx="63360" cy="214200"/>
          </a:xfrm>
          <a:custGeom>
            <a:avLst/>
            <a:gdLst/>
            <a:ahLst/>
            <a:rect l="l" t="t" r="r" b="b"/>
            <a:pathLst>
              <a:path w="175" h="596">
                <a:moveTo>
                  <a:pt x="19050" y="819"/>
                </a:moveTo>
                <a:cubicBezTo>
                  <a:pt x="19050" y="1004"/>
                  <a:pt x="19049" y="1184"/>
                  <a:pt x="19075" y="1364"/>
                </a:cubicBezTo>
                <a:cubicBezTo>
                  <a:pt x="19075" y="1389"/>
                  <a:pt x="19075" y="1397"/>
                  <a:pt x="19100" y="1389"/>
                </a:cubicBezTo>
                <a:cubicBezTo>
                  <a:pt x="19192" y="1373"/>
                  <a:pt x="19211" y="1240"/>
                  <a:pt x="19224" y="1141"/>
                </a:cubicBezTo>
                <a:cubicBezTo>
                  <a:pt x="19235" y="1060"/>
                  <a:pt x="19235" y="890"/>
                  <a:pt x="19199" y="819"/>
                </a:cubicBezTo>
                <a:cubicBezTo>
                  <a:pt x="19174" y="770"/>
                  <a:pt x="19168" y="818"/>
                  <a:pt x="19149" y="8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67360" y="339840"/>
            <a:ext cx="312840" cy="152280"/>
          </a:xfrm>
          <a:custGeom>
            <a:avLst/>
            <a:gdLst/>
            <a:ahLst/>
            <a:rect l="l" t="t" r="r" b="b"/>
            <a:pathLst>
              <a:path w="869" h="422">
                <a:moveTo>
                  <a:pt x="19100" y="1017"/>
                </a:moveTo>
                <a:cubicBezTo>
                  <a:pt x="19229" y="1083"/>
                  <a:pt x="19452" y="1013"/>
                  <a:pt x="19596" y="992"/>
                </a:cubicBezTo>
                <a:cubicBezTo>
                  <a:pt x="19703" y="976"/>
                  <a:pt x="19810" y="943"/>
                  <a:pt x="19918" y="943"/>
                </a:cubicBezTo>
                <a:cubicBezTo>
                  <a:pt x="19926" y="943"/>
                  <a:pt x="19935" y="943"/>
                  <a:pt x="19943" y="943"/>
                </a:cubicBezTo>
                <a:cubicBezTo>
                  <a:pt x="19906" y="1086"/>
                  <a:pt x="19558" y="1174"/>
                  <a:pt x="19472" y="1215"/>
                </a:cubicBezTo>
                <a:cubicBezTo>
                  <a:pt x="19341" y="1278"/>
                  <a:pt x="19223" y="1364"/>
                  <a:pt x="19075" y="13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19920" y="276120"/>
            <a:ext cx="339840" cy="268560"/>
          </a:xfrm>
          <a:custGeom>
            <a:avLst/>
            <a:gdLst/>
            <a:ahLst/>
            <a:rect l="l" t="t" r="r" b="b"/>
            <a:pathLst>
              <a:path w="943" h="745">
                <a:moveTo>
                  <a:pt x="19248" y="893"/>
                </a:moveTo>
                <a:cubicBezTo>
                  <a:pt x="19229" y="1078"/>
                  <a:pt x="19187" y="1260"/>
                  <a:pt x="19273" y="1439"/>
                </a:cubicBezTo>
                <a:cubicBezTo>
                  <a:pt x="19298" y="1464"/>
                  <a:pt x="19323" y="1488"/>
                  <a:pt x="19348" y="1513"/>
                </a:cubicBezTo>
                <a:cubicBezTo>
                  <a:pt x="19586" y="1401"/>
                  <a:pt x="19567" y="1199"/>
                  <a:pt x="19521" y="943"/>
                </a:cubicBezTo>
                <a:cubicBezTo>
                  <a:pt x="19485" y="832"/>
                  <a:pt x="19497" y="811"/>
                  <a:pt x="19447" y="769"/>
                </a:cubicBezTo>
                <a:cubicBezTo>
                  <a:pt x="19330" y="902"/>
                  <a:pt x="19340" y="1104"/>
                  <a:pt x="19447" y="1265"/>
                </a:cubicBezTo>
                <a:cubicBezTo>
                  <a:pt x="19617" y="1521"/>
                  <a:pt x="19644" y="975"/>
                  <a:pt x="19645" y="943"/>
                </a:cubicBezTo>
                <a:cubicBezTo>
                  <a:pt x="19645" y="902"/>
                  <a:pt x="19645" y="860"/>
                  <a:pt x="19645" y="819"/>
                </a:cubicBezTo>
                <a:cubicBezTo>
                  <a:pt x="19541" y="912"/>
                  <a:pt x="19510" y="1011"/>
                  <a:pt x="19571" y="1191"/>
                </a:cubicBezTo>
                <a:cubicBezTo>
                  <a:pt x="19682" y="1518"/>
                  <a:pt x="19811" y="1071"/>
                  <a:pt x="19819" y="992"/>
                </a:cubicBezTo>
                <a:cubicBezTo>
                  <a:pt x="19829" y="884"/>
                  <a:pt x="19849" y="774"/>
                  <a:pt x="19769" y="794"/>
                </a:cubicBezTo>
                <a:cubicBezTo>
                  <a:pt x="19767" y="820"/>
                  <a:pt x="19734" y="1301"/>
                  <a:pt x="19893" y="1215"/>
                </a:cubicBezTo>
                <a:cubicBezTo>
                  <a:pt x="20013" y="1150"/>
                  <a:pt x="19988" y="974"/>
                  <a:pt x="19993" y="868"/>
                </a:cubicBezTo>
                <a:cubicBezTo>
                  <a:pt x="19880" y="812"/>
                  <a:pt x="19913" y="1053"/>
                  <a:pt x="19968" y="1116"/>
                </a:cubicBezTo>
                <a:cubicBezTo>
                  <a:pt x="20083" y="1249"/>
                  <a:pt x="20231" y="887"/>
                  <a:pt x="20166" y="843"/>
                </a:cubicBezTo>
                <a:cubicBezTo>
                  <a:pt x="20133" y="851"/>
                  <a:pt x="20100" y="860"/>
                  <a:pt x="20067" y="86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9760" y="411120"/>
            <a:ext cx="1197000" cy="768240"/>
          </a:xfrm>
          <a:custGeom>
            <a:avLst/>
            <a:gdLst/>
            <a:ahLst/>
            <a:rect l="l" t="t" r="r" b="b"/>
            <a:pathLst>
              <a:path w="3325" h="2134">
                <a:moveTo>
                  <a:pt x="19224" y="1141"/>
                </a:moveTo>
                <a:cubicBezTo>
                  <a:pt x="19169" y="1181"/>
                  <a:pt x="19127" y="1211"/>
                  <a:pt x="19075" y="1265"/>
                </a:cubicBezTo>
                <a:cubicBezTo>
                  <a:pt x="19007" y="1335"/>
                  <a:pt x="18926" y="1377"/>
                  <a:pt x="18876" y="1463"/>
                </a:cubicBezTo>
                <a:cubicBezTo>
                  <a:pt x="18848" y="1511"/>
                  <a:pt x="18814" y="1579"/>
                  <a:pt x="18827" y="1637"/>
                </a:cubicBezTo>
                <a:cubicBezTo>
                  <a:pt x="18848" y="1730"/>
                  <a:pt x="18926" y="1828"/>
                  <a:pt x="18976" y="1910"/>
                </a:cubicBezTo>
                <a:cubicBezTo>
                  <a:pt x="19020" y="1981"/>
                  <a:pt x="19052" y="2065"/>
                  <a:pt x="19100" y="2133"/>
                </a:cubicBezTo>
                <a:cubicBezTo>
                  <a:pt x="19146" y="2198"/>
                  <a:pt x="19215" y="2300"/>
                  <a:pt x="19273" y="2356"/>
                </a:cubicBezTo>
                <a:cubicBezTo>
                  <a:pt x="19326" y="2406"/>
                  <a:pt x="19411" y="2441"/>
                  <a:pt x="19472" y="2480"/>
                </a:cubicBezTo>
                <a:cubicBezTo>
                  <a:pt x="19607" y="2566"/>
                  <a:pt x="19746" y="2596"/>
                  <a:pt x="19869" y="2704"/>
                </a:cubicBezTo>
                <a:cubicBezTo>
                  <a:pt x="19933" y="2761"/>
                  <a:pt x="20004" y="2800"/>
                  <a:pt x="20067" y="2853"/>
                </a:cubicBezTo>
                <a:cubicBezTo>
                  <a:pt x="20085" y="2868"/>
                  <a:pt x="20241" y="3022"/>
                  <a:pt x="20241" y="3026"/>
                </a:cubicBezTo>
                <a:cubicBezTo>
                  <a:pt x="20231" y="3132"/>
                  <a:pt x="20185" y="3192"/>
                  <a:pt x="20067" y="3225"/>
                </a:cubicBezTo>
                <a:cubicBezTo>
                  <a:pt x="19948" y="3258"/>
                  <a:pt x="19819" y="3272"/>
                  <a:pt x="19695" y="3274"/>
                </a:cubicBezTo>
                <a:cubicBezTo>
                  <a:pt x="19517" y="3278"/>
                  <a:pt x="19357" y="3288"/>
                  <a:pt x="19199" y="3225"/>
                </a:cubicBezTo>
                <a:cubicBezTo>
                  <a:pt x="19119" y="3193"/>
                  <a:pt x="19050" y="3133"/>
                  <a:pt x="18976" y="3101"/>
                </a:cubicBezTo>
                <a:cubicBezTo>
                  <a:pt x="18898" y="3068"/>
                  <a:pt x="18851" y="3048"/>
                  <a:pt x="18777" y="3001"/>
                </a:cubicBezTo>
                <a:cubicBezTo>
                  <a:pt x="18704" y="2954"/>
                  <a:pt x="18637" y="2909"/>
                  <a:pt x="18554" y="2877"/>
                </a:cubicBezTo>
                <a:cubicBezTo>
                  <a:pt x="18385" y="2812"/>
                  <a:pt x="18201" y="2826"/>
                  <a:pt x="18033" y="2778"/>
                </a:cubicBezTo>
                <a:cubicBezTo>
                  <a:pt x="17972" y="2761"/>
                  <a:pt x="17940" y="2713"/>
                  <a:pt x="17859" y="2704"/>
                </a:cubicBezTo>
                <a:cubicBezTo>
                  <a:pt x="17731" y="2690"/>
                  <a:pt x="17613" y="2743"/>
                  <a:pt x="17487" y="2729"/>
                </a:cubicBezTo>
                <a:cubicBezTo>
                  <a:pt x="17392" y="2718"/>
                  <a:pt x="17400" y="2688"/>
                  <a:pt x="17338" y="2654"/>
                </a:cubicBezTo>
                <a:cubicBezTo>
                  <a:pt x="17252" y="2606"/>
                  <a:pt x="17191" y="2566"/>
                  <a:pt x="17090" y="2555"/>
                </a:cubicBezTo>
                <a:cubicBezTo>
                  <a:pt x="17030" y="2549"/>
                  <a:pt x="16964" y="2539"/>
                  <a:pt x="16917" y="25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84920" y="357120"/>
            <a:ext cx="108000" cy="179280"/>
          </a:xfrm>
          <a:custGeom>
            <a:avLst/>
            <a:gdLst/>
            <a:ahLst/>
            <a:rect l="l" t="t" r="r" b="b"/>
            <a:pathLst>
              <a:path w="299" h="497">
                <a:moveTo>
                  <a:pt x="16346" y="1042"/>
                </a:moveTo>
                <a:cubicBezTo>
                  <a:pt x="16428" y="960"/>
                  <a:pt x="16532" y="1309"/>
                  <a:pt x="16594" y="1414"/>
                </a:cubicBezTo>
                <a:cubicBezTo>
                  <a:pt x="16689" y="1574"/>
                  <a:pt x="16633" y="1411"/>
                  <a:pt x="16619" y="133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73840" y="250920"/>
            <a:ext cx="152280" cy="312480"/>
          </a:xfrm>
          <a:custGeom>
            <a:avLst/>
            <a:gdLst/>
            <a:ahLst/>
            <a:rect l="l" t="t" r="r" b="b"/>
            <a:pathLst>
              <a:path w="423" h="869">
                <a:moveTo>
                  <a:pt x="16594" y="719"/>
                </a:moveTo>
                <a:cubicBezTo>
                  <a:pt x="16594" y="611"/>
                  <a:pt x="16675" y="868"/>
                  <a:pt x="16718" y="967"/>
                </a:cubicBezTo>
                <a:cubicBezTo>
                  <a:pt x="16790" y="1131"/>
                  <a:pt x="16849" y="1409"/>
                  <a:pt x="16991" y="1538"/>
                </a:cubicBezTo>
                <a:cubicBezTo>
                  <a:pt x="17016" y="1538"/>
                  <a:pt x="17024" y="1538"/>
                  <a:pt x="17016" y="15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45240" y="1419120"/>
            <a:ext cx="196920" cy="81000"/>
          </a:xfrm>
          <a:custGeom>
            <a:avLst/>
            <a:gdLst/>
            <a:ahLst/>
            <a:rect l="l" t="t" r="r" b="b"/>
            <a:pathLst>
              <a:path w="547" h="224">
                <a:moveTo>
                  <a:pt x="20960" y="3994"/>
                </a:moveTo>
                <a:cubicBezTo>
                  <a:pt x="20966" y="3975"/>
                  <a:pt x="21005" y="3950"/>
                  <a:pt x="21034" y="3944"/>
                </a:cubicBezTo>
                <a:cubicBezTo>
                  <a:pt x="21097" y="3930"/>
                  <a:pt x="21107" y="3965"/>
                  <a:pt x="21158" y="3969"/>
                </a:cubicBezTo>
                <a:cubicBezTo>
                  <a:pt x="21226" y="3974"/>
                  <a:pt x="21217" y="3991"/>
                  <a:pt x="21258" y="3994"/>
                </a:cubicBezTo>
                <a:cubicBezTo>
                  <a:pt x="21334" y="4000"/>
                  <a:pt x="21420" y="3974"/>
                  <a:pt x="21481" y="4018"/>
                </a:cubicBezTo>
                <a:cubicBezTo>
                  <a:pt x="21549" y="4018"/>
                  <a:pt x="21336" y="4018"/>
                  <a:pt x="21307" y="4018"/>
                </a:cubicBezTo>
                <a:cubicBezTo>
                  <a:pt x="21252" y="4018"/>
                  <a:pt x="21078" y="4006"/>
                  <a:pt x="21109" y="4043"/>
                </a:cubicBezTo>
                <a:cubicBezTo>
                  <a:pt x="21134" y="4068"/>
                  <a:pt x="21142" y="4076"/>
                  <a:pt x="21158" y="4093"/>
                </a:cubicBezTo>
                <a:cubicBezTo>
                  <a:pt x="21127" y="4069"/>
                  <a:pt x="21116" y="4067"/>
                  <a:pt x="21084" y="4043"/>
                </a:cubicBezTo>
                <a:cubicBezTo>
                  <a:pt x="21109" y="4104"/>
                  <a:pt x="21118" y="4129"/>
                  <a:pt x="21183" y="4142"/>
                </a:cubicBezTo>
                <a:cubicBezTo>
                  <a:pt x="21193" y="4144"/>
                  <a:pt x="21332" y="4184"/>
                  <a:pt x="21332" y="4167"/>
                </a:cubicBezTo>
                <a:cubicBezTo>
                  <a:pt x="21332" y="4123"/>
                  <a:pt x="21165" y="4087"/>
                  <a:pt x="21357" y="4142"/>
                </a:cubicBezTo>
                <a:cubicBezTo>
                  <a:pt x="21332" y="4142"/>
                  <a:pt x="21307" y="4142"/>
                  <a:pt x="21282" y="4142"/>
                </a:cubicBezTo>
                <a:cubicBezTo>
                  <a:pt x="21315" y="4142"/>
                  <a:pt x="21349" y="4142"/>
                  <a:pt x="21382" y="41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72200" y="88920"/>
            <a:ext cx="108000" cy="117360"/>
          </a:xfrm>
          <a:custGeom>
            <a:avLst/>
            <a:gdLst/>
            <a:ahLst/>
            <a:rect l="l" t="t" r="r" b="b"/>
            <a:pathLst>
              <a:path w="299" h="324">
                <a:moveTo>
                  <a:pt x="19720" y="248"/>
                </a:moveTo>
                <a:cubicBezTo>
                  <a:pt x="19720" y="340"/>
                  <a:pt x="19645" y="401"/>
                  <a:pt x="19645" y="496"/>
                </a:cubicBezTo>
                <a:cubicBezTo>
                  <a:pt x="19645" y="637"/>
                  <a:pt x="19839" y="544"/>
                  <a:pt x="19893" y="521"/>
                </a:cubicBezTo>
                <a:cubicBezTo>
                  <a:pt x="19910" y="513"/>
                  <a:pt x="19926" y="504"/>
                  <a:pt x="19943" y="4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72200" y="133200"/>
            <a:ext cx="81000" cy="27000"/>
          </a:xfrm>
          <a:custGeom>
            <a:avLst/>
            <a:gdLst/>
            <a:ahLst/>
            <a:rect l="l" t="t" r="r" b="b"/>
            <a:pathLst>
              <a:path w="225" h="75">
                <a:moveTo>
                  <a:pt x="19645" y="446"/>
                </a:moveTo>
                <a:cubicBezTo>
                  <a:pt x="19725" y="436"/>
                  <a:pt x="19800" y="412"/>
                  <a:pt x="19869" y="37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72200" y="71280"/>
            <a:ext cx="135000" cy="27000"/>
          </a:xfrm>
          <a:custGeom>
            <a:avLst/>
            <a:gdLst/>
            <a:ahLst/>
            <a:rect l="l" t="t" r="r" b="b"/>
            <a:pathLst>
              <a:path w="373" h="76">
                <a:moveTo>
                  <a:pt x="19645" y="273"/>
                </a:moveTo>
                <a:cubicBezTo>
                  <a:pt x="19793" y="221"/>
                  <a:pt x="19869" y="206"/>
                  <a:pt x="20017" y="2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42120" y="81000"/>
            <a:ext cx="152280" cy="125280"/>
          </a:xfrm>
          <a:custGeom>
            <a:avLst/>
            <a:gdLst/>
            <a:ahLst/>
            <a:rect l="l" t="t" r="r" b="b"/>
            <a:pathLst>
              <a:path w="422" h="349">
                <a:moveTo>
                  <a:pt x="20117" y="347"/>
                </a:moveTo>
                <a:cubicBezTo>
                  <a:pt x="20117" y="380"/>
                  <a:pt x="20117" y="413"/>
                  <a:pt x="20117" y="446"/>
                </a:cubicBezTo>
                <a:cubicBezTo>
                  <a:pt x="20117" y="538"/>
                  <a:pt x="20132" y="364"/>
                  <a:pt x="20141" y="273"/>
                </a:cubicBezTo>
                <a:cubicBezTo>
                  <a:pt x="20141" y="231"/>
                  <a:pt x="20133" y="215"/>
                  <a:pt x="20166" y="223"/>
                </a:cubicBezTo>
                <a:cubicBezTo>
                  <a:pt x="20216" y="357"/>
                  <a:pt x="20241" y="546"/>
                  <a:pt x="20340" y="372"/>
                </a:cubicBezTo>
                <a:cubicBezTo>
                  <a:pt x="20356" y="339"/>
                  <a:pt x="20373" y="306"/>
                  <a:pt x="20389" y="273"/>
                </a:cubicBezTo>
                <a:cubicBezTo>
                  <a:pt x="20467" y="311"/>
                  <a:pt x="20478" y="436"/>
                  <a:pt x="20513" y="521"/>
                </a:cubicBezTo>
                <a:cubicBezTo>
                  <a:pt x="20521" y="538"/>
                  <a:pt x="20530" y="554"/>
                  <a:pt x="20538" y="5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92840" y="857160"/>
            <a:ext cx="243000" cy="81000"/>
          </a:xfrm>
          <a:custGeom>
            <a:avLst/>
            <a:gdLst/>
            <a:ahLst/>
            <a:rect l="l" t="t" r="r" b="b"/>
            <a:pathLst>
              <a:path w="671" h="224">
                <a:moveTo>
                  <a:pt x="16991" y="2604"/>
                </a:moveTo>
                <a:cubicBezTo>
                  <a:pt x="17009" y="2578"/>
                  <a:pt x="17061" y="2542"/>
                  <a:pt x="17041" y="2505"/>
                </a:cubicBezTo>
                <a:cubicBezTo>
                  <a:pt x="17023" y="2473"/>
                  <a:pt x="17044" y="2429"/>
                  <a:pt x="17016" y="2406"/>
                </a:cubicBezTo>
                <a:cubicBezTo>
                  <a:pt x="16956" y="2358"/>
                  <a:pt x="16888" y="2399"/>
                  <a:pt x="16818" y="2406"/>
                </a:cubicBezTo>
                <a:cubicBezTo>
                  <a:pt x="16696" y="2417"/>
                  <a:pt x="16602" y="2434"/>
                  <a:pt x="16495" y="2505"/>
                </a:cubicBezTo>
                <a:cubicBezTo>
                  <a:pt x="16465" y="2525"/>
                  <a:pt x="16430" y="2565"/>
                  <a:pt x="16396" y="2580"/>
                </a:cubicBezTo>
                <a:cubicBezTo>
                  <a:pt x="16388" y="2580"/>
                  <a:pt x="16379" y="2580"/>
                  <a:pt x="16371" y="25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4000" y="527040"/>
            <a:ext cx="63360" cy="17640"/>
          </a:xfrm>
          <a:custGeom>
            <a:avLst/>
            <a:gdLst/>
            <a:ahLst/>
            <a:rect l="l" t="t" r="r" b="b"/>
            <a:pathLst>
              <a:path w="174" h="51">
                <a:moveTo>
                  <a:pt x="15825" y="1488"/>
                </a:moveTo>
                <a:cubicBezTo>
                  <a:pt x="15825" y="1480"/>
                  <a:pt x="15825" y="1471"/>
                  <a:pt x="15825" y="1463"/>
                </a:cubicBezTo>
                <a:cubicBezTo>
                  <a:pt x="15782" y="1463"/>
                  <a:pt x="15739" y="1474"/>
                  <a:pt x="15701" y="1488"/>
                </a:cubicBezTo>
                <a:cubicBezTo>
                  <a:pt x="15685" y="1496"/>
                  <a:pt x="15668" y="1505"/>
                  <a:pt x="15652" y="151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75160" y="581040"/>
            <a:ext cx="376200" cy="365040"/>
          </a:xfrm>
          <a:custGeom>
            <a:avLst/>
            <a:gdLst/>
            <a:ahLst/>
            <a:rect l="l" t="t" r="r" b="b"/>
            <a:pathLst>
              <a:path w="1043" h="1018">
                <a:moveTo>
                  <a:pt x="15949" y="1612"/>
                </a:moveTo>
                <a:cubicBezTo>
                  <a:pt x="15869" y="1626"/>
                  <a:pt x="15850" y="1654"/>
                  <a:pt x="15776" y="1687"/>
                </a:cubicBezTo>
                <a:cubicBezTo>
                  <a:pt x="15713" y="1715"/>
                  <a:pt x="15663" y="1709"/>
                  <a:pt x="15602" y="1736"/>
                </a:cubicBezTo>
                <a:cubicBezTo>
                  <a:pt x="15549" y="1759"/>
                  <a:pt x="15475" y="1757"/>
                  <a:pt x="15429" y="1786"/>
                </a:cubicBezTo>
                <a:cubicBezTo>
                  <a:pt x="15390" y="1810"/>
                  <a:pt x="15302" y="1867"/>
                  <a:pt x="15280" y="1910"/>
                </a:cubicBezTo>
                <a:cubicBezTo>
                  <a:pt x="15241" y="1988"/>
                  <a:pt x="15221" y="1993"/>
                  <a:pt x="15156" y="2059"/>
                </a:cubicBezTo>
                <a:cubicBezTo>
                  <a:pt x="15119" y="2096"/>
                  <a:pt x="15051" y="2181"/>
                  <a:pt x="15032" y="2208"/>
                </a:cubicBezTo>
                <a:cubicBezTo>
                  <a:pt x="15001" y="2251"/>
                  <a:pt x="14983" y="2318"/>
                  <a:pt x="14957" y="2356"/>
                </a:cubicBezTo>
                <a:cubicBezTo>
                  <a:pt x="14928" y="2397"/>
                  <a:pt x="14935" y="2406"/>
                  <a:pt x="14932" y="2456"/>
                </a:cubicBezTo>
                <a:cubicBezTo>
                  <a:pt x="14928" y="2528"/>
                  <a:pt x="14931" y="2508"/>
                  <a:pt x="14982" y="2555"/>
                </a:cubicBezTo>
                <a:cubicBezTo>
                  <a:pt x="15007" y="2578"/>
                  <a:pt x="15040" y="2617"/>
                  <a:pt x="15081" y="2629"/>
                </a:cubicBezTo>
                <a:cubicBezTo>
                  <a:pt x="15106" y="2629"/>
                  <a:pt x="15114" y="2629"/>
                  <a:pt x="15131" y="26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95960" y="1089000"/>
            <a:ext cx="312840" cy="36360"/>
          </a:xfrm>
          <a:custGeom>
            <a:avLst/>
            <a:gdLst/>
            <a:ahLst/>
            <a:rect l="l" t="t" r="r" b="b"/>
            <a:pathLst>
              <a:path w="869" h="100">
                <a:moveTo>
                  <a:pt x="15577" y="3076"/>
                </a:moveTo>
                <a:cubicBezTo>
                  <a:pt x="15524" y="3076"/>
                  <a:pt x="15508" y="3098"/>
                  <a:pt x="15453" y="3101"/>
                </a:cubicBezTo>
                <a:cubicBezTo>
                  <a:pt x="15383" y="3105"/>
                  <a:pt x="15328" y="3125"/>
                  <a:pt x="15255" y="3125"/>
                </a:cubicBezTo>
                <a:cubicBezTo>
                  <a:pt x="15111" y="3125"/>
                  <a:pt x="14970" y="3131"/>
                  <a:pt x="14833" y="3101"/>
                </a:cubicBezTo>
                <a:cubicBezTo>
                  <a:pt x="14796" y="3093"/>
                  <a:pt x="14768" y="3080"/>
                  <a:pt x="14734" y="3076"/>
                </a:cubicBezTo>
                <a:cubicBezTo>
                  <a:pt x="14651" y="3067"/>
                  <a:pt x="14772" y="3031"/>
                  <a:pt x="14784" y="30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16160" y="812880"/>
            <a:ext cx="2465640" cy="276120"/>
          </a:xfrm>
          <a:custGeom>
            <a:avLst/>
            <a:gdLst/>
            <a:ahLst/>
            <a:rect l="l" t="t" r="r" b="b"/>
            <a:pathLst>
              <a:path w="6847" h="770">
                <a:moveTo>
                  <a:pt x="15503" y="3026"/>
                </a:moveTo>
                <a:cubicBezTo>
                  <a:pt x="15401" y="3003"/>
                  <a:pt x="15314" y="2981"/>
                  <a:pt x="15205" y="2977"/>
                </a:cubicBezTo>
                <a:cubicBezTo>
                  <a:pt x="15080" y="2973"/>
                  <a:pt x="14950" y="2977"/>
                  <a:pt x="14833" y="2977"/>
                </a:cubicBezTo>
                <a:cubicBezTo>
                  <a:pt x="14691" y="2977"/>
                  <a:pt x="14555" y="2955"/>
                  <a:pt x="14412" y="2952"/>
                </a:cubicBezTo>
                <a:cubicBezTo>
                  <a:pt x="14151" y="2947"/>
                  <a:pt x="13903" y="2927"/>
                  <a:pt x="13643" y="2902"/>
                </a:cubicBezTo>
                <a:cubicBezTo>
                  <a:pt x="13384" y="2877"/>
                  <a:pt x="13127" y="2870"/>
                  <a:pt x="12874" y="2828"/>
                </a:cubicBezTo>
                <a:cubicBezTo>
                  <a:pt x="12753" y="2808"/>
                  <a:pt x="12626" y="2762"/>
                  <a:pt x="12502" y="2753"/>
                </a:cubicBezTo>
                <a:cubicBezTo>
                  <a:pt x="12247" y="2735"/>
                  <a:pt x="11988" y="2717"/>
                  <a:pt x="11733" y="2704"/>
                </a:cubicBezTo>
                <a:cubicBezTo>
                  <a:pt x="11541" y="2694"/>
                  <a:pt x="11353" y="2665"/>
                  <a:pt x="11162" y="2654"/>
                </a:cubicBezTo>
                <a:cubicBezTo>
                  <a:pt x="10879" y="2637"/>
                  <a:pt x="10601" y="2666"/>
                  <a:pt x="10319" y="2629"/>
                </a:cubicBezTo>
                <a:cubicBezTo>
                  <a:pt x="10171" y="2610"/>
                  <a:pt x="10015" y="2591"/>
                  <a:pt x="9872" y="2555"/>
                </a:cubicBezTo>
                <a:cubicBezTo>
                  <a:pt x="9769" y="2529"/>
                  <a:pt x="9645" y="2492"/>
                  <a:pt x="9550" y="2456"/>
                </a:cubicBezTo>
                <a:cubicBezTo>
                  <a:pt x="9498" y="2436"/>
                  <a:pt x="9458" y="2405"/>
                  <a:pt x="9401" y="2381"/>
                </a:cubicBezTo>
                <a:cubicBezTo>
                  <a:pt x="9288" y="2334"/>
                  <a:pt x="9173" y="2292"/>
                  <a:pt x="9054" y="2282"/>
                </a:cubicBezTo>
                <a:cubicBezTo>
                  <a:pt x="8960" y="2274"/>
                  <a:pt x="8871" y="2264"/>
                  <a:pt x="8781" y="2257"/>
                </a:cubicBezTo>
                <a:cubicBezTo>
                  <a:pt x="8740" y="2254"/>
                  <a:pt x="8698" y="2259"/>
                  <a:pt x="8657" y="22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5880" y="642960"/>
            <a:ext cx="2322360" cy="303120"/>
          </a:xfrm>
          <a:custGeom>
            <a:avLst/>
            <a:gdLst/>
            <a:ahLst/>
            <a:rect l="l" t="t" r="r" b="b"/>
            <a:pathLst>
              <a:path w="6450" h="844">
                <a:moveTo>
                  <a:pt x="8682" y="1811"/>
                </a:moveTo>
                <a:cubicBezTo>
                  <a:pt x="8758" y="1811"/>
                  <a:pt x="8804" y="1811"/>
                  <a:pt x="8880" y="1811"/>
                </a:cubicBezTo>
                <a:cubicBezTo>
                  <a:pt x="9015" y="1811"/>
                  <a:pt x="9144" y="1820"/>
                  <a:pt x="9277" y="1836"/>
                </a:cubicBezTo>
                <a:cubicBezTo>
                  <a:pt x="9402" y="1851"/>
                  <a:pt x="9500" y="1841"/>
                  <a:pt x="9624" y="1836"/>
                </a:cubicBezTo>
                <a:cubicBezTo>
                  <a:pt x="9801" y="1830"/>
                  <a:pt x="9971" y="1839"/>
                  <a:pt x="10145" y="1860"/>
                </a:cubicBezTo>
                <a:cubicBezTo>
                  <a:pt x="10304" y="1879"/>
                  <a:pt x="10485" y="1855"/>
                  <a:pt x="10641" y="1885"/>
                </a:cubicBezTo>
                <a:cubicBezTo>
                  <a:pt x="10755" y="1907"/>
                  <a:pt x="10858" y="1943"/>
                  <a:pt x="10964" y="1984"/>
                </a:cubicBezTo>
                <a:cubicBezTo>
                  <a:pt x="11102" y="2037"/>
                  <a:pt x="11240" y="2074"/>
                  <a:pt x="11385" y="2108"/>
                </a:cubicBezTo>
                <a:cubicBezTo>
                  <a:pt x="11523" y="2140"/>
                  <a:pt x="11673" y="2151"/>
                  <a:pt x="11807" y="2183"/>
                </a:cubicBezTo>
                <a:cubicBezTo>
                  <a:pt x="11897" y="2204"/>
                  <a:pt x="11991" y="2247"/>
                  <a:pt x="12080" y="2257"/>
                </a:cubicBezTo>
                <a:cubicBezTo>
                  <a:pt x="12305" y="2281"/>
                  <a:pt x="12551" y="2255"/>
                  <a:pt x="12774" y="2232"/>
                </a:cubicBezTo>
                <a:cubicBezTo>
                  <a:pt x="12876" y="2222"/>
                  <a:pt x="12980" y="2209"/>
                  <a:pt x="13072" y="2208"/>
                </a:cubicBezTo>
                <a:cubicBezTo>
                  <a:pt x="13479" y="2202"/>
                  <a:pt x="13911" y="2169"/>
                  <a:pt x="14312" y="2232"/>
                </a:cubicBezTo>
                <a:cubicBezTo>
                  <a:pt x="14374" y="2242"/>
                  <a:pt x="14385" y="2258"/>
                  <a:pt x="14436" y="2282"/>
                </a:cubicBezTo>
                <a:cubicBezTo>
                  <a:pt x="14519" y="2320"/>
                  <a:pt x="14628" y="2389"/>
                  <a:pt x="14684" y="2431"/>
                </a:cubicBezTo>
                <a:cubicBezTo>
                  <a:pt x="14723" y="2460"/>
                  <a:pt x="14757" y="2530"/>
                  <a:pt x="14808" y="2555"/>
                </a:cubicBezTo>
                <a:cubicBezTo>
                  <a:pt x="14831" y="2567"/>
                  <a:pt x="14906" y="2573"/>
                  <a:pt x="14932" y="2580"/>
                </a:cubicBezTo>
                <a:cubicBezTo>
                  <a:pt x="14976" y="2592"/>
                  <a:pt x="15030" y="2620"/>
                  <a:pt x="15081" y="2629"/>
                </a:cubicBezTo>
                <a:cubicBezTo>
                  <a:pt x="15106" y="2629"/>
                  <a:pt x="15114" y="2629"/>
                  <a:pt x="15131" y="26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86760" y="704880"/>
            <a:ext cx="125280" cy="179280"/>
          </a:xfrm>
          <a:custGeom>
            <a:avLst/>
            <a:gdLst/>
            <a:ahLst/>
            <a:rect l="l" t="t" r="r" b="b"/>
            <a:pathLst>
              <a:path w="348" h="497">
                <a:moveTo>
                  <a:pt x="20241" y="1960"/>
                </a:moveTo>
                <a:cubicBezTo>
                  <a:pt x="20303" y="2022"/>
                  <a:pt x="20331" y="2102"/>
                  <a:pt x="20365" y="2183"/>
                </a:cubicBezTo>
                <a:cubicBezTo>
                  <a:pt x="20411" y="2292"/>
                  <a:pt x="20430" y="2357"/>
                  <a:pt x="20513" y="2431"/>
                </a:cubicBezTo>
                <a:cubicBezTo>
                  <a:pt x="20513" y="2472"/>
                  <a:pt x="20477" y="2411"/>
                  <a:pt x="20464" y="2381"/>
                </a:cubicBezTo>
                <a:cubicBezTo>
                  <a:pt x="20444" y="2336"/>
                  <a:pt x="20471" y="2271"/>
                  <a:pt x="20489" y="2232"/>
                </a:cubicBezTo>
                <a:cubicBezTo>
                  <a:pt x="20512" y="2183"/>
                  <a:pt x="20513" y="2150"/>
                  <a:pt x="20538" y="2108"/>
                </a:cubicBezTo>
                <a:cubicBezTo>
                  <a:pt x="20549" y="2182"/>
                  <a:pt x="20576" y="2269"/>
                  <a:pt x="20588" y="2332"/>
                </a:cubicBezTo>
                <a:cubicBezTo>
                  <a:pt x="20588" y="2373"/>
                  <a:pt x="20588" y="2381"/>
                  <a:pt x="20588" y="2406"/>
                </a:cubicBezTo>
                <a:cubicBezTo>
                  <a:pt x="20486" y="2391"/>
                  <a:pt x="20388" y="2356"/>
                  <a:pt x="20290" y="2332"/>
                </a:cubicBezTo>
                <a:cubicBezTo>
                  <a:pt x="20282" y="2332"/>
                  <a:pt x="20273" y="2332"/>
                  <a:pt x="20265" y="23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62920" y="1303200"/>
            <a:ext cx="179280" cy="403200"/>
          </a:xfrm>
          <a:custGeom>
            <a:avLst/>
            <a:gdLst/>
            <a:ahLst/>
            <a:rect l="l" t="t" r="r" b="b"/>
            <a:pathLst>
              <a:path w="497" h="1118">
                <a:moveTo>
                  <a:pt x="22572" y="4738"/>
                </a:moveTo>
                <a:cubicBezTo>
                  <a:pt x="22572" y="4472"/>
                  <a:pt x="22589" y="4210"/>
                  <a:pt x="22597" y="3944"/>
                </a:cubicBezTo>
                <a:cubicBezTo>
                  <a:pt x="22597" y="3762"/>
                  <a:pt x="22597" y="3729"/>
                  <a:pt x="22597" y="3621"/>
                </a:cubicBezTo>
                <a:cubicBezTo>
                  <a:pt x="22597" y="3753"/>
                  <a:pt x="22566" y="3852"/>
                  <a:pt x="22498" y="3969"/>
                </a:cubicBezTo>
                <a:cubicBezTo>
                  <a:pt x="22443" y="4041"/>
                  <a:pt x="22452" y="4074"/>
                  <a:pt x="22399" y="4068"/>
                </a:cubicBezTo>
                <a:cubicBezTo>
                  <a:pt x="22429" y="3940"/>
                  <a:pt x="22456" y="3857"/>
                  <a:pt x="22523" y="3770"/>
                </a:cubicBezTo>
                <a:cubicBezTo>
                  <a:pt x="22531" y="3754"/>
                  <a:pt x="22539" y="3737"/>
                  <a:pt x="22547" y="3721"/>
                </a:cubicBezTo>
                <a:cubicBezTo>
                  <a:pt x="22646" y="3760"/>
                  <a:pt x="22733" y="3908"/>
                  <a:pt x="22796" y="3994"/>
                </a:cubicBezTo>
                <a:cubicBezTo>
                  <a:pt x="22841" y="4055"/>
                  <a:pt x="22835" y="4078"/>
                  <a:pt x="22895" y="40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06920" y="1785960"/>
            <a:ext cx="2814480" cy="2009880"/>
          </a:xfrm>
          <a:custGeom>
            <a:avLst/>
            <a:gdLst/>
            <a:ahLst/>
            <a:rect l="l" t="t" r="r" b="b"/>
            <a:pathLst>
              <a:path w="7815" h="5582">
                <a:moveTo>
                  <a:pt x="20613" y="10542"/>
                </a:moveTo>
                <a:cubicBezTo>
                  <a:pt x="20564" y="10425"/>
                  <a:pt x="20534" y="10338"/>
                  <a:pt x="20464" y="10220"/>
                </a:cubicBezTo>
                <a:cubicBezTo>
                  <a:pt x="20309" y="9960"/>
                  <a:pt x="20102" y="9741"/>
                  <a:pt x="19968" y="9475"/>
                </a:cubicBezTo>
                <a:cubicBezTo>
                  <a:pt x="19873" y="9287"/>
                  <a:pt x="19784" y="9095"/>
                  <a:pt x="19695" y="8905"/>
                </a:cubicBezTo>
                <a:cubicBezTo>
                  <a:pt x="19635" y="8777"/>
                  <a:pt x="19583" y="8645"/>
                  <a:pt x="19546" y="8508"/>
                </a:cubicBezTo>
                <a:cubicBezTo>
                  <a:pt x="19505" y="8356"/>
                  <a:pt x="19466" y="8194"/>
                  <a:pt x="19422" y="8037"/>
                </a:cubicBezTo>
                <a:cubicBezTo>
                  <a:pt x="19366" y="7836"/>
                  <a:pt x="19319" y="7635"/>
                  <a:pt x="19248" y="7441"/>
                </a:cubicBezTo>
                <a:cubicBezTo>
                  <a:pt x="19122" y="7095"/>
                  <a:pt x="19020" y="6744"/>
                  <a:pt x="18901" y="6400"/>
                </a:cubicBezTo>
                <a:cubicBezTo>
                  <a:pt x="18838" y="6218"/>
                  <a:pt x="18766" y="6036"/>
                  <a:pt x="18653" y="5879"/>
                </a:cubicBezTo>
                <a:cubicBezTo>
                  <a:pt x="18526" y="5703"/>
                  <a:pt x="18432" y="5469"/>
                  <a:pt x="18306" y="5308"/>
                </a:cubicBezTo>
                <a:cubicBezTo>
                  <a:pt x="18268" y="5259"/>
                  <a:pt x="18091" y="5072"/>
                  <a:pt x="18033" y="5035"/>
                </a:cubicBezTo>
                <a:cubicBezTo>
                  <a:pt x="17888" y="4943"/>
                  <a:pt x="17727" y="4940"/>
                  <a:pt x="17562" y="4986"/>
                </a:cubicBezTo>
                <a:cubicBezTo>
                  <a:pt x="17402" y="5031"/>
                  <a:pt x="17201" y="5154"/>
                  <a:pt x="17090" y="5259"/>
                </a:cubicBezTo>
                <a:cubicBezTo>
                  <a:pt x="16954" y="5388"/>
                  <a:pt x="16822" y="5602"/>
                  <a:pt x="16743" y="5755"/>
                </a:cubicBezTo>
                <a:cubicBezTo>
                  <a:pt x="16694" y="5851"/>
                  <a:pt x="16669" y="5954"/>
                  <a:pt x="16619" y="6052"/>
                </a:cubicBezTo>
                <a:cubicBezTo>
                  <a:pt x="16575" y="6138"/>
                  <a:pt x="16503" y="6212"/>
                  <a:pt x="16446" y="6300"/>
                </a:cubicBezTo>
                <a:cubicBezTo>
                  <a:pt x="16330" y="6480"/>
                  <a:pt x="16179" y="6616"/>
                  <a:pt x="16049" y="6772"/>
                </a:cubicBezTo>
                <a:cubicBezTo>
                  <a:pt x="15995" y="6836"/>
                  <a:pt x="15959" y="6897"/>
                  <a:pt x="15900" y="6945"/>
                </a:cubicBezTo>
                <a:cubicBezTo>
                  <a:pt x="15815" y="7014"/>
                  <a:pt x="15745" y="7039"/>
                  <a:pt x="15652" y="7094"/>
                </a:cubicBezTo>
                <a:cubicBezTo>
                  <a:pt x="15473" y="7200"/>
                  <a:pt x="15272" y="7280"/>
                  <a:pt x="15081" y="7367"/>
                </a:cubicBezTo>
                <a:cubicBezTo>
                  <a:pt x="15001" y="7403"/>
                  <a:pt x="14895" y="7487"/>
                  <a:pt x="14808" y="7491"/>
                </a:cubicBezTo>
                <a:cubicBezTo>
                  <a:pt x="14719" y="7495"/>
                  <a:pt x="14654" y="7481"/>
                  <a:pt x="14585" y="7417"/>
                </a:cubicBezTo>
                <a:cubicBezTo>
                  <a:pt x="14498" y="7337"/>
                  <a:pt x="14517" y="7070"/>
                  <a:pt x="14461" y="6970"/>
                </a:cubicBezTo>
                <a:cubicBezTo>
                  <a:pt x="14394" y="6852"/>
                  <a:pt x="14281" y="6786"/>
                  <a:pt x="14238" y="6648"/>
                </a:cubicBezTo>
                <a:cubicBezTo>
                  <a:pt x="14214" y="6572"/>
                  <a:pt x="14231" y="6478"/>
                  <a:pt x="14213" y="6400"/>
                </a:cubicBezTo>
                <a:cubicBezTo>
                  <a:pt x="14203" y="6357"/>
                  <a:pt x="14174" y="6301"/>
                  <a:pt x="14163" y="6251"/>
                </a:cubicBezTo>
                <a:cubicBezTo>
                  <a:pt x="14152" y="6203"/>
                  <a:pt x="14149" y="6170"/>
                  <a:pt x="14139" y="6127"/>
                </a:cubicBezTo>
                <a:cubicBezTo>
                  <a:pt x="14122" y="6055"/>
                  <a:pt x="14069" y="5901"/>
                  <a:pt x="14089" y="5829"/>
                </a:cubicBezTo>
                <a:cubicBezTo>
                  <a:pt x="14101" y="5784"/>
                  <a:pt x="14137" y="5700"/>
                  <a:pt x="14163" y="5655"/>
                </a:cubicBezTo>
                <a:cubicBezTo>
                  <a:pt x="14190" y="5608"/>
                  <a:pt x="14214" y="5578"/>
                  <a:pt x="14263" y="5556"/>
                </a:cubicBezTo>
                <a:cubicBezTo>
                  <a:pt x="14307" y="5536"/>
                  <a:pt x="14401" y="5501"/>
                  <a:pt x="14436" y="5556"/>
                </a:cubicBezTo>
                <a:cubicBezTo>
                  <a:pt x="14483" y="5630"/>
                  <a:pt x="14463" y="5718"/>
                  <a:pt x="14436" y="5804"/>
                </a:cubicBezTo>
                <a:cubicBezTo>
                  <a:pt x="14387" y="5958"/>
                  <a:pt x="14219" y="6027"/>
                  <a:pt x="14139" y="6152"/>
                </a:cubicBezTo>
                <a:cubicBezTo>
                  <a:pt x="14062" y="6271"/>
                  <a:pt x="14013" y="6402"/>
                  <a:pt x="13940" y="6524"/>
                </a:cubicBezTo>
                <a:cubicBezTo>
                  <a:pt x="13901" y="6589"/>
                  <a:pt x="13863" y="6663"/>
                  <a:pt x="13816" y="6722"/>
                </a:cubicBezTo>
                <a:cubicBezTo>
                  <a:pt x="13759" y="6792"/>
                  <a:pt x="13713" y="6834"/>
                  <a:pt x="13643" y="6896"/>
                </a:cubicBezTo>
                <a:cubicBezTo>
                  <a:pt x="13568" y="6962"/>
                  <a:pt x="13476" y="7021"/>
                  <a:pt x="13395" y="7069"/>
                </a:cubicBezTo>
                <a:cubicBezTo>
                  <a:pt x="13316" y="7116"/>
                  <a:pt x="13222" y="7142"/>
                  <a:pt x="13146" y="7193"/>
                </a:cubicBezTo>
                <a:cubicBezTo>
                  <a:pt x="13119" y="7211"/>
                  <a:pt x="13036" y="7314"/>
                  <a:pt x="13022" y="7317"/>
                </a:cubicBezTo>
                <a:cubicBezTo>
                  <a:pt x="12987" y="7324"/>
                  <a:pt x="12954" y="7343"/>
                  <a:pt x="12923" y="7342"/>
                </a:cubicBezTo>
                <a:cubicBezTo>
                  <a:pt x="12880" y="7341"/>
                  <a:pt x="12899" y="7280"/>
                  <a:pt x="12849" y="7268"/>
                </a:cubicBezTo>
                <a:cubicBezTo>
                  <a:pt x="12825" y="7262"/>
                  <a:pt x="12872" y="7252"/>
                  <a:pt x="12849" y="7243"/>
                </a:cubicBezTo>
                <a:cubicBezTo>
                  <a:pt x="12833" y="7318"/>
                  <a:pt x="12834" y="7365"/>
                  <a:pt x="12824" y="744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74960" y="3795840"/>
            <a:ext cx="1947960" cy="222120"/>
          </a:xfrm>
          <a:custGeom>
            <a:avLst/>
            <a:gdLst/>
            <a:ahLst/>
            <a:rect l="l" t="t" r="r" b="b"/>
            <a:pathLst>
              <a:path w="5409" h="621">
                <a:moveTo>
                  <a:pt x="13395" y="10592"/>
                </a:moveTo>
                <a:cubicBezTo>
                  <a:pt x="13296" y="10592"/>
                  <a:pt x="13215" y="10600"/>
                  <a:pt x="13122" y="10616"/>
                </a:cubicBezTo>
                <a:cubicBezTo>
                  <a:pt x="13037" y="10631"/>
                  <a:pt x="12963" y="10639"/>
                  <a:pt x="12874" y="10641"/>
                </a:cubicBezTo>
                <a:cubicBezTo>
                  <a:pt x="12739" y="10644"/>
                  <a:pt x="12603" y="10623"/>
                  <a:pt x="12477" y="10616"/>
                </a:cubicBezTo>
                <a:cubicBezTo>
                  <a:pt x="12420" y="10613"/>
                  <a:pt x="12346" y="10596"/>
                  <a:pt x="12303" y="10592"/>
                </a:cubicBezTo>
                <a:cubicBezTo>
                  <a:pt x="12179" y="10582"/>
                  <a:pt x="12055" y="10569"/>
                  <a:pt x="11931" y="10567"/>
                </a:cubicBezTo>
                <a:cubicBezTo>
                  <a:pt x="11811" y="10565"/>
                  <a:pt x="11701" y="10551"/>
                  <a:pt x="11584" y="10542"/>
                </a:cubicBezTo>
                <a:cubicBezTo>
                  <a:pt x="11271" y="10518"/>
                  <a:pt x="10948" y="10581"/>
                  <a:pt x="10641" y="10567"/>
                </a:cubicBezTo>
                <a:cubicBezTo>
                  <a:pt x="10481" y="10560"/>
                  <a:pt x="10356" y="10555"/>
                  <a:pt x="10195" y="10567"/>
                </a:cubicBezTo>
                <a:cubicBezTo>
                  <a:pt x="10055" y="10578"/>
                  <a:pt x="9913" y="10581"/>
                  <a:pt x="9773" y="10592"/>
                </a:cubicBezTo>
                <a:cubicBezTo>
                  <a:pt x="9668" y="10600"/>
                  <a:pt x="9576" y="10599"/>
                  <a:pt x="9475" y="10616"/>
                </a:cubicBezTo>
                <a:cubicBezTo>
                  <a:pt x="9387" y="10631"/>
                  <a:pt x="9292" y="10659"/>
                  <a:pt x="9203" y="10666"/>
                </a:cubicBezTo>
                <a:cubicBezTo>
                  <a:pt x="9067" y="10677"/>
                  <a:pt x="8936" y="10649"/>
                  <a:pt x="8806" y="10641"/>
                </a:cubicBezTo>
                <a:cubicBezTo>
                  <a:pt x="8697" y="10634"/>
                  <a:pt x="8591" y="10624"/>
                  <a:pt x="8483" y="10616"/>
                </a:cubicBezTo>
                <a:cubicBezTo>
                  <a:pt x="8412" y="10611"/>
                  <a:pt x="8354" y="10598"/>
                  <a:pt x="8285" y="10592"/>
                </a:cubicBezTo>
                <a:cubicBezTo>
                  <a:pt x="8227" y="10587"/>
                  <a:pt x="8163" y="10571"/>
                  <a:pt x="8111" y="10567"/>
                </a:cubicBezTo>
                <a:cubicBezTo>
                  <a:pt x="8078" y="10564"/>
                  <a:pt x="8045" y="10569"/>
                  <a:pt x="8012" y="10567"/>
                </a:cubicBezTo>
                <a:cubicBezTo>
                  <a:pt x="8002" y="10621"/>
                  <a:pt x="7992" y="10659"/>
                  <a:pt x="7987" y="10716"/>
                </a:cubicBezTo>
                <a:cubicBezTo>
                  <a:pt x="7980" y="10801"/>
                  <a:pt x="8005" y="10858"/>
                  <a:pt x="8012" y="10939"/>
                </a:cubicBezTo>
                <a:cubicBezTo>
                  <a:pt x="8012" y="10980"/>
                  <a:pt x="8012" y="10988"/>
                  <a:pt x="8012" y="11013"/>
                </a:cubicBezTo>
                <a:cubicBezTo>
                  <a:pt x="8079" y="11021"/>
                  <a:pt x="8086" y="11024"/>
                  <a:pt x="8161" y="11013"/>
                </a:cubicBezTo>
                <a:cubicBezTo>
                  <a:pt x="8275" y="10997"/>
                  <a:pt x="8391" y="10981"/>
                  <a:pt x="8508" y="10988"/>
                </a:cubicBezTo>
                <a:cubicBezTo>
                  <a:pt x="8709" y="11000"/>
                  <a:pt x="8896" y="11013"/>
                  <a:pt x="9103" y="10988"/>
                </a:cubicBezTo>
                <a:cubicBezTo>
                  <a:pt x="9311" y="10962"/>
                  <a:pt x="9471" y="11001"/>
                  <a:pt x="9674" y="11038"/>
                </a:cubicBezTo>
                <a:cubicBezTo>
                  <a:pt x="9856" y="11071"/>
                  <a:pt x="10035" y="11063"/>
                  <a:pt x="10220" y="11063"/>
                </a:cubicBezTo>
                <a:cubicBezTo>
                  <a:pt x="10379" y="11063"/>
                  <a:pt x="10513" y="11093"/>
                  <a:pt x="10666" y="11112"/>
                </a:cubicBezTo>
                <a:cubicBezTo>
                  <a:pt x="10793" y="11127"/>
                  <a:pt x="10938" y="11129"/>
                  <a:pt x="11063" y="11137"/>
                </a:cubicBezTo>
                <a:cubicBezTo>
                  <a:pt x="11549" y="11169"/>
                  <a:pt x="12042" y="11127"/>
                  <a:pt x="12526" y="11162"/>
                </a:cubicBezTo>
                <a:cubicBezTo>
                  <a:pt x="12701" y="11175"/>
                  <a:pt x="12930" y="11188"/>
                  <a:pt x="13097" y="11137"/>
                </a:cubicBezTo>
                <a:cubicBezTo>
                  <a:pt x="13188" y="11109"/>
                  <a:pt x="13164" y="11135"/>
                  <a:pt x="13221" y="11038"/>
                </a:cubicBezTo>
                <a:cubicBezTo>
                  <a:pt x="13259" y="10972"/>
                  <a:pt x="13306" y="10867"/>
                  <a:pt x="13295" y="10790"/>
                </a:cubicBezTo>
                <a:cubicBezTo>
                  <a:pt x="13289" y="10749"/>
                  <a:pt x="13258" y="10751"/>
                  <a:pt x="13246" y="107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5040" y="455760"/>
            <a:ext cx="98280" cy="223560"/>
          </a:xfrm>
          <a:custGeom>
            <a:avLst/>
            <a:gdLst/>
            <a:ahLst/>
            <a:rect l="l" t="t" r="r" b="b"/>
            <a:pathLst>
              <a:path w="274" h="621">
                <a:moveTo>
                  <a:pt x="20786" y="1389"/>
                </a:moveTo>
                <a:cubicBezTo>
                  <a:pt x="20773" y="1278"/>
                  <a:pt x="20679" y="1215"/>
                  <a:pt x="20563" y="1290"/>
                </a:cubicBezTo>
                <a:cubicBezTo>
                  <a:pt x="20432" y="1375"/>
                  <a:pt x="20517" y="1509"/>
                  <a:pt x="20662" y="1439"/>
                </a:cubicBezTo>
                <a:cubicBezTo>
                  <a:pt x="20687" y="1422"/>
                  <a:pt x="20712" y="1406"/>
                  <a:pt x="20737" y="1389"/>
                </a:cubicBezTo>
                <a:cubicBezTo>
                  <a:pt x="20737" y="1381"/>
                  <a:pt x="20737" y="1372"/>
                  <a:pt x="20737" y="1364"/>
                </a:cubicBezTo>
                <a:cubicBezTo>
                  <a:pt x="20706" y="1489"/>
                  <a:pt x="20728" y="1597"/>
                  <a:pt x="20737" y="1736"/>
                </a:cubicBezTo>
                <a:cubicBezTo>
                  <a:pt x="20742" y="1812"/>
                  <a:pt x="20737" y="1971"/>
                  <a:pt x="20737" y="17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23120" y="357120"/>
            <a:ext cx="241200" cy="411120"/>
          </a:xfrm>
          <a:custGeom>
            <a:avLst/>
            <a:gdLst/>
            <a:ahLst/>
            <a:rect l="l" t="t" r="r" b="b"/>
            <a:pathLst>
              <a:path w="671" h="1142">
                <a:moveTo>
                  <a:pt x="20687" y="992"/>
                </a:moveTo>
                <a:cubicBezTo>
                  <a:pt x="20414" y="1276"/>
                  <a:pt x="20224" y="1569"/>
                  <a:pt x="20414" y="1984"/>
                </a:cubicBezTo>
                <a:cubicBezTo>
                  <a:pt x="20464" y="2034"/>
                  <a:pt x="20513" y="2083"/>
                  <a:pt x="20563" y="2133"/>
                </a:cubicBezTo>
                <a:cubicBezTo>
                  <a:pt x="20903" y="2065"/>
                  <a:pt x="21073" y="1868"/>
                  <a:pt x="21010" y="1463"/>
                </a:cubicBezTo>
                <a:cubicBezTo>
                  <a:pt x="20947" y="1338"/>
                  <a:pt x="20943" y="1303"/>
                  <a:pt x="20861" y="12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7520" y="85680"/>
            <a:ext cx="132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wboy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73840" y="2241720"/>
            <a:ext cx="36360" cy="53640"/>
          </a:xfrm>
          <a:custGeom>
            <a:avLst/>
            <a:gdLst/>
            <a:ahLst/>
            <a:rect l="l" t="t" r="r" b="b"/>
            <a:pathLst>
              <a:path w="101" h="150">
                <a:moveTo>
                  <a:pt x="16694" y="6276"/>
                </a:moveTo>
                <a:cubicBezTo>
                  <a:pt x="16677" y="6297"/>
                  <a:pt x="16576" y="6434"/>
                  <a:pt x="16619" y="6350"/>
                </a:cubicBezTo>
                <a:cubicBezTo>
                  <a:pt x="16658" y="6273"/>
                  <a:pt x="16657" y="6258"/>
                  <a:pt x="16694" y="62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1240" y="955800"/>
            <a:ext cx="1677960" cy="581040"/>
          </a:xfrm>
          <a:custGeom>
            <a:avLst/>
            <a:gdLst/>
            <a:ahLst/>
            <a:rect l="l" t="t" r="r" b="b"/>
            <a:pathLst>
              <a:path w="4664" h="1613">
                <a:moveTo>
                  <a:pt x="9426" y="2729"/>
                </a:moveTo>
                <a:cubicBezTo>
                  <a:pt x="9475" y="2761"/>
                  <a:pt x="9462" y="2981"/>
                  <a:pt x="9451" y="3051"/>
                </a:cubicBezTo>
                <a:cubicBezTo>
                  <a:pt x="9431" y="3091"/>
                  <a:pt x="9422" y="3098"/>
                  <a:pt x="9426" y="3125"/>
                </a:cubicBezTo>
              </a:path>
              <a:path w="4664" h="1613">
                <a:moveTo>
                  <a:pt x="9798" y="3125"/>
                </a:moveTo>
                <a:cubicBezTo>
                  <a:pt x="9798" y="3142"/>
                  <a:pt x="9798" y="3158"/>
                  <a:pt x="9798" y="3175"/>
                </a:cubicBezTo>
                <a:cubicBezTo>
                  <a:pt x="9798" y="3110"/>
                  <a:pt x="9851" y="2956"/>
                  <a:pt x="9922" y="2952"/>
                </a:cubicBezTo>
                <a:cubicBezTo>
                  <a:pt x="10002" y="2948"/>
                  <a:pt x="9996" y="3184"/>
                  <a:pt x="9996" y="3125"/>
                </a:cubicBezTo>
                <a:cubicBezTo>
                  <a:pt x="10022" y="3099"/>
                  <a:pt x="10126" y="2950"/>
                  <a:pt x="10145" y="3076"/>
                </a:cubicBezTo>
                <a:cubicBezTo>
                  <a:pt x="10145" y="3154"/>
                  <a:pt x="10130" y="3172"/>
                  <a:pt x="10170" y="3200"/>
                </a:cubicBezTo>
              </a:path>
              <a:path w="4664" h="1613">
                <a:moveTo>
                  <a:pt x="10244" y="3150"/>
                </a:moveTo>
                <a:cubicBezTo>
                  <a:pt x="10323" y="3172"/>
                  <a:pt x="10385" y="3215"/>
                  <a:pt x="10393" y="3125"/>
                </a:cubicBezTo>
                <a:cubicBezTo>
                  <a:pt x="10396" y="3088"/>
                  <a:pt x="10327" y="3086"/>
                  <a:pt x="10294" y="3076"/>
                </a:cubicBezTo>
                <a:cubicBezTo>
                  <a:pt x="10279" y="3163"/>
                  <a:pt x="10229" y="3288"/>
                  <a:pt x="10368" y="3299"/>
                </a:cubicBezTo>
                <a:cubicBezTo>
                  <a:pt x="10393" y="3291"/>
                  <a:pt x="10418" y="3282"/>
                  <a:pt x="10443" y="3274"/>
                </a:cubicBezTo>
              </a:path>
              <a:path w="4664" h="1613">
                <a:moveTo>
                  <a:pt x="10691" y="2977"/>
                </a:moveTo>
                <a:cubicBezTo>
                  <a:pt x="10660" y="3136"/>
                  <a:pt x="10641" y="3237"/>
                  <a:pt x="10641" y="3398"/>
                </a:cubicBezTo>
              </a:path>
              <a:path w="4664" h="1613">
                <a:moveTo>
                  <a:pt x="10592" y="3249"/>
                </a:moveTo>
                <a:cubicBezTo>
                  <a:pt x="10652" y="3271"/>
                  <a:pt x="10702" y="3299"/>
                  <a:pt x="10765" y="3299"/>
                </a:cubicBezTo>
              </a:path>
              <a:path w="4664" h="1613">
                <a:moveTo>
                  <a:pt x="10840" y="3299"/>
                </a:moveTo>
                <a:cubicBezTo>
                  <a:pt x="10918" y="3299"/>
                  <a:pt x="10896" y="3313"/>
                  <a:pt x="10939" y="3249"/>
                </a:cubicBezTo>
                <a:cubicBezTo>
                  <a:pt x="10875" y="3200"/>
                  <a:pt x="10763" y="3165"/>
                  <a:pt x="10790" y="3299"/>
                </a:cubicBezTo>
                <a:cubicBezTo>
                  <a:pt x="10818" y="3437"/>
                  <a:pt x="10880" y="3467"/>
                  <a:pt x="10988" y="3522"/>
                </a:cubicBezTo>
              </a:path>
              <a:path w="4664" h="1613">
                <a:moveTo>
                  <a:pt x="11137" y="3473"/>
                </a:moveTo>
                <a:cubicBezTo>
                  <a:pt x="11137" y="3531"/>
                  <a:pt x="11122" y="3407"/>
                  <a:pt x="11112" y="3349"/>
                </a:cubicBezTo>
                <a:cubicBezTo>
                  <a:pt x="11101" y="3285"/>
                  <a:pt x="11271" y="3278"/>
                  <a:pt x="11311" y="3274"/>
                </a:cubicBezTo>
              </a:path>
              <a:path w="4664" h="1613">
                <a:moveTo>
                  <a:pt x="11708" y="3299"/>
                </a:moveTo>
                <a:cubicBezTo>
                  <a:pt x="11694" y="3437"/>
                  <a:pt x="11683" y="3558"/>
                  <a:pt x="11683" y="3696"/>
                </a:cubicBezTo>
              </a:path>
              <a:path w="4664" h="1613">
                <a:moveTo>
                  <a:pt x="11559" y="3473"/>
                </a:moveTo>
                <a:cubicBezTo>
                  <a:pt x="11666" y="3513"/>
                  <a:pt x="11757" y="3567"/>
                  <a:pt x="11857" y="3621"/>
                </a:cubicBezTo>
              </a:path>
              <a:path w="4664" h="1613">
                <a:moveTo>
                  <a:pt x="11906" y="3746"/>
                </a:moveTo>
                <a:cubicBezTo>
                  <a:pt x="11906" y="3666"/>
                  <a:pt x="11864" y="3528"/>
                  <a:pt x="11956" y="3497"/>
                </a:cubicBezTo>
                <a:cubicBezTo>
                  <a:pt x="11981" y="3497"/>
                  <a:pt x="12005" y="3497"/>
                  <a:pt x="12030" y="3497"/>
                </a:cubicBezTo>
              </a:path>
              <a:path w="4664" h="1613">
                <a:moveTo>
                  <a:pt x="12204" y="3621"/>
                </a:moveTo>
                <a:cubicBezTo>
                  <a:pt x="12168" y="3635"/>
                  <a:pt x="11980" y="3764"/>
                  <a:pt x="12080" y="3820"/>
                </a:cubicBezTo>
                <a:cubicBezTo>
                  <a:pt x="12143" y="3855"/>
                  <a:pt x="12214" y="3677"/>
                  <a:pt x="12229" y="3646"/>
                </a:cubicBezTo>
                <a:cubicBezTo>
                  <a:pt x="12229" y="3684"/>
                  <a:pt x="12208" y="3810"/>
                  <a:pt x="12254" y="3820"/>
                </a:cubicBezTo>
                <a:cubicBezTo>
                  <a:pt x="12279" y="3812"/>
                  <a:pt x="12303" y="3803"/>
                  <a:pt x="12328" y="3795"/>
                </a:cubicBezTo>
              </a:path>
              <a:path w="4664" h="1613">
                <a:moveTo>
                  <a:pt x="12427" y="3721"/>
                </a:moveTo>
                <a:cubicBezTo>
                  <a:pt x="12358" y="3763"/>
                  <a:pt x="12246" y="3913"/>
                  <a:pt x="12427" y="3919"/>
                </a:cubicBezTo>
                <a:cubicBezTo>
                  <a:pt x="12460" y="3911"/>
                  <a:pt x="12493" y="3902"/>
                  <a:pt x="12526" y="3894"/>
                </a:cubicBezTo>
              </a:path>
              <a:path w="4664" h="1613">
                <a:moveTo>
                  <a:pt x="12675" y="3547"/>
                </a:moveTo>
                <a:cubicBezTo>
                  <a:pt x="12675" y="3699"/>
                  <a:pt x="12593" y="4103"/>
                  <a:pt x="12700" y="3994"/>
                </a:cubicBezTo>
                <a:cubicBezTo>
                  <a:pt x="12700" y="3977"/>
                  <a:pt x="12700" y="3961"/>
                  <a:pt x="12700" y="3944"/>
                </a:cubicBezTo>
              </a:path>
              <a:path w="4664" h="1613">
                <a:moveTo>
                  <a:pt x="12799" y="3770"/>
                </a:moveTo>
                <a:cubicBezTo>
                  <a:pt x="12757" y="3784"/>
                  <a:pt x="12621" y="3836"/>
                  <a:pt x="12626" y="3894"/>
                </a:cubicBezTo>
                <a:cubicBezTo>
                  <a:pt x="12632" y="3960"/>
                  <a:pt x="12683" y="4050"/>
                  <a:pt x="12750" y="4068"/>
                </a:cubicBezTo>
                <a:cubicBezTo>
                  <a:pt x="12766" y="4068"/>
                  <a:pt x="12783" y="4068"/>
                  <a:pt x="12799" y="4068"/>
                </a:cubicBezTo>
              </a:path>
              <a:path w="4664" h="1613">
                <a:moveTo>
                  <a:pt x="8781" y="3299"/>
                </a:moveTo>
                <a:cubicBezTo>
                  <a:pt x="8723" y="3299"/>
                  <a:pt x="8670" y="3296"/>
                  <a:pt x="8632" y="3349"/>
                </a:cubicBezTo>
                <a:cubicBezTo>
                  <a:pt x="8571" y="3433"/>
                  <a:pt x="8547" y="3522"/>
                  <a:pt x="8582" y="3621"/>
                </a:cubicBezTo>
                <a:cubicBezTo>
                  <a:pt x="8610" y="3701"/>
                  <a:pt x="8658" y="3763"/>
                  <a:pt x="8731" y="3795"/>
                </a:cubicBezTo>
                <a:cubicBezTo>
                  <a:pt x="8807" y="3828"/>
                  <a:pt x="8873" y="3820"/>
                  <a:pt x="8954" y="3820"/>
                </a:cubicBezTo>
                <a:cubicBezTo>
                  <a:pt x="9047" y="3820"/>
                  <a:pt x="9085" y="3773"/>
                  <a:pt x="9128" y="3696"/>
                </a:cubicBezTo>
                <a:cubicBezTo>
                  <a:pt x="9149" y="3657"/>
                  <a:pt x="9188" y="3565"/>
                  <a:pt x="9178" y="3522"/>
                </a:cubicBezTo>
                <a:cubicBezTo>
                  <a:pt x="9166" y="3471"/>
                  <a:pt x="9133" y="3374"/>
                  <a:pt x="9079" y="3349"/>
                </a:cubicBezTo>
                <a:cubicBezTo>
                  <a:pt x="9001" y="3312"/>
                  <a:pt x="8915" y="3280"/>
                  <a:pt x="8830" y="3274"/>
                </a:cubicBezTo>
                <a:cubicBezTo>
                  <a:pt x="8772" y="3270"/>
                  <a:pt x="8726" y="3287"/>
                  <a:pt x="8682" y="3324"/>
                </a:cubicBezTo>
                <a:cubicBezTo>
                  <a:pt x="8610" y="3384"/>
                  <a:pt x="8576" y="3419"/>
                  <a:pt x="8558" y="3522"/>
                </a:cubicBezTo>
                <a:cubicBezTo>
                  <a:pt x="8540" y="3624"/>
                  <a:pt x="8600" y="3738"/>
                  <a:pt x="8682" y="3795"/>
                </a:cubicBezTo>
                <a:cubicBezTo>
                  <a:pt x="8811" y="3886"/>
                  <a:pt x="8843" y="3830"/>
                  <a:pt x="8954" y="3795"/>
                </a:cubicBezTo>
                <a:cubicBezTo>
                  <a:pt x="9063" y="3760"/>
                  <a:pt x="9050" y="3769"/>
                  <a:pt x="9128" y="3671"/>
                </a:cubicBezTo>
                <a:cubicBezTo>
                  <a:pt x="9157" y="3635"/>
                  <a:pt x="9169" y="3635"/>
                  <a:pt x="9128" y="3621"/>
                </a:cubicBezTo>
              </a:path>
              <a:path w="4664" h="1613">
                <a:moveTo>
                  <a:pt x="8632" y="3448"/>
                </a:moveTo>
                <a:lnTo>
                  <a:pt x="8632" y="3448"/>
                </a:lnTo>
              </a:path>
              <a:path w="4664" h="1613">
                <a:moveTo>
                  <a:pt x="8781" y="3423"/>
                </a:moveTo>
                <a:cubicBezTo>
                  <a:pt x="8797" y="3415"/>
                  <a:pt x="8814" y="3406"/>
                  <a:pt x="8830" y="3398"/>
                </a:cubicBezTo>
              </a:path>
              <a:path w="4664" h="1613">
                <a:moveTo>
                  <a:pt x="8830" y="3398"/>
                </a:moveTo>
                <a:lnTo>
                  <a:pt x="8830" y="3398"/>
                </a:lnTo>
              </a:path>
              <a:path w="4664" h="1613">
                <a:moveTo>
                  <a:pt x="8880" y="3398"/>
                </a:moveTo>
                <a:lnTo>
                  <a:pt x="8880" y="3398"/>
                </a:lnTo>
              </a:path>
              <a:path w="4664" h="1613">
                <a:moveTo>
                  <a:pt x="8930" y="3448"/>
                </a:moveTo>
                <a:lnTo>
                  <a:pt x="8930" y="3448"/>
                </a:lnTo>
              </a:path>
              <a:path w="4664" h="1613">
                <a:moveTo>
                  <a:pt x="8930" y="3448"/>
                </a:moveTo>
                <a:lnTo>
                  <a:pt x="8930" y="3448"/>
                </a:lnTo>
              </a:path>
              <a:path w="4664" h="1613">
                <a:moveTo>
                  <a:pt x="8756" y="3621"/>
                </a:moveTo>
                <a:cubicBezTo>
                  <a:pt x="8773" y="3621"/>
                  <a:pt x="8789" y="3621"/>
                  <a:pt x="8806" y="3621"/>
                </a:cubicBezTo>
              </a:path>
              <a:path w="4664" h="1613">
                <a:moveTo>
                  <a:pt x="8830" y="3721"/>
                </a:moveTo>
                <a:cubicBezTo>
                  <a:pt x="8838" y="3721"/>
                  <a:pt x="8847" y="3721"/>
                  <a:pt x="8855" y="3721"/>
                </a:cubicBezTo>
              </a:path>
              <a:path w="4664" h="1613">
                <a:moveTo>
                  <a:pt x="8855" y="3721"/>
                </a:moveTo>
                <a:lnTo>
                  <a:pt x="8855" y="3721"/>
                </a:lnTo>
              </a:path>
              <a:path w="4664" h="1613">
                <a:moveTo>
                  <a:pt x="8880" y="3721"/>
                </a:moveTo>
                <a:cubicBezTo>
                  <a:pt x="8880" y="3713"/>
                  <a:pt x="8880" y="3704"/>
                  <a:pt x="8880" y="3696"/>
                </a:cubicBezTo>
              </a:path>
              <a:path w="4664" h="1613">
                <a:moveTo>
                  <a:pt x="8979" y="3621"/>
                </a:moveTo>
                <a:cubicBezTo>
                  <a:pt x="8987" y="3613"/>
                  <a:pt x="8996" y="3605"/>
                  <a:pt x="9004" y="3597"/>
                </a:cubicBezTo>
              </a:path>
              <a:path w="4664" h="1613">
                <a:moveTo>
                  <a:pt x="9004" y="3597"/>
                </a:moveTo>
                <a:lnTo>
                  <a:pt x="9004" y="3597"/>
                </a:lnTo>
              </a:path>
              <a:path w="4664" h="1613">
                <a:moveTo>
                  <a:pt x="9004" y="3572"/>
                </a:moveTo>
                <a:cubicBezTo>
                  <a:pt x="8996" y="3572"/>
                  <a:pt x="8987" y="3572"/>
                  <a:pt x="8979" y="3572"/>
                </a:cubicBezTo>
              </a:path>
              <a:path w="4664" h="1613">
                <a:moveTo>
                  <a:pt x="8830" y="3572"/>
                </a:moveTo>
                <a:lnTo>
                  <a:pt x="8830" y="3572"/>
                </a:lnTo>
                <a:lnTo>
                  <a:pt x="8830" y="3572"/>
                </a:lnTo>
              </a:path>
              <a:path w="4664" h="1613">
                <a:moveTo>
                  <a:pt x="8830" y="3572"/>
                </a:moveTo>
                <a:lnTo>
                  <a:pt x="8830" y="3572"/>
                </a:lnTo>
              </a:path>
              <a:path w="4664" h="1613">
                <a:moveTo>
                  <a:pt x="8830" y="3572"/>
                </a:moveTo>
                <a:cubicBezTo>
                  <a:pt x="8860" y="3542"/>
                  <a:pt x="8874" y="3531"/>
                  <a:pt x="8905" y="3522"/>
                </a:cubicBezTo>
              </a:path>
              <a:path w="4664" h="1613">
                <a:moveTo>
                  <a:pt x="9128" y="3473"/>
                </a:moveTo>
                <a:cubicBezTo>
                  <a:pt x="9136" y="3465"/>
                  <a:pt x="9145" y="3456"/>
                  <a:pt x="9153" y="3448"/>
                </a:cubicBezTo>
              </a:path>
              <a:path w="4664" h="1613">
                <a:moveTo>
                  <a:pt x="9153" y="3448"/>
                </a:moveTo>
                <a:lnTo>
                  <a:pt x="9153" y="3448"/>
                </a:lnTo>
              </a:path>
              <a:path w="4664" h="1613">
                <a:moveTo>
                  <a:pt x="9153" y="3448"/>
                </a:moveTo>
                <a:cubicBezTo>
                  <a:pt x="9120" y="3456"/>
                  <a:pt x="9087" y="3465"/>
                  <a:pt x="9054" y="3473"/>
                </a:cubicBezTo>
              </a:path>
              <a:path w="4664" h="1613">
                <a:moveTo>
                  <a:pt x="8781" y="3522"/>
                </a:moveTo>
                <a:lnTo>
                  <a:pt x="8781" y="3522"/>
                </a:lnTo>
                <a:lnTo>
                  <a:pt x="8781" y="3522"/>
                </a:lnTo>
              </a:path>
              <a:path w="4664" h="1613">
                <a:moveTo>
                  <a:pt x="8781" y="3522"/>
                </a:moveTo>
                <a:lnTo>
                  <a:pt x="8781" y="3522"/>
                </a:lnTo>
              </a:path>
              <a:path w="4664" h="1613">
                <a:moveTo>
                  <a:pt x="8632" y="3572"/>
                </a:moveTo>
                <a:lnTo>
                  <a:pt x="8632" y="3572"/>
                </a:lnTo>
              </a:path>
              <a:path w="4664" h="1613">
                <a:moveTo>
                  <a:pt x="8632" y="3572"/>
                </a:moveTo>
                <a:cubicBezTo>
                  <a:pt x="8640" y="3572"/>
                  <a:pt x="8649" y="3572"/>
                  <a:pt x="8657" y="3572"/>
                </a:cubicBezTo>
              </a:path>
              <a:path w="4664" h="1613">
                <a:moveTo>
                  <a:pt x="8657" y="3572"/>
                </a:moveTo>
                <a:lnTo>
                  <a:pt x="8657" y="3572"/>
                </a:lnTo>
              </a:path>
              <a:path w="4664" h="1613">
                <a:moveTo>
                  <a:pt x="8806" y="3820"/>
                </a:moveTo>
                <a:cubicBezTo>
                  <a:pt x="8822" y="3803"/>
                  <a:pt x="8839" y="3787"/>
                  <a:pt x="8855" y="3770"/>
                </a:cubicBezTo>
              </a:path>
              <a:path w="4664" h="1613">
                <a:moveTo>
                  <a:pt x="9451" y="3795"/>
                </a:moveTo>
                <a:cubicBezTo>
                  <a:pt x="9533" y="3795"/>
                  <a:pt x="9568" y="3805"/>
                  <a:pt x="9649" y="3795"/>
                </a:cubicBezTo>
                <a:cubicBezTo>
                  <a:pt x="9729" y="3785"/>
                  <a:pt x="9806" y="3798"/>
                  <a:pt x="9872" y="3820"/>
                </a:cubicBezTo>
                <a:cubicBezTo>
                  <a:pt x="9911" y="3833"/>
                  <a:pt x="9947" y="3842"/>
                  <a:pt x="9971" y="3845"/>
                </a:cubicBezTo>
                <a:cubicBezTo>
                  <a:pt x="9979" y="3845"/>
                  <a:pt x="9988" y="3845"/>
                  <a:pt x="9996" y="3845"/>
                </a:cubicBezTo>
                <a:cubicBezTo>
                  <a:pt x="9962" y="3759"/>
                  <a:pt x="9936" y="3778"/>
                  <a:pt x="9872" y="3746"/>
                </a:cubicBezTo>
                <a:cubicBezTo>
                  <a:pt x="9821" y="3721"/>
                  <a:pt x="9807" y="3715"/>
                  <a:pt x="9872" y="3770"/>
                </a:cubicBezTo>
                <a:cubicBezTo>
                  <a:pt x="9919" y="3809"/>
                  <a:pt x="9974" y="3832"/>
                  <a:pt x="10021" y="3870"/>
                </a:cubicBezTo>
                <a:cubicBezTo>
                  <a:pt x="10003" y="3914"/>
                  <a:pt x="9948" y="3993"/>
                  <a:pt x="9897" y="4018"/>
                </a:cubicBezTo>
                <a:cubicBezTo>
                  <a:pt x="9889" y="4018"/>
                  <a:pt x="9880" y="4018"/>
                  <a:pt x="9872" y="4018"/>
                </a:cubicBezTo>
              </a:path>
              <a:path w="4664" h="1613">
                <a:moveTo>
                  <a:pt x="9947" y="3919"/>
                </a:moveTo>
                <a:lnTo>
                  <a:pt x="9947" y="3919"/>
                </a:lnTo>
                <a:lnTo>
                  <a:pt x="9947" y="3919"/>
                </a:lnTo>
              </a:path>
              <a:path w="4664" h="1613">
                <a:moveTo>
                  <a:pt x="9947" y="3919"/>
                </a:moveTo>
                <a:lnTo>
                  <a:pt x="9947" y="3919"/>
                </a:lnTo>
              </a:path>
              <a:path w="4664" h="1613">
                <a:moveTo>
                  <a:pt x="9947" y="3894"/>
                </a:moveTo>
                <a:cubicBezTo>
                  <a:pt x="9947" y="3834"/>
                  <a:pt x="9948" y="3802"/>
                  <a:pt x="9922" y="3746"/>
                </a:cubicBezTo>
                <a:cubicBezTo>
                  <a:pt x="9897" y="3692"/>
                  <a:pt x="9884" y="3656"/>
                  <a:pt x="9872" y="3621"/>
                </a:cubicBezTo>
                <a:cubicBezTo>
                  <a:pt x="9916" y="3632"/>
                  <a:pt x="9937" y="3661"/>
                  <a:pt x="9971" y="3696"/>
                </a:cubicBezTo>
              </a:path>
              <a:path w="4664" h="1613">
                <a:moveTo>
                  <a:pt x="10666" y="3969"/>
                </a:moveTo>
                <a:cubicBezTo>
                  <a:pt x="10607" y="3989"/>
                  <a:pt x="10691" y="4025"/>
                  <a:pt x="10740" y="4043"/>
                </a:cubicBezTo>
                <a:cubicBezTo>
                  <a:pt x="10841" y="4080"/>
                  <a:pt x="10962" y="4103"/>
                  <a:pt x="11063" y="4118"/>
                </a:cubicBezTo>
                <a:cubicBezTo>
                  <a:pt x="11110" y="4125"/>
                  <a:pt x="11165" y="4118"/>
                  <a:pt x="11212" y="4118"/>
                </a:cubicBezTo>
                <a:cubicBezTo>
                  <a:pt x="11212" y="4184"/>
                  <a:pt x="11144" y="4207"/>
                  <a:pt x="11088" y="4242"/>
                </a:cubicBezTo>
                <a:cubicBezTo>
                  <a:pt x="11047" y="4262"/>
                  <a:pt x="11020" y="4270"/>
                  <a:pt x="11063" y="4266"/>
                </a:cubicBezTo>
                <a:cubicBezTo>
                  <a:pt x="11142" y="4249"/>
                  <a:pt x="11168" y="4196"/>
                  <a:pt x="11212" y="4167"/>
                </a:cubicBezTo>
                <a:cubicBezTo>
                  <a:pt x="11255" y="4138"/>
                  <a:pt x="11208" y="4100"/>
                  <a:pt x="11162" y="4043"/>
                </a:cubicBezTo>
                <a:cubicBezTo>
                  <a:pt x="11128" y="4001"/>
                  <a:pt x="11127" y="4036"/>
                  <a:pt x="11112" y="3994"/>
                </a:cubicBezTo>
              </a:path>
              <a:path w="4664" h="1613">
                <a:moveTo>
                  <a:pt x="12725" y="3001"/>
                </a:moveTo>
                <a:cubicBezTo>
                  <a:pt x="12725" y="3047"/>
                  <a:pt x="12672" y="3131"/>
                  <a:pt x="12725" y="3150"/>
                </a:cubicBezTo>
                <a:cubicBezTo>
                  <a:pt x="12785" y="3171"/>
                  <a:pt x="12866" y="3133"/>
                  <a:pt x="12923" y="3125"/>
                </a:cubicBezTo>
              </a:path>
              <a:path w="4664" h="1613">
                <a:moveTo>
                  <a:pt x="12874" y="2927"/>
                </a:moveTo>
                <a:cubicBezTo>
                  <a:pt x="12874" y="3069"/>
                  <a:pt x="12859" y="3218"/>
                  <a:pt x="12874" y="3349"/>
                </a:cubicBezTo>
                <a:cubicBezTo>
                  <a:pt x="12874" y="3398"/>
                  <a:pt x="12874" y="3381"/>
                  <a:pt x="12874" y="3274"/>
                </a:cubicBezTo>
              </a:path>
              <a:path w="4664" h="1613">
                <a:moveTo>
                  <a:pt x="12675" y="2778"/>
                </a:moveTo>
                <a:cubicBezTo>
                  <a:pt x="12515" y="2956"/>
                  <a:pt x="12324" y="3239"/>
                  <a:pt x="12601" y="3448"/>
                </a:cubicBezTo>
                <a:cubicBezTo>
                  <a:pt x="12823" y="3616"/>
                  <a:pt x="13106" y="3247"/>
                  <a:pt x="13097" y="3051"/>
                </a:cubicBezTo>
                <a:cubicBezTo>
                  <a:pt x="13037" y="2932"/>
                  <a:pt x="13001" y="2886"/>
                  <a:pt x="12898" y="2853"/>
                </a:cubicBezTo>
              </a:path>
              <a:path w="4664" h="1613">
                <a:moveTo>
                  <a:pt x="12874" y="3051"/>
                </a:moveTo>
                <a:cubicBezTo>
                  <a:pt x="12888" y="3032"/>
                  <a:pt x="12919" y="2981"/>
                  <a:pt x="12898" y="2952"/>
                </a:cubicBezTo>
                <a:cubicBezTo>
                  <a:pt x="12826" y="2849"/>
                  <a:pt x="12611" y="2910"/>
                  <a:pt x="12576" y="3026"/>
                </a:cubicBezTo>
                <a:cubicBezTo>
                  <a:pt x="12584" y="3051"/>
                  <a:pt x="12593" y="3076"/>
                  <a:pt x="12601" y="3101"/>
                </a:cubicBezTo>
                <a:cubicBezTo>
                  <a:pt x="12735" y="3177"/>
                  <a:pt x="12912" y="3173"/>
                  <a:pt x="12948" y="2952"/>
                </a:cubicBezTo>
                <a:cubicBezTo>
                  <a:pt x="12929" y="2894"/>
                  <a:pt x="12920" y="2888"/>
                  <a:pt x="12923" y="2853"/>
                </a:cubicBezTo>
                <a:cubicBezTo>
                  <a:pt x="12923" y="3022"/>
                  <a:pt x="12927" y="3183"/>
                  <a:pt x="12948" y="3349"/>
                </a:cubicBezTo>
                <a:cubicBezTo>
                  <a:pt x="12956" y="3415"/>
                  <a:pt x="12923" y="3299"/>
                  <a:pt x="12923" y="3299"/>
                </a:cubicBezTo>
              </a:path>
              <a:path w="4664" h="1613">
                <a:moveTo>
                  <a:pt x="12774" y="2654"/>
                </a:moveTo>
                <a:cubicBezTo>
                  <a:pt x="12445" y="2801"/>
                  <a:pt x="12317" y="2965"/>
                  <a:pt x="12477" y="3349"/>
                </a:cubicBezTo>
                <a:cubicBezTo>
                  <a:pt x="12623" y="3698"/>
                  <a:pt x="13022" y="3579"/>
                  <a:pt x="13171" y="3299"/>
                </a:cubicBezTo>
                <a:cubicBezTo>
                  <a:pt x="13308" y="3041"/>
                  <a:pt x="13172" y="2878"/>
                  <a:pt x="12973" y="27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60960" y="169920"/>
            <a:ext cx="2305080" cy="1054080"/>
          </a:xfrm>
          <a:custGeom>
            <a:avLst/>
            <a:gdLst/>
            <a:ahLst/>
            <a:rect l="l" t="t" r="r" b="b"/>
            <a:pathLst>
              <a:path w="6401" h="2928">
                <a:moveTo>
                  <a:pt x="16570" y="1339"/>
                </a:moveTo>
                <a:cubicBezTo>
                  <a:pt x="16551" y="1315"/>
                  <a:pt x="16538" y="1266"/>
                  <a:pt x="16495" y="1290"/>
                </a:cubicBezTo>
                <a:cubicBezTo>
                  <a:pt x="16431" y="1326"/>
                  <a:pt x="16399" y="1452"/>
                  <a:pt x="16371" y="1513"/>
                </a:cubicBezTo>
                <a:cubicBezTo>
                  <a:pt x="16347" y="1561"/>
                  <a:pt x="16339" y="1575"/>
                  <a:pt x="16346" y="1612"/>
                </a:cubicBezTo>
                <a:cubicBezTo>
                  <a:pt x="16387" y="1642"/>
                  <a:pt x="16440" y="1649"/>
                  <a:pt x="16495" y="1637"/>
                </a:cubicBezTo>
                <a:cubicBezTo>
                  <a:pt x="16570" y="1621"/>
                  <a:pt x="16648" y="1516"/>
                  <a:pt x="16669" y="1439"/>
                </a:cubicBezTo>
                <a:cubicBezTo>
                  <a:pt x="16671" y="1430"/>
                  <a:pt x="16705" y="1309"/>
                  <a:pt x="16694" y="1290"/>
                </a:cubicBezTo>
                <a:cubicBezTo>
                  <a:pt x="16686" y="1282"/>
                  <a:pt x="16677" y="1273"/>
                  <a:pt x="16669" y="1265"/>
                </a:cubicBezTo>
                <a:cubicBezTo>
                  <a:pt x="16585" y="1315"/>
                  <a:pt x="16573" y="1388"/>
                  <a:pt x="16570" y="1488"/>
                </a:cubicBezTo>
                <a:cubicBezTo>
                  <a:pt x="16568" y="1558"/>
                  <a:pt x="16554" y="1610"/>
                  <a:pt x="16594" y="1637"/>
                </a:cubicBezTo>
                <a:cubicBezTo>
                  <a:pt x="16709" y="1672"/>
                  <a:pt x="16719" y="1666"/>
                  <a:pt x="16793" y="1563"/>
                </a:cubicBezTo>
                <a:cubicBezTo>
                  <a:pt x="16838" y="1500"/>
                  <a:pt x="16894" y="1414"/>
                  <a:pt x="16917" y="1339"/>
                </a:cubicBezTo>
                <a:cubicBezTo>
                  <a:pt x="16929" y="1300"/>
                  <a:pt x="16900" y="1273"/>
                  <a:pt x="16892" y="1240"/>
                </a:cubicBezTo>
                <a:cubicBezTo>
                  <a:pt x="16840" y="1266"/>
                  <a:pt x="16812" y="1325"/>
                  <a:pt x="16793" y="1389"/>
                </a:cubicBezTo>
                <a:cubicBezTo>
                  <a:pt x="16762" y="1491"/>
                  <a:pt x="16757" y="1567"/>
                  <a:pt x="16793" y="1662"/>
                </a:cubicBezTo>
                <a:cubicBezTo>
                  <a:pt x="16888" y="1662"/>
                  <a:pt x="16941" y="1677"/>
                  <a:pt x="16991" y="1588"/>
                </a:cubicBezTo>
                <a:cubicBezTo>
                  <a:pt x="17029" y="1519"/>
                  <a:pt x="17070" y="1433"/>
                  <a:pt x="17090" y="1364"/>
                </a:cubicBezTo>
                <a:cubicBezTo>
                  <a:pt x="17090" y="1356"/>
                  <a:pt x="17090" y="1347"/>
                  <a:pt x="17090" y="1339"/>
                </a:cubicBezTo>
                <a:cubicBezTo>
                  <a:pt x="17011" y="1339"/>
                  <a:pt x="17020" y="1328"/>
                  <a:pt x="16966" y="1414"/>
                </a:cubicBezTo>
                <a:cubicBezTo>
                  <a:pt x="16924" y="1481"/>
                  <a:pt x="16935" y="1522"/>
                  <a:pt x="16942" y="1588"/>
                </a:cubicBezTo>
                <a:cubicBezTo>
                  <a:pt x="16952" y="1676"/>
                  <a:pt x="17002" y="1699"/>
                  <a:pt x="17090" y="1712"/>
                </a:cubicBezTo>
                <a:cubicBezTo>
                  <a:pt x="17177" y="1725"/>
                  <a:pt x="17247" y="1644"/>
                  <a:pt x="17264" y="1563"/>
                </a:cubicBezTo>
                <a:cubicBezTo>
                  <a:pt x="17277" y="1501"/>
                  <a:pt x="17274" y="1386"/>
                  <a:pt x="17239" y="1339"/>
                </a:cubicBezTo>
                <a:cubicBezTo>
                  <a:pt x="17190" y="1351"/>
                  <a:pt x="17167" y="1394"/>
                  <a:pt x="17140" y="1439"/>
                </a:cubicBezTo>
                <a:cubicBezTo>
                  <a:pt x="17089" y="1523"/>
                  <a:pt x="17126" y="1581"/>
                  <a:pt x="17140" y="1662"/>
                </a:cubicBezTo>
                <a:cubicBezTo>
                  <a:pt x="17152" y="1731"/>
                  <a:pt x="17164" y="1742"/>
                  <a:pt x="17239" y="1761"/>
                </a:cubicBezTo>
                <a:cubicBezTo>
                  <a:pt x="17278" y="1771"/>
                  <a:pt x="17304" y="1751"/>
                  <a:pt x="17338" y="1736"/>
                </a:cubicBezTo>
              </a:path>
              <a:path w="6401" h="2928">
                <a:moveTo>
                  <a:pt x="16148" y="1364"/>
                </a:moveTo>
                <a:cubicBezTo>
                  <a:pt x="16207" y="1364"/>
                  <a:pt x="16241" y="1369"/>
                  <a:pt x="16297" y="1389"/>
                </a:cubicBezTo>
                <a:cubicBezTo>
                  <a:pt x="16386" y="1420"/>
                  <a:pt x="16458" y="1395"/>
                  <a:pt x="16545" y="1414"/>
                </a:cubicBezTo>
                <a:cubicBezTo>
                  <a:pt x="16604" y="1427"/>
                  <a:pt x="16654" y="1439"/>
                  <a:pt x="16718" y="1439"/>
                </a:cubicBezTo>
                <a:cubicBezTo>
                  <a:pt x="16791" y="1439"/>
                  <a:pt x="16848" y="1476"/>
                  <a:pt x="16917" y="1488"/>
                </a:cubicBezTo>
                <a:cubicBezTo>
                  <a:pt x="16987" y="1500"/>
                  <a:pt x="17031" y="1481"/>
                  <a:pt x="17090" y="1488"/>
                </a:cubicBezTo>
                <a:cubicBezTo>
                  <a:pt x="17144" y="1494"/>
                  <a:pt x="17188" y="1504"/>
                  <a:pt x="17239" y="1513"/>
                </a:cubicBezTo>
                <a:cubicBezTo>
                  <a:pt x="17329" y="1528"/>
                  <a:pt x="17371" y="1513"/>
                  <a:pt x="17462" y="1513"/>
                </a:cubicBezTo>
                <a:cubicBezTo>
                  <a:pt x="17387" y="1536"/>
                  <a:pt x="17313" y="1520"/>
                  <a:pt x="17239" y="1538"/>
                </a:cubicBezTo>
                <a:cubicBezTo>
                  <a:pt x="17175" y="1553"/>
                  <a:pt x="17134" y="1563"/>
                  <a:pt x="17066" y="1563"/>
                </a:cubicBezTo>
                <a:cubicBezTo>
                  <a:pt x="16984" y="1563"/>
                  <a:pt x="16911" y="1574"/>
                  <a:pt x="16842" y="1588"/>
                </a:cubicBezTo>
                <a:cubicBezTo>
                  <a:pt x="16683" y="1620"/>
                  <a:pt x="16497" y="1583"/>
                  <a:pt x="16346" y="1612"/>
                </a:cubicBezTo>
                <a:cubicBezTo>
                  <a:pt x="16278" y="1625"/>
                  <a:pt x="16193" y="1612"/>
                  <a:pt x="16123" y="1612"/>
                </a:cubicBezTo>
                <a:cubicBezTo>
                  <a:pt x="16117" y="1681"/>
                  <a:pt x="16103" y="1743"/>
                  <a:pt x="16098" y="1811"/>
                </a:cubicBezTo>
                <a:cubicBezTo>
                  <a:pt x="16098" y="1819"/>
                  <a:pt x="16098" y="1828"/>
                  <a:pt x="16098" y="1836"/>
                </a:cubicBezTo>
                <a:cubicBezTo>
                  <a:pt x="16075" y="1778"/>
                  <a:pt x="16046" y="1723"/>
                  <a:pt x="16024" y="1662"/>
                </a:cubicBezTo>
                <a:cubicBezTo>
                  <a:pt x="15995" y="1582"/>
                  <a:pt x="15953" y="1503"/>
                  <a:pt x="15974" y="1414"/>
                </a:cubicBezTo>
                <a:cubicBezTo>
                  <a:pt x="15976" y="1404"/>
                  <a:pt x="16019" y="1292"/>
                  <a:pt x="16024" y="1290"/>
                </a:cubicBezTo>
                <a:cubicBezTo>
                  <a:pt x="16059" y="1273"/>
                  <a:pt x="16122" y="1299"/>
                  <a:pt x="16148" y="1315"/>
                </a:cubicBezTo>
                <a:cubicBezTo>
                  <a:pt x="16182" y="1335"/>
                  <a:pt x="16157" y="1368"/>
                  <a:pt x="16173" y="1414"/>
                </a:cubicBezTo>
                <a:cubicBezTo>
                  <a:pt x="16173" y="1442"/>
                  <a:pt x="16175" y="1452"/>
                  <a:pt x="16197" y="1463"/>
                </a:cubicBezTo>
              </a:path>
              <a:path w="6401" h="2928">
                <a:moveTo>
                  <a:pt x="16272" y="1563"/>
                </a:moveTo>
                <a:cubicBezTo>
                  <a:pt x="16249" y="1525"/>
                  <a:pt x="16247" y="1511"/>
                  <a:pt x="16247" y="1463"/>
                </a:cubicBezTo>
                <a:cubicBezTo>
                  <a:pt x="16246" y="1468"/>
                  <a:pt x="16230" y="1672"/>
                  <a:pt x="16272" y="1612"/>
                </a:cubicBezTo>
                <a:cubicBezTo>
                  <a:pt x="16280" y="1587"/>
                  <a:pt x="16289" y="1563"/>
                  <a:pt x="16297" y="1538"/>
                </a:cubicBezTo>
              </a:path>
              <a:path w="6401" h="2928">
                <a:moveTo>
                  <a:pt x="17462" y="1786"/>
                </a:moveTo>
                <a:cubicBezTo>
                  <a:pt x="17421" y="1769"/>
                  <a:pt x="17363" y="1781"/>
                  <a:pt x="17314" y="1811"/>
                </a:cubicBezTo>
                <a:cubicBezTo>
                  <a:pt x="17289" y="1826"/>
                  <a:pt x="17249" y="1884"/>
                  <a:pt x="17239" y="1910"/>
                </a:cubicBezTo>
                <a:cubicBezTo>
                  <a:pt x="17230" y="1935"/>
                  <a:pt x="17196" y="1970"/>
                  <a:pt x="17190" y="1984"/>
                </a:cubicBezTo>
                <a:cubicBezTo>
                  <a:pt x="17172" y="2026"/>
                  <a:pt x="17196" y="2089"/>
                  <a:pt x="17239" y="2108"/>
                </a:cubicBezTo>
                <a:cubicBezTo>
                  <a:pt x="17289" y="2130"/>
                  <a:pt x="17363" y="2088"/>
                  <a:pt x="17413" y="2084"/>
                </a:cubicBezTo>
                <a:cubicBezTo>
                  <a:pt x="17464" y="2080"/>
                  <a:pt x="17515" y="2026"/>
                  <a:pt x="17562" y="2009"/>
                </a:cubicBezTo>
                <a:cubicBezTo>
                  <a:pt x="17607" y="1992"/>
                  <a:pt x="17661" y="1996"/>
                  <a:pt x="17686" y="1984"/>
                </a:cubicBezTo>
                <a:cubicBezTo>
                  <a:pt x="17748" y="1953"/>
                  <a:pt x="17702" y="1994"/>
                  <a:pt x="17735" y="1935"/>
                </a:cubicBezTo>
                <a:cubicBezTo>
                  <a:pt x="17764" y="1884"/>
                  <a:pt x="17760" y="1848"/>
                  <a:pt x="17760" y="1786"/>
                </a:cubicBezTo>
                <a:cubicBezTo>
                  <a:pt x="17760" y="1775"/>
                  <a:pt x="17745" y="1695"/>
                  <a:pt x="17735" y="1687"/>
                </a:cubicBezTo>
                <a:cubicBezTo>
                  <a:pt x="17698" y="1656"/>
                  <a:pt x="17498" y="1693"/>
                  <a:pt x="17462" y="1712"/>
                </a:cubicBezTo>
                <a:cubicBezTo>
                  <a:pt x="17440" y="1734"/>
                  <a:pt x="17435" y="1742"/>
                  <a:pt x="17413" y="1736"/>
                </a:cubicBezTo>
              </a:path>
              <a:path w="6401" h="2928">
                <a:moveTo>
                  <a:pt x="17338" y="2183"/>
                </a:moveTo>
                <a:cubicBezTo>
                  <a:pt x="17359" y="2218"/>
                  <a:pt x="17402" y="2292"/>
                  <a:pt x="17413" y="2332"/>
                </a:cubicBezTo>
                <a:cubicBezTo>
                  <a:pt x="17426" y="2378"/>
                  <a:pt x="17438" y="2430"/>
                  <a:pt x="17438" y="2480"/>
                </a:cubicBezTo>
                <a:cubicBezTo>
                  <a:pt x="17438" y="2508"/>
                  <a:pt x="17450" y="2604"/>
                  <a:pt x="17462" y="2629"/>
                </a:cubicBezTo>
                <a:cubicBezTo>
                  <a:pt x="17474" y="2653"/>
                  <a:pt x="17564" y="2677"/>
                  <a:pt x="17587" y="2679"/>
                </a:cubicBezTo>
                <a:cubicBezTo>
                  <a:pt x="17654" y="2684"/>
                  <a:pt x="17714" y="2654"/>
                  <a:pt x="17785" y="2654"/>
                </a:cubicBezTo>
                <a:cubicBezTo>
                  <a:pt x="17810" y="2654"/>
                  <a:pt x="17818" y="2654"/>
                  <a:pt x="17835" y="2654"/>
                </a:cubicBezTo>
                <a:cubicBezTo>
                  <a:pt x="17835" y="2558"/>
                  <a:pt x="17820" y="2474"/>
                  <a:pt x="17810" y="2381"/>
                </a:cubicBezTo>
                <a:cubicBezTo>
                  <a:pt x="17802" y="2309"/>
                  <a:pt x="17815" y="2223"/>
                  <a:pt x="17785" y="2158"/>
                </a:cubicBezTo>
                <a:cubicBezTo>
                  <a:pt x="17769" y="2124"/>
                  <a:pt x="17762" y="2093"/>
                  <a:pt x="17735" y="2084"/>
                </a:cubicBezTo>
              </a:path>
              <a:path w="6401" h="2928">
                <a:moveTo>
                  <a:pt x="17289" y="2183"/>
                </a:moveTo>
                <a:cubicBezTo>
                  <a:pt x="17413" y="2183"/>
                  <a:pt x="17516" y="2155"/>
                  <a:pt x="17636" y="2133"/>
                </a:cubicBezTo>
                <a:cubicBezTo>
                  <a:pt x="17644" y="2133"/>
                  <a:pt x="17653" y="2133"/>
                  <a:pt x="17661" y="2133"/>
                </a:cubicBezTo>
              </a:path>
              <a:path w="6401" h="2928">
                <a:moveTo>
                  <a:pt x="17314" y="2406"/>
                </a:moveTo>
                <a:cubicBezTo>
                  <a:pt x="17419" y="2395"/>
                  <a:pt x="17511" y="2358"/>
                  <a:pt x="17611" y="2332"/>
                </a:cubicBezTo>
                <a:cubicBezTo>
                  <a:pt x="17619" y="2332"/>
                  <a:pt x="17628" y="2332"/>
                  <a:pt x="17636" y="2332"/>
                </a:cubicBezTo>
              </a:path>
              <a:path w="6401" h="2928">
                <a:moveTo>
                  <a:pt x="17537" y="2406"/>
                </a:moveTo>
                <a:cubicBezTo>
                  <a:pt x="17636" y="2419"/>
                  <a:pt x="17661" y="2420"/>
                  <a:pt x="17760" y="2406"/>
                </a:cubicBezTo>
              </a:path>
              <a:path w="6401" h="2928">
                <a:moveTo>
                  <a:pt x="17512" y="2555"/>
                </a:moveTo>
                <a:cubicBezTo>
                  <a:pt x="17578" y="2555"/>
                  <a:pt x="17595" y="2555"/>
                  <a:pt x="17636" y="2555"/>
                </a:cubicBezTo>
              </a:path>
              <a:path w="6401" h="2928">
                <a:moveTo>
                  <a:pt x="17512" y="2629"/>
                </a:moveTo>
                <a:cubicBezTo>
                  <a:pt x="17594" y="2649"/>
                  <a:pt x="17615" y="2665"/>
                  <a:pt x="17686" y="2629"/>
                </a:cubicBezTo>
              </a:path>
              <a:path w="6401" h="2928">
                <a:moveTo>
                  <a:pt x="17562" y="2183"/>
                </a:moveTo>
                <a:cubicBezTo>
                  <a:pt x="17629" y="2160"/>
                  <a:pt x="17647" y="2155"/>
                  <a:pt x="17686" y="2133"/>
                </a:cubicBezTo>
              </a:path>
              <a:path w="6401" h="2928">
                <a:moveTo>
                  <a:pt x="17835" y="2208"/>
                </a:moveTo>
                <a:cubicBezTo>
                  <a:pt x="17874" y="2223"/>
                  <a:pt x="17888" y="2236"/>
                  <a:pt x="17934" y="2158"/>
                </a:cubicBezTo>
                <a:cubicBezTo>
                  <a:pt x="17987" y="2068"/>
                  <a:pt x="18059" y="2029"/>
                  <a:pt x="18132" y="1960"/>
                </a:cubicBezTo>
                <a:cubicBezTo>
                  <a:pt x="18205" y="1891"/>
                  <a:pt x="18273" y="1818"/>
                  <a:pt x="18331" y="1736"/>
                </a:cubicBezTo>
                <a:cubicBezTo>
                  <a:pt x="18379" y="1669"/>
                  <a:pt x="18446" y="1568"/>
                  <a:pt x="18504" y="1513"/>
                </a:cubicBezTo>
                <a:cubicBezTo>
                  <a:pt x="18574" y="1446"/>
                  <a:pt x="18670" y="1398"/>
                  <a:pt x="18728" y="1315"/>
                </a:cubicBezTo>
                <a:cubicBezTo>
                  <a:pt x="18752" y="1281"/>
                  <a:pt x="18772" y="1265"/>
                  <a:pt x="18802" y="1240"/>
                </a:cubicBezTo>
                <a:cubicBezTo>
                  <a:pt x="18816" y="1228"/>
                  <a:pt x="18834" y="1194"/>
                  <a:pt x="18852" y="1166"/>
                </a:cubicBezTo>
                <a:cubicBezTo>
                  <a:pt x="18875" y="1129"/>
                  <a:pt x="18891" y="1080"/>
                  <a:pt x="18926" y="1042"/>
                </a:cubicBezTo>
                <a:cubicBezTo>
                  <a:pt x="18941" y="1026"/>
                  <a:pt x="18937" y="1009"/>
                  <a:pt x="18951" y="992"/>
                </a:cubicBezTo>
              </a:path>
              <a:path w="6401" h="2928">
                <a:moveTo>
                  <a:pt x="18976" y="918"/>
                </a:moveTo>
                <a:cubicBezTo>
                  <a:pt x="19065" y="849"/>
                  <a:pt x="19017" y="966"/>
                  <a:pt x="19000" y="1017"/>
                </a:cubicBezTo>
                <a:cubicBezTo>
                  <a:pt x="18814" y="1092"/>
                  <a:pt x="18879" y="868"/>
                  <a:pt x="18951" y="744"/>
                </a:cubicBezTo>
                <a:cubicBezTo>
                  <a:pt x="19041" y="589"/>
                  <a:pt x="19120" y="853"/>
                  <a:pt x="19075" y="943"/>
                </a:cubicBezTo>
                <a:cubicBezTo>
                  <a:pt x="19009" y="1074"/>
                  <a:pt x="18914" y="857"/>
                  <a:pt x="18951" y="769"/>
                </a:cubicBezTo>
                <a:cubicBezTo>
                  <a:pt x="19015" y="616"/>
                  <a:pt x="19107" y="809"/>
                  <a:pt x="19050" y="893"/>
                </a:cubicBezTo>
                <a:cubicBezTo>
                  <a:pt x="18978" y="1000"/>
                  <a:pt x="18866" y="782"/>
                  <a:pt x="19000" y="670"/>
                </a:cubicBezTo>
                <a:cubicBezTo>
                  <a:pt x="19084" y="600"/>
                  <a:pt x="19124" y="839"/>
                  <a:pt x="19075" y="893"/>
                </a:cubicBezTo>
                <a:cubicBezTo>
                  <a:pt x="18943" y="1039"/>
                  <a:pt x="19020" y="713"/>
                  <a:pt x="19050" y="670"/>
                </a:cubicBezTo>
                <a:cubicBezTo>
                  <a:pt x="19067" y="670"/>
                  <a:pt x="19083" y="670"/>
                  <a:pt x="19100" y="670"/>
                </a:cubicBezTo>
                <a:cubicBezTo>
                  <a:pt x="19110" y="707"/>
                  <a:pt x="19153" y="967"/>
                  <a:pt x="19025" y="918"/>
                </a:cubicBezTo>
                <a:cubicBezTo>
                  <a:pt x="18930" y="882"/>
                  <a:pt x="19041" y="726"/>
                  <a:pt x="19075" y="794"/>
                </a:cubicBezTo>
                <a:cubicBezTo>
                  <a:pt x="19115" y="873"/>
                  <a:pt x="19061" y="1125"/>
                  <a:pt x="18951" y="992"/>
                </a:cubicBezTo>
                <a:cubicBezTo>
                  <a:pt x="18887" y="915"/>
                  <a:pt x="18962" y="804"/>
                  <a:pt x="19000" y="893"/>
                </a:cubicBezTo>
                <a:cubicBezTo>
                  <a:pt x="19025" y="992"/>
                  <a:pt x="19033" y="1025"/>
                  <a:pt x="19000" y="1091"/>
                </a:cubicBezTo>
                <a:cubicBezTo>
                  <a:pt x="18919" y="1075"/>
                  <a:pt x="18802" y="975"/>
                  <a:pt x="18901" y="868"/>
                </a:cubicBezTo>
                <a:cubicBezTo>
                  <a:pt x="18980" y="782"/>
                  <a:pt x="19042" y="1005"/>
                  <a:pt x="19000" y="1067"/>
                </a:cubicBezTo>
                <a:cubicBezTo>
                  <a:pt x="18888" y="1232"/>
                  <a:pt x="18851" y="988"/>
                  <a:pt x="18926" y="893"/>
                </a:cubicBezTo>
                <a:cubicBezTo>
                  <a:pt x="18959" y="893"/>
                  <a:pt x="18968" y="901"/>
                  <a:pt x="18951" y="943"/>
                </a:cubicBezTo>
              </a:path>
              <a:path w="6401" h="2928">
                <a:moveTo>
                  <a:pt x="15825" y="695"/>
                </a:moveTo>
                <a:cubicBezTo>
                  <a:pt x="15817" y="769"/>
                  <a:pt x="15755" y="993"/>
                  <a:pt x="15801" y="1067"/>
                </a:cubicBezTo>
                <a:cubicBezTo>
                  <a:pt x="15857" y="1157"/>
                  <a:pt x="16045" y="1059"/>
                  <a:pt x="16098" y="1017"/>
                </a:cubicBezTo>
                <a:cubicBezTo>
                  <a:pt x="16098" y="1009"/>
                  <a:pt x="16098" y="1000"/>
                  <a:pt x="16098" y="992"/>
                </a:cubicBezTo>
              </a:path>
              <a:path w="6401" h="2928">
                <a:moveTo>
                  <a:pt x="15900" y="893"/>
                </a:moveTo>
                <a:cubicBezTo>
                  <a:pt x="15958" y="835"/>
                  <a:pt x="16016" y="777"/>
                  <a:pt x="16073" y="719"/>
                </a:cubicBezTo>
              </a:path>
              <a:path w="6401" h="2928">
                <a:moveTo>
                  <a:pt x="15925" y="620"/>
                </a:moveTo>
                <a:cubicBezTo>
                  <a:pt x="15971" y="555"/>
                  <a:pt x="15970" y="556"/>
                  <a:pt x="16049" y="546"/>
                </a:cubicBezTo>
              </a:path>
              <a:path w="6401" h="2928">
                <a:moveTo>
                  <a:pt x="16321" y="645"/>
                </a:moveTo>
                <a:cubicBezTo>
                  <a:pt x="16321" y="769"/>
                  <a:pt x="16321" y="893"/>
                  <a:pt x="16321" y="1017"/>
                </a:cubicBezTo>
                <a:cubicBezTo>
                  <a:pt x="16321" y="876"/>
                  <a:pt x="16342" y="736"/>
                  <a:pt x="16346" y="595"/>
                </a:cubicBezTo>
                <a:cubicBezTo>
                  <a:pt x="16346" y="579"/>
                  <a:pt x="16346" y="562"/>
                  <a:pt x="16346" y="546"/>
                </a:cubicBezTo>
                <a:cubicBezTo>
                  <a:pt x="16424" y="592"/>
                  <a:pt x="16469" y="699"/>
                  <a:pt x="16495" y="794"/>
                </a:cubicBezTo>
                <a:cubicBezTo>
                  <a:pt x="16520" y="883"/>
                  <a:pt x="16564" y="601"/>
                  <a:pt x="16570" y="571"/>
                </a:cubicBezTo>
                <a:cubicBezTo>
                  <a:pt x="16589" y="513"/>
                  <a:pt x="16597" y="506"/>
                  <a:pt x="16594" y="471"/>
                </a:cubicBezTo>
                <a:cubicBezTo>
                  <a:pt x="16648" y="489"/>
                  <a:pt x="16657" y="638"/>
                  <a:pt x="16669" y="695"/>
                </a:cubicBezTo>
                <a:cubicBezTo>
                  <a:pt x="16690" y="794"/>
                  <a:pt x="16688" y="824"/>
                  <a:pt x="16743" y="893"/>
                </a:cubicBezTo>
              </a:path>
              <a:path w="6401" h="2928">
                <a:moveTo>
                  <a:pt x="16073" y="1265"/>
                </a:moveTo>
                <a:cubicBezTo>
                  <a:pt x="15977" y="1297"/>
                  <a:pt x="15875" y="1304"/>
                  <a:pt x="15776" y="1339"/>
                </a:cubicBezTo>
                <a:cubicBezTo>
                  <a:pt x="15657" y="1381"/>
                  <a:pt x="15505" y="1441"/>
                  <a:pt x="15404" y="1513"/>
                </a:cubicBezTo>
                <a:cubicBezTo>
                  <a:pt x="15301" y="1586"/>
                  <a:pt x="15173" y="1666"/>
                  <a:pt x="15056" y="1736"/>
                </a:cubicBezTo>
                <a:cubicBezTo>
                  <a:pt x="15005" y="1767"/>
                  <a:pt x="14903" y="1816"/>
                  <a:pt x="14883" y="1860"/>
                </a:cubicBezTo>
                <a:cubicBezTo>
                  <a:pt x="14883" y="1868"/>
                  <a:pt x="14883" y="1877"/>
                  <a:pt x="14883" y="1885"/>
                </a:cubicBezTo>
              </a:path>
              <a:path w="6401" h="2928">
                <a:moveTo>
                  <a:pt x="17239" y="1538"/>
                </a:moveTo>
                <a:cubicBezTo>
                  <a:pt x="17209" y="1618"/>
                  <a:pt x="17199" y="1703"/>
                  <a:pt x="17165" y="1786"/>
                </a:cubicBezTo>
                <a:cubicBezTo>
                  <a:pt x="17132" y="1866"/>
                  <a:pt x="17043" y="1946"/>
                  <a:pt x="16966" y="1984"/>
                </a:cubicBezTo>
                <a:cubicBezTo>
                  <a:pt x="16881" y="2027"/>
                  <a:pt x="16805" y="2039"/>
                  <a:pt x="16718" y="2059"/>
                </a:cubicBezTo>
                <a:cubicBezTo>
                  <a:pt x="16581" y="2091"/>
                  <a:pt x="16493" y="2154"/>
                  <a:pt x="16346" y="2158"/>
                </a:cubicBezTo>
                <a:cubicBezTo>
                  <a:pt x="16211" y="2162"/>
                  <a:pt x="16068" y="2150"/>
                  <a:pt x="15949" y="2133"/>
                </a:cubicBezTo>
                <a:cubicBezTo>
                  <a:pt x="15875" y="2122"/>
                  <a:pt x="15816" y="2140"/>
                  <a:pt x="15751" y="2133"/>
                </a:cubicBezTo>
                <a:cubicBezTo>
                  <a:pt x="15670" y="2124"/>
                  <a:pt x="15582" y="2172"/>
                  <a:pt x="15503" y="2183"/>
                </a:cubicBezTo>
                <a:cubicBezTo>
                  <a:pt x="15406" y="2197"/>
                  <a:pt x="15363" y="2249"/>
                  <a:pt x="15280" y="2282"/>
                </a:cubicBezTo>
                <a:cubicBezTo>
                  <a:pt x="15255" y="2282"/>
                  <a:pt x="15247" y="2282"/>
                  <a:pt x="15230" y="2282"/>
                </a:cubicBezTo>
              </a:path>
              <a:path w="6401" h="2928">
                <a:moveTo>
                  <a:pt x="18207" y="2505"/>
                </a:moveTo>
                <a:cubicBezTo>
                  <a:pt x="18256" y="2640"/>
                  <a:pt x="18314" y="2731"/>
                  <a:pt x="18405" y="2853"/>
                </a:cubicBezTo>
                <a:cubicBezTo>
                  <a:pt x="18515" y="3000"/>
                  <a:pt x="18606" y="3123"/>
                  <a:pt x="18777" y="3200"/>
                </a:cubicBezTo>
                <a:cubicBezTo>
                  <a:pt x="18832" y="3225"/>
                  <a:pt x="18924" y="3262"/>
                  <a:pt x="18976" y="3274"/>
                </a:cubicBezTo>
                <a:cubicBezTo>
                  <a:pt x="19027" y="3286"/>
                  <a:pt x="19081" y="3300"/>
                  <a:pt x="19124" y="3324"/>
                </a:cubicBezTo>
                <a:cubicBezTo>
                  <a:pt x="19152" y="3352"/>
                  <a:pt x="19166" y="3361"/>
                  <a:pt x="19199" y="3349"/>
                </a:cubicBezTo>
                <a:cubicBezTo>
                  <a:pt x="19217" y="3303"/>
                  <a:pt x="19188" y="3288"/>
                  <a:pt x="19174" y="3200"/>
                </a:cubicBezTo>
                <a:cubicBezTo>
                  <a:pt x="19170" y="3174"/>
                  <a:pt x="19100" y="2953"/>
                  <a:pt x="19149" y="3101"/>
                </a:cubicBezTo>
                <a:cubicBezTo>
                  <a:pt x="19170" y="3129"/>
                  <a:pt x="19289" y="3267"/>
                  <a:pt x="19224" y="3324"/>
                </a:cubicBezTo>
                <a:cubicBezTo>
                  <a:pt x="19150" y="3389"/>
                  <a:pt x="18973" y="3385"/>
                  <a:pt x="18876" y="3398"/>
                </a:cubicBezTo>
                <a:cubicBezTo>
                  <a:pt x="18868" y="3398"/>
                  <a:pt x="18860" y="3398"/>
                  <a:pt x="18852" y="3398"/>
                </a:cubicBezTo>
              </a:path>
              <a:path w="6401" h="2928">
                <a:moveTo>
                  <a:pt x="14610" y="1017"/>
                </a:moveTo>
                <a:cubicBezTo>
                  <a:pt x="14711" y="979"/>
                  <a:pt x="14897" y="907"/>
                  <a:pt x="14833" y="1116"/>
                </a:cubicBezTo>
                <a:cubicBezTo>
                  <a:pt x="14817" y="1141"/>
                  <a:pt x="14800" y="1166"/>
                  <a:pt x="14784" y="1191"/>
                </a:cubicBezTo>
                <a:cubicBezTo>
                  <a:pt x="14776" y="1191"/>
                  <a:pt x="14767" y="1191"/>
                  <a:pt x="14759" y="1191"/>
                </a:cubicBezTo>
                <a:cubicBezTo>
                  <a:pt x="14819" y="1203"/>
                  <a:pt x="14956" y="1217"/>
                  <a:pt x="14908" y="1315"/>
                </a:cubicBezTo>
                <a:cubicBezTo>
                  <a:pt x="14816" y="1505"/>
                  <a:pt x="14677" y="1398"/>
                  <a:pt x="14610" y="1290"/>
                </a:cubicBezTo>
              </a:path>
              <a:path w="6401" h="2928">
                <a:moveTo>
                  <a:pt x="14560" y="843"/>
                </a:moveTo>
                <a:cubicBezTo>
                  <a:pt x="14436" y="1003"/>
                  <a:pt x="14308" y="1254"/>
                  <a:pt x="14511" y="1439"/>
                </a:cubicBezTo>
                <a:cubicBezTo>
                  <a:pt x="14665" y="1580"/>
                  <a:pt x="15101" y="1521"/>
                  <a:pt x="15156" y="1290"/>
                </a:cubicBezTo>
                <a:cubicBezTo>
                  <a:pt x="15198" y="1116"/>
                  <a:pt x="15039" y="1022"/>
                  <a:pt x="14932" y="943"/>
                </a:cubicBezTo>
              </a:path>
              <a:path w="6401" h="2928">
                <a:moveTo>
                  <a:pt x="14684" y="1042"/>
                </a:moveTo>
                <a:cubicBezTo>
                  <a:pt x="14689" y="1021"/>
                  <a:pt x="14754" y="947"/>
                  <a:pt x="14709" y="967"/>
                </a:cubicBezTo>
                <a:cubicBezTo>
                  <a:pt x="14613" y="1009"/>
                  <a:pt x="14342" y="1113"/>
                  <a:pt x="14362" y="1191"/>
                </a:cubicBezTo>
                <a:cubicBezTo>
                  <a:pt x="14541" y="1080"/>
                  <a:pt x="14705" y="936"/>
                  <a:pt x="14908" y="868"/>
                </a:cubicBezTo>
                <a:cubicBezTo>
                  <a:pt x="15088" y="808"/>
                  <a:pt x="14621" y="1114"/>
                  <a:pt x="14461" y="1215"/>
                </a:cubicBezTo>
                <a:cubicBezTo>
                  <a:pt x="14660" y="1112"/>
                  <a:pt x="14858" y="968"/>
                  <a:pt x="15056" y="868"/>
                </a:cubicBezTo>
                <a:cubicBezTo>
                  <a:pt x="15079" y="856"/>
                  <a:pt x="14769" y="1170"/>
                  <a:pt x="14709" y="1215"/>
                </a:cubicBezTo>
                <a:cubicBezTo>
                  <a:pt x="14676" y="1240"/>
                  <a:pt x="14643" y="1265"/>
                  <a:pt x="14610" y="1290"/>
                </a:cubicBezTo>
                <a:cubicBezTo>
                  <a:pt x="14633" y="1338"/>
                  <a:pt x="14942" y="1169"/>
                  <a:pt x="15056" y="1116"/>
                </a:cubicBezTo>
                <a:cubicBezTo>
                  <a:pt x="15097" y="1096"/>
                  <a:pt x="15113" y="1077"/>
                  <a:pt x="15106" y="1116"/>
                </a:cubicBezTo>
                <a:cubicBezTo>
                  <a:pt x="15039" y="1171"/>
                  <a:pt x="14671" y="1351"/>
                  <a:pt x="14660" y="1414"/>
                </a:cubicBezTo>
                <a:cubicBezTo>
                  <a:pt x="14676" y="1422"/>
                  <a:pt x="14693" y="1431"/>
                  <a:pt x="14709" y="1439"/>
                </a:cubicBezTo>
                <a:cubicBezTo>
                  <a:pt x="14768" y="1425"/>
                  <a:pt x="15020" y="1353"/>
                  <a:pt x="15007" y="1364"/>
                </a:cubicBezTo>
                <a:cubicBezTo>
                  <a:pt x="14908" y="1430"/>
                  <a:pt x="14858" y="1463"/>
                  <a:pt x="14784" y="1513"/>
                </a:cubicBezTo>
              </a:path>
              <a:path w="6401" h="2928">
                <a:moveTo>
                  <a:pt x="20017" y="2679"/>
                </a:moveTo>
                <a:cubicBezTo>
                  <a:pt x="20017" y="2630"/>
                  <a:pt x="20006" y="2620"/>
                  <a:pt x="19993" y="2580"/>
                </a:cubicBezTo>
                <a:cubicBezTo>
                  <a:pt x="19981" y="2544"/>
                  <a:pt x="19976" y="2520"/>
                  <a:pt x="19968" y="2505"/>
                </a:cubicBezTo>
                <a:cubicBezTo>
                  <a:pt x="19968" y="2497"/>
                  <a:pt x="19968" y="2488"/>
                  <a:pt x="19968" y="2480"/>
                </a:cubicBezTo>
                <a:cubicBezTo>
                  <a:pt x="19999" y="2605"/>
                  <a:pt x="19948" y="2805"/>
                  <a:pt x="19943" y="2952"/>
                </a:cubicBezTo>
                <a:cubicBezTo>
                  <a:pt x="19941" y="3016"/>
                  <a:pt x="19989" y="2863"/>
                  <a:pt x="19993" y="2853"/>
                </a:cubicBezTo>
              </a:path>
              <a:path w="6401" h="2928">
                <a:moveTo>
                  <a:pt x="20340" y="2431"/>
                </a:moveTo>
                <a:cubicBezTo>
                  <a:pt x="20318" y="2365"/>
                  <a:pt x="20244" y="2504"/>
                  <a:pt x="20216" y="2555"/>
                </a:cubicBezTo>
                <a:cubicBezTo>
                  <a:pt x="20167" y="2676"/>
                  <a:pt x="20151" y="2714"/>
                  <a:pt x="20166" y="2803"/>
                </a:cubicBezTo>
                <a:cubicBezTo>
                  <a:pt x="20325" y="2877"/>
                  <a:pt x="20626" y="2802"/>
                  <a:pt x="20613" y="2530"/>
                </a:cubicBezTo>
                <a:cubicBezTo>
                  <a:pt x="20606" y="2387"/>
                  <a:pt x="20343" y="2359"/>
                  <a:pt x="20265" y="2381"/>
                </a:cubicBezTo>
              </a:path>
              <a:path w="6401" h="2928">
                <a:moveTo>
                  <a:pt x="20067" y="2034"/>
                </a:moveTo>
                <a:cubicBezTo>
                  <a:pt x="19741" y="2183"/>
                  <a:pt x="19362" y="2425"/>
                  <a:pt x="19670" y="2853"/>
                </a:cubicBezTo>
                <a:cubicBezTo>
                  <a:pt x="19887" y="3155"/>
                  <a:pt x="20406" y="3150"/>
                  <a:pt x="20613" y="2853"/>
                </a:cubicBezTo>
                <a:cubicBezTo>
                  <a:pt x="20840" y="2528"/>
                  <a:pt x="20743" y="2229"/>
                  <a:pt x="20414" y="2059"/>
                </a:cubicBezTo>
                <a:cubicBezTo>
                  <a:pt x="20364" y="2042"/>
                  <a:pt x="20315" y="2026"/>
                  <a:pt x="20265" y="20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42160" y="419040"/>
            <a:ext cx="347760" cy="349200"/>
          </a:xfrm>
          <a:custGeom>
            <a:avLst/>
            <a:gdLst/>
            <a:ahLst/>
            <a:rect l="l" t="t" r="r" b="b"/>
            <a:pathLst>
              <a:path w="968" h="968">
                <a:moveTo>
                  <a:pt x="22002" y="1463"/>
                </a:moveTo>
                <a:cubicBezTo>
                  <a:pt x="22002" y="1363"/>
                  <a:pt x="21979" y="1612"/>
                  <a:pt x="21977" y="1712"/>
                </a:cubicBezTo>
                <a:cubicBezTo>
                  <a:pt x="21977" y="1811"/>
                  <a:pt x="21977" y="1827"/>
                  <a:pt x="21977" y="1885"/>
                </a:cubicBezTo>
                <a:cubicBezTo>
                  <a:pt x="21977" y="1788"/>
                  <a:pt x="21977" y="1509"/>
                  <a:pt x="21977" y="1513"/>
                </a:cubicBezTo>
                <a:cubicBezTo>
                  <a:pt x="21977" y="1654"/>
                  <a:pt x="21977" y="1794"/>
                  <a:pt x="21977" y="1935"/>
                </a:cubicBezTo>
              </a:path>
              <a:path w="968" h="968">
                <a:moveTo>
                  <a:pt x="21977" y="1315"/>
                </a:moveTo>
                <a:cubicBezTo>
                  <a:pt x="21845" y="1243"/>
                  <a:pt x="21657" y="1183"/>
                  <a:pt x="21555" y="1364"/>
                </a:cubicBezTo>
                <a:cubicBezTo>
                  <a:pt x="21456" y="1540"/>
                  <a:pt x="21483" y="2040"/>
                  <a:pt x="21704" y="2133"/>
                </a:cubicBezTo>
                <a:cubicBezTo>
                  <a:pt x="21922" y="2224"/>
                  <a:pt x="22294" y="1985"/>
                  <a:pt x="22399" y="1811"/>
                </a:cubicBezTo>
                <a:cubicBezTo>
                  <a:pt x="22529" y="1595"/>
                  <a:pt x="22530" y="1309"/>
                  <a:pt x="22275" y="1215"/>
                </a:cubicBezTo>
                <a:cubicBezTo>
                  <a:pt x="21992" y="1111"/>
                  <a:pt x="21724" y="1217"/>
                  <a:pt x="21630" y="1513"/>
                </a:cubicBezTo>
                <a:cubicBezTo>
                  <a:pt x="21613" y="1612"/>
                  <a:pt x="21597" y="1712"/>
                  <a:pt x="21580" y="18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77920" y="1160640"/>
            <a:ext cx="1733400" cy="2214360"/>
          </a:xfrm>
          <a:custGeom>
            <a:avLst/>
            <a:gdLst/>
            <a:ahLst/>
            <a:rect l="l" t="t" r="r" b="b"/>
            <a:pathLst>
              <a:path w="4813" h="6152">
                <a:moveTo>
                  <a:pt x="8037" y="3944"/>
                </a:moveTo>
                <a:cubicBezTo>
                  <a:pt x="8037" y="3898"/>
                  <a:pt x="8015" y="3885"/>
                  <a:pt x="8012" y="3845"/>
                </a:cubicBezTo>
                <a:cubicBezTo>
                  <a:pt x="8007" y="3774"/>
                  <a:pt x="7991" y="3715"/>
                  <a:pt x="7987" y="3646"/>
                </a:cubicBezTo>
                <a:cubicBezTo>
                  <a:pt x="7983" y="3582"/>
                  <a:pt x="7962" y="3544"/>
                  <a:pt x="7962" y="3473"/>
                </a:cubicBezTo>
                <a:cubicBezTo>
                  <a:pt x="7962" y="3405"/>
                  <a:pt x="7969" y="3377"/>
                  <a:pt x="7987" y="3324"/>
                </a:cubicBezTo>
                <a:cubicBezTo>
                  <a:pt x="7993" y="3305"/>
                  <a:pt x="7987" y="3269"/>
                  <a:pt x="7987" y="3249"/>
                </a:cubicBezTo>
                <a:cubicBezTo>
                  <a:pt x="7928" y="3249"/>
                  <a:pt x="7781" y="3274"/>
                  <a:pt x="7764" y="3225"/>
                </a:cubicBezTo>
                <a:cubicBezTo>
                  <a:pt x="7778" y="3292"/>
                  <a:pt x="7824" y="3356"/>
                  <a:pt x="7838" y="3423"/>
                </a:cubicBezTo>
                <a:cubicBezTo>
                  <a:pt x="7853" y="3497"/>
                  <a:pt x="7885" y="3568"/>
                  <a:pt x="7888" y="3646"/>
                </a:cubicBezTo>
                <a:cubicBezTo>
                  <a:pt x="7890" y="3705"/>
                  <a:pt x="7907" y="3847"/>
                  <a:pt x="7938" y="3894"/>
                </a:cubicBezTo>
                <a:cubicBezTo>
                  <a:pt x="7961" y="3929"/>
                  <a:pt x="7925" y="3976"/>
                  <a:pt x="7962" y="3994"/>
                </a:cubicBezTo>
                <a:cubicBezTo>
                  <a:pt x="7985" y="4005"/>
                  <a:pt x="8057" y="3994"/>
                  <a:pt x="8086" y="3994"/>
                </a:cubicBezTo>
              </a:path>
              <a:path w="4813" h="6152">
                <a:moveTo>
                  <a:pt x="7466" y="4118"/>
                </a:moveTo>
                <a:cubicBezTo>
                  <a:pt x="7420" y="4003"/>
                  <a:pt x="7380" y="3888"/>
                  <a:pt x="7342" y="3770"/>
                </a:cubicBezTo>
                <a:cubicBezTo>
                  <a:pt x="7324" y="3715"/>
                  <a:pt x="7274" y="3595"/>
                  <a:pt x="7268" y="3572"/>
                </a:cubicBezTo>
                <a:cubicBezTo>
                  <a:pt x="7265" y="3559"/>
                  <a:pt x="7254" y="3482"/>
                  <a:pt x="7243" y="3473"/>
                </a:cubicBezTo>
                <a:cubicBezTo>
                  <a:pt x="7200" y="3440"/>
                  <a:pt x="7079" y="3487"/>
                  <a:pt x="7045" y="3497"/>
                </a:cubicBezTo>
                <a:cubicBezTo>
                  <a:pt x="7037" y="3497"/>
                  <a:pt x="7028" y="3497"/>
                  <a:pt x="7020" y="3497"/>
                </a:cubicBezTo>
                <a:cubicBezTo>
                  <a:pt x="7078" y="3571"/>
                  <a:pt x="7122" y="3663"/>
                  <a:pt x="7169" y="3746"/>
                </a:cubicBezTo>
                <a:cubicBezTo>
                  <a:pt x="7210" y="3820"/>
                  <a:pt x="7222" y="3932"/>
                  <a:pt x="7268" y="3994"/>
                </a:cubicBezTo>
                <a:cubicBezTo>
                  <a:pt x="7284" y="4016"/>
                  <a:pt x="7312" y="4065"/>
                  <a:pt x="7317" y="4118"/>
                </a:cubicBezTo>
                <a:cubicBezTo>
                  <a:pt x="7319" y="4142"/>
                  <a:pt x="7317" y="4168"/>
                  <a:pt x="7317" y="4192"/>
                </a:cubicBezTo>
                <a:cubicBezTo>
                  <a:pt x="7376" y="4171"/>
                  <a:pt x="7436" y="4131"/>
                  <a:pt x="7491" y="4118"/>
                </a:cubicBezTo>
              </a:path>
              <a:path w="4813" h="6152">
                <a:moveTo>
                  <a:pt x="6821" y="4638"/>
                </a:moveTo>
                <a:cubicBezTo>
                  <a:pt x="6790" y="4545"/>
                  <a:pt x="6736" y="4436"/>
                  <a:pt x="6697" y="4341"/>
                </a:cubicBezTo>
                <a:cubicBezTo>
                  <a:pt x="6655" y="4239"/>
                  <a:pt x="6650" y="4165"/>
                  <a:pt x="6623" y="4068"/>
                </a:cubicBezTo>
                <a:cubicBezTo>
                  <a:pt x="6603" y="4028"/>
                  <a:pt x="6594" y="4021"/>
                  <a:pt x="6598" y="3994"/>
                </a:cubicBezTo>
                <a:cubicBezTo>
                  <a:pt x="6537" y="4018"/>
                  <a:pt x="6485" y="4080"/>
                  <a:pt x="6424" y="4118"/>
                </a:cubicBezTo>
                <a:cubicBezTo>
                  <a:pt x="6448" y="4212"/>
                  <a:pt x="6534" y="4270"/>
                  <a:pt x="6573" y="4366"/>
                </a:cubicBezTo>
                <a:cubicBezTo>
                  <a:pt x="6615" y="4469"/>
                  <a:pt x="6636" y="4592"/>
                  <a:pt x="6697" y="4688"/>
                </a:cubicBezTo>
                <a:cubicBezTo>
                  <a:pt x="6721" y="4726"/>
                  <a:pt x="6726" y="4740"/>
                  <a:pt x="6747" y="4787"/>
                </a:cubicBezTo>
                <a:cubicBezTo>
                  <a:pt x="6816" y="4773"/>
                  <a:pt x="6861" y="4725"/>
                  <a:pt x="6921" y="4688"/>
                </a:cubicBezTo>
              </a:path>
              <a:path w="4813" h="6152">
                <a:moveTo>
                  <a:pt x="6449" y="5184"/>
                </a:moveTo>
                <a:cubicBezTo>
                  <a:pt x="6449" y="5144"/>
                  <a:pt x="6447" y="5097"/>
                  <a:pt x="6424" y="5085"/>
                </a:cubicBezTo>
                <a:cubicBezTo>
                  <a:pt x="6393" y="5069"/>
                  <a:pt x="6392" y="5051"/>
                  <a:pt x="6375" y="5011"/>
                </a:cubicBezTo>
                <a:cubicBezTo>
                  <a:pt x="6348" y="4949"/>
                  <a:pt x="6301" y="4902"/>
                  <a:pt x="6276" y="4837"/>
                </a:cubicBezTo>
                <a:cubicBezTo>
                  <a:pt x="6242" y="4748"/>
                  <a:pt x="6229" y="4649"/>
                  <a:pt x="6201" y="4564"/>
                </a:cubicBezTo>
                <a:cubicBezTo>
                  <a:pt x="6193" y="4547"/>
                  <a:pt x="6184" y="4531"/>
                  <a:pt x="6176" y="4514"/>
                </a:cubicBezTo>
                <a:cubicBezTo>
                  <a:pt x="6112" y="4533"/>
                  <a:pt x="6043" y="4564"/>
                  <a:pt x="5978" y="4589"/>
                </a:cubicBezTo>
                <a:cubicBezTo>
                  <a:pt x="5997" y="4683"/>
                  <a:pt x="6058" y="4775"/>
                  <a:pt x="6102" y="4862"/>
                </a:cubicBezTo>
                <a:cubicBezTo>
                  <a:pt x="6144" y="4946"/>
                  <a:pt x="6195" y="5050"/>
                  <a:pt x="6226" y="5135"/>
                </a:cubicBezTo>
                <a:cubicBezTo>
                  <a:pt x="6244" y="5184"/>
                  <a:pt x="6246" y="5164"/>
                  <a:pt x="6300" y="5184"/>
                </a:cubicBezTo>
                <a:cubicBezTo>
                  <a:pt x="6348" y="5208"/>
                  <a:pt x="6363" y="5216"/>
                  <a:pt x="6400" y="5209"/>
                </a:cubicBezTo>
              </a:path>
              <a:path w="4813" h="6152">
                <a:moveTo>
                  <a:pt x="5680" y="5482"/>
                </a:moveTo>
                <a:cubicBezTo>
                  <a:pt x="5591" y="5378"/>
                  <a:pt x="5525" y="5274"/>
                  <a:pt x="5507" y="5135"/>
                </a:cubicBezTo>
                <a:cubicBezTo>
                  <a:pt x="5501" y="5092"/>
                  <a:pt x="5507" y="5033"/>
                  <a:pt x="5507" y="4986"/>
                </a:cubicBezTo>
                <a:cubicBezTo>
                  <a:pt x="5430" y="5011"/>
                  <a:pt x="5372" y="5052"/>
                  <a:pt x="5283" y="5060"/>
                </a:cubicBezTo>
                <a:cubicBezTo>
                  <a:pt x="5275" y="5060"/>
                  <a:pt x="5267" y="5060"/>
                  <a:pt x="5259" y="5060"/>
                </a:cubicBezTo>
                <a:cubicBezTo>
                  <a:pt x="5259" y="5177"/>
                  <a:pt x="5329" y="5238"/>
                  <a:pt x="5383" y="5333"/>
                </a:cubicBezTo>
                <a:cubicBezTo>
                  <a:pt x="5433" y="5422"/>
                  <a:pt x="5476" y="5528"/>
                  <a:pt x="5482" y="5631"/>
                </a:cubicBezTo>
                <a:cubicBezTo>
                  <a:pt x="5483" y="5646"/>
                  <a:pt x="5464" y="5752"/>
                  <a:pt x="5507" y="5730"/>
                </a:cubicBezTo>
                <a:cubicBezTo>
                  <a:pt x="5572" y="5686"/>
                  <a:pt x="5586" y="5675"/>
                  <a:pt x="5631" y="5655"/>
                </a:cubicBezTo>
              </a:path>
              <a:path w="4813" h="6152">
                <a:moveTo>
                  <a:pt x="5011" y="6127"/>
                </a:moveTo>
                <a:cubicBezTo>
                  <a:pt x="4926" y="5968"/>
                  <a:pt x="4880" y="5807"/>
                  <a:pt x="4837" y="5631"/>
                </a:cubicBezTo>
                <a:cubicBezTo>
                  <a:pt x="4822" y="5570"/>
                  <a:pt x="4799" y="5515"/>
                  <a:pt x="4787" y="5457"/>
                </a:cubicBezTo>
                <a:cubicBezTo>
                  <a:pt x="4673" y="5480"/>
                  <a:pt x="4563" y="5538"/>
                  <a:pt x="4465" y="5606"/>
                </a:cubicBezTo>
                <a:cubicBezTo>
                  <a:pt x="4407" y="5646"/>
                  <a:pt x="4471" y="5782"/>
                  <a:pt x="4490" y="5829"/>
                </a:cubicBezTo>
                <a:cubicBezTo>
                  <a:pt x="4535" y="5942"/>
                  <a:pt x="4622" y="6039"/>
                  <a:pt x="4663" y="6152"/>
                </a:cubicBezTo>
                <a:cubicBezTo>
                  <a:pt x="4675" y="6185"/>
                  <a:pt x="4668" y="6231"/>
                  <a:pt x="4713" y="6251"/>
                </a:cubicBezTo>
                <a:cubicBezTo>
                  <a:pt x="4763" y="6273"/>
                  <a:pt x="4902" y="6226"/>
                  <a:pt x="4961" y="6226"/>
                </a:cubicBezTo>
                <a:cubicBezTo>
                  <a:pt x="4986" y="6226"/>
                  <a:pt x="4994" y="6226"/>
                  <a:pt x="5011" y="6226"/>
                </a:cubicBezTo>
              </a:path>
              <a:path w="4813" h="6152">
                <a:moveTo>
                  <a:pt x="5184" y="7243"/>
                </a:moveTo>
                <a:cubicBezTo>
                  <a:pt x="5166" y="7159"/>
                  <a:pt x="5117" y="7105"/>
                  <a:pt x="5085" y="7020"/>
                </a:cubicBezTo>
                <a:cubicBezTo>
                  <a:pt x="5039" y="6897"/>
                  <a:pt x="5016" y="6772"/>
                  <a:pt x="5060" y="6648"/>
                </a:cubicBezTo>
                <a:cubicBezTo>
                  <a:pt x="5079" y="6595"/>
                  <a:pt x="5108" y="6541"/>
                  <a:pt x="5159" y="6524"/>
                </a:cubicBezTo>
                <a:cubicBezTo>
                  <a:pt x="5246" y="6495"/>
                  <a:pt x="5300" y="6689"/>
                  <a:pt x="5308" y="6747"/>
                </a:cubicBezTo>
                <a:cubicBezTo>
                  <a:pt x="5328" y="6888"/>
                  <a:pt x="5312" y="7026"/>
                  <a:pt x="5234" y="7144"/>
                </a:cubicBezTo>
                <a:cubicBezTo>
                  <a:pt x="5195" y="7203"/>
                  <a:pt x="5149" y="7202"/>
                  <a:pt x="5110" y="7268"/>
                </a:cubicBezTo>
                <a:cubicBezTo>
                  <a:pt x="5024" y="7412"/>
                  <a:pt x="5020" y="7556"/>
                  <a:pt x="5060" y="7714"/>
                </a:cubicBezTo>
                <a:cubicBezTo>
                  <a:pt x="5080" y="7793"/>
                  <a:pt x="5120" y="7842"/>
                  <a:pt x="5159" y="7888"/>
                </a:cubicBezTo>
                <a:cubicBezTo>
                  <a:pt x="5272" y="7865"/>
                  <a:pt x="5243" y="7868"/>
                  <a:pt x="5283" y="7739"/>
                </a:cubicBezTo>
                <a:cubicBezTo>
                  <a:pt x="5316" y="7632"/>
                  <a:pt x="5286" y="7495"/>
                  <a:pt x="5234" y="7392"/>
                </a:cubicBezTo>
                <a:cubicBezTo>
                  <a:pt x="5207" y="7338"/>
                  <a:pt x="5183" y="7290"/>
                  <a:pt x="5159" y="7243"/>
                </a:cubicBezTo>
                <a:cubicBezTo>
                  <a:pt x="5215" y="7259"/>
                  <a:pt x="5277" y="7283"/>
                  <a:pt x="5333" y="7293"/>
                </a:cubicBezTo>
                <a:cubicBezTo>
                  <a:pt x="5377" y="7301"/>
                  <a:pt x="5420" y="7291"/>
                  <a:pt x="5457" y="7268"/>
                </a:cubicBezTo>
                <a:cubicBezTo>
                  <a:pt x="5502" y="7240"/>
                  <a:pt x="5558" y="7226"/>
                  <a:pt x="5606" y="7193"/>
                </a:cubicBezTo>
                <a:cubicBezTo>
                  <a:pt x="5666" y="7152"/>
                  <a:pt x="5678" y="7138"/>
                  <a:pt x="5705" y="7069"/>
                </a:cubicBezTo>
                <a:cubicBezTo>
                  <a:pt x="5732" y="7000"/>
                  <a:pt x="5741" y="7004"/>
                  <a:pt x="5705" y="6970"/>
                </a:cubicBezTo>
                <a:cubicBezTo>
                  <a:pt x="5657" y="6925"/>
                  <a:pt x="5565" y="6890"/>
                  <a:pt x="5507" y="6945"/>
                </a:cubicBezTo>
                <a:cubicBezTo>
                  <a:pt x="5455" y="6994"/>
                  <a:pt x="5316" y="7078"/>
                  <a:pt x="5283" y="7144"/>
                </a:cubicBezTo>
                <a:cubicBezTo>
                  <a:pt x="5283" y="7152"/>
                  <a:pt x="5283" y="7161"/>
                  <a:pt x="5283" y="7169"/>
                </a:cubicBezTo>
              </a:path>
              <a:path w="4813" h="6152">
                <a:moveTo>
                  <a:pt x="5110" y="7218"/>
                </a:moveTo>
                <a:cubicBezTo>
                  <a:pt x="5098" y="7171"/>
                  <a:pt x="5063" y="7136"/>
                  <a:pt x="5011" y="7119"/>
                </a:cubicBezTo>
                <a:cubicBezTo>
                  <a:pt x="4902" y="7082"/>
                  <a:pt x="4747" y="7032"/>
                  <a:pt x="4638" y="7094"/>
                </a:cubicBezTo>
                <a:cubicBezTo>
                  <a:pt x="4585" y="7124"/>
                  <a:pt x="4539" y="7161"/>
                  <a:pt x="4539" y="7218"/>
                </a:cubicBezTo>
                <a:cubicBezTo>
                  <a:pt x="4539" y="7324"/>
                  <a:pt x="4636" y="7394"/>
                  <a:pt x="4738" y="7417"/>
                </a:cubicBezTo>
                <a:cubicBezTo>
                  <a:pt x="4835" y="7439"/>
                  <a:pt x="4982" y="7388"/>
                  <a:pt x="5060" y="7342"/>
                </a:cubicBezTo>
                <a:cubicBezTo>
                  <a:pt x="5085" y="7317"/>
                  <a:pt x="5093" y="7309"/>
                  <a:pt x="5110" y="7293"/>
                </a:cubicBezTo>
              </a:path>
              <a:path w="4813" h="6152">
                <a:moveTo>
                  <a:pt x="4663" y="6747"/>
                </a:moveTo>
                <a:cubicBezTo>
                  <a:pt x="4625" y="6785"/>
                  <a:pt x="4607" y="6808"/>
                  <a:pt x="4589" y="6846"/>
                </a:cubicBezTo>
              </a:path>
              <a:path w="4813" h="6152">
                <a:moveTo>
                  <a:pt x="4390" y="6921"/>
                </a:moveTo>
                <a:cubicBezTo>
                  <a:pt x="4390" y="6989"/>
                  <a:pt x="4396" y="7045"/>
                  <a:pt x="4490" y="7020"/>
                </a:cubicBezTo>
                <a:cubicBezTo>
                  <a:pt x="4567" y="6981"/>
                  <a:pt x="4582" y="6982"/>
                  <a:pt x="4614" y="6945"/>
                </a:cubicBezTo>
              </a:path>
              <a:path w="4813" h="6152">
                <a:moveTo>
                  <a:pt x="4862" y="7714"/>
                </a:moveTo>
                <a:cubicBezTo>
                  <a:pt x="4805" y="7847"/>
                  <a:pt x="4879" y="7965"/>
                  <a:pt x="5011" y="8037"/>
                </a:cubicBezTo>
                <a:cubicBezTo>
                  <a:pt x="5085" y="8056"/>
                  <a:pt x="5092" y="8064"/>
                  <a:pt x="5135" y="8062"/>
                </a:cubicBezTo>
              </a:path>
              <a:path w="4813" h="6152">
                <a:moveTo>
                  <a:pt x="4812" y="8161"/>
                </a:moveTo>
                <a:cubicBezTo>
                  <a:pt x="4898" y="8173"/>
                  <a:pt x="4972" y="8186"/>
                  <a:pt x="5060" y="8186"/>
                </a:cubicBezTo>
                <a:cubicBezTo>
                  <a:pt x="5042" y="8097"/>
                  <a:pt x="4992" y="8049"/>
                  <a:pt x="4961" y="7987"/>
                </a:cubicBezTo>
              </a:path>
              <a:path w="4813" h="6152">
                <a:moveTo>
                  <a:pt x="5531" y="7838"/>
                </a:moveTo>
                <a:cubicBezTo>
                  <a:pt x="5620" y="7740"/>
                  <a:pt x="5670" y="7664"/>
                  <a:pt x="5705" y="7541"/>
                </a:cubicBezTo>
                <a:cubicBezTo>
                  <a:pt x="5722" y="7480"/>
                  <a:pt x="5730" y="7470"/>
                  <a:pt x="5730" y="7417"/>
                </a:cubicBezTo>
                <a:cubicBezTo>
                  <a:pt x="5641" y="7429"/>
                  <a:pt x="5590" y="7448"/>
                  <a:pt x="5507" y="7466"/>
                </a:cubicBezTo>
                <a:cubicBezTo>
                  <a:pt x="5594" y="7444"/>
                  <a:pt x="5662" y="7374"/>
                  <a:pt x="5755" y="7342"/>
                </a:cubicBezTo>
                <a:cubicBezTo>
                  <a:pt x="5787" y="7331"/>
                  <a:pt x="5773" y="7382"/>
                  <a:pt x="5804" y="7392"/>
                </a:cubicBezTo>
              </a:path>
              <a:path w="4813" h="6152">
                <a:moveTo>
                  <a:pt x="5531" y="6846"/>
                </a:moveTo>
                <a:cubicBezTo>
                  <a:pt x="5473" y="6776"/>
                  <a:pt x="5414" y="6694"/>
                  <a:pt x="5333" y="6648"/>
                </a:cubicBezTo>
                <a:cubicBezTo>
                  <a:pt x="5301" y="6630"/>
                  <a:pt x="5295" y="6651"/>
                  <a:pt x="5259" y="6623"/>
                </a:cubicBezTo>
                <a:cubicBezTo>
                  <a:pt x="5271" y="6674"/>
                  <a:pt x="5302" y="6726"/>
                  <a:pt x="5333" y="6772"/>
                </a:cubicBezTo>
                <a:cubicBezTo>
                  <a:pt x="5319" y="6717"/>
                  <a:pt x="5300" y="6620"/>
                  <a:pt x="5259" y="6573"/>
                </a:cubicBezTo>
                <a:cubicBezTo>
                  <a:pt x="5234" y="6573"/>
                  <a:pt x="5226" y="6573"/>
                  <a:pt x="5234" y="6548"/>
                </a:cubicBezTo>
                <a:cubicBezTo>
                  <a:pt x="5300" y="6548"/>
                  <a:pt x="5347" y="6536"/>
                  <a:pt x="5407" y="6524"/>
                </a:cubicBezTo>
              </a:path>
              <a:path w="4813" h="6152">
                <a:moveTo>
                  <a:pt x="4564" y="6995"/>
                </a:moveTo>
                <a:cubicBezTo>
                  <a:pt x="4614" y="6933"/>
                  <a:pt x="4652" y="6874"/>
                  <a:pt x="4663" y="6796"/>
                </a:cubicBezTo>
                <a:cubicBezTo>
                  <a:pt x="4663" y="6788"/>
                  <a:pt x="4663" y="6780"/>
                  <a:pt x="4663" y="6772"/>
                </a:cubicBezTo>
                <a:cubicBezTo>
                  <a:pt x="4616" y="6818"/>
                  <a:pt x="4624" y="6843"/>
                  <a:pt x="4589" y="6896"/>
                </a:cubicBezTo>
                <a:cubicBezTo>
                  <a:pt x="4581" y="6909"/>
                  <a:pt x="4473" y="6966"/>
                  <a:pt x="4465" y="6970"/>
                </a:cubicBezTo>
                <a:cubicBezTo>
                  <a:pt x="4457" y="6970"/>
                  <a:pt x="4448" y="6970"/>
                  <a:pt x="4440" y="6970"/>
                </a:cubicBezTo>
              </a:path>
              <a:path w="4813" h="6152">
                <a:moveTo>
                  <a:pt x="4564" y="7045"/>
                </a:moveTo>
                <a:cubicBezTo>
                  <a:pt x="4555" y="7001"/>
                  <a:pt x="4510" y="6901"/>
                  <a:pt x="4514" y="6871"/>
                </a:cubicBezTo>
                <a:cubicBezTo>
                  <a:pt x="4522" y="6808"/>
                  <a:pt x="4533" y="6788"/>
                  <a:pt x="4539" y="6796"/>
                </a:cubicBezTo>
                <a:cubicBezTo>
                  <a:pt x="4563" y="6830"/>
                  <a:pt x="4579" y="6832"/>
                  <a:pt x="4589" y="6871"/>
                </a:cubicBezTo>
              </a:path>
              <a:path w="4813" h="6152">
                <a:moveTo>
                  <a:pt x="4242" y="6921"/>
                </a:moveTo>
                <a:cubicBezTo>
                  <a:pt x="4061" y="6785"/>
                  <a:pt x="3943" y="6590"/>
                  <a:pt x="3820" y="6400"/>
                </a:cubicBezTo>
                <a:cubicBezTo>
                  <a:pt x="3812" y="6392"/>
                  <a:pt x="3803" y="6383"/>
                  <a:pt x="3795" y="6375"/>
                </a:cubicBezTo>
              </a:path>
              <a:path w="4813" h="6152">
                <a:moveTo>
                  <a:pt x="4266" y="7268"/>
                </a:moveTo>
                <a:cubicBezTo>
                  <a:pt x="4059" y="7108"/>
                  <a:pt x="3854" y="6956"/>
                  <a:pt x="3696" y="6747"/>
                </a:cubicBezTo>
              </a:path>
              <a:path w="4813" h="6152">
                <a:moveTo>
                  <a:pt x="4043" y="7317"/>
                </a:moveTo>
                <a:cubicBezTo>
                  <a:pt x="3875" y="7177"/>
                  <a:pt x="3686" y="7037"/>
                  <a:pt x="3547" y="6871"/>
                </a:cubicBezTo>
              </a:path>
              <a:path w="4813" h="6152">
                <a:moveTo>
                  <a:pt x="3944" y="7466"/>
                </a:moveTo>
                <a:cubicBezTo>
                  <a:pt x="3754" y="7276"/>
                  <a:pt x="3713" y="7235"/>
                  <a:pt x="3597" y="7119"/>
                </a:cubicBezTo>
              </a:path>
              <a:path w="4813" h="6152">
                <a:moveTo>
                  <a:pt x="4242" y="6449"/>
                </a:moveTo>
                <a:cubicBezTo>
                  <a:pt x="4204" y="6355"/>
                  <a:pt x="4211" y="6337"/>
                  <a:pt x="4167" y="6300"/>
                </a:cubicBezTo>
              </a:path>
              <a:path w="4813" h="6152">
                <a:moveTo>
                  <a:pt x="4713" y="8434"/>
                </a:moveTo>
                <a:cubicBezTo>
                  <a:pt x="4648" y="8476"/>
                  <a:pt x="4793" y="8778"/>
                  <a:pt x="4812" y="8830"/>
                </a:cubicBezTo>
                <a:cubicBezTo>
                  <a:pt x="4824" y="8862"/>
                  <a:pt x="4941" y="9154"/>
                  <a:pt x="4812" y="8855"/>
                </a:cubicBezTo>
              </a:path>
              <a:path w="4813" h="6152">
                <a:moveTo>
                  <a:pt x="4638" y="8483"/>
                </a:moveTo>
                <a:cubicBezTo>
                  <a:pt x="4756" y="8366"/>
                  <a:pt x="4822" y="8285"/>
                  <a:pt x="4986" y="8260"/>
                </a:cubicBezTo>
              </a:path>
              <a:path w="4813" h="6152">
                <a:moveTo>
                  <a:pt x="4713" y="8657"/>
                </a:moveTo>
                <a:cubicBezTo>
                  <a:pt x="4875" y="8587"/>
                  <a:pt x="4920" y="8564"/>
                  <a:pt x="5035" y="8558"/>
                </a:cubicBezTo>
              </a:path>
              <a:path w="4813" h="6152">
                <a:moveTo>
                  <a:pt x="5209" y="8558"/>
                </a:moveTo>
                <a:cubicBezTo>
                  <a:pt x="5146" y="8607"/>
                  <a:pt x="5065" y="8732"/>
                  <a:pt x="5159" y="8806"/>
                </a:cubicBezTo>
                <a:cubicBezTo>
                  <a:pt x="5268" y="8891"/>
                  <a:pt x="5315" y="8654"/>
                  <a:pt x="5333" y="8607"/>
                </a:cubicBezTo>
                <a:cubicBezTo>
                  <a:pt x="5403" y="8724"/>
                  <a:pt x="5382" y="8720"/>
                  <a:pt x="5482" y="8632"/>
                </a:cubicBezTo>
              </a:path>
              <a:path w="4813" h="6152">
                <a:moveTo>
                  <a:pt x="5606" y="8607"/>
                </a:moveTo>
                <a:cubicBezTo>
                  <a:pt x="5689" y="8745"/>
                  <a:pt x="5619" y="8321"/>
                  <a:pt x="5631" y="8285"/>
                </a:cubicBezTo>
                <a:cubicBezTo>
                  <a:pt x="5682" y="8130"/>
                  <a:pt x="6015" y="8571"/>
                  <a:pt x="6028" y="8409"/>
                </a:cubicBezTo>
                <a:cubicBezTo>
                  <a:pt x="6011" y="8351"/>
                  <a:pt x="5995" y="8293"/>
                  <a:pt x="5978" y="8235"/>
                </a:cubicBezTo>
              </a:path>
              <a:path w="4813" h="6152">
                <a:moveTo>
                  <a:pt x="5829" y="5755"/>
                </a:moveTo>
                <a:cubicBezTo>
                  <a:pt x="5899" y="5884"/>
                  <a:pt x="5971" y="6004"/>
                  <a:pt x="6052" y="6127"/>
                </a:cubicBezTo>
                <a:cubicBezTo>
                  <a:pt x="6052" y="5969"/>
                  <a:pt x="5904" y="5861"/>
                  <a:pt x="5904" y="5705"/>
                </a:cubicBezTo>
                <a:cubicBezTo>
                  <a:pt x="5920" y="5680"/>
                  <a:pt x="5937" y="5656"/>
                  <a:pt x="5953" y="5631"/>
                </a:cubicBezTo>
                <a:cubicBezTo>
                  <a:pt x="6171" y="5642"/>
                  <a:pt x="6331" y="5768"/>
                  <a:pt x="6176" y="6028"/>
                </a:cubicBezTo>
                <a:cubicBezTo>
                  <a:pt x="6167" y="6044"/>
                  <a:pt x="5929" y="6201"/>
                  <a:pt x="6127" y="6077"/>
                </a:cubicBezTo>
              </a:path>
              <a:path w="4813" h="6152">
                <a:moveTo>
                  <a:pt x="6350" y="5705"/>
                </a:moveTo>
                <a:cubicBezTo>
                  <a:pt x="6311" y="5834"/>
                  <a:pt x="6325" y="5820"/>
                  <a:pt x="6400" y="5928"/>
                </a:cubicBezTo>
                <a:cubicBezTo>
                  <a:pt x="6450" y="5834"/>
                  <a:pt x="6496" y="5536"/>
                  <a:pt x="6573" y="5631"/>
                </a:cubicBezTo>
                <a:cubicBezTo>
                  <a:pt x="6610" y="5704"/>
                  <a:pt x="6627" y="5709"/>
                  <a:pt x="6623" y="5755"/>
                </a:cubicBezTo>
                <a:cubicBezTo>
                  <a:pt x="6624" y="5736"/>
                  <a:pt x="6664" y="5388"/>
                  <a:pt x="6697" y="5407"/>
                </a:cubicBezTo>
                <a:cubicBezTo>
                  <a:pt x="6749" y="5485"/>
                  <a:pt x="6767" y="5514"/>
                  <a:pt x="6772" y="5581"/>
                </a:cubicBezTo>
                <a:cubicBezTo>
                  <a:pt x="6821" y="5432"/>
                  <a:pt x="6837" y="5382"/>
                  <a:pt x="6871" y="5283"/>
                </a:cubicBezTo>
                <a:cubicBezTo>
                  <a:pt x="6926" y="5405"/>
                  <a:pt x="6938" y="5538"/>
                  <a:pt x="7020" y="5507"/>
                </a:cubicBezTo>
              </a:path>
              <a:path w="4813" h="6152">
                <a:moveTo>
                  <a:pt x="7020" y="5308"/>
                </a:moveTo>
                <a:cubicBezTo>
                  <a:pt x="7020" y="5350"/>
                  <a:pt x="7020" y="5375"/>
                  <a:pt x="7020" y="5333"/>
                </a:cubicBezTo>
              </a:path>
              <a:path w="4813" h="6152">
                <a:moveTo>
                  <a:pt x="7020" y="5333"/>
                </a:moveTo>
                <a:lnTo>
                  <a:pt x="7020" y="5333"/>
                </a:lnTo>
              </a:path>
              <a:path w="4813" h="6152">
                <a:moveTo>
                  <a:pt x="7169" y="5308"/>
                </a:moveTo>
                <a:cubicBezTo>
                  <a:pt x="7177" y="5325"/>
                  <a:pt x="7185" y="5341"/>
                  <a:pt x="7193" y="5358"/>
                </a:cubicBezTo>
                <a:cubicBezTo>
                  <a:pt x="7193" y="5259"/>
                  <a:pt x="7193" y="5159"/>
                  <a:pt x="7193" y="5060"/>
                </a:cubicBezTo>
                <a:cubicBezTo>
                  <a:pt x="7223" y="5104"/>
                  <a:pt x="7270" y="5325"/>
                  <a:pt x="7342" y="5234"/>
                </a:cubicBezTo>
                <a:cubicBezTo>
                  <a:pt x="7367" y="5184"/>
                  <a:pt x="7392" y="5135"/>
                  <a:pt x="7417" y="5085"/>
                </a:cubicBezTo>
              </a:path>
              <a:path w="4813" h="6152">
                <a:moveTo>
                  <a:pt x="7392" y="4961"/>
                </a:moveTo>
                <a:cubicBezTo>
                  <a:pt x="7337" y="5056"/>
                  <a:pt x="7353" y="5077"/>
                  <a:pt x="7367" y="5184"/>
                </a:cubicBezTo>
                <a:cubicBezTo>
                  <a:pt x="7481" y="5111"/>
                  <a:pt x="7546" y="5023"/>
                  <a:pt x="7441" y="4936"/>
                </a:cubicBezTo>
              </a:path>
              <a:path w="4813" h="6152">
                <a:moveTo>
                  <a:pt x="7565" y="4688"/>
                </a:moveTo>
                <a:cubicBezTo>
                  <a:pt x="7506" y="4736"/>
                  <a:pt x="7441" y="4825"/>
                  <a:pt x="7541" y="4887"/>
                </a:cubicBezTo>
                <a:cubicBezTo>
                  <a:pt x="7650" y="4954"/>
                  <a:pt x="7663" y="4984"/>
                  <a:pt x="7590" y="5110"/>
                </a:cubicBezTo>
              </a:path>
              <a:path w="4813" h="6152">
                <a:moveTo>
                  <a:pt x="4242" y="6499"/>
                </a:moveTo>
                <a:cubicBezTo>
                  <a:pt x="4242" y="6524"/>
                  <a:pt x="4242" y="6532"/>
                  <a:pt x="4242" y="6548"/>
                </a:cubicBezTo>
                <a:cubicBezTo>
                  <a:pt x="4159" y="6494"/>
                  <a:pt x="4094" y="6380"/>
                  <a:pt x="4018" y="6300"/>
                </a:cubicBezTo>
                <a:cubicBezTo>
                  <a:pt x="3942" y="6220"/>
                  <a:pt x="3940" y="6266"/>
                  <a:pt x="3870" y="6325"/>
                </a:cubicBezTo>
                <a:cubicBezTo>
                  <a:pt x="3862" y="6333"/>
                  <a:pt x="3853" y="6342"/>
                  <a:pt x="3845" y="6350"/>
                </a:cubicBezTo>
                <a:cubicBezTo>
                  <a:pt x="3944" y="6468"/>
                  <a:pt x="4064" y="6559"/>
                  <a:pt x="4167" y="6672"/>
                </a:cubicBezTo>
                <a:cubicBezTo>
                  <a:pt x="4184" y="6689"/>
                  <a:pt x="4200" y="6705"/>
                  <a:pt x="4217" y="6722"/>
                </a:cubicBezTo>
                <a:cubicBezTo>
                  <a:pt x="4293" y="6703"/>
                  <a:pt x="4370" y="6621"/>
                  <a:pt x="4440" y="6573"/>
                </a:cubicBezTo>
              </a:path>
              <a:path w="4813" h="6152">
                <a:moveTo>
                  <a:pt x="5358" y="9153"/>
                </a:moveTo>
                <a:cubicBezTo>
                  <a:pt x="5298" y="9153"/>
                  <a:pt x="5243" y="9169"/>
                  <a:pt x="5209" y="9227"/>
                </a:cubicBezTo>
                <a:cubicBezTo>
                  <a:pt x="5145" y="9336"/>
                  <a:pt x="5308" y="9430"/>
                  <a:pt x="5333" y="9327"/>
                </a:cubicBezTo>
                <a:cubicBezTo>
                  <a:pt x="5355" y="9237"/>
                  <a:pt x="5345" y="9218"/>
                  <a:pt x="5283" y="9203"/>
                </a:cubicBezTo>
              </a:path>
              <a:path w="4813" h="6152">
                <a:moveTo>
                  <a:pt x="5507" y="8830"/>
                </a:moveTo>
                <a:cubicBezTo>
                  <a:pt x="5466" y="8810"/>
                  <a:pt x="5460" y="8802"/>
                  <a:pt x="5432" y="8806"/>
                </a:cubicBezTo>
                <a:cubicBezTo>
                  <a:pt x="5377" y="8932"/>
                  <a:pt x="5445" y="9078"/>
                  <a:pt x="5507" y="9203"/>
                </a:cubicBezTo>
                <a:cubicBezTo>
                  <a:pt x="5523" y="9228"/>
                  <a:pt x="5540" y="9252"/>
                  <a:pt x="5556" y="9277"/>
                </a:cubicBezTo>
              </a:path>
              <a:path w="4813" h="6152">
                <a:moveTo>
                  <a:pt x="5730" y="8558"/>
                </a:moveTo>
                <a:cubicBezTo>
                  <a:pt x="5594" y="8641"/>
                  <a:pt x="5605" y="8775"/>
                  <a:pt x="5655" y="8930"/>
                </a:cubicBezTo>
                <a:cubicBezTo>
                  <a:pt x="5699" y="9068"/>
                  <a:pt x="5766" y="9117"/>
                  <a:pt x="5755" y="9252"/>
                </a:cubicBezTo>
              </a:path>
              <a:path w="4813" h="6152">
                <a:moveTo>
                  <a:pt x="5457" y="9227"/>
                </a:moveTo>
                <a:cubicBezTo>
                  <a:pt x="5643" y="9120"/>
                  <a:pt x="5812" y="9070"/>
                  <a:pt x="6028" y="9054"/>
                </a:cubicBezTo>
                <a:cubicBezTo>
                  <a:pt x="6036" y="9054"/>
                  <a:pt x="6044" y="9054"/>
                  <a:pt x="6052" y="9054"/>
                </a:cubicBezTo>
              </a:path>
              <a:path w="4813" h="6152">
                <a:moveTo>
                  <a:pt x="6871" y="8582"/>
                </a:moveTo>
                <a:cubicBezTo>
                  <a:pt x="6983" y="8582"/>
                  <a:pt x="7083" y="8599"/>
                  <a:pt x="7193" y="8607"/>
                </a:cubicBezTo>
                <a:cubicBezTo>
                  <a:pt x="7276" y="8607"/>
                  <a:pt x="7292" y="8607"/>
                  <a:pt x="7342" y="8607"/>
                </a:cubicBezTo>
                <a:cubicBezTo>
                  <a:pt x="7360" y="8607"/>
                  <a:pt x="7335" y="8594"/>
                  <a:pt x="7293" y="8558"/>
                </a:cubicBezTo>
                <a:cubicBezTo>
                  <a:pt x="7223" y="8499"/>
                  <a:pt x="7214" y="8494"/>
                  <a:pt x="7169" y="8434"/>
                </a:cubicBezTo>
                <a:cubicBezTo>
                  <a:pt x="7221" y="8447"/>
                  <a:pt x="7292" y="8476"/>
                  <a:pt x="7342" y="8508"/>
                </a:cubicBezTo>
                <a:cubicBezTo>
                  <a:pt x="7370" y="8526"/>
                  <a:pt x="7428" y="8555"/>
                  <a:pt x="7392" y="8607"/>
                </a:cubicBezTo>
                <a:cubicBezTo>
                  <a:pt x="7346" y="8675"/>
                  <a:pt x="7272" y="8743"/>
                  <a:pt x="7218" y="8806"/>
                </a:cubicBezTo>
              </a:path>
              <a:path w="4813" h="6152">
                <a:moveTo>
                  <a:pt x="3746" y="8384"/>
                </a:moveTo>
                <a:cubicBezTo>
                  <a:pt x="3746" y="8313"/>
                  <a:pt x="3718" y="8591"/>
                  <a:pt x="3721" y="8607"/>
                </a:cubicBezTo>
                <a:cubicBezTo>
                  <a:pt x="3759" y="8816"/>
                  <a:pt x="3946" y="8922"/>
                  <a:pt x="4118" y="8756"/>
                </a:cubicBezTo>
                <a:cubicBezTo>
                  <a:pt x="4165" y="8660"/>
                  <a:pt x="4182" y="8631"/>
                  <a:pt x="4167" y="8558"/>
                </a:cubicBezTo>
                <a:cubicBezTo>
                  <a:pt x="4045" y="8476"/>
                  <a:pt x="3927" y="8569"/>
                  <a:pt x="3870" y="8706"/>
                </a:cubicBezTo>
                <a:cubicBezTo>
                  <a:pt x="3800" y="8874"/>
                  <a:pt x="3952" y="8892"/>
                  <a:pt x="4043" y="8830"/>
                </a:cubicBezTo>
              </a:path>
              <a:path w="4813" h="6152">
                <a:moveTo>
                  <a:pt x="3721" y="8111"/>
                </a:moveTo>
                <a:cubicBezTo>
                  <a:pt x="3528" y="8139"/>
                  <a:pt x="3339" y="8280"/>
                  <a:pt x="3274" y="8483"/>
                </a:cubicBezTo>
                <a:cubicBezTo>
                  <a:pt x="3137" y="8908"/>
                  <a:pt x="3748" y="8884"/>
                  <a:pt x="3969" y="8830"/>
                </a:cubicBezTo>
                <a:cubicBezTo>
                  <a:pt x="4181" y="8778"/>
                  <a:pt x="4427" y="8515"/>
                  <a:pt x="4167" y="8334"/>
                </a:cubicBezTo>
                <a:cubicBezTo>
                  <a:pt x="4134" y="8326"/>
                  <a:pt x="4101" y="8318"/>
                  <a:pt x="4068" y="83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68800" y="768240"/>
            <a:ext cx="303120" cy="258840"/>
          </a:xfrm>
          <a:custGeom>
            <a:avLst/>
            <a:gdLst/>
            <a:ahLst/>
            <a:rect l="l" t="t" r="r" b="b"/>
            <a:pathLst>
              <a:path w="844" h="721">
                <a:moveTo>
                  <a:pt x="9475" y="2381"/>
                </a:moveTo>
                <a:cubicBezTo>
                  <a:pt x="9446" y="2456"/>
                  <a:pt x="9410" y="2511"/>
                  <a:pt x="9401" y="2604"/>
                </a:cubicBezTo>
                <a:cubicBezTo>
                  <a:pt x="9452" y="2592"/>
                  <a:pt x="9522" y="2516"/>
                  <a:pt x="9575" y="2580"/>
                </a:cubicBezTo>
                <a:cubicBezTo>
                  <a:pt x="9705" y="2738"/>
                  <a:pt x="9457" y="2776"/>
                  <a:pt x="9376" y="2729"/>
                </a:cubicBezTo>
              </a:path>
              <a:path w="844" h="721">
                <a:moveTo>
                  <a:pt x="9426" y="2456"/>
                </a:moveTo>
                <a:cubicBezTo>
                  <a:pt x="9497" y="2408"/>
                  <a:pt x="9519" y="2392"/>
                  <a:pt x="9575" y="2381"/>
                </a:cubicBezTo>
              </a:path>
              <a:path w="844" h="721">
                <a:moveTo>
                  <a:pt x="9451" y="2183"/>
                </a:moveTo>
                <a:cubicBezTo>
                  <a:pt x="9275" y="2281"/>
                  <a:pt x="9132" y="2368"/>
                  <a:pt x="9178" y="2604"/>
                </a:cubicBezTo>
                <a:cubicBezTo>
                  <a:pt x="9252" y="2981"/>
                  <a:pt x="9693" y="2856"/>
                  <a:pt x="9872" y="2629"/>
                </a:cubicBezTo>
                <a:cubicBezTo>
                  <a:pt x="10028" y="2430"/>
                  <a:pt x="9849" y="2341"/>
                  <a:pt x="9723" y="2257"/>
                </a:cubicBezTo>
              </a:path>
              <a:path w="844" h="721">
                <a:moveTo>
                  <a:pt x="9550" y="2282"/>
                </a:moveTo>
                <a:cubicBezTo>
                  <a:pt x="9539" y="2248"/>
                  <a:pt x="9441" y="2231"/>
                  <a:pt x="9401" y="2257"/>
                </a:cubicBezTo>
                <a:cubicBezTo>
                  <a:pt x="9328" y="2331"/>
                  <a:pt x="9303" y="2355"/>
                  <a:pt x="9302" y="2431"/>
                </a:cubicBezTo>
                <a:cubicBezTo>
                  <a:pt x="9444" y="2507"/>
                  <a:pt x="9537" y="2532"/>
                  <a:pt x="9649" y="2381"/>
                </a:cubicBezTo>
                <a:cubicBezTo>
                  <a:pt x="9691" y="2298"/>
                  <a:pt x="9716" y="2282"/>
                  <a:pt x="9674" y="2232"/>
                </a:cubicBezTo>
                <a:cubicBezTo>
                  <a:pt x="9574" y="2210"/>
                  <a:pt x="9508" y="2171"/>
                  <a:pt x="9451" y="2257"/>
                </a:cubicBezTo>
              </a:path>
              <a:path w="844" h="721">
                <a:moveTo>
                  <a:pt x="9550" y="2406"/>
                </a:moveTo>
                <a:cubicBezTo>
                  <a:pt x="9458" y="2457"/>
                  <a:pt x="9304" y="2519"/>
                  <a:pt x="9351" y="2654"/>
                </a:cubicBezTo>
                <a:cubicBezTo>
                  <a:pt x="9376" y="2687"/>
                  <a:pt x="9401" y="2720"/>
                  <a:pt x="9426" y="2753"/>
                </a:cubicBezTo>
                <a:cubicBezTo>
                  <a:pt x="9504" y="2719"/>
                  <a:pt x="9802" y="2545"/>
                  <a:pt x="9599" y="2431"/>
                </a:cubicBezTo>
                <a:cubicBezTo>
                  <a:pt x="9517" y="2431"/>
                  <a:pt x="9500" y="2431"/>
                  <a:pt x="9451" y="2431"/>
                </a:cubicBezTo>
              </a:path>
              <a:path w="844" h="721">
                <a:moveTo>
                  <a:pt x="9550" y="2133"/>
                </a:moveTo>
                <a:cubicBezTo>
                  <a:pt x="9342" y="2166"/>
                  <a:pt x="8982" y="2261"/>
                  <a:pt x="9079" y="2580"/>
                </a:cubicBezTo>
                <a:cubicBezTo>
                  <a:pt x="9212" y="3015"/>
                  <a:pt x="9734" y="2806"/>
                  <a:pt x="9897" y="2530"/>
                </a:cubicBezTo>
                <a:cubicBezTo>
                  <a:pt x="10023" y="2317"/>
                  <a:pt x="9800" y="2297"/>
                  <a:pt x="9674" y="22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0240" y="1241280"/>
            <a:ext cx="312840" cy="312840"/>
          </a:xfrm>
          <a:custGeom>
            <a:avLst/>
            <a:gdLst/>
            <a:ahLst/>
            <a:rect l="l" t="t" r="r" b="b"/>
            <a:pathLst>
              <a:path w="869" h="869">
                <a:moveTo>
                  <a:pt x="5556" y="3721"/>
                </a:moveTo>
                <a:cubicBezTo>
                  <a:pt x="5428" y="3771"/>
                  <a:pt x="5445" y="3908"/>
                  <a:pt x="5507" y="4018"/>
                </a:cubicBezTo>
                <a:cubicBezTo>
                  <a:pt x="5596" y="4174"/>
                  <a:pt x="5774" y="4119"/>
                  <a:pt x="5829" y="3969"/>
                </a:cubicBezTo>
                <a:cubicBezTo>
                  <a:pt x="5829" y="3944"/>
                  <a:pt x="5829" y="3919"/>
                  <a:pt x="5829" y="3894"/>
                </a:cubicBezTo>
                <a:cubicBezTo>
                  <a:pt x="5743" y="3876"/>
                  <a:pt x="5631" y="3891"/>
                  <a:pt x="5631" y="4018"/>
                </a:cubicBezTo>
                <a:cubicBezTo>
                  <a:pt x="5655" y="4068"/>
                  <a:pt x="5663" y="4085"/>
                  <a:pt x="5705" y="4043"/>
                </a:cubicBezTo>
              </a:path>
              <a:path w="869" h="869">
                <a:moveTo>
                  <a:pt x="5383" y="3473"/>
                </a:moveTo>
                <a:cubicBezTo>
                  <a:pt x="5210" y="3634"/>
                  <a:pt x="5035" y="3877"/>
                  <a:pt x="5234" y="4118"/>
                </a:cubicBezTo>
                <a:cubicBezTo>
                  <a:pt x="5434" y="4360"/>
                  <a:pt x="5913" y="4196"/>
                  <a:pt x="5953" y="3894"/>
                </a:cubicBezTo>
                <a:cubicBezTo>
                  <a:pt x="5905" y="3748"/>
                  <a:pt x="5890" y="3698"/>
                  <a:pt x="5755" y="3721"/>
                </a:cubicBezTo>
              </a:path>
              <a:path w="869" h="869">
                <a:moveTo>
                  <a:pt x="5383" y="3795"/>
                </a:moveTo>
                <a:cubicBezTo>
                  <a:pt x="5445" y="3779"/>
                  <a:pt x="5523" y="3735"/>
                  <a:pt x="5581" y="3696"/>
                </a:cubicBezTo>
                <a:cubicBezTo>
                  <a:pt x="5604" y="3673"/>
                  <a:pt x="5608" y="3665"/>
                  <a:pt x="5631" y="3671"/>
                </a:cubicBezTo>
                <a:cubicBezTo>
                  <a:pt x="5631" y="3780"/>
                  <a:pt x="5608" y="3889"/>
                  <a:pt x="5581" y="3994"/>
                </a:cubicBezTo>
                <a:cubicBezTo>
                  <a:pt x="5565" y="4056"/>
                  <a:pt x="5556" y="4064"/>
                  <a:pt x="5556" y="4118"/>
                </a:cubicBezTo>
              </a:path>
              <a:path w="869" h="869">
                <a:moveTo>
                  <a:pt x="5432" y="3497"/>
                </a:moveTo>
                <a:cubicBezTo>
                  <a:pt x="5240" y="3516"/>
                  <a:pt x="5111" y="3605"/>
                  <a:pt x="5085" y="3820"/>
                </a:cubicBezTo>
                <a:cubicBezTo>
                  <a:pt x="5044" y="4160"/>
                  <a:pt x="5332" y="4418"/>
                  <a:pt x="5655" y="4266"/>
                </a:cubicBezTo>
                <a:cubicBezTo>
                  <a:pt x="5875" y="4163"/>
                  <a:pt x="6056" y="3808"/>
                  <a:pt x="5879" y="3597"/>
                </a:cubicBezTo>
                <a:cubicBezTo>
                  <a:pt x="5691" y="3373"/>
                  <a:pt x="5360" y="3441"/>
                  <a:pt x="5159" y="3597"/>
                </a:cubicBezTo>
                <a:cubicBezTo>
                  <a:pt x="5089" y="3690"/>
                  <a:pt x="5063" y="3716"/>
                  <a:pt x="5110" y="37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4800" y="1401840"/>
            <a:ext cx="2108160" cy="563400"/>
          </a:xfrm>
          <a:custGeom>
            <a:avLst/>
            <a:gdLst/>
            <a:ahLst/>
            <a:rect l="l" t="t" r="r" b="b"/>
            <a:pathLst>
              <a:path w="5855" h="1564">
                <a:moveTo>
                  <a:pt x="8979" y="4390"/>
                </a:moveTo>
                <a:cubicBezTo>
                  <a:pt x="8988" y="4337"/>
                  <a:pt x="9010" y="4295"/>
                  <a:pt x="9054" y="4242"/>
                </a:cubicBezTo>
                <a:cubicBezTo>
                  <a:pt x="9084" y="4205"/>
                  <a:pt x="9079" y="4189"/>
                  <a:pt x="9079" y="4142"/>
                </a:cubicBezTo>
                <a:cubicBezTo>
                  <a:pt x="9079" y="4106"/>
                  <a:pt x="9101" y="4071"/>
                  <a:pt x="9128" y="4068"/>
                </a:cubicBezTo>
                <a:cubicBezTo>
                  <a:pt x="9199" y="4059"/>
                  <a:pt x="9178" y="4149"/>
                  <a:pt x="9178" y="4192"/>
                </a:cubicBezTo>
                <a:cubicBezTo>
                  <a:pt x="9178" y="4261"/>
                  <a:pt x="9176" y="4298"/>
                  <a:pt x="9203" y="4366"/>
                </a:cubicBezTo>
                <a:cubicBezTo>
                  <a:pt x="9227" y="4428"/>
                  <a:pt x="9241" y="4436"/>
                  <a:pt x="9203" y="4465"/>
                </a:cubicBezTo>
                <a:cubicBezTo>
                  <a:pt x="9144" y="4510"/>
                  <a:pt x="9137" y="4514"/>
                  <a:pt x="9054" y="4514"/>
                </a:cubicBezTo>
                <a:cubicBezTo>
                  <a:pt x="9046" y="4514"/>
                  <a:pt x="9037" y="4514"/>
                  <a:pt x="9029" y="4514"/>
                </a:cubicBezTo>
              </a:path>
              <a:path w="5855" h="1564">
                <a:moveTo>
                  <a:pt x="9550" y="4465"/>
                </a:moveTo>
                <a:cubicBezTo>
                  <a:pt x="9544" y="4420"/>
                  <a:pt x="9502" y="4336"/>
                  <a:pt x="9525" y="4291"/>
                </a:cubicBezTo>
                <a:cubicBezTo>
                  <a:pt x="9541" y="4259"/>
                  <a:pt x="9525" y="4230"/>
                  <a:pt x="9550" y="4217"/>
                </a:cubicBezTo>
                <a:cubicBezTo>
                  <a:pt x="9583" y="4201"/>
                  <a:pt x="9565" y="4204"/>
                  <a:pt x="9599" y="4192"/>
                </a:cubicBezTo>
                <a:cubicBezTo>
                  <a:pt x="9649" y="4259"/>
                  <a:pt x="9610" y="4305"/>
                  <a:pt x="9599" y="4390"/>
                </a:cubicBezTo>
                <a:cubicBezTo>
                  <a:pt x="9594" y="4430"/>
                  <a:pt x="9599" y="4474"/>
                  <a:pt x="9599" y="4514"/>
                </a:cubicBezTo>
              </a:path>
              <a:path w="5855" h="1564">
                <a:moveTo>
                  <a:pt x="9996" y="4614"/>
                </a:moveTo>
                <a:cubicBezTo>
                  <a:pt x="9948" y="4553"/>
                  <a:pt x="9905" y="4493"/>
                  <a:pt x="9897" y="4415"/>
                </a:cubicBezTo>
                <a:cubicBezTo>
                  <a:pt x="9894" y="4385"/>
                  <a:pt x="9926" y="4305"/>
                  <a:pt x="9947" y="4291"/>
                </a:cubicBezTo>
                <a:cubicBezTo>
                  <a:pt x="9962" y="4280"/>
                  <a:pt x="10026" y="4291"/>
                  <a:pt x="10046" y="4291"/>
                </a:cubicBezTo>
                <a:cubicBezTo>
                  <a:pt x="10046" y="4373"/>
                  <a:pt x="10054" y="4440"/>
                  <a:pt x="10021" y="4514"/>
                </a:cubicBezTo>
                <a:cubicBezTo>
                  <a:pt x="9997" y="4562"/>
                  <a:pt x="9989" y="4577"/>
                  <a:pt x="9996" y="4614"/>
                </a:cubicBezTo>
              </a:path>
              <a:path w="5855" h="1564">
                <a:moveTo>
                  <a:pt x="10641" y="4688"/>
                </a:moveTo>
                <a:cubicBezTo>
                  <a:pt x="10641" y="4610"/>
                  <a:pt x="10621" y="4543"/>
                  <a:pt x="10616" y="4465"/>
                </a:cubicBezTo>
                <a:cubicBezTo>
                  <a:pt x="10613" y="4412"/>
                  <a:pt x="10616" y="4415"/>
                  <a:pt x="10666" y="4415"/>
                </a:cubicBezTo>
                <a:cubicBezTo>
                  <a:pt x="10720" y="4433"/>
                  <a:pt x="10691" y="4526"/>
                  <a:pt x="10691" y="4589"/>
                </a:cubicBezTo>
                <a:cubicBezTo>
                  <a:pt x="10691" y="4650"/>
                  <a:pt x="10668" y="4684"/>
                  <a:pt x="10641" y="4738"/>
                </a:cubicBezTo>
              </a:path>
              <a:path w="5855" h="1564">
                <a:moveTo>
                  <a:pt x="11112" y="4887"/>
                </a:moveTo>
                <a:cubicBezTo>
                  <a:pt x="11086" y="4793"/>
                  <a:pt x="11033" y="4695"/>
                  <a:pt x="11063" y="4589"/>
                </a:cubicBezTo>
                <a:cubicBezTo>
                  <a:pt x="11088" y="4564"/>
                  <a:pt x="11096" y="4556"/>
                  <a:pt x="11112" y="4539"/>
                </a:cubicBezTo>
                <a:cubicBezTo>
                  <a:pt x="11153" y="4594"/>
                  <a:pt x="11204" y="4639"/>
                  <a:pt x="11212" y="4713"/>
                </a:cubicBezTo>
                <a:cubicBezTo>
                  <a:pt x="11224" y="4827"/>
                  <a:pt x="11183" y="4854"/>
                  <a:pt x="11112" y="4936"/>
                </a:cubicBezTo>
              </a:path>
              <a:path w="5855" h="1564">
                <a:moveTo>
                  <a:pt x="11559" y="4986"/>
                </a:moveTo>
                <a:cubicBezTo>
                  <a:pt x="11559" y="4897"/>
                  <a:pt x="11543" y="4835"/>
                  <a:pt x="11609" y="4762"/>
                </a:cubicBezTo>
                <a:cubicBezTo>
                  <a:pt x="11633" y="4762"/>
                  <a:pt x="11641" y="4762"/>
                  <a:pt x="11633" y="4738"/>
                </a:cubicBezTo>
                <a:cubicBezTo>
                  <a:pt x="11660" y="4755"/>
                  <a:pt x="11691" y="4832"/>
                  <a:pt x="11683" y="4887"/>
                </a:cubicBezTo>
                <a:cubicBezTo>
                  <a:pt x="11666" y="5003"/>
                  <a:pt x="11523" y="5035"/>
                  <a:pt x="11609" y="5035"/>
                </a:cubicBezTo>
              </a:path>
              <a:path w="5855" h="1564">
                <a:moveTo>
                  <a:pt x="12179" y="5035"/>
                </a:moveTo>
                <a:cubicBezTo>
                  <a:pt x="12151" y="4953"/>
                  <a:pt x="12135" y="4888"/>
                  <a:pt x="12204" y="4837"/>
                </a:cubicBezTo>
                <a:cubicBezTo>
                  <a:pt x="12242" y="4847"/>
                  <a:pt x="12302" y="4874"/>
                  <a:pt x="12328" y="4911"/>
                </a:cubicBezTo>
                <a:cubicBezTo>
                  <a:pt x="12387" y="4993"/>
                  <a:pt x="12305" y="5072"/>
                  <a:pt x="12254" y="5135"/>
                </a:cubicBezTo>
              </a:path>
              <a:path w="5855" h="1564">
                <a:moveTo>
                  <a:pt x="12750" y="5110"/>
                </a:moveTo>
                <a:cubicBezTo>
                  <a:pt x="12750" y="5046"/>
                  <a:pt x="12722" y="4928"/>
                  <a:pt x="12799" y="4911"/>
                </a:cubicBezTo>
                <a:cubicBezTo>
                  <a:pt x="12807" y="4911"/>
                  <a:pt x="12816" y="4911"/>
                  <a:pt x="12824" y="4911"/>
                </a:cubicBezTo>
                <a:cubicBezTo>
                  <a:pt x="12861" y="4923"/>
                  <a:pt x="12890" y="5009"/>
                  <a:pt x="12898" y="5060"/>
                </a:cubicBezTo>
                <a:cubicBezTo>
                  <a:pt x="12911" y="5146"/>
                  <a:pt x="12892" y="5182"/>
                  <a:pt x="12824" y="5234"/>
                </a:cubicBezTo>
                <a:cubicBezTo>
                  <a:pt x="12799" y="5250"/>
                  <a:pt x="12775" y="5267"/>
                  <a:pt x="12750" y="5283"/>
                </a:cubicBezTo>
              </a:path>
              <a:path w="5855" h="1564">
                <a:moveTo>
                  <a:pt x="13221" y="5234"/>
                </a:moveTo>
                <a:cubicBezTo>
                  <a:pt x="13221" y="5152"/>
                  <a:pt x="13228" y="5087"/>
                  <a:pt x="13246" y="5011"/>
                </a:cubicBezTo>
                <a:cubicBezTo>
                  <a:pt x="13246" y="5003"/>
                  <a:pt x="13246" y="4994"/>
                  <a:pt x="13246" y="4986"/>
                </a:cubicBezTo>
                <a:cubicBezTo>
                  <a:pt x="13285" y="5025"/>
                  <a:pt x="13395" y="5098"/>
                  <a:pt x="13395" y="5159"/>
                </a:cubicBezTo>
                <a:cubicBezTo>
                  <a:pt x="13395" y="5225"/>
                  <a:pt x="13305" y="5356"/>
                  <a:pt x="13271" y="5383"/>
                </a:cubicBezTo>
              </a:path>
              <a:path w="5855" h="1564">
                <a:moveTo>
                  <a:pt x="9054" y="4539"/>
                </a:moveTo>
                <a:cubicBezTo>
                  <a:pt x="9091" y="4546"/>
                  <a:pt x="9172" y="4548"/>
                  <a:pt x="9203" y="4564"/>
                </a:cubicBezTo>
                <a:cubicBezTo>
                  <a:pt x="9283" y="4605"/>
                  <a:pt x="9293" y="4565"/>
                  <a:pt x="9376" y="4539"/>
                </a:cubicBezTo>
                <a:cubicBezTo>
                  <a:pt x="9417" y="4526"/>
                  <a:pt x="9455" y="4514"/>
                  <a:pt x="9500" y="4514"/>
                </a:cubicBezTo>
                <a:cubicBezTo>
                  <a:pt x="9536" y="4514"/>
                  <a:pt x="9565" y="4532"/>
                  <a:pt x="9599" y="4539"/>
                </a:cubicBezTo>
              </a:path>
              <a:path w="5855" h="1564">
                <a:moveTo>
                  <a:pt x="9674" y="4539"/>
                </a:moveTo>
                <a:cubicBezTo>
                  <a:pt x="9698" y="4569"/>
                  <a:pt x="9735" y="4604"/>
                  <a:pt x="9773" y="4638"/>
                </a:cubicBezTo>
                <a:cubicBezTo>
                  <a:pt x="9814" y="4675"/>
                  <a:pt x="9840" y="4700"/>
                  <a:pt x="9897" y="4713"/>
                </a:cubicBezTo>
                <a:cubicBezTo>
                  <a:pt x="9938" y="4722"/>
                  <a:pt x="9960" y="4726"/>
                  <a:pt x="9996" y="4738"/>
                </a:cubicBezTo>
                <a:cubicBezTo>
                  <a:pt x="10034" y="4728"/>
                  <a:pt x="10046" y="4706"/>
                  <a:pt x="10096" y="4713"/>
                </a:cubicBezTo>
                <a:cubicBezTo>
                  <a:pt x="10138" y="4719"/>
                  <a:pt x="10183" y="4720"/>
                  <a:pt x="10220" y="4738"/>
                </a:cubicBezTo>
                <a:cubicBezTo>
                  <a:pt x="10293" y="4773"/>
                  <a:pt x="10339" y="4798"/>
                  <a:pt x="10418" y="4812"/>
                </a:cubicBezTo>
                <a:cubicBezTo>
                  <a:pt x="10511" y="4828"/>
                  <a:pt x="10621" y="4812"/>
                  <a:pt x="10716" y="4812"/>
                </a:cubicBezTo>
                <a:cubicBezTo>
                  <a:pt x="10727" y="4818"/>
                  <a:pt x="10761" y="4848"/>
                  <a:pt x="10790" y="4862"/>
                </a:cubicBezTo>
                <a:cubicBezTo>
                  <a:pt x="10836" y="4884"/>
                  <a:pt x="10899" y="4891"/>
                  <a:pt x="10939" y="4911"/>
                </a:cubicBezTo>
                <a:cubicBezTo>
                  <a:pt x="11004" y="4943"/>
                  <a:pt x="11014" y="4955"/>
                  <a:pt x="11088" y="4961"/>
                </a:cubicBezTo>
                <a:cubicBezTo>
                  <a:pt x="11138" y="4965"/>
                  <a:pt x="11145" y="4969"/>
                  <a:pt x="11187" y="4986"/>
                </a:cubicBezTo>
                <a:cubicBezTo>
                  <a:pt x="11258" y="5015"/>
                  <a:pt x="11286" y="5030"/>
                  <a:pt x="11361" y="5035"/>
                </a:cubicBezTo>
                <a:cubicBezTo>
                  <a:pt x="11435" y="5040"/>
                  <a:pt x="11445" y="5006"/>
                  <a:pt x="11509" y="5011"/>
                </a:cubicBezTo>
                <a:cubicBezTo>
                  <a:pt x="11566" y="5015"/>
                  <a:pt x="11626" y="5043"/>
                  <a:pt x="11683" y="5060"/>
                </a:cubicBezTo>
                <a:cubicBezTo>
                  <a:pt x="11724" y="5072"/>
                  <a:pt x="11769" y="5067"/>
                  <a:pt x="11807" y="5085"/>
                </a:cubicBezTo>
                <a:cubicBezTo>
                  <a:pt x="11869" y="5114"/>
                  <a:pt x="11884" y="5142"/>
                  <a:pt x="11956" y="5135"/>
                </a:cubicBezTo>
                <a:cubicBezTo>
                  <a:pt x="12016" y="5129"/>
                  <a:pt x="12066" y="5101"/>
                  <a:pt x="12129" y="5110"/>
                </a:cubicBezTo>
                <a:cubicBezTo>
                  <a:pt x="12153" y="5113"/>
                  <a:pt x="12358" y="5118"/>
                  <a:pt x="12378" y="5135"/>
                </a:cubicBezTo>
                <a:cubicBezTo>
                  <a:pt x="12401" y="5154"/>
                  <a:pt x="12380" y="5183"/>
                  <a:pt x="12402" y="5209"/>
                </a:cubicBezTo>
                <a:cubicBezTo>
                  <a:pt x="12431" y="5225"/>
                  <a:pt x="12469" y="5268"/>
                  <a:pt x="12502" y="5283"/>
                </a:cubicBezTo>
                <a:cubicBezTo>
                  <a:pt x="12555" y="5308"/>
                  <a:pt x="12620" y="5296"/>
                  <a:pt x="12675" y="5308"/>
                </a:cubicBezTo>
                <a:cubicBezTo>
                  <a:pt x="12721" y="5318"/>
                  <a:pt x="12740" y="5331"/>
                  <a:pt x="12799" y="5333"/>
                </a:cubicBezTo>
                <a:cubicBezTo>
                  <a:pt x="12866" y="5335"/>
                  <a:pt x="12893" y="5342"/>
                  <a:pt x="12948" y="5358"/>
                </a:cubicBezTo>
                <a:cubicBezTo>
                  <a:pt x="12998" y="5373"/>
                  <a:pt x="13018" y="5383"/>
                  <a:pt x="13072" y="5407"/>
                </a:cubicBezTo>
                <a:cubicBezTo>
                  <a:pt x="13134" y="5435"/>
                  <a:pt x="13154" y="5430"/>
                  <a:pt x="13221" y="5432"/>
                </a:cubicBezTo>
                <a:cubicBezTo>
                  <a:pt x="13284" y="5434"/>
                  <a:pt x="13274" y="5448"/>
                  <a:pt x="13320" y="5457"/>
                </a:cubicBezTo>
                <a:cubicBezTo>
                  <a:pt x="13337" y="5423"/>
                  <a:pt x="13262" y="5426"/>
                  <a:pt x="13345" y="5407"/>
                </a:cubicBezTo>
                <a:cubicBezTo>
                  <a:pt x="13385" y="5398"/>
                  <a:pt x="13403" y="5381"/>
                  <a:pt x="13444" y="5383"/>
                </a:cubicBezTo>
                <a:cubicBezTo>
                  <a:pt x="13498" y="5385"/>
                  <a:pt x="13480" y="5404"/>
                  <a:pt x="13519" y="5407"/>
                </a:cubicBezTo>
                <a:cubicBezTo>
                  <a:pt x="13563" y="5411"/>
                  <a:pt x="13583" y="5424"/>
                  <a:pt x="13618" y="5432"/>
                </a:cubicBezTo>
                <a:cubicBezTo>
                  <a:pt x="13626" y="5432"/>
                  <a:pt x="13635" y="5432"/>
                  <a:pt x="13643" y="5432"/>
                </a:cubicBezTo>
              </a:path>
              <a:path w="5855" h="1564">
                <a:moveTo>
                  <a:pt x="8954" y="4465"/>
                </a:moveTo>
                <a:cubicBezTo>
                  <a:pt x="9015" y="4465"/>
                  <a:pt x="9017" y="4479"/>
                  <a:pt x="9029" y="4539"/>
                </a:cubicBezTo>
                <a:cubicBezTo>
                  <a:pt x="8982" y="4539"/>
                  <a:pt x="8943" y="4554"/>
                  <a:pt x="8930" y="4514"/>
                </a:cubicBezTo>
              </a:path>
              <a:path w="5855" h="1564">
                <a:moveTo>
                  <a:pt x="13618" y="5457"/>
                </a:moveTo>
                <a:cubicBezTo>
                  <a:pt x="13762" y="5457"/>
                  <a:pt x="13910" y="5454"/>
                  <a:pt x="14039" y="5432"/>
                </a:cubicBezTo>
                <a:cubicBezTo>
                  <a:pt x="14104" y="5421"/>
                  <a:pt x="14183" y="5416"/>
                  <a:pt x="14238" y="5407"/>
                </a:cubicBezTo>
                <a:cubicBezTo>
                  <a:pt x="14276" y="5401"/>
                  <a:pt x="14333" y="5387"/>
                  <a:pt x="14362" y="5383"/>
                </a:cubicBezTo>
                <a:cubicBezTo>
                  <a:pt x="14417" y="5376"/>
                  <a:pt x="14427" y="5365"/>
                  <a:pt x="14461" y="5358"/>
                </a:cubicBezTo>
                <a:cubicBezTo>
                  <a:pt x="14510" y="5348"/>
                  <a:pt x="14502" y="5351"/>
                  <a:pt x="14536" y="5333"/>
                </a:cubicBezTo>
                <a:cubicBezTo>
                  <a:pt x="14592" y="5303"/>
                  <a:pt x="14566" y="5306"/>
                  <a:pt x="14585" y="5259"/>
                </a:cubicBezTo>
                <a:cubicBezTo>
                  <a:pt x="14606" y="5209"/>
                  <a:pt x="14614" y="5199"/>
                  <a:pt x="14635" y="5159"/>
                </a:cubicBezTo>
                <a:cubicBezTo>
                  <a:pt x="14652" y="5126"/>
                  <a:pt x="14708" y="5043"/>
                  <a:pt x="14709" y="5035"/>
                </a:cubicBezTo>
                <a:cubicBezTo>
                  <a:pt x="14726" y="4935"/>
                  <a:pt x="14713" y="4838"/>
                  <a:pt x="14734" y="4738"/>
                </a:cubicBezTo>
                <a:cubicBezTo>
                  <a:pt x="14761" y="4609"/>
                  <a:pt x="14784" y="4497"/>
                  <a:pt x="14784" y="4366"/>
                </a:cubicBezTo>
                <a:cubicBezTo>
                  <a:pt x="14784" y="4247"/>
                  <a:pt x="14736" y="4218"/>
                  <a:pt x="14684" y="4142"/>
                </a:cubicBezTo>
                <a:cubicBezTo>
                  <a:pt x="14637" y="4073"/>
                  <a:pt x="14611" y="4061"/>
                  <a:pt x="14536" y="4043"/>
                </a:cubicBezTo>
                <a:cubicBezTo>
                  <a:pt x="14490" y="4032"/>
                  <a:pt x="14432" y="4032"/>
                  <a:pt x="14387" y="4018"/>
                </a:cubicBezTo>
                <a:cubicBezTo>
                  <a:pt x="14338" y="4003"/>
                  <a:pt x="14311" y="3967"/>
                  <a:pt x="14288" y="3944"/>
                </a:cubicBezTo>
                <a:cubicBezTo>
                  <a:pt x="14273" y="3929"/>
                  <a:pt x="14275" y="3914"/>
                  <a:pt x="14263" y="38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04920" y="2938320"/>
            <a:ext cx="268200" cy="268560"/>
          </a:xfrm>
          <a:custGeom>
            <a:avLst/>
            <a:gdLst/>
            <a:ahLst/>
            <a:rect l="l" t="t" r="r" b="b"/>
            <a:pathLst>
              <a:path w="745" h="745">
                <a:moveTo>
                  <a:pt x="3770" y="8632"/>
                </a:moveTo>
                <a:cubicBezTo>
                  <a:pt x="3797" y="8577"/>
                  <a:pt x="3852" y="8569"/>
                  <a:pt x="3919" y="8558"/>
                </a:cubicBezTo>
                <a:cubicBezTo>
                  <a:pt x="3919" y="8641"/>
                  <a:pt x="3919" y="8723"/>
                  <a:pt x="3919" y="8806"/>
                </a:cubicBezTo>
              </a:path>
              <a:path w="745" h="745">
                <a:moveTo>
                  <a:pt x="3547" y="8310"/>
                </a:moveTo>
                <a:cubicBezTo>
                  <a:pt x="3418" y="8439"/>
                  <a:pt x="3201" y="8672"/>
                  <a:pt x="3423" y="8855"/>
                </a:cubicBezTo>
                <a:cubicBezTo>
                  <a:pt x="3625" y="9021"/>
                  <a:pt x="4038" y="8845"/>
                  <a:pt x="4093" y="8607"/>
                </a:cubicBezTo>
                <a:cubicBezTo>
                  <a:pt x="4142" y="8395"/>
                  <a:pt x="3974" y="8279"/>
                  <a:pt x="3845" y="81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57240" y="1616040"/>
            <a:ext cx="2643480" cy="1785960"/>
          </a:xfrm>
          <a:custGeom>
            <a:avLst/>
            <a:gdLst/>
            <a:ahLst/>
            <a:rect l="l" t="t" r="r" b="b"/>
            <a:pathLst>
              <a:path w="7344" h="4962">
                <a:moveTo>
                  <a:pt x="9004" y="4638"/>
                </a:moveTo>
                <a:cubicBezTo>
                  <a:pt x="9004" y="4630"/>
                  <a:pt x="9004" y="4622"/>
                  <a:pt x="9004" y="4614"/>
                </a:cubicBezTo>
                <a:cubicBezTo>
                  <a:pt x="8964" y="4601"/>
                  <a:pt x="8994" y="4602"/>
                  <a:pt x="8954" y="4589"/>
                </a:cubicBezTo>
                <a:cubicBezTo>
                  <a:pt x="8948" y="4570"/>
                  <a:pt x="8911" y="4528"/>
                  <a:pt x="8880" y="4514"/>
                </a:cubicBezTo>
                <a:cubicBezTo>
                  <a:pt x="8852" y="4514"/>
                  <a:pt x="8841" y="4512"/>
                  <a:pt x="8830" y="4490"/>
                </a:cubicBezTo>
              </a:path>
              <a:path w="7344" h="4962">
                <a:moveTo>
                  <a:pt x="9996" y="4738"/>
                </a:moveTo>
                <a:cubicBezTo>
                  <a:pt x="9996" y="4878"/>
                  <a:pt x="9996" y="5019"/>
                  <a:pt x="9996" y="5159"/>
                </a:cubicBezTo>
              </a:path>
              <a:path w="7344" h="4962">
                <a:moveTo>
                  <a:pt x="10220" y="5060"/>
                </a:moveTo>
                <a:cubicBezTo>
                  <a:pt x="10240" y="5121"/>
                  <a:pt x="10237" y="5136"/>
                  <a:pt x="10269" y="5159"/>
                </a:cubicBezTo>
              </a:path>
              <a:path w="7344" h="4962">
                <a:moveTo>
                  <a:pt x="10220" y="4887"/>
                </a:moveTo>
                <a:cubicBezTo>
                  <a:pt x="10236" y="4895"/>
                  <a:pt x="10253" y="4903"/>
                  <a:pt x="10269" y="4911"/>
                </a:cubicBezTo>
              </a:path>
              <a:path w="7344" h="4962">
                <a:moveTo>
                  <a:pt x="10269" y="4911"/>
                </a:moveTo>
                <a:lnTo>
                  <a:pt x="10269" y="4911"/>
                </a:lnTo>
              </a:path>
              <a:path w="7344" h="4962">
                <a:moveTo>
                  <a:pt x="10542" y="5035"/>
                </a:moveTo>
                <a:cubicBezTo>
                  <a:pt x="10502" y="5051"/>
                  <a:pt x="10387" y="5140"/>
                  <a:pt x="10443" y="5209"/>
                </a:cubicBezTo>
                <a:cubicBezTo>
                  <a:pt x="10512" y="5294"/>
                  <a:pt x="10542" y="5117"/>
                  <a:pt x="10542" y="5184"/>
                </a:cubicBezTo>
                <a:cubicBezTo>
                  <a:pt x="10548" y="5221"/>
                  <a:pt x="10586" y="5703"/>
                  <a:pt x="10492" y="5655"/>
                </a:cubicBezTo>
                <a:cubicBezTo>
                  <a:pt x="10484" y="5630"/>
                  <a:pt x="10476" y="5606"/>
                  <a:pt x="10468" y="5581"/>
                </a:cubicBezTo>
              </a:path>
              <a:path w="7344" h="4962">
                <a:moveTo>
                  <a:pt x="10740" y="5308"/>
                </a:moveTo>
                <a:cubicBezTo>
                  <a:pt x="10801" y="5384"/>
                  <a:pt x="10800" y="5323"/>
                  <a:pt x="10815" y="5234"/>
                </a:cubicBezTo>
                <a:cubicBezTo>
                  <a:pt x="10849" y="5320"/>
                  <a:pt x="10872" y="5455"/>
                  <a:pt x="10914" y="5507"/>
                </a:cubicBezTo>
              </a:path>
              <a:path w="7344" h="4962">
                <a:moveTo>
                  <a:pt x="11038" y="5110"/>
                </a:moveTo>
                <a:cubicBezTo>
                  <a:pt x="11055" y="5184"/>
                  <a:pt x="11208" y="5556"/>
                  <a:pt x="11063" y="5457"/>
                </a:cubicBezTo>
              </a:path>
              <a:path w="7344" h="4962">
                <a:moveTo>
                  <a:pt x="10988" y="5259"/>
                </a:moveTo>
                <a:cubicBezTo>
                  <a:pt x="11089" y="5259"/>
                  <a:pt x="11123" y="5259"/>
                  <a:pt x="11187" y="5283"/>
                </a:cubicBezTo>
              </a:path>
              <a:path w="7344" h="4962">
                <a:moveTo>
                  <a:pt x="11187" y="5283"/>
                </a:moveTo>
                <a:lnTo>
                  <a:pt x="11187" y="5283"/>
                </a:lnTo>
              </a:path>
              <a:path w="7344" h="4962">
                <a:moveTo>
                  <a:pt x="11361" y="5259"/>
                </a:moveTo>
                <a:cubicBezTo>
                  <a:pt x="11361" y="5351"/>
                  <a:pt x="11451" y="5374"/>
                  <a:pt x="11485" y="5457"/>
                </a:cubicBezTo>
                <a:cubicBezTo>
                  <a:pt x="11537" y="5585"/>
                  <a:pt x="11348" y="5534"/>
                  <a:pt x="11311" y="5531"/>
                </a:cubicBezTo>
              </a:path>
              <a:path w="7344" h="4962">
                <a:moveTo>
                  <a:pt x="10740" y="5060"/>
                </a:moveTo>
                <a:cubicBezTo>
                  <a:pt x="10834" y="5107"/>
                  <a:pt x="10826" y="5241"/>
                  <a:pt x="10864" y="5333"/>
                </a:cubicBezTo>
                <a:cubicBezTo>
                  <a:pt x="10887" y="5356"/>
                  <a:pt x="10895" y="5367"/>
                  <a:pt x="10889" y="5333"/>
                </a:cubicBezTo>
              </a:path>
              <a:path w="7344" h="4962">
                <a:moveTo>
                  <a:pt x="11733" y="5507"/>
                </a:moveTo>
                <a:cubicBezTo>
                  <a:pt x="11733" y="5499"/>
                  <a:pt x="11733" y="5490"/>
                  <a:pt x="11733" y="5482"/>
                </a:cubicBezTo>
                <a:cubicBezTo>
                  <a:pt x="11652" y="5509"/>
                  <a:pt x="11736" y="5661"/>
                  <a:pt x="11807" y="5680"/>
                </a:cubicBezTo>
                <a:cubicBezTo>
                  <a:pt x="12034" y="5741"/>
                  <a:pt x="12007" y="5512"/>
                  <a:pt x="11881" y="5432"/>
                </a:cubicBezTo>
              </a:path>
              <a:path w="7344" h="4962">
                <a:moveTo>
                  <a:pt x="12154" y="5556"/>
                </a:moveTo>
                <a:cubicBezTo>
                  <a:pt x="12193" y="5633"/>
                  <a:pt x="12192" y="5648"/>
                  <a:pt x="12229" y="5680"/>
                </a:cubicBezTo>
                <a:cubicBezTo>
                  <a:pt x="12229" y="5595"/>
                  <a:pt x="12216" y="5483"/>
                  <a:pt x="12303" y="5432"/>
                </a:cubicBezTo>
                <a:cubicBezTo>
                  <a:pt x="12414" y="5366"/>
                  <a:pt x="12480" y="5653"/>
                  <a:pt x="12502" y="5705"/>
                </a:cubicBezTo>
              </a:path>
              <a:path w="7344" h="4962">
                <a:moveTo>
                  <a:pt x="5879" y="7144"/>
                </a:moveTo>
                <a:cubicBezTo>
                  <a:pt x="5879" y="7119"/>
                  <a:pt x="5879" y="7111"/>
                  <a:pt x="5854" y="7119"/>
                </a:cubicBezTo>
                <a:cubicBezTo>
                  <a:pt x="5894" y="7099"/>
                  <a:pt x="5995" y="7077"/>
                  <a:pt x="6077" y="7094"/>
                </a:cubicBezTo>
                <a:cubicBezTo>
                  <a:pt x="6231" y="7126"/>
                  <a:pt x="6396" y="7174"/>
                  <a:pt x="6548" y="7218"/>
                </a:cubicBezTo>
                <a:cubicBezTo>
                  <a:pt x="6557" y="7221"/>
                  <a:pt x="6719" y="7287"/>
                  <a:pt x="6722" y="7293"/>
                </a:cubicBezTo>
                <a:cubicBezTo>
                  <a:pt x="6755" y="7372"/>
                  <a:pt x="6712" y="7513"/>
                  <a:pt x="6697" y="7590"/>
                </a:cubicBezTo>
                <a:cubicBezTo>
                  <a:pt x="6678" y="7687"/>
                  <a:pt x="6672" y="7766"/>
                  <a:pt x="6672" y="7863"/>
                </a:cubicBezTo>
                <a:cubicBezTo>
                  <a:pt x="6547" y="7882"/>
                  <a:pt x="6425" y="7874"/>
                  <a:pt x="6300" y="7888"/>
                </a:cubicBezTo>
                <a:cubicBezTo>
                  <a:pt x="6157" y="7904"/>
                  <a:pt x="5994" y="7929"/>
                  <a:pt x="5854" y="7962"/>
                </a:cubicBezTo>
                <a:cubicBezTo>
                  <a:pt x="5809" y="7973"/>
                  <a:pt x="5732" y="8007"/>
                  <a:pt x="5680" y="7987"/>
                </a:cubicBezTo>
                <a:cubicBezTo>
                  <a:pt x="5638" y="7971"/>
                  <a:pt x="5588" y="7953"/>
                  <a:pt x="5556" y="7913"/>
                </a:cubicBezTo>
                <a:cubicBezTo>
                  <a:pt x="5548" y="7896"/>
                  <a:pt x="5539" y="7880"/>
                  <a:pt x="5531" y="7863"/>
                </a:cubicBezTo>
              </a:path>
              <a:path w="7344" h="4962">
                <a:moveTo>
                  <a:pt x="5159" y="7615"/>
                </a:moveTo>
                <a:cubicBezTo>
                  <a:pt x="5229" y="7638"/>
                  <a:pt x="5298" y="7693"/>
                  <a:pt x="5358" y="7739"/>
                </a:cubicBezTo>
                <a:cubicBezTo>
                  <a:pt x="5418" y="7785"/>
                  <a:pt x="5401" y="7768"/>
                  <a:pt x="5333" y="7739"/>
                </a:cubicBezTo>
              </a:path>
              <a:path w="7344" h="4962">
                <a:moveTo>
                  <a:pt x="5457" y="7144"/>
                </a:moveTo>
                <a:cubicBezTo>
                  <a:pt x="5588" y="7078"/>
                  <a:pt x="5728" y="7038"/>
                  <a:pt x="5879" y="7045"/>
                </a:cubicBezTo>
                <a:cubicBezTo>
                  <a:pt x="5953" y="7063"/>
                  <a:pt x="5960" y="7071"/>
                  <a:pt x="6003" y="7069"/>
                </a:cubicBezTo>
              </a:path>
              <a:path w="7344" h="4962">
                <a:moveTo>
                  <a:pt x="6102" y="7441"/>
                </a:moveTo>
                <a:cubicBezTo>
                  <a:pt x="6125" y="7419"/>
                  <a:pt x="6133" y="7414"/>
                  <a:pt x="6127" y="7392"/>
                </a:cubicBezTo>
                <a:cubicBezTo>
                  <a:pt x="6120" y="7416"/>
                  <a:pt x="6043" y="7539"/>
                  <a:pt x="6077" y="7565"/>
                </a:cubicBezTo>
                <a:cubicBezTo>
                  <a:pt x="6114" y="7594"/>
                  <a:pt x="6175" y="7590"/>
                  <a:pt x="6226" y="7590"/>
                </a:cubicBezTo>
                <a:cubicBezTo>
                  <a:pt x="6273" y="7590"/>
                  <a:pt x="6399" y="7615"/>
                  <a:pt x="6424" y="7565"/>
                </a:cubicBezTo>
                <a:cubicBezTo>
                  <a:pt x="6442" y="7530"/>
                  <a:pt x="6424" y="7460"/>
                  <a:pt x="6424" y="7417"/>
                </a:cubicBezTo>
                <a:cubicBezTo>
                  <a:pt x="6326" y="7417"/>
                  <a:pt x="6244" y="7420"/>
                  <a:pt x="6152" y="7441"/>
                </a:cubicBezTo>
                <a:cubicBezTo>
                  <a:pt x="6144" y="7441"/>
                  <a:pt x="6135" y="7441"/>
                  <a:pt x="6127" y="7441"/>
                </a:cubicBezTo>
              </a:path>
              <a:path w="7344" h="4962">
                <a:moveTo>
                  <a:pt x="6276" y="7317"/>
                </a:moveTo>
                <a:cubicBezTo>
                  <a:pt x="6262" y="7277"/>
                  <a:pt x="6226" y="7293"/>
                  <a:pt x="6176" y="7293"/>
                </a:cubicBezTo>
                <a:cubicBezTo>
                  <a:pt x="6095" y="7293"/>
                  <a:pt x="6063" y="7352"/>
                  <a:pt x="6028" y="7417"/>
                </a:cubicBezTo>
                <a:cubicBezTo>
                  <a:pt x="6001" y="7467"/>
                  <a:pt x="5959" y="7502"/>
                  <a:pt x="5978" y="7565"/>
                </a:cubicBezTo>
                <a:cubicBezTo>
                  <a:pt x="6001" y="7643"/>
                  <a:pt x="6058" y="7664"/>
                  <a:pt x="6127" y="7689"/>
                </a:cubicBezTo>
                <a:cubicBezTo>
                  <a:pt x="6214" y="7720"/>
                  <a:pt x="6243" y="7753"/>
                  <a:pt x="6325" y="7714"/>
                </a:cubicBezTo>
                <a:cubicBezTo>
                  <a:pt x="6411" y="7673"/>
                  <a:pt x="6442" y="7656"/>
                  <a:pt x="6499" y="7565"/>
                </a:cubicBezTo>
                <a:cubicBezTo>
                  <a:pt x="6533" y="7510"/>
                  <a:pt x="6545" y="7417"/>
                  <a:pt x="6499" y="7392"/>
                </a:cubicBezTo>
                <a:cubicBezTo>
                  <a:pt x="6442" y="7361"/>
                  <a:pt x="6389" y="7342"/>
                  <a:pt x="6325" y="7342"/>
                </a:cubicBezTo>
                <a:cubicBezTo>
                  <a:pt x="6317" y="7342"/>
                  <a:pt x="6308" y="7342"/>
                  <a:pt x="6300" y="7342"/>
                </a:cubicBezTo>
              </a:path>
              <a:path w="7344" h="4962">
                <a:moveTo>
                  <a:pt x="6449" y="7590"/>
                </a:moveTo>
                <a:cubicBezTo>
                  <a:pt x="6486" y="7578"/>
                  <a:pt x="6507" y="7571"/>
                  <a:pt x="6548" y="7565"/>
                </a:cubicBezTo>
                <a:cubicBezTo>
                  <a:pt x="6591" y="7559"/>
                  <a:pt x="6632" y="7548"/>
                  <a:pt x="6672" y="7541"/>
                </a:cubicBezTo>
                <a:cubicBezTo>
                  <a:pt x="6722" y="7533"/>
                  <a:pt x="6781" y="7523"/>
                  <a:pt x="6821" y="7516"/>
                </a:cubicBezTo>
                <a:cubicBezTo>
                  <a:pt x="6871" y="7508"/>
                  <a:pt x="6930" y="7498"/>
                  <a:pt x="6970" y="7491"/>
                </a:cubicBezTo>
                <a:cubicBezTo>
                  <a:pt x="7022" y="7482"/>
                  <a:pt x="7094" y="7482"/>
                  <a:pt x="7144" y="7466"/>
                </a:cubicBezTo>
                <a:cubicBezTo>
                  <a:pt x="7208" y="7446"/>
                  <a:pt x="7276" y="7406"/>
                  <a:pt x="7342" y="7392"/>
                </a:cubicBezTo>
                <a:cubicBezTo>
                  <a:pt x="7384" y="7383"/>
                  <a:pt x="7425" y="7380"/>
                  <a:pt x="7466" y="7367"/>
                </a:cubicBezTo>
                <a:cubicBezTo>
                  <a:pt x="7543" y="7343"/>
                  <a:pt x="7584" y="7344"/>
                  <a:pt x="7665" y="7342"/>
                </a:cubicBezTo>
                <a:cubicBezTo>
                  <a:pt x="7726" y="7340"/>
                  <a:pt x="7836" y="7335"/>
                  <a:pt x="7888" y="7367"/>
                </a:cubicBezTo>
                <a:cubicBezTo>
                  <a:pt x="7950" y="7405"/>
                  <a:pt x="7990" y="7464"/>
                  <a:pt x="8037" y="7516"/>
                </a:cubicBezTo>
                <a:cubicBezTo>
                  <a:pt x="8098" y="7584"/>
                  <a:pt x="8154" y="7679"/>
                  <a:pt x="8186" y="7764"/>
                </a:cubicBezTo>
                <a:cubicBezTo>
                  <a:pt x="8232" y="7888"/>
                  <a:pt x="8216" y="8033"/>
                  <a:pt x="8235" y="8161"/>
                </a:cubicBezTo>
                <a:cubicBezTo>
                  <a:pt x="8263" y="8350"/>
                  <a:pt x="8232" y="8544"/>
                  <a:pt x="8260" y="8731"/>
                </a:cubicBezTo>
                <a:cubicBezTo>
                  <a:pt x="8266" y="8774"/>
                  <a:pt x="8260" y="8737"/>
                  <a:pt x="8260" y="8781"/>
                </a:cubicBezTo>
              </a:path>
              <a:path w="7344" h="4962">
                <a:moveTo>
                  <a:pt x="8235" y="6077"/>
                </a:moveTo>
                <a:cubicBezTo>
                  <a:pt x="8235" y="6025"/>
                  <a:pt x="8288" y="6142"/>
                  <a:pt x="8310" y="6176"/>
                </a:cubicBezTo>
                <a:cubicBezTo>
                  <a:pt x="8242" y="6084"/>
                  <a:pt x="8149" y="5948"/>
                  <a:pt x="8235" y="5829"/>
                </a:cubicBezTo>
                <a:cubicBezTo>
                  <a:pt x="8252" y="5821"/>
                  <a:pt x="8268" y="5812"/>
                  <a:pt x="8285" y="5804"/>
                </a:cubicBezTo>
                <a:cubicBezTo>
                  <a:pt x="8344" y="5863"/>
                  <a:pt x="8305" y="5954"/>
                  <a:pt x="8260" y="6028"/>
                </a:cubicBezTo>
                <a:cubicBezTo>
                  <a:pt x="8321" y="6040"/>
                  <a:pt x="8350" y="6122"/>
                  <a:pt x="8409" y="6102"/>
                </a:cubicBezTo>
                <a:cubicBezTo>
                  <a:pt x="8417" y="6094"/>
                  <a:pt x="8426" y="6085"/>
                  <a:pt x="8434" y="6077"/>
                </a:cubicBezTo>
              </a:path>
              <a:path w="7344" h="4962">
                <a:moveTo>
                  <a:pt x="8458" y="5928"/>
                </a:moveTo>
                <a:cubicBezTo>
                  <a:pt x="8464" y="5934"/>
                  <a:pt x="8543" y="6015"/>
                  <a:pt x="8558" y="5978"/>
                </a:cubicBezTo>
                <a:cubicBezTo>
                  <a:pt x="8558" y="5928"/>
                  <a:pt x="8558" y="5912"/>
                  <a:pt x="8558" y="5879"/>
                </a:cubicBezTo>
                <a:cubicBezTo>
                  <a:pt x="8564" y="5898"/>
                  <a:pt x="8673" y="5981"/>
                  <a:pt x="8682" y="5953"/>
                </a:cubicBezTo>
                <a:cubicBezTo>
                  <a:pt x="8682" y="5920"/>
                  <a:pt x="8682" y="5887"/>
                  <a:pt x="8682" y="5854"/>
                </a:cubicBezTo>
              </a:path>
              <a:path w="7344" h="4962">
                <a:moveTo>
                  <a:pt x="8607" y="5556"/>
                </a:moveTo>
                <a:cubicBezTo>
                  <a:pt x="8645" y="5611"/>
                  <a:pt x="8780" y="5843"/>
                  <a:pt x="8781" y="5829"/>
                </a:cubicBezTo>
                <a:cubicBezTo>
                  <a:pt x="8781" y="5771"/>
                  <a:pt x="8765" y="5747"/>
                  <a:pt x="8806" y="5755"/>
                </a:cubicBezTo>
                <a:cubicBezTo>
                  <a:pt x="8792" y="5847"/>
                  <a:pt x="8806" y="6027"/>
                  <a:pt x="8756" y="5829"/>
                </a:cubicBezTo>
              </a:path>
              <a:path w="7344" h="4962">
                <a:moveTo>
                  <a:pt x="8781" y="5482"/>
                </a:moveTo>
                <a:cubicBezTo>
                  <a:pt x="8801" y="5528"/>
                  <a:pt x="8900" y="5791"/>
                  <a:pt x="8954" y="5705"/>
                </a:cubicBezTo>
                <a:cubicBezTo>
                  <a:pt x="8962" y="5680"/>
                  <a:pt x="8971" y="5656"/>
                  <a:pt x="8979" y="5631"/>
                </a:cubicBezTo>
                <a:cubicBezTo>
                  <a:pt x="9061" y="5692"/>
                  <a:pt x="9012" y="5706"/>
                  <a:pt x="8979" y="5804"/>
                </a:cubicBezTo>
                <a:cubicBezTo>
                  <a:pt x="9000" y="5762"/>
                  <a:pt x="9065" y="5704"/>
                  <a:pt x="9103" y="5655"/>
                </a:cubicBezTo>
                <a:cubicBezTo>
                  <a:pt x="9134" y="5614"/>
                  <a:pt x="9108" y="5592"/>
                  <a:pt x="9128" y="5606"/>
                </a:cubicBezTo>
                <a:cubicBezTo>
                  <a:pt x="9164" y="5632"/>
                  <a:pt x="9159" y="5631"/>
                  <a:pt x="9203" y="5631"/>
                </a:cubicBezTo>
                <a:cubicBezTo>
                  <a:pt x="9193" y="5579"/>
                  <a:pt x="9148" y="5486"/>
                  <a:pt x="9178" y="5432"/>
                </a:cubicBezTo>
                <a:cubicBezTo>
                  <a:pt x="9213" y="5432"/>
                  <a:pt x="9230" y="5437"/>
                  <a:pt x="9252" y="5457"/>
                </a:cubicBezTo>
              </a:path>
              <a:path w="7344" h="4962">
                <a:moveTo>
                  <a:pt x="9203" y="5904"/>
                </a:moveTo>
                <a:cubicBezTo>
                  <a:pt x="9232" y="5992"/>
                  <a:pt x="9274" y="6076"/>
                  <a:pt x="9327" y="6152"/>
                </a:cubicBezTo>
                <a:cubicBezTo>
                  <a:pt x="9327" y="6094"/>
                  <a:pt x="9303" y="5977"/>
                  <a:pt x="9351" y="5928"/>
                </a:cubicBezTo>
                <a:cubicBezTo>
                  <a:pt x="9359" y="5928"/>
                  <a:pt x="9368" y="5928"/>
                  <a:pt x="9376" y="5928"/>
                </a:cubicBezTo>
                <a:cubicBezTo>
                  <a:pt x="9392" y="6031"/>
                  <a:pt x="9414" y="6107"/>
                  <a:pt x="9302" y="6152"/>
                </a:cubicBezTo>
              </a:path>
              <a:path w="7344" h="4962">
                <a:moveTo>
                  <a:pt x="9500" y="5904"/>
                </a:moveTo>
                <a:cubicBezTo>
                  <a:pt x="9422" y="5917"/>
                  <a:pt x="9451" y="5939"/>
                  <a:pt x="9451" y="6028"/>
                </a:cubicBezTo>
                <a:cubicBezTo>
                  <a:pt x="9516" y="5987"/>
                  <a:pt x="9534" y="5914"/>
                  <a:pt x="9575" y="5879"/>
                </a:cubicBezTo>
                <a:cubicBezTo>
                  <a:pt x="9595" y="5862"/>
                  <a:pt x="9630" y="5919"/>
                  <a:pt x="9649" y="5928"/>
                </a:cubicBezTo>
                <a:cubicBezTo>
                  <a:pt x="9649" y="5861"/>
                  <a:pt x="9637" y="5753"/>
                  <a:pt x="9649" y="5730"/>
                </a:cubicBezTo>
                <a:cubicBezTo>
                  <a:pt x="9739" y="5838"/>
                  <a:pt x="9742" y="5975"/>
                  <a:pt x="9847" y="5854"/>
                </a:cubicBezTo>
              </a:path>
              <a:path w="7344" h="4962">
                <a:moveTo>
                  <a:pt x="9872" y="5730"/>
                </a:moveTo>
                <a:cubicBezTo>
                  <a:pt x="9821" y="5730"/>
                  <a:pt x="9807" y="5755"/>
                  <a:pt x="9823" y="5829"/>
                </a:cubicBezTo>
                <a:cubicBezTo>
                  <a:pt x="9937" y="5947"/>
                  <a:pt x="9888" y="5535"/>
                  <a:pt x="9872" y="5482"/>
                </a:cubicBezTo>
                <a:cubicBezTo>
                  <a:pt x="9843" y="5389"/>
                  <a:pt x="9776" y="5308"/>
                  <a:pt x="9723" y="5308"/>
                </a:cubicBezTo>
                <a:cubicBezTo>
                  <a:pt x="9817" y="5438"/>
                  <a:pt x="9815" y="5667"/>
                  <a:pt x="9897" y="5829"/>
                </a:cubicBezTo>
                <a:cubicBezTo>
                  <a:pt x="9905" y="5829"/>
                  <a:pt x="9914" y="5829"/>
                  <a:pt x="9922" y="5829"/>
                </a:cubicBezTo>
              </a:path>
              <a:path w="7344" h="4962">
                <a:moveTo>
                  <a:pt x="7020" y="6375"/>
                </a:moveTo>
                <a:cubicBezTo>
                  <a:pt x="6945" y="6422"/>
                  <a:pt x="6893" y="6449"/>
                  <a:pt x="6871" y="6524"/>
                </a:cubicBezTo>
                <a:cubicBezTo>
                  <a:pt x="6909" y="6524"/>
                  <a:pt x="7099" y="6494"/>
                  <a:pt x="7045" y="6598"/>
                </a:cubicBezTo>
                <a:cubicBezTo>
                  <a:pt x="7009" y="6667"/>
                  <a:pt x="6931" y="6762"/>
                  <a:pt x="6970" y="6648"/>
                </a:cubicBezTo>
              </a:path>
              <a:path w="7344" h="4962">
                <a:moveTo>
                  <a:pt x="7144" y="6226"/>
                </a:moveTo>
                <a:cubicBezTo>
                  <a:pt x="7195" y="6355"/>
                  <a:pt x="7242" y="6457"/>
                  <a:pt x="7317" y="6573"/>
                </a:cubicBezTo>
              </a:path>
              <a:path w="7344" h="4962">
                <a:moveTo>
                  <a:pt x="7218" y="6449"/>
                </a:moveTo>
                <a:cubicBezTo>
                  <a:pt x="7316" y="6401"/>
                  <a:pt x="7315" y="6391"/>
                  <a:pt x="7417" y="6424"/>
                </a:cubicBezTo>
              </a:path>
              <a:path w="7344" h="4962">
                <a:moveTo>
                  <a:pt x="7491" y="6548"/>
                </a:moveTo>
                <a:cubicBezTo>
                  <a:pt x="7459" y="6469"/>
                  <a:pt x="7427" y="6437"/>
                  <a:pt x="7441" y="6350"/>
                </a:cubicBezTo>
                <a:cubicBezTo>
                  <a:pt x="7441" y="6342"/>
                  <a:pt x="7441" y="6333"/>
                  <a:pt x="7441" y="6325"/>
                </a:cubicBezTo>
                <a:cubicBezTo>
                  <a:pt x="7488" y="6348"/>
                  <a:pt x="7530" y="6399"/>
                  <a:pt x="7565" y="6449"/>
                </a:cubicBezTo>
              </a:path>
              <a:path w="7344" h="4962">
                <a:moveTo>
                  <a:pt x="7615" y="6350"/>
                </a:moveTo>
                <a:cubicBezTo>
                  <a:pt x="7615" y="6477"/>
                  <a:pt x="7615" y="6285"/>
                  <a:pt x="7615" y="6251"/>
                </a:cubicBezTo>
                <a:cubicBezTo>
                  <a:pt x="7633" y="6281"/>
                  <a:pt x="7639" y="6386"/>
                  <a:pt x="7689" y="6375"/>
                </a:cubicBezTo>
                <a:cubicBezTo>
                  <a:pt x="7763" y="6359"/>
                  <a:pt x="7739" y="6306"/>
                  <a:pt x="7739" y="6251"/>
                </a:cubicBezTo>
                <a:cubicBezTo>
                  <a:pt x="7854" y="6319"/>
                  <a:pt x="7889" y="6466"/>
                  <a:pt x="7913" y="6598"/>
                </a:cubicBezTo>
                <a:cubicBezTo>
                  <a:pt x="7913" y="6615"/>
                  <a:pt x="7913" y="6631"/>
                  <a:pt x="7913" y="6648"/>
                </a:cubicBezTo>
                <a:cubicBezTo>
                  <a:pt x="7820" y="6532"/>
                  <a:pt x="7771" y="6495"/>
                  <a:pt x="7913" y="6424"/>
                </a:cubicBezTo>
              </a:path>
              <a:path w="7344" h="4962">
                <a:moveTo>
                  <a:pt x="7689" y="6796"/>
                </a:moveTo>
                <a:cubicBezTo>
                  <a:pt x="7702" y="6784"/>
                  <a:pt x="7731" y="6737"/>
                  <a:pt x="7764" y="6722"/>
                </a:cubicBezTo>
                <a:cubicBezTo>
                  <a:pt x="7791" y="6710"/>
                  <a:pt x="7791" y="6714"/>
                  <a:pt x="7813" y="6697"/>
                </a:cubicBezTo>
                <a:cubicBezTo>
                  <a:pt x="7801" y="6728"/>
                  <a:pt x="7764" y="6754"/>
                  <a:pt x="7739" y="6796"/>
                </a:cubicBezTo>
                <a:cubicBezTo>
                  <a:pt x="7701" y="6859"/>
                  <a:pt x="7650" y="6905"/>
                  <a:pt x="7615" y="6970"/>
                </a:cubicBezTo>
                <a:cubicBezTo>
                  <a:pt x="7580" y="7035"/>
                  <a:pt x="7541" y="7089"/>
                  <a:pt x="7491" y="7144"/>
                </a:cubicBezTo>
                <a:cubicBezTo>
                  <a:pt x="7460" y="7178"/>
                  <a:pt x="7421" y="7227"/>
                  <a:pt x="7392" y="7268"/>
                </a:cubicBezTo>
                <a:cubicBezTo>
                  <a:pt x="7359" y="7314"/>
                  <a:pt x="7328" y="7362"/>
                  <a:pt x="7317" y="7417"/>
                </a:cubicBezTo>
                <a:cubicBezTo>
                  <a:pt x="7384" y="7409"/>
                  <a:pt x="7457" y="7402"/>
                  <a:pt x="7516" y="7367"/>
                </a:cubicBezTo>
                <a:cubicBezTo>
                  <a:pt x="7608" y="7312"/>
                  <a:pt x="7720" y="7231"/>
                  <a:pt x="7813" y="7193"/>
                </a:cubicBezTo>
                <a:cubicBezTo>
                  <a:pt x="7924" y="7148"/>
                  <a:pt x="8011" y="7108"/>
                  <a:pt x="8111" y="7045"/>
                </a:cubicBezTo>
                <a:cubicBezTo>
                  <a:pt x="8143" y="7025"/>
                  <a:pt x="8222" y="7011"/>
                  <a:pt x="8210" y="7020"/>
                </a:cubicBezTo>
                <a:cubicBezTo>
                  <a:pt x="8169" y="7045"/>
                  <a:pt x="8127" y="7069"/>
                  <a:pt x="8086" y="7094"/>
                </a:cubicBezTo>
              </a:path>
              <a:path w="7344" h="4962">
                <a:moveTo>
                  <a:pt x="7293" y="7640"/>
                </a:moveTo>
                <a:lnTo>
                  <a:pt x="7293" y="7640"/>
                </a:lnTo>
              </a:path>
              <a:path w="7344" h="4962">
                <a:moveTo>
                  <a:pt x="7317" y="7466"/>
                </a:moveTo>
                <a:cubicBezTo>
                  <a:pt x="7327" y="7426"/>
                  <a:pt x="7342" y="7400"/>
                  <a:pt x="7367" y="7367"/>
                </a:cubicBezTo>
                <a:cubicBezTo>
                  <a:pt x="7367" y="7458"/>
                  <a:pt x="7322" y="7605"/>
                  <a:pt x="7293" y="7689"/>
                </a:cubicBezTo>
                <a:cubicBezTo>
                  <a:pt x="7266" y="7767"/>
                  <a:pt x="7226" y="7839"/>
                  <a:pt x="7218" y="7913"/>
                </a:cubicBezTo>
                <a:cubicBezTo>
                  <a:pt x="7211" y="7974"/>
                  <a:pt x="7172" y="7962"/>
                  <a:pt x="7119" y="7962"/>
                </a:cubicBezTo>
                <a:cubicBezTo>
                  <a:pt x="7042" y="7962"/>
                  <a:pt x="6964" y="7948"/>
                  <a:pt x="6896" y="7987"/>
                </a:cubicBezTo>
                <a:cubicBezTo>
                  <a:pt x="6807" y="8038"/>
                  <a:pt x="6745" y="8162"/>
                  <a:pt x="6821" y="8260"/>
                </a:cubicBezTo>
                <a:cubicBezTo>
                  <a:pt x="6891" y="8351"/>
                  <a:pt x="6999" y="8374"/>
                  <a:pt x="7094" y="8310"/>
                </a:cubicBezTo>
                <a:cubicBezTo>
                  <a:pt x="7185" y="8250"/>
                  <a:pt x="7240" y="8152"/>
                  <a:pt x="7193" y="8062"/>
                </a:cubicBezTo>
                <a:cubicBezTo>
                  <a:pt x="7166" y="8010"/>
                  <a:pt x="7169" y="8000"/>
                  <a:pt x="7119" y="7987"/>
                </a:cubicBezTo>
              </a:path>
              <a:path w="7344" h="4962">
                <a:moveTo>
                  <a:pt x="7367" y="7243"/>
                </a:moveTo>
                <a:cubicBezTo>
                  <a:pt x="7367" y="7218"/>
                  <a:pt x="7367" y="7210"/>
                  <a:pt x="7367" y="7243"/>
                </a:cubicBezTo>
              </a:path>
              <a:path w="7344" h="4962">
                <a:moveTo>
                  <a:pt x="7367" y="7317"/>
                </a:moveTo>
                <a:cubicBezTo>
                  <a:pt x="7323" y="7435"/>
                  <a:pt x="7317" y="7505"/>
                  <a:pt x="7317" y="7640"/>
                </a:cubicBezTo>
                <a:cubicBezTo>
                  <a:pt x="7317" y="7747"/>
                  <a:pt x="7341" y="7860"/>
                  <a:pt x="7367" y="7962"/>
                </a:cubicBezTo>
                <a:cubicBezTo>
                  <a:pt x="7388" y="8045"/>
                  <a:pt x="7448" y="8136"/>
                  <a:pt x="7466" y="8210"/>
                </a:cubicBezTo>
                <a:cubicBezTo>
                  <a:pt x="7488" y="8298"/>
                  <a:pt x="7481" y="8419"/>
                  <a:pt x="7491" y="8508"/>
                </a:cubicBezTo>
                <a:cubicBezTo>
                  <a:pt x="7502" y="8606"/>
                  <a:pt x="7535" y="8667"/>
                  <a:pt x="7665" y="8632"/>
                </a:cubicBezTo>
                <a:cubicBezTo>
                  <a:pt x="7764" y="8606"/>
                  <a:pt x="7938" y="8474"/>
                  <a:pt x="7863" y="8359"/>
                </a:cubicBezTo>
                <a:cubicBezTo>
                  <a:pt x="7816" y="8286"/>
                  <a:pt x="7642" y="8258"/>
                  <a:pt x="7565" y="8285"/>
                </a:cubicBezTo>
                <a:cubicBezTo>
                  <a:pt x="7538" y="8295"/>
                  <a:pt x="7452" y="8344"/>
                  <a:pt x="7441" y="8384"/>
                </a:cubicBezTo>
                <a:cubicBezTo>
                  <a:pt x="7434" y="8408"/>
                  <a:pt x="7452" y="8387"/>
                  <a:pt x="7441" y="8409"/>
                </a:cubicBezTo>
              </a:path>
              <a:path w="7344" h="4962">
                <a:moveTo>
                  <a:pt x="7293" y="7739"/>
                </a:moveTo>
                <a:cubicBezTo>
                  <a:pt x="7277" y="7712"/>
                  <a:pt x="7253" y="7681"/>
                  <a:pt x="7243" y="7615"/>
                </a:cubicBezTo>
                <a:cubicBezTo>
                  <a:pt x="7226" y="7496"/>
                  <a:pt x="7288" y="7415"/>
                  <a:pt x="7342" y="7317"/>
                </a:cubicBezTo>
                <a:cubicBezTo>
                  <a:pt x="7399" y="7213"/>
                  <a:pt x="7434" y="7097"/>
                  <a:pt x="7491" y="6995"/>
                </a:cubicBezTo>
                <a:cubicBezTo>
                  <a:pt x="7542" y="6905"/>
                  <a:pt x="7608" y="6787"/>
                  <a:pt x="7640" y="6697"/>
                </a:cubicBezTo>
                <a:cubicBezTo>
                  <a:pt x="7668" y="6617"/>
                  <a:pt x="7721" y="6511"/>
                  <a:pt x="7739" y="6424"/>
                </a:cubicBezTo>
                <a:cubicBezTo>
                  <a:pt x="7750" y="6374"/>
                  <a:pt x="7747" y="6369"/>
                  <a:pt x="7739" y="6424"/>
                </a:cubicBezTo>
                <a:cubicBezTo>
                  <a:pt x="7705" y="6654"/>
                  <a:pt x="7655" y="6955"/>
                  <a:pt x="7565" y="7169"/>
                </a:cubicBezTo>
                <a:cubicBezTo>
                  <a:pt x="7536" y="7238"/>
                  <a:pt x="7485" y="7301"/>
                  <a:pt x="7466" y="7367"/>
                </a:cubicBezTo>
                <a:cubicBezTo>
                  <a:pt x="7449" y="7424"/>
                  <a:pt x="7399" y="7566"/>
                  <a:pt x="7392" y="7590"/>
                </a:cubicBezTo>
                <a:cubicBezTo>
                  <a:pt x="7469" y="7507"/>
                  <a:pt x="7581" y="7390"/>
                  <a:pt x="7665" y="7293"/>
                </a:cubicBezTo>
                <a:cubicBezTo>
                  <a:pt x="7758" y="7184"/>
                  <a:pt x="7844" y="7097"/>
                  <a:pt x="7962" y="7020"/>
                </a:cubicBezTo>
                <a:cubicBezTo>
                  <a:pt x="8016" y="6985"/>
                  <a:pt x="8090" y="6931"/>
                  <a:pt x="8136" y="6896"/>
                </a:cubicBezTo>
                <a:cubicBezTo>
                  <a:pt x="8144" y="6888"/>
                  <a:pt x="8153" y="6879"/>
                  <a:pt x="8161" y="6871"/>
                </a:cubicBezTo>
                <a:cubicBezTo>
                  <a:pt x="8080" y="6921"/>
                  <a:pt x="8041" y="6941"/>
                  <a:pt x="7962" y="6995"/>
                </a:cubicBezTo>
                <a:cubicBezTo>
                  <a:pt x="7810" y="7099"/>
                  <a:pt x="7639" y="7227"/>
                  <a:pt x="7516" y="7367"/>
                </a:cubicBezTo>
                <a:cubicBezTo>
                  <a:pt x="7451" y="7441"/>
                  <a:pt x="7393" y="7497"/>
                  <a:pt x="7342" y="7565"/>
                </a:cubicBezTo>
                <a:cubicBezTo>
                  <a:pt x="7323" y="7589"/>
                  <a:pt x="7305" y="7620"/>
                  <a:pt x="7293" y="7640"/>
                </a:cubicBezTo>
                <a:cubicBezTo>
                  <a:pt x="7259" y="7697"/>
                  <a:pt x="7268" y="7739"/>
                  <a:pt x="7268" y="7813"/>
                </a:cubicBezTo>
                <a:cubicBezTo>
                  <a:pt x="7268" y="7887"/>
                  <a:pt x="7262" y="7941"/>
                  <a:pt x="7243" y="8012"/>
                </a:cubicBezTo>
                <a:cubicBezTo>
                  <a:pt x="7238" y="8032"/>
                  <a:pt x="7207" y="8169"/>
                  <a:pt x="7193" y="8186"/>
                </a:cubicBezTo>
                <a:cubicBezTo>
                  <a:pt x="7172" y="8211"/>
                  <a:pt x="7128" y="8228"/>
                  <a:pt x="7069" y="8235"/>
                </a:cubicBezTo>
                <a:cubicBezTo>
                  <a:pt x="6999" y="8243"/>
                  <a:pt x="6922" y="8202"/>
                  <a:pt x="6896" y="8285"/>
                </a:cubicBezTo>
                <a:cubicBezTo>
                  <a:pt x="6868" y="8374"/>
                  <a:pt x="6970" y="8354"/>
                  <a:pt x="7020" y="8359"/>
                </a:cubicBezTo>
              </a:path>
              <a:path w="7344" h="4962">
                <a:moveTo>
                  <a:pt x="7739" y="9029"/>
                </a:moveTo>
                <a:cubicBezTo>
                  <a:pt x="7727" y="8993"/>
                  <a:pt x="7663" y="8991"/>
                  <a:pt x="7615" y="9004"/>
                </a:cubicBezTo>
                <a:cubicBezTo>
                  <a:pt x="7563" y="9018"/>
                  <a:pt x="7524" y="9096"/>
                  <a:pt x="7541" y="9153"/>
                </a:cubicBezTo>
                <a:cubicBezTo>
                  <a:pt x="7557" y="9208"/>
                  <a:pt x="7641" y="9173"/>
                  <a:pt x="7665" y="9153"/>
                </a:cubicBezTo>
                <a:cubicBezTo>
                  <a:pt x="7698" y="9126"/>
                  <a:pt x="7706" y="9068"/>
                  <a:pt x="7714" y="9029"/>
                </a:cubicBezTo>
                <a:cubicBezTo>
                  <a:pt x="7740" y="9064"/>
                  <a:pt x="7775" y="9227"/>
                  <a:pt x="7789" y="9302"/>
                </a:cubicBezTo>
                <a:cubicBezTo>
                  <a:pt x="7789" y="9318"/>
                  <a:pt x="7789" y="9335"/>
                  <a:pt x="7789" y="9351"/>
                </a:cubicBezTo>
              </a:path>
              <a:path w="7344" h="4962">
                <a:moveTo>
                  <a:pt x="7565" y="8905"/>
                </a:moveTo>
                <a:cubicBezTo>
                  <a:pt x="7433" y="8867"/>
                  <a:pt x="7362" y="8964"/>
                  <a:pt x="7342" y="9103"/>
                </a:cubicBezTo>
                <a:cubicBezTo>
                  <a:pt x="7312" y="9306"/>
                  <a:pt x="7465" y="9474"/>
                  <a:pt x="7665" y="9451"/>
                </a:cubicBezTo>
                <a:cubicBezTo>
                  <a:pt x="7847" y="9430"/>
                  <a:pt x="8006" y="9291"/>
                  <a:pt x="7987" y="9103"/>
                </a:cubicBezTo>
                <a:cubicBezTo>
                  <a:pt x="7979" y="9021"/>
                  <a:pt x="7837" y="8910"/>
                  <a:pt x="7789" y="8855"/>
                </a:cubicBezTo>
              </a:path>
              <a:path w="7344" h="4962">
                <a:moveTo>
                  <a:pt x="8458" y="6226"/>
                </a:moveTo>
                <a:cubicBezTo>
                  <a:pt x="8466" y="6218"/>
                  <a:pt x="8475" y="6209"/>
                  <a:pt x="8483" y="6201"/>
                </a:cubicBezTo>
              </a:path>
              <a:path w="7344" h="4962">
                <a:moveTo>
                  <a:pt x="8533" y="6176"/>
                </a:moveTo>
                <a:lnTo>
                  <a:pt x="8533" y="6176"/>
                </a:lnTo>
              </a:path>
              <a:path w="7344" h="4962">
                <a:moveTo>
                  <a:pt x="8533" y="6176"/>
                </a:moveTo>
                <a:lnTo>
                  <a:pt x="8533" y="6176"/>
                </a:lnTo>
                <a:lnTo>
                  <a:pt x="8533" y="6176"/>
                </a:lnTo>
              </a:path>
              <a:path w="7344" h="4962">
                <a:moveTo>
                  <a:pt x="8533" y="6176"/>
                </a:moveTo>
                <a:lnTo>
                  <a:pt x="8533" y="6176"/>
                </a:lnTo>
              </a:path>
              <a:path w="7344" h="4962">
                <a:moveTo>
                  <a:pt x="8682" y="6226"/>
                </a:moveTo>
                <a:cubicBezTo>
                  <a:pt x="8617" y="6235"/>
                  <a:pt x="8529" y="6284"/>
                  <a:pt x="8558" y="6375"/>
                </a:cubicBezTo>
                <a:cubicBezTo>
                  <a:pt x="8566" y="6375"/>
                  <a:pt x="8574" y="6375"/>
                  <a:pt x="8582" y="6375"/>
                </a:cubicBezTo>
                <a:cubicBezTo>
                  <a:pt x="8687" y="6314"/>
                  <a:pt x="8721" y="6319"/>
                  <a:pt x="8682" y="6226"/>
                </a:cubicBezTo>
                <a:cubicBezTo>
                  <a:pt x="8546" y="6192"/>
                  <a:pt x="8570" y="6258"/>
                  <a:pt x="8582" y="6375"/>
                </a:cubicBezTo>
                <a:cubicBezTo>
                  <a:pt x="8586" y="6412"/>
                  <a:pt x="8498" y="6451"/>
                  <a:pt x="8483" y="6499"/>
                </a:cubicBezTo>
                <a:cubicBezTo>
                  <a:pt x="8483" y="6515"/>
                  <a:pt x="8483" y="6532"/>
                  <a:pt x="8483" y="6548"/>
                </a:cubicBezTo>
                <a:cubicBezTo>
                  <a:pt x="8541" y="6524"/>
                  <a:pt x="8727" y="6464"/>
                  <a:pt x="8607" y="6375"/>
                </a:cubicBezTo>
                <a:cubicBezTo>
                  <a:pt x="8599" y="6375"/>
                  <a:pt x="8590" y="6375"/>
                  <a:pt x="8582" y="6375"/>
                </a:cubicBezTo>
              </a:path>
              <a:path w="7344" h="4962">
                <a:moveTo>
                  <a:pt x="8582" y="6077"/>
                </a:moveTo>
                <a:cubicBezTo>
                  <a:pt x="8413" y="6156"/>
                  <a:pt x="8315" y="6290"/>
                  <a:pt x="8310" y="6499"/>
                </a:cubicBezTo>
                <a:cubicBezTo>
                  <a:pt x="8303" y="6765"/>
                  <a:pt x="8641" y="6652"/>
                  <a:pt x="8756" y="6548"/>
                </a:cubicBezTo>
                <a:cubicBezTo>
                  <a:pt x="8888" y="6428"/>
                  <a:pt x="8813" y="6290"/>
                  <a:pt x="8731" y="6176"/>
                </a:cubicBezTo>
              </a:path>
              <a:path w="7344" h="4962">
                <a:moveTo>
                  <a:pt x="6846" y="8235"/>
                </a:moveTo>
                <a:cubicBezTo>
                  <a:pt x="6848" y="8227"/>
                  <a:pt x="6868" y="8138"/>
                  <a:pt x="6871" y="8136"/>
                </a:cubicBezTo>
                <a:cubicBezTo>
                  <a:pt x="6896" y="8136"/>
                  <a:pt x="6904" y="8136"/>
                  <a:pt x="6871" y="8136"/>
                </a:cubicBezTo>
                <a:cubicBezTo>
                  <a:pt x="6822" y="8175"/>
                  <a:pt x="6781" y="8191"/>
                  <a:pt x="6772" y="8260"/>
                </a:cubicBezTo>
                <a:cubicBezTo>
                  <a:pt x="6762" y="8334"/>
                  <a:pt x="6762" y="8432"/>
                  <a:pt x="6772" y="8483"/>
                </a:cubicBezTo>
                <a:cubicBezTo>
                  <a:pt x="6772" y="8491"/>
                  <a:pt x="6772" y="8500"/>
                  <a:pt x="6772" y="8508"/>
                </a:cubicBezTo>
                <a:cubicBezTo>
                  <a:pt x="6839" y="8474"/>
                  <a:pt x="6882" y="8367"/>
                  <a:pt x="6896" y="8285"/>
                </a:cubicBezTo>
                <a:cubicBezTo>
                  <a:pt x="6907" y="8217"/>
                  <a:pt x="6921" y="8156"/>
                  <a:pt x="6921" y="8086"/>
                </a:cubicBezTo>
                <a:cubicBezTo>
                  <a:pt x="6921" y="8078"/>
                  <a:pt x="6921" y="8070"/>
                  <a:pt x="6921" y="8062"/>
                </a:cubicBezTo>
                <a:cubicBezTo>
                  <a:pt x="6790" y="8006"/>
                  <a:pt x="6782" y="8091"/>
                  <a:pt x="6747" y="8210"/>
                </a:cubicBezTo>
                <a:cubicBezTo>
                  <a:pt x="6723" y="8290"/>
                  <a:pt x="6677" y="8497"/>
                  <a:pt x="6747" y="8558"/>
                </a:cubicBezTo>
                <a:cubicBezTo>
                  <a:pt x="6801" y="8605"/>
                  <a:pt x="6827" y="8560"/>
                  <a:pt x="6871" y="8533"/>
                </a:cubicBezTo>
                <a:cubicBezTo>
                  <a:pt x="6851" y="8493"/>
                  <a:pt x="6846" y="8549"/>
                  <a:pt x="6821" y="8582"/>
                </a:cubicBezTo>
              </a:path>
              <a:path w="7344" h="4962">
                <a:moveTo>
                  <a:pt x="6747" y="8285"/>
                </a:moveTo>
                <a:cubicBezTo>
                  <a:pt x="6733" y="8201"/>
                  <a:pt x="6741" y="8266"/>
                  <a:pt x="6722" y="8210"/>
                </a:cubicBezTo>
                <a:cubicBezTo>
                  <a:pt x="6722" y="8330"/>
                  <a:pt x="6766" y="8421"/>
                  <a:pt x="6796" y="8533"/>
                </a:cubicBezTo>
                <a:cubicBezTo>
                  <a:pt x="6818" y="8615"/>
                  <a:pt x="6773" y="8198"/>
                  <a:pt x="6772" y="8186"/>
                </a:cubicBezTo>
                <a:cubicBezTo>
                  <a:pt x="6767" y="8100"/>
                  <a:pt x="6752" y="7951"/>
                  <a:pt x="6747" y="8037"/>
                </a:cubicBezTo>
                <a:cubicBezTo>
                  <a:pt x="6738" y="8181"/>
                  <a:pt x="6663" y="8681"/>
                  <a:pt x="6796" y="8781"/>
                </a:cubicBezTo>
                <a:cubicBezTo>
                  <a:pt x="6796" y="8764"/>
                  <a:pt x="6796" y="8748"/>
                  <a:pt x="6796" y="8731"/>
                </a:cubicBezTo>
                <a:cubicBezTo>
                  <a:pt x="6785" y="8478"/>
                  <a:pt x="6796" y="8240"/>
                  <a:pt x="6796" y="7987"/>
                </a:cubicBezTo>
                <a:cubicBezTo>
                  <a:pt x="6768" y="8217"/>
                  <a:pt x="6775" y="8443"/>
                  <a:pt x="6796" y="8682"/>
                </a:cubicBezTo>
                <a:cubicBezTo>
                  <a:pt x="6796" y="8682"/>
                  <a:pt x="6884" y="9121"/>
                  <a:pt x="6846" y="8855"/>
                </a:cubicBezTo>
                <a:cubicBezTo>
                  <a:pt x="6835" y="8777"/>
                  <a:pt x="6810" y="8726"/>
                  <a:pt x="6796" y="8657"/>
                </a:cubicBezTo>
              </a:path>
              <a:path w="7344" h="4962">
                <a:moveTo>
                  <a:pt x="6722" y="8830"/>
                </a:moveTo>
                <a:cubicBezTo>
                  <a:pt x="6641" y="8911"/>
                  <a:pt x="6554" y="9005"/>
                  <a:pt x="6449" y="9054"/>
                </a:cubicBezTo>
                <a:cubicBezTo>
                  <a:pt x="6395" y="9079"/>
                  <a:pt x="6514" y="8966"/>
                  <a:pt x="6524" y="8954"/>
                </a:cubicBezTo>
              </a:path>
              <a:path w="7344" h="4962">
                <a:moveTo>
                  <a:pt x="6772" y="8582"/>
                </a:moveTo>
                <a:cubicBezTo>
                  <a:pt x="6682" y="8527"/>
                  <a:pt x="6599" y="8484"/>
                  <a:pt x="6524" y="8409"/>
                </a:cubicBezTo>
                <a:cubicBezTo>
                  <a:pt x="6486" y="8371"/>
                  <a:pt x="6487" y="8380"/>
                  <a:pt x="6449" y="8409"/>
                </a:cubicBezTo>
              </a:path>
              <a:path w="7344" h="4962">
                <a:moveTo>
                  <a:pt x="6325" y="8409"/>
                </a:moveTo>
                <a:cubicBezTo>
                  <a:pt x="6249" y="8523"/>
                  <a:pt x="6248" y="8619"/>
                  <a:pt x="6276" y="8756"/>
                </a:cubicBezTo>
                <a:cubicBezTo>
                  <a:pt x="6307" y="8903"/>
                  <a:pt x="6325" y="9010"/>
                  <a:pt x="6474" y="9029"/>
                </a:cubicBezTo>
                <a:cubicBezTo>
                  <a:pt x="6575" y="8928"/>
                  <a:pt x="6551" y="8825"/>
                  <a:pt x="6524" y="8682"/>
                </a:cubicBezTo>
                <a:cubicBezTo>
                  <a:pt x="6514" y="8630"/>
                  <a:pt x="6495" y="8422"/>
                  <a:pt x="6449" y="8384"/>
                </a:cubicBezTo>
                <a:cubicBezTo>
                  <a:pt x="6441" y="8384"/>
                  <a:pt x="6432" y="8384"/>
                  <a:pt x="6424" y="8384"/>
                </a:cubicBezTo>
                <a:cubicBezTo>
                  <a:pt x="6346" y="8464"/>
                  <a:pt x="6361" y="8590"/>
                  <a:pt x="6375" y="8706"/>
                </a:cubicBezTo>
              </a:path>
              <a:path w="7344" h="4962">
                <a:moveTo>
                  <a:pt x="6499" y="9128"/>
                </a:moveTo>
                <a:cubicBezTo>
                  <a:pt x="6540" y="9128"/>
                  <a:pt x="6512" y="9116"/>
                  <a:pt x="6548" y="9103"/>
                </a:cubicBezTo>
              </a:path>
              <a:path w="7344" h="4962">
                <a:moveTo>
                  <a:pt x="6573" y="9103"/>
                </a:moveTo>
                <a:cubicBezTo>
                  <a:pt x="6545" y="9103"/>
                  <a:pt x="6534" y="9105"/>
                  <a:pt x="6524" y="9128"/>
                </a:cubicBezTo>
              </a:path>
              <a:path w="7344" h="4962">
                <a:moveTo>
                  <a:pt x="7640" y="5680"/>
                </a:moveTo>
                <a:cubicBezTo>
                  <a:pt x="7647" y="5730"/>
                  <a:pt x="7658" y="5779"/>
                  <a:pt x="7665" y="5829"/>
                </a:cubicBezTo>
                <a:cubicBezTo>
                  <a:pt x="7762" y="5753"/>
                  <a:pt x="7769" y="5718"/>
                  <a:pt x="7863" y="5730"/>
                </a:cubicBezTo>
              </a:path>
              <a:path w="7344" h="4962">
                <a:moveTo>
                  <a:pt x="7813" y="5680"/>
                </a:moveTo>
                <a:cubicBezTo>
                  <a:pt x="7814" y="5686"/>
                  <a:pt x="7888" y="6035"/>
                  <a:pt x="7888" y="5953"/>
                </a:cubicBezTo>
              </a:path>
              <a:path w="7344" h="4962">
                <a:moveTo>
                  <a:pt x="7392" y="5631"/>
                </a:moveTo>
                <a:cubicBezTo>
                  <a:pt x="7392" y="5883"/>
                  <a:pt x="7423" y="6232"/>
                  <a:pt x="7789" y="6152"/>
                </a:cubicBezTo>
                <a:cubicBezTo>
                  <a:pt x="8065" y="6092"/>
                  <a:pt x="8137" y="5833"/>
                  <a:pt x="7888" y="5705"/>
                </a:cubicBezTo>
                <a:cubicBezTo>
                  <a:pt x="7797" y="5682"/>
                  <a:pt x="7761" y="5681"/>
                  <a:pt x="7813" y="5606"/>
                </a:cubicBezTo>
              </a:path>
              <a:path w="7344" h="4962">
                <a:moveTo>
                  <a:pt x="9599" y="6226"/>
                </a:moveTo>
                <a:cubicBezTo>
                  <a:pt x="9599" y="6279"/>
                  <a:pt x="9580" y="6306"/>
                  <a:pt x="9575" y="6350"/>
                </a:cubicBezTo>
                <a:cubicBezTo>
                  <a:pt x="9575" y="6358"/>
                  <a:pt x="9575" y="6367"/>
                  <a:pt x="9575" y="6375"/>
                </a:cubicBezTo>
                <a:cubicBezTo>
                  <a:pt x="9651" y="6365"/>
                  <a:pt x="9891" y="6339"/>
                  <a:pt x="9798" y="6499"/>
                </a:cubicBezTo>
                <a:cubicBezTo>
                  <a:pt x="9698" y="6670"/>
                  <a:pt x="9676" y="6612"/>
                  <a:pt x="9624" y="6499"/>
                </a:cubicBezTo>
              </a:path>
              <a:path w="7344" h="4962">
                <a:moveTo>
                  <a:pt x="9699" y="6251"/>
                </a:moveTo>
                <a:cubicBezTo>
                  <a:pt x="9791" y="6231"/>
                  <a:pt x="9869" y="6221"/>
                  <a:pt x="9947" y="6176"/>
                </a:cubicBezTo>
              </a:path>
              <a:path w="7344" h="4962">
                <a:moveTo>
                  <a:pt x="9798" y="6152"/>
                </a:moveTo>
                <a:cubicBezTo>
                  <a:pt x="9593" y="6216"/>
                  <a:pt x="9447" y="6280"/>
                  <a:pt x="9451" y="6524"/>
                </a:cubicBezTo>
                <a:cubicBezTo>
                  <a:pt x="9456" y="6817"/>
                  <a:pt x="9785" y="6749"/>
                  <a:pt x="9947" y="6648"/>
                </a:cubicBezTo>
                <a:cubicBezTo>
                  <a:pt x="10157" y="6518"/>
                  <a:pt x="10168" y="6365"/>
                  <a:pt x="9971" y="6226"/>
                </a:cubicBezTo>
                <a:cubicBezTo>
                  <a:pt x="9890" y="6185"/>
                  <a:pt x="9878" y="6169"/>
                  <a:pt x="9823" y="617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6200" y="642960"/>
            <a:ext cx="768600" cy="1170000"/>
          </a:xfrm>
          <a:custGeom>
            <a:avLst/>
            <a:gdLst/>
            <a:ahLst/>
            <a:rect l="l" t="t" r="r" b="b"/>
            <a:pathLst>
              <a:path w="2135" h="3250">
                <a:moveTo>
                  <a:pt x="14957" y="1811"/>
                </a:moveTo>
                <a:cubicBezTo>
                  <a:pt x="14919" y="1803"/>
                  <a:pt x="14893" y="1790"/>
                  <a:pt x="14858" y="1786"/>
                </a:cubicBezTo>
                <a:cubicBezTo>
                  <a:pt x="14794" y="1779"/>
                  <a:pt x="14726" y="1846"/>
                  <a:pt x="14684" y="1885"/>
                </a:cubicBezTo>
                <a:cubicBezTo>
                  <a:pt x="14633" y="1932"/>
                  <a:pt x="14628" y="1968"/>
                  <a:pt x="14585" y="2034"/>
                </a:cubicBezTo>
                <a:cubicBezTo>
                  <a:pt x="14535" y="2112"/>
                  <a:pt x="14477" y="2172"/>
                  <a:pt x="14412" y="2232"/>
                </a:cubicBezTo>
                <a:cubicBezTo>
                  <a:pt x="14371" y="2270"/>
                  <a:pt x="14245" y="2307"/>
                  <a:pt x="14188" y="2332"/>
                </a:cubicBezTo>
                <a:cubicBezTo>
                  <a:pt x="14134" y="2356"/>
                  <a:pt x="14066" y="2385"/>
                  <a:pt x="14015" y="2406"/>
                </a:cubicBezTo>
                <a:cubicBezTo>
                  <a:pt x="13990" y="2406"/>
                  <a:pt x="13982" y="2406"/>
                  <a:pt x="13965" y="2406"/>
                </a:cubicBezTo>
              </a:path>
              <a:path w="2135" h="3250">
                <a:moveTo>
                  <a:pt x="15429" y="2282"/>
                </a:moveTo>
                <a:cubicBezTo>
                  <a:pt x="15338" y="2324"/>
                  <a:pt x="15249" y="2382"/>
                  <a:pt x="15156" y="2431"/>
                </a:cubicBezTo>
                <a:cubicBezTo>
                  <a:pt x="15068" y="2477"/>
                  <a:pt x="14949" y="2499"/>
                  <a:pt x="14883" y="2580"/>
                </a:cubicBezTo>
                <a:cubicBezTo>
                  <a:pt x="14826" y="2651"/>
                  <a:pt x="14794" y="2681"/>
                  <a:pt x="14709" y="2729"/>
                </a:cubicBezTo>
                <a:cubicBezTo>
                  <a:pt x="14590" y="2796"/>
                  <a:pt x="14534" y="2750"/>
                  <a:pt x="14412" y="2778"/>
                </a:cubicBezTo>
                <a:cubicBezTo>
                  <a:pt x="14357" y="2791"/>
                  <a:pt x="14320" y="2821"/>
                  <a:pt x="14263" y="2828"/>
                </a:cubicBezTo>
              </a:path>
              <a:path w="2135" h="3250">
                <a:moveTo>
                  <a:pt x="14288" y="2877"/>
                </a:moveTo>
                <a:cubicBezTo>
                  <a:pt x="14249" y="2911"/>
                  <a:pt x="14221" y="2948"/>
                  <a:pt x="14188" y="2952"/>
                </a:cubicBezTo>
                <a:cubicBezTo>
                  <a:pt x="14134" y="2959"/>
                  <a:pt x="14091" y="3074"/>
                  <a:pt x="14064" y="3125"/>
                </a:cubicBezTo>
                <a:cubicBezTo>
                  <a:pt x="14038" y="3173"/>
                  <a:pt x="14051" y="3265"/>
                  <a:pt x="14064" y="3324"/>
                </a:cubicBezTo>
                <a:cubicBezTo>
                  <a:pt x="14085" y="3419"/>
                  <a:pt x="14158" y="3494"/>
                  <a:pt x="14139" y="3597"/>
                </a:cubicBezTo>
                <a:cubicBezTo>
                  <a:pt x="14112" y="3743"/>
                  <a:pt x="14059" y="3632"/>
                  <a:pt x="14039" y="3572"/>
                </a:cubicBezTo>
              </a:path>
              <a:path w="2135" h="3250">
                <a:moveTo>
                  <a:pt x="14039" y="2530"/>
                </a:moveTo>
                <a:cubicBezTo>
                  <a:pt x="14039" y="2502"/>
                  <a:pt x="14037" y="2491"/>
                  <a:pt x="14015" y="2480"/>
                </a:cubicBezTo>
              </a:path>
              <a:path w="2135" h="3250">
                <a:moveTo>
                  <a:pt x="13990" y="2406"/>
                </a:moveTo>
                <a:lnTo>
                  <a:pt x="13990" y="2406"/>
                </a:lnTo>
                <a:lnTo>
                  <a:pt x="13990" y="2406"/>
                </a:lnTo>
              </a:path>
              <a:path w="2135" h="3250">
                <a:moveTo>
                  <a:pt x="14039" y="2307"/>
                </a:moveTo>
                <a:cubicBezTo>
                  <a:pt x="14039" y="2268"/>
                  <a:pt x="14023" y="2282"/>
                  <a:pt x="13990" y="2282"/>
                </a:cubicBezTo>
              </a:path>
              <a:path w="2135" h="3250">
                <a:moveTo>
                  <a:pt x="13841" y="2232"/>
                </a:moveTo>
                <a:cubicBezTo>
                  <a:pt x="13841" y="2209"/>
                  <a:pt x="13918" y="2417"/>
                  <a:pt x="13940" y="2480"/>
                </a:cubicBezTo>
                <a:cubicBezTo>
                  <a:pt x="13948" y="2513"/>
                  <a:pt x="13957" y="2547"/>
                  <a:pt x="13965" y="2580"/>
                </a:cubicBezTo>
              </a:path>
              <a:path w="2135" h="3250">
                <a:moveTo>
                  <a:pt x="13444" y="2208"/>
                </a:moveTo>
                <a:cubicBezTo>
                  <a:pt x="13485" y="2221"/>
                  <a:pt x="13520" y="2335"/>
                  <a:pt x="13543" y="2381"/>
                </a:cubicBezTo>
                <a:cubicBezTo>
                  <a:pt x="13607" y="2508"/>
                  <a:pt x="13631" y="2651"/>
                  <a:pt x="13692" y="2778"/>
                </a:cubicBezTo>
                <a:cubicBezTo>
                  <a:pt x="13709" y="2814"/>
                  <a:pt x="13737" y="2835"/>
                  <a:pt x="13742" y="2877"/>
                </a:cubicBezTo>
                <a:cubicBezTo>
                  <a:pt x="13742" y="2885"/>
                  <a:pt x="13742" y="2894"/>
                  <a:pt x="13742" y="2902"/>
                </a:cubicBezTo>
              </a:path>
              <a:path w="2135" h="3250">
                <a:moveTo>
                  <a:pt x="13593" y="2629"/>
                </a:moveTo>
                <a:cubicBezTo>
                  <a:pt x="13560" y="2629"/>
                  <a:pt x="13487" y="2634"/>
                  <a:pt x="13469" y="2654"/>
                </a:cubicBezTo>
                <a:cubicBezTo>
                  <a:pt x="13434" y="2693"/>
                  <a:pt x="13409" y="2721"/>
                  <a:pt x="13395" y="2778"/>
                </a:cubicBezTo>
                <a:cubicBezTo>
                  <a:pt x="13385" y="2817"/>
                  <a:pt x="13374" y="2863"/>
                  <a:pt x="13370" y="2902"/>
                </a:cubicBezTo>
                <a:cubicBezTo>
                  <a:pt x="13362" y="2983"/>
                  <a:pt x="13372" y="3058"/>
                  <a:pt x="13395" y="3125"/>
                </a:cubicBezTo>
                <a:cubicBezTo>
                  <a:pt x="13409" y="3168"/>
                  <a:pt x="13399" y="3169"/>
                  <a:pt x="13419" y="3200"/>
                </a:cubicBezTo>
                <a:cubicBezTo>
                  <a:pt x="13443" y="3236"/>
                  <a:pt x="13481" y="3259"/>
                  <a:pt x="13494" y="3299"/>
                </a:cubicBezTo>
                <a:cubicBezTo>
                  <a:pt x="13509" y="3344"/>
                  <a:pt x="13543" y="3376"/>
                  <a:pt x="13568" y="3423"/>
                </a:cubicBezTo>
                <a:cubicBezTo>
                  <a:pt x="13591" y="3467"/>
                  <a:pt x="13609" y="3547"/>
                  <a:pt x="13618" y="3597"/>
                </a:cubicBezTo>
                <a:cubicBezTo>
                  <a:pt x="13625" y="3639"/>
                  <a:pt x="13636" y="3681"/>
                  <a:pt x="13643" y="3721"/>
                </a:cubicBezTo>
                <a:cubicBezTo>
                  <a:pt x="13653" y="3778"/>
                  <a:pt x="13642" y="3826"/>
                  <a:pt x="13618" y="3870"/>
                </a:cubicBezTo>
                <a:cubicBezTo>
                  <a:pt x="13600" y="3903"/>
                  <a:pt x="13586" y="3994"/>
                  <a:pt x="13568" y="4018"/>
                </a:cubicBezTo>
                <a:cubicBezTo>
                  <a:pt x="13543" y="4018"/>
                  <a:pt x="13535" y="4018"/>
                  <a:pt x="13519" y="4018"/>
                </a:cubicBezTo>
              </a:path>
              <a:path w="2135" h="3250">
                <a:moveTo>
                  <a:pt x="14163" y="3597"/>
                </a:moveTo>
                <a:cubicBezTo>
                  <a:pt x="14125" y="3645"/>
                  <a:pt x="14083" y="3710"/>
                  <a:pt x="14064" y="3770"/>
                </a:cubicBezTo>
                <a:cubicBezTo>
                  <a:pt x="14043" y="3837"/>
                  <a:pt x="14071" y="3916"/>
                  <a:pt x="14089" y="3969"/>
                </a:cubicBezTo>
                <a:cubicBezTo>
                  <a:pt x="14098" y="3995"/>
                  <a:pt x="14089" y="4040"/>
                  <a:pt x="14089" y="4068"/>
                </a:cubicBezTo>
              </a:path>
              <a:path w="2135" h="3250">
                <a:moveTo>
                  <a:pt x="13295" y="4242"/>
                </a:moveTo>
                <a:cubicBezTo>
                  <a:pt x="13340" y="4253"/>
                  <a:pt x="13366" y="4266"/>
                  <a:pt x="13419" y="4266"/>
                </a:cubicBezTo>
                <a:cubicBezTo>
                  <a:pt x="13563" y="4266"/>
                  <a:pt x="13711" y="4267"/>
                  <a:pt x="13841" y="4242"/>
                </a:cubicBezTo>
                <a:cubicBezTo>
                  <a:pt x="13979" y="4215"/>
                  <a:pt x="14146" y="4242"/>
                  <a:pt x="14288" y="4242"/>
                </a:cubicBezTo>
                <a:cubicBezTo>
                  <a:pt x="14310" y="4311"/>
                  <a:pt x="14312" y="4367"/>
                  <a:pt x="14312" y="4440"/>
                </a:cubicBezTo>
                <a:cubicBezTo>
                  <a:pt x="14312" y="4499"/>
                  <a:pt x="14331" y="4534"/>
                  <a:pt x="14337" y="4589"/>
                </a:cubicBezTo>
                <a:cubicBezTo>
                  <a:pt x="14337" y="4597"/>
                  <a:pt x="14337" y="4606"/>
                  <a:pt x="14337" y="4614"/>
                </a:cubicBezTo>
                <a:cubicBezTo>
                  <a:pt x="14176" y="4614"/>
                  <a:pt x="14022" y="4622"/>
                  <a:pt x="13866" y="4638"/>
                </a:cubicBezTo>
                <a:cubicBezTo>
                  <a:pt x="13771" y="4648"/>
                  <a:pt x="13688" y="4671"/>
                  <a:pt x="13593" y="4688"/>
                </a:cubicBezTo>
                <a:cubicBezTo>
                  <a:pt x="13503" y="4704"/>
                  <a:pt x="13426" y="4689"/>
                  <a:pt x="13345" y="4713"/>
                </a:cubicBezTo>
                <a:cubicBezTo>
                  <a:pt x="13337" y="4713"/>
                  <a:pt x="13328" y="4713"/>
                  <a:pt x="13320" y="4713"/>
                </a:cubicBezTo>
                <a:cubicBezTo>
                  <a:pt x="13320" y="4607"/>
                  <a:pt x="13314" y="4517"/>
                  <a:pt x="13295" y="4415"/>
                </a:cubicBezTo>
                <a:cubicBezTo>
                  <a:pt x="13288" y="4377"/>
                  <a:pt x="13295" y="4330"/>
                  <a:pt x="13295" y="4291"/>
                </a:cubicBezTo>
              </a:path>
              <a:path w="2135" h="3250">
                <a:moveTo>
                  <a:pt x="13841" y="4266"/>
                </a:moveTo>
                <a:cubicBezTo>
                  <a:pt x="13791" y="4254"/>
                  <a:pt x="13769" y="4212"/>
                  <a:pt x="13742" y="4167"/>
                </a:cubicBezTo>
                <a:cubicBezTo>
                  <a:pt x="13707" y="4108"/>
                  <a:pt x="13715" y="4129"/>
                  <a:pt x="13667" y="4093"/>
                </a:cubicBezTo>
                <a:cubicBezTo>
                  <a:pt x="13677" y="4064"/>
                  <a:pt x="13701" y="4048"/>
                  <a:pt x="13742" y="4043"/>
                </a:cubicBezTo>
                <a:cubicBezTo>
                  <a:pt x="13784" y="4038"/>
                  <a:pt x="13803" y="4022"/>
                  <a:pt x="13841" y="4018"/>
                </a:cubicBezTo>
                <a:cubicBezTo>
                  <a:pt x="13866" y="4018"/>
                  <a:pt x="13874" y="4018"/>
                  <a:pt x="13891" y="4018"/>
                </a:cubicBezTo>
                <a:cubicBezTo>
                  <a:pt x="13891" y="4079"/>
                  <a:pt x="13899" y="4117"/>
                  <a:pt x="13915" y="4167"/>
                </a:cubicBezTo>
                <a:cubicBezTo>
                  <a:pt x="13926" y="4201"/>
                  <a:pt x="13932" y="4233"/>
                  <a:pt x="13940" y="4266"/>
                </a:cubicBezTo>
              </a:path>
              <a:path w="2135" h="3250">
                <a:moveTo>
                  <a:pt x="13767" y="4266"/>
                </a:moveTo>
                <a:cubicBezTo>
                  <a:pt x="13746" y="4215"/>
                  <a:pt x="13698" y="4190"/>
                  <a:pt x="13667" y="4142"/>
                </a:cubicBezTo>
                <a:cubicBezTo>
                  <a:pt x="13641" y="4101"/>
                  <a:pt x="13588" y="4089"/>
                  <a:pt x="13568" y="4043"/>
                </a:cubicBezTo>
                <a:cubicBezTo>
                  <a:pt x="13568" y="4035"/>
                  <a:pt x="13568" y="4026"/>
                  <a:pt x="13568" y="4018"/>
                </a:cubicBezTo>
                <a:cubicBezTo>
                  <a:pt x="13631" y="4006"/>
                  <a:pt x="13677" y="3974"/>
                  <a:pt x="13742" y="3969"/>
                </a:cubicBezTo>
                <a:cubicBezTo>
                  <a:pt x="13791" y="3965"/>
                  <a:pt x="13842" y="3969"/>
                  <a:pt x="13891" y="3969"/>
                </a:cubicBezTo>
                <a:cubicBezTo>
                  <a:pt x="13891" y="4051"/>
                  <a:pt x="13893" y="4146"/>
                  <a:pt x="13915" y="4192"/>
                </a:cubicBezTo>
                <a:cubicBezTo>
                  <a:pt x="13915" y="4200"/>
                  <a:pt x="13915" y="4209"/>
                  <a:pt x="13915" y="4217"/>
                </a:cubicBezTo>
              </a:path>
              <a:path w="2135" h="3250">
                <a:moveTo>
                  <a:pt x="13816" y="4812"/>
                </a:moveTo>
                <a:cubicBezTo>
                  <a:pt x="13775" y="4812"/>
                  <a:pt x="13663" y="4814"/>
                  <a:pt x="13643" y="4862"/>
                </a:cubicBezTo>
                <a:cubicBezTo>
                  <a:pt x="13597" y="4972"/>
                  <a:pt x="13745" y="5074"/>
                  <a:pt x="13841" y="5035"/>
                </a:cubicBezTo>
                <a:cubicBezTo>
                  <a:pt x="13875" y="5021"/>
                  <a:pt x="13953" y="4897"/>
                  <a:pt x="13915" y="4862"/>
                </a:cubicBezTo>
                <a:cubicBezTo>
                  <a:pt x="13899" y="4854"/>
                  <a:pt x="13882" y="4845"/>
                  <a:pt x="13866" y="4837"/>
                </a:cubicBezTo>
              </a:path>
              <a:path w="2135" h="3250">
                <a:moveTo>
                  <a:pt x="14064" y="4862"/>
                </a:moveTo>
                <a:cubicBezTo>
                  <a:pt x="14083" y="4908"/>
                  <a:pt x="14104" y="4944"/>
                  <a:pt x="14114" y="4986"/>
                </a:cubicBezTo>
                <a:cubicBezTo>
                  <a:pt x="14114" y="4914"/>
                  <a:pt x="14131" y="4876"/>
                  <a:pt x="14163" y="4812"/>
                </a:cubicBezTo>
                <a:cubicBezTo>
                  <a:pt x="14197" y="4744"/>
                  <a:pt x="14244" y="4745"/>
                  <a:pt x="14312" y="4787"/>
                </a:cubicBezTo>
                <a:cubicBezTo>
                  <a:pt x="14359" y="4816"/>
                  <a:pt x="14375" y="4912"/>
                  <a:pt x="14387" y="49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24160" y="1177920"/>
            <a:ext cx="1643040" cy="617400"/>
          </a:xfrm>
          <a:custGeom>
            <a:avLst/>
            <a:gdLst/>
            <a:ahLst/>
            <a:rect l="l" t="t" r="r" b="b"/>
            <a:pathLst>
              <a:path w="4566" h="1713">
                <a:moveTo>
                  <a:pt x="13196" y="4291"/>
                </a:moveTo>
                <a:cubicBezTo>
                  <a:pt x="13141" y="4272"/>
                  <a:pt x="13126" y="4263"/>
                  <a:pt x="13072" y="4242"/>
                </a:cubicBezTo>
                <a:cubicBezTo>
                  <a:pt x="12976" y="4204"/>
                  <a:pt x="12872" y="4217"/>
                  <a:pt x="12774" y="4192"/>
                </a:cubicBezTo>
                <a:cubicBezTo>
                  <a:pt x="12667" y="4164"/>
                  <a:pt x="12556" y="4143"/>
                  <a:pt x="12452" y="4118"/>
                </a:cubicBezTo>
                <a:cubicBezTo>
                  <a:pt x="12343" y="4092"/>
                  <a:pt x="12239" y="4028"/>
                  <a:pt x="12129" y="3994"/>
                </a:cubicBezTo>
                <a:cubicBezTo>
                  <a:pt x="12011" y="3957"/>
                  <a:pt x="11884" y="3904"/>
                  <a:pt x="11757" y="3870"/>
                </a:cubicBezTo>
                <a:cubicBezTo>
                  <a:pt x="11628" y="3835"/>
                  <a:pt x="11514" y="3787"/>
                  <a:pt x="11385" y="3746"/>
                </a:cubicBezTo>
                <a:cubicBezTo>
                  <a:pt x="11270" y="3709"/>
                  <a:pt x="11155" y="3676"/>
                  <a:pt x="11038" y="3646"/>
                </a:cubicBezTo>
                <a:cubicBezTo>
                  <a:pt x="10792" y="3582"/>
                  <a:pt x="10540" y="3544"/>
                  <a:pt x="10294" y="3497"/>
                </a:cubicBezTo>
                <a:cubicBezTo>
                  <a:pt x="10187" y="3477"/>
                  <a:pt x="10074" y="3453"/>
                  <a:pt x="9971" y="3423"/>
                </a:cubicBezTo>
                <a:cubicBezTo>
                  <a:pt x="9860" y="3391"/>
                  <a:pt x="9739" y="3369"/>
                  <a:pt x="9624" y="3349"/>
                </a:cubicBezTo>
                <a:cubicBezTo>
                  <a:pt x="9536" y="3334"/>
                  <a:pt x="9438" y="3341"/>
                  <a:pt x="9351" y="3324"/>
                </a:cubicBezTo>
                <a:cubicBezTo>
                  <a:pt x="9297" y="3313"/>
                  <a:pt x="9230" y="3290"/>
                  <a:pt x="9178" y="3274"/>
                </a:cubicBezTo>
              </a:path>
              <a:path w="4566" h="1713">
                <a:moveTo>
                  <a:pt x="13519" y="4961"/>
                </a:moveTo>
                <a:cubicBezTo>
                  <a:pt x="13403" y="4970"/>
                  <a:pt x="13317" y="4978"/>
                  <a:pt x="13196" y="4961"/>
                </a:cubicBezTo>
                <a:cubicBezTo>
                  <a:pt x="13024" y="4937"/>
                  <a:pt x="12786" y="4898"/>
                  <a:pt x="12626" y="4837"/>
                </a:cubicBezTo>
                <a:cubicBezTo>
                  <a:pt x="12476" y="4780"/>
                  <a:pt x="12367" y="4760"/>
                  <a:pt x="12204" y="4738"/>
                </a:cubicBezTo>
                <a:cubicBezTo>
                  <a:pt x="12038" y="4716"/>
                  <a:pt x="11873" y="4677"/>
                  <a:pt x="11708" y="4663"/>
                </a:cubicBezTo>
                <a:cubicBezTo>
                  <a:pt x="11576" y="4652"/>
                  <a:pt x="11463" y="4614"/>
                  <a:pt x="11336" y="4589"/>
                </a:cubicBezTo>
                <a:cubicBezTo>
                  <a:pt x="11164" y="4555"/>
                  <a:pt x="11005" y="4488"/>
                  <a:pt x="10840" y="4440"/>
                </a:cubicBezTo>
                <a:cubicBezTo>
                  <a:pt x="10704" y="4400"/>
                  <a:pt x="10552" y="4389"/>
                  <a:pt x="10418" y="4341"/>
                </a:cubicBezTo>
                <a:cubicBezTo>
                  <a:pt x="10285" y="4293"/>
                  <a:pt x="10159" y="4255"/>
                  <a:pt x="10021" y="4217"/>
                </a:cubicBezTo>
                <a:cubicBezTo>
                  <a:pt x="9922" y="4190"/>
                  <a:pt x="9817" y="4169"/>
                  <a:pt x="9723" y="4142"/>
                </a:cubicBezTo>
                <a:cubicBezTo>
                  <a:pt x="9586" y="4103"/>
                  <a:pt x="9466" y="4066"/>
                  <a:pt x="9327" y="4043"/>
                </a:cubicBezTo>
                <a:cubicBezTo>
                  <a:pt x="9248" y="4030"/>
                  <a:pt x="9157" y="4014"/>
                  <a:pt x="9079" y="3994"/>
                </a:cubicBezTo>
                <a:cubicBezTo>
                  <a:pt x="9033" y="3982"/>
                  <a:pt x="9001" y="3980"/>
                  <a:pt x="8954" y="39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1760" y="3268800"/>
            <a:ext cx="1965240" cy="1714320"/>
          </a:xfrm>
          <a:custGeom>
            <a:avLst/>
            <a:gdLst/>
            <a:ahLst/>
            <a:rect l="l" t="t" r="r" b="b"/>
            <a:pathLst>
              <a:path w="5458" h="4763">
                <a:moveTo>
                  <a:pt x="1116" y="13692"/>
                </a:moveTo>
                <a:cubicBezTo>
                  <a:pt x="1195" y="13666"/>
                  <a:pt x="1256" y="13612"/>
                  <a:pt x="1339" y="13593"/>
                </a:cubicBezTo>
                <a:cubicBezTo>
                  <a:pt x="1358" y="13644"/>
                  <a:pt x="1390" y="13804"/>
                  <a:pt x="1315" y="13841"/>
                </a:cubicBezTo>
                <a:cubicBezTo>
                  <a:pt x="1315" y="13813"/>
                  <a:pt x="1317" y="13807"/>
                  <a:pt x="1339" y="13841"/>
                </a:cubicBezTo>
              </a:path>
              <a:path w="5458" h="4763">
                <a:moveTo>
                  <a:pt x="6573" y="9079"/>
                </a:moveTo>
                <a:cubicBezTo>
                  <a:pt x="6556" y="9112"/>
                  <a:pt x="6552" y="9125"/>
                  <a:pt x="6524" y="9178"/>
                </a:cubicBezTo>
                <a:cubicBezTo>
                  <a:pt x="6498" y="9227"/>
                  <a:pt x="6475" y="9271"/>
                  <a:pt x="6449" y="9327"/>
                </a:cubicBezTo>
                <a:cubicBezTo>
                  <a:pt x="6416" y="9400"/>
                  <a:pt x="6382" y="9481"/>
                  <a:pt x="6350" y="9550"/>
                </a:cubicBezTo>
                <a:cubicBezTo>
                  <a:pt x="6320" y="9614"/>
                  <a:pt x="6286" y="9642"/>
                  <a:pt x="6251" y="9699"/>
                </a:cubicBezTo>
                <a:cubicBezTo>
                  <a:pt x="6212" y="9761"/>
                  <a:pt x="6173" y="9839"/>
                  <a:pt x="6127" y="9897"/>
                </a:cubicBezTo>
                <a:cubicBezTo>
                  <a:pt x="6091" y="9942"/>
                  <a:pt x="6055" y="9980"/>
                  <a:pt x="6028" y="10021"/>
                </a:cubicBezTo>
                <a:cubicBezTo>
                  <a:pt x="5989" y="10079"/>
                  <a:pt x="5941" y="10137"/>
                  <a:pt x="5904" y="10195"/>
                </a:cubicBezTo>
                <a:cubicBezTo>
                  <a:pt x="5862" y="10260"/>
                  <a:pt x="5820" y="10327"/>
                  <a:pt x="5779" y="10393"/>
                </a:cubicBezTo>
                <a:cubicBezTo>
                  <a:pt x="5738" y="10459"/>
                  <a:pt x="5695" y="10525"/>
                  <a:pt x="5655" y="10592"/>
                </a:cubicBezTo>
                <a:cubicBezTo>
                  <a:pt x="5617" y="10655"/>
                  <a:pt x="5563" y="10725"/>
                  <a:pt x="5531" y="10790"/>
                </a:cubicBezTo>
                <a:cubicBezTo>
                  <a:pt x="5498" y="10858"/>
                  <a:pt x="5463" y="10928"/>
                  <a:pt x="5432" y="10988"/>
                </a:cubicBezTo>
                <a:cubicBezTo>
                  <a:pt x="5401" y="11050"/>
                  <a:pt x="5368" y="11104"/>
                  <a:pt x="5333" y="11162"/>
                </a:cubicBezTo>
                <a:cubicBezTo>
                  <a:pt x="5284" y="11244"/>
                  <a:pt x="5245" y="11325"/>
                  <a:pt x="5209" y="11410"/>
                </a:cubicBezTo>
                <a:cubicBezTo>
                  <a:pt x="5174" y="11491"/>
                  <a:pt x="5146" y="11577"/>
                  <a:pt x="5110" y="11658"/>
                </a:cubicBezTo>
                <a:cubicBezTo>
                  <a:pt x="5076" y="11733"/>
                  <a:pt x="5025" y="11775"/>
                  <a:pt x="4986" y="11832"/>
                </a:cubicBezTo>
                <a:cubicBezTo>
                  <a:pt x="4923" y="11924"/>
                  <a:pt x="4865" y="12030"/>
                  <a:pt x="4812" y="12129"/>
                </a:cubicBezTo>
                <a:cubicBezTo>
                  <a:pt x="4760" y="12227"/>
                  <a:pt x="4712" y="12329"/>
                  <a:pt x="4663" y="12427"/>
                </a:cubicBezTo>
                <a:cubicBezTo>
                  <a:pt x="4618" y="12517"/>
                  <a:pt x="4582" y="12608"/>
                  <a:pt x="4539" y="12700"/>
                </a:cubicBezTo>
                <a:cubicBezTo>
                  <a:pt x="4507" y="12768"/>
                  <a:pt x="4479" y="12796"/>
                  <a:pt x="4440" y="12849"/>
                </a:cubicBezTo>
                <a:cubicBezTo>
                  <a:pt x="4415" y="12883"/>
                  <a:pt x="4354" y="12929"/>
                  <a:pt x="4341" y="12948"/>
                </a:cubicBezTo>
                <a:cubicBezTo>
                  <a:pt x="4303" y="13002"/>
                  <a:pt x="4283" y="13070"/>
                  <a:pt x="4242" y="13122"/>
                </a:cubicBezTo>
                <a:cubicBezTo>
                  <a:pt x="4230" y="13137"/>
                  <a:pt x="4191" y="13166"/>
                  <a:pt x="4167" y="13196"/>
                </a:cubicBezTo>
                <a:cubicBezTo>
                  <a:pt x="4133" y="13238"/>
                  <a:pt x="4102" y="13279"/>
                  <a:pt x="4068" y="13320"/>
                </a:cubicBezTo>
              </a:path>
              <a:path w="5458" h="4763">
                <a:moveTo>
                  <a:pt x="6424" y="9153"/>
                </a:moveTo>
                <a:cubicBezTo>
                  <a:pt x="6380" y="9205"/>
                  <a:pt x="6320" y="9253"/>
                  <a:pt x="6276" y="9327"/>
                </a:cubicBezTo>
                <a:cubicBezTo>
                  <a:pt x="6208" y="9441"/>
                  <a:pt x="6160" y="9560"/>
                  <a:pt x="6102" y="9674"/>
                </a:cubicBezTo>
                <a:cubicBezTo>
                  <a:pt x="6060" y="9757"/>
                  <a:pt x="5999" y="9838"/>
                  <a:pt x="5953" y="9922"/>
                </a:cubicBezTo>
                <a:cubicBezTo>
                  <a:pt x="5906" y="10007"/>
                  <a:pt x="5868" y="10091"/>
                  <a:pt x="5804" y="10170"/>
                </a:cubicBezTo>
                <a:cubicBezTo>
                  <a:pt x="5732" y="10258"/>
                  <a:pt x="5707" y="10292"/>
                  <a:pt x="5655" y="10393"/>
                </a:cubicBezTo>
                <a:cubicBezTo>
                  <a:pt x="5603" y="10495"/>
                  <a:pt x="5552" y="10587"/>
                  <a:pt x="5507" y="10691"/>
                </a:cubicBezTo>
                <a:cubicBezTo>
                  <a:pt x="5468" y="10782"/>
                  <a:pt x="5407" y="10853"/>
                  <a:pt x="5358" y="10939"/>
                </a:cubicBezTo>
                <a:cubicBezTo>
                  <a:pt x="5298" y="11044"/>
                  <a:pt x="5239" y="11153"/>
                  <a:pt x="5184" y="11261"/>
                </a:cubicBezTo>
                <a:cubicBezTo>
                  <a:pt x="5096" y="11434"/>
                  <a:pt x="5004" y="11581"/>
                  <a:pt x="4887" y="11733"/>
                </a:cubicBezTo>
                <a:cubicBezTo>
                  <a:pt x="4808" y="11836"/>
                  <a:pt x="4780" y="11945"/>
                  <a:pt x="4713" y="12055"/>
                </a:cubicBezTo>
                <a:cubicBezTo>
                  <a:pt x="4652" y="12155"/>
                  <a:pt x="4588" y="12245"/>
                  <a:pt x="4539" y="12353"/>
                </a:cubicBezTo>
                <a:cubicBezTo>
                  <a:pt x="4498" y="12443"/>
                  <a:pt x="4467" y="12473"/>
                  <a:pt x="4415" y="12551"/>
                </a:cubicBezTo>
                <a:cubicBezTo>
                  <a:pt x="4378" y="12606"/>
                  <a:pt x="4345" y="12664"/>
                  <a:pt x="4316" y="12725"/>
                </a:cubicBezTo>
                <a:cubicBezTo>
                  <a:pt x="4286" y="12787"/>
                  <a:pt x="4253" y="12840"/>
                  <a:pt x="4217" y="12898"/>
                </a:cubicBezTo>
                <a:cubicBezTo>
                  <a:pt x="4192" y="12938"/>
                  <a:pt x="4164" y="12986"/>
                  <a:pt x="4142" y="13022"/>
                </a:cubicBezTo>
                <a:cubicBezTo>
                  <a:pt x="4125" y="13051"/>
                  <a:pt x="4026" y="13164"/>
                  <a:pt x="4043" y="13196"/>
                </a:cubicBezTo>
                <a:cubicBezTo>
                  <a:pt x="4101" y="13196"/>
                  <a:pt x="4136" y="13216"/>
                  <a:pt x="4167" y="132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56320" y="455760"/>
            <a:ext cx="768600" cy="1955520"/>
          </a:xfrm>
          <a:custGeom>
            <a:avLst/>
            <a:gdLst/>
            <a:ahLst/>
            <a:rect l="l" t="t" r="r" b="b"/>
            <a:pathLst>
              <a:path w="2134" h="5433">
                <a:moveTo>
                  <a:pt x="21679" y="2431"/>
                </a:moveTo>
                <a:lnTo>
                  <a:pt x="21679" y="2431"/>
                </a:lnTo>
                <a:lnTo>
                  <a:pt x="21679" y="2431"/>
                </a:lnTo>
              </a:path>
              <a:path w="2134" h="5433">
                <a:moveTo>
                  <a:pt x="21729" y="2406"/>
                </a:moveTo>
                <a:cubicBezTo>
                  <a:pt x="21720" y="2434"/>
                  <a:pt x="21666" y="2542"/>
                  <a:pt x="21654" y="2604"/>
                </a:cubicBezTo>
                <a:cubicBezTo>
                  <a:pt x="21622" y="2767"/>
                  <a:pt x="21650" y="2937"/>
                  <a:pt x="21630" y="3101"/>
                </a:cubicBezTo>
                <a:cubicBezTo>
                  <a:pt x="21611" y="3257"/>
                  <a:pt x="21623" y="3416"/>
                  <a:pt x="21605" y="3572"/>
                </a:cubicBezTo>
                <a:cubicBezTo>
                  <a:pt x="21584" y="3756"/>
                  <a:pt x="21580" y="3932"/>
                  <a:pt x="21580" y="4118"/>
                </a:cubicBezTo>
                <a:cubicBezTo>
                  <a:pt x="21580" y="4385"/>
                  <a:pt x="21575" y="4647"/>
                  <a:pt x="21555" y="4911"/>
                </a:cubicBezTo>
                <a:cubicBezTo>
                  <a:pt x="21537" y="5141"/>
                  <a:pt x="21546" y="5377"/>
                  <a:pt x="21530" y="5606"/>
                </a:cubicBezTo>
                <a:cubicBezTo>
                  <a:pt x="21521" y="5740"/>
                  <a:pt x="21509" y="5868"/>
                  <a:pt x="21506" y="6003"/>
                </a:cubicBezTo>
                <a:cubicBezTo>
                  <a:pt x="21504" y="6102"/>
                  <a:pt x="21506" y="6201"/>
                  <a:pt x="21506" y="6300"/>
                </a:cubicBezTo>
                <a:cubicBezTo>
                  <a:pt x="21376" y="6294"/>
                  <a:pt x="21261" y="6274"/>
                  <a:pt x="21134" y="6300"/>
                </a:cubicBezTo>
                <a:cubicBezTo>
                  <a:pt x="21005" y="6326"/>
                  <a:pt x="20829" y="6403"/>
                  <a:pt x="20737" y="6499"/>
                </a:cubicBezTo>
                <a:cubicBezTo>
                  <a:pt x="20715" y="6521"/>
                  <a:pt x="20706" y="6526"/>
                  <a:pt x="20712" y="6548"/>
                </a:cubicBezTo>
                <a:cubicBezTo>
                  <a:pt x="20800" y="6612"/>
                  <a:pt x="20747" y="6636"/>
                  <a:pt x="20886" y="6598"/>
                </a:cubicBezTo>
                <a:cubicBezTo>
                  <a:pt x="20932" y="6598"/>
                  <a:pt x="20958" y="6586"/>
                  <a:pt x="20985" y="6548"/>
                </a:cubicBezTo>
              </a:path>
              <a:path w="2134" h="5433">
                <a:moveTo>
                  <a:pt x="21530" y="6251"/>
                </a:moveTo>
                <a:cubicBezTo>
                  <a:pt x="21547" y="6243"/>
                  <a:pt x="21563" y="6234"/>
                  <a:pt x="21580" y="6226"/>
                </a:cubicBezTo>
              </a:path>
              <a:path w="2134" h="5433">
                <a:moveTo>
                  <a:pt x="21630" y="6201"/>
                </a:moveTo>
                <a:cubicBezTo>
                  <a:pt x="21703" y="6209"/>
                  <a:pt x="21761" y="6227"/>
                  <a:pt x="21828" y="6251"/>
                </a:cubicBezTo>
                <a:cubicBezTo>
                  <a:pt x="21910" y="6281"/>
                  <a:pt x="22028" y="6327"/>
                  <a:pt x="22101" y="6375"/>
                </a:cubicBezTo>
                <a:cubicBezTo>
                  <a:pt x="22201" y="6441"/>
                  <a:pt x="22272" y="6561"/>
                  <a:pt x="22349" y="6648"/>
                </a:cubicBezTo>
                <a:cubicBezTo>
                  <a:pt x="22388" y="6686"/>
                  <a:pt x="22389" y="6703"/>
                  <a:pt x="22423" y="6697"/>
                </a:cubicBezTo>
                <a:cubicBezTo>
                  <a:pt x="22285" y="6680"/>
                  <a:pt x="22146" y="6632"/>
                  <a:pt x="22002" y="6623"/>
                </a:cubicBezTo>
                <a:cubicBezTo>
                  <a:pt x="21790" y="6609"/>
                  <a:pt x="21545" y="6629"/>
                  <a:pt x="21332" y="6648"/>
                </a:cubicBezTo>
                <a:cubicBezTo>
                  <a:pt x="21276" y="6653"/>
                  <a:pt x="21015" y="6720"/>
                  <a:pt x="20960" y="6672"/>
                </a:cubicBezTo>
                <a:cubicBezTo>
                  <a:pt x="20960" y="6647"/>
                  <a:pt x="20960" y="6623"/>
                  <a:pt x="20960" y="6598"/>
                </a:cubicBezTo>
              </a:path>
              <a:path w="2134" h="5433">
                <a:moveTo>
                  <a:pt x="21630" y="6300"/>
                </a:moveTo>
                <a:cubicBezTo>
                  <a:pt x="21651" y="6182"/>
                  <a:pt x="21642" y="6074"/>
                  <a:pt x="21654" y="5953"/>
                </a:cubicBezTo>
                <a:cubicBezTo>
                  <a:pt x="21673" y="5757"/>
                  <a:pt x="21677" y="5552"/>
                  <a:pt x="21704" y="5358"/>
                </a:cubicBezTo>
                <a:cubicBezTo>
                  <a:pt x="21724" y="5214"/>
                  <a:pt x="21709" y="5103"/>
                  <a:pt x="21704" y="4961"/>
                </a:cubicBezTo>
                <a:cubicBezTo>
                  <a:pt x="21700" y="4856"/>
                  <a:pt x="21721" y="4763"/>
                  <a:pt x="21729" y="4663"/>
                </a:cubicBezTo>
                <a:cubicBezTo>
                  <a:pt x="21747" y="4448"/>
                  <a:pt x="21735" y="4232"/>
                  <a:pt x="21754" y="4018"/>
                </a:cubicBezTo>
                <a:cubicBezTo>
                  <a:pt x="21765" y="3895"/>
                  <a:pt x="21770" y="3767"/>
                  <a:pt x="21779" y="3646"/>
                </a:cubicBezTo>
                <a:cubicBezTo>
                  <a:pt x="21785" y="3561"/>
                  <a:pt x="21796" y="3482"/>
                  <a:pt x="21803" y="3398"/>
                </a:cubicBezTo>
                <a:cubicBezTo>
                  <a:pt x="21812" y="3299"/>
                  <a:pt x="21825" y="3200"/>
                  <a:pt x="21828" y="3101"/>
                </a:cubicBezTo>
                <a:cubicBezTo>
                  <a:pt x="21832" y="2973"/>
                  <a:pt x="21840" y="2852"/>
                  <a:pt x="21853" y="2729"/>
                </a:cubicBezTo>
                <a:cubicBezTo>
                  <a:pt x="21865" y="2618"/>
                  <a:pt x="21891" y="2488"/>
                  <a:pt x="21779" y="2456"/>
                </a:cubicBezTo>
                <a:cubicBezTo>
                  <a:pt x="21668" y="2424"/>
                  <a:pt x="21653" y="2459"/>
                  <a:pt x="21605" y="2530"/>
                </a:cubicBezTo>
              </a:path>
              <a:path w="2134" h="5433">
                <a:moveTo>
                  <a:pt x="21927" y="5730"/>
                </a:moveTo>
                <a:cubicBezTo>
                  <a:pt x="21927" y="5697"/>
                  <a:pt x="21927" y="5664"/>
                  <a:pt x="21927" y="5631"/>
                </a:cubicBezTo>
                <a:cubicBezTo>
                  <a:pt x="21910" y="5773"/>
                  <a:pt x="21903" y="5908"/>
                  <a:pt x="21903" y="6052"/>
                </a:cubicBezTo>
                <a:cubicBezTo>
                  <a:pt x="21903" y="6227"/>
                  <a:pt x="21903" y="6119"/>
                  <a:pt x="21927" y="6176"/>
                </a:cubicBezTo>
                <a:cubicBezTo>
                  <a:pt x="22050" y="6194"/>
                  <a:pt x="22170" y="6176"/>
                  <a:pt x="22299" y="6176"/>
                </a:cubicBezTo>
                <a:cubicBezTo>
                  <a:pt x="22379" y="6176"/>
                  <a:pt x="22444" y="6201"/>
                  <a:pt x="22523" y="6201"/>
                </a:cubicBezTo>
                <a:cubicBezTo>
                  <a:pt x="22563" y="6201"/>
                  <a:pt x="22673" y="6161"/>
                  <a:pt x="22696" y="6176"/>
                </a:cubicBezTo>
                <a:cubicBezTo>
                  <a:pt x="22706" y="6183"/>
                  <a:pt x="22729" y="6224"/>
                  <a:pt x="22771" y="6201"/>
                </a:cubicBezTo>
                <a:cubicBezTo>
                  <a:pt x="22817" y="6176"/>
                  <a:pt x="22817" y="6177"/>
                  <a:pt x="22820" y="6127"/>
                </a:cubicBezTo>
                <a:cubicBezTo>
                  <a:pt x="22827" y="5997"/>
                  <a:pt x="22859" y="5859"/>
                  <a:pt x="22845" y="5730"/>
                </a:cubicBezTo>
                <a:cubicBezTo>
                  <a:pt x="22838" y="5668"/>
                  <a:pt x="22820" y="5620"/>
                  <a:pt x="22820" y="5556"/>
                </a:cubicBezTo>
                <a:cubicBezTo>
                  <a:pt x="22730" y="5571"/>
                  <a:pt x="22671" y="5559"/>
                  <a:pt x="22572" y="5556"/>
                </a:cubicBezTo>
                <a:cubicBezTo>
                  <a:pt x="22435" y="5551"/>
                  <a:pt x="22308" y="5550"/>
                  <a:pt x="22175" y="5531"/>
                </a:cubicBezTo>
                <a:cubicBezTo>
                  <a:pt x="22112" y="5522"/>
                  <a:pt x="22045" y="5556"/>
                  <a:pt x="21977" y="5556"/>
                </a:cubicBezTo>
                <a:cubicBezTo>
                  <a:pt x="21944" y="5556"/>
                  <a:pt x="21911" y="5556"/>
                  <a:pt x="21878" y="5556"/>
                </a:cubicBezTo>
              </a:path>
              <a:path w="2134" h="5433">
                <a:moveTo>
                  <a:pt x="22275" y="5829"/>
                </a:moveTo>
                <a:cubicBezTo>
                  <a:pt x="22289" y="5754"/>
                  <a:pt x="22336" y="5695"/>
                  <a:pt x="22374" y="5631"/>
                </a:cubicBezTo>
                <a:cubicBezTo>
                  <a:pt x="22408" y="5574"/>
                  <a:pt x="22410" y="5597"/>
                  <a:pt x="22423" y="5556"/>
                </a:cubicBezTo>
                <a:cubicBezTo>
                  <a:pt x="22455" y="5577"/>
                  <a:pt x="22484" y="5695"/>
                  <a:pt x="22498" y="5755"/>
                </a:cubicBezTo>
                <a:cubicBezTo>
                  <a:pt x="22508" y="5795"/>
                  <a:pt x="22552" y="5779"/>
                  <a:pt x="22597" y="5779"/>
                </a:cubicBezTo>
                <a:cubicBezTo>
                  <a:pt x="22638" y="5779"/>
                  <a:pt x="22680" y="5779"/>
                  <a:pt x="22721" y="5779"/>
                </a:cubicBezTo>
                <a:cubicBezTo>
                  <a:pt x="22701" y="5820"/>
                  <a:pt x="22635" y="5883"/>
                  <a:pt x="22597" y="5928"/>
                </a:cubicBezTo>
                <a:cubicBezTo>
                  <a:pt x="22566" y="5965"/>
                  <a:pt x="22483" y="5957"/>
                  <a:pt x="22498" y="6003"/>
                </a:cubicBezTo>
                <a:cubicBezTo>
                  <a:pt x="22514" y="6052"/>
                  <a:pt x="22574" y="6080"/>
                  <a:pt x="22597" y="6127"/>
                </a:cubicBezTo>
                <a:cubicBezTo>
                  <a:pt x="22597" y="6155"/>
                  <a:pt x="22599" y="6166"/>
                  <a:pt x="22622" y="6176"/>
                </a:cubicBezTo>
                <a:cubicBezTo>
                  <a:pt x="22550" y="6176"/>
                  <a:pt x="22512" y="6160"/>
                  <a:pt x="22448" y="6127"/>
                </a:cubicBezTo>
                <a:cubicBezTo>
                  <a:pt x="22430" y="6118"/>
                  <a:pt x="22332" y="6090"/>
                  <a:pt x="22324" y="6077"/>
                </a:cubicBezTo>
                <a:cubicBezTo>
                  <a:pt x="22297" y="6036"/>
                  <a:pt x="22233" y="6109"/>
                  <a:pt x="22175" y="6127"/>
                </a:cubicBezTo>
                <a:cubicBezTo>
                  <a:pt x="22140" y="6127"/>
                  <a:pt x="22123" y="6132"/>
                  <a:pt x="22101" y="6152"/>
                </a:cubicBezTo>
                <a:cubicBezTo>
                  <a:pt x="22109" y="6102"/>
                  <a:pt x="22120" y="6028"/>
                  <a:pt x="22175" y="6003"/>
                </a:cubicBezTo>
                <a:cubicBezTo>
                  <a:pt x="22214" y="5985"/>
                  <a:pt x="22223" y="5973"/>
                  <a:pt x="22275" y="5928"/>
                </a:cubicBezTo>
                <a:cubicBezTo>
                  <a:pt x="22221" y="5906"/>
                  <a:pt x="22180" y="5872"/>
                  <a:pt x="22126" y="5854"/>
                </a:cubicBezTo>
                <a:cubicBezTo>
                  <a:pt x="22094" y="5843"/>
                  <a:pt x="22018" y="5829"/>
                  <a:pt x="22051" y="5829"/>
                </a:cubicBezTo>
                <a:cubicBezTo>
                  <a:pt x="22059" y="5829"/>
                  <a:pt x="22068" y="5829"/>
                  <a:pt x="22076" y="5829"/>
                </a:cubicBezTo>
                <a:cubicBezTo>
                  <a:pt x="22108" y="5821"/>
                  <a:pt x="22143" y="5815"/>
                  <a:pt x="22175" y="5804"/>
                </a:cubicBezTo>
                <a:cubicBezTo>
                  <a:pt x="22229" y="5785"/>
                  <a:pt x="22244" y="5779"/>
                  <a:pt x="22299" y="5779"/>
                </a:cubicBezTo>
              </a:path>
              <a:path w="2134" h="5433">
                <a:moveTo>
                  <a:pt x="21977" y="5531"/>
                </a:moveTo>
                <a:cubicBezTo>
                  <a:pt x="21980" y="5519"/>
                  <a:pt x="22000" y="5457"/>
                  <a:pt x="22002" y="5407"/>
                </a:cubicBezTo>
                <a:cubicBezTo>
                  <a:pt x="22004" y="5346"/>
                  <a:pt x="22022" y="5282"/>
                  <a:pt x="22027" y="5234"/>
                </a:cubicBezTo>
                <a:cubicBezTo>
                  <a:pt x="22040" y="5114"/>
                  <a:pt x="22042" y="4977"/>
                  <a:pt x="22051" y="4862"/>
                </a:cubicBezTo>
                <a:cubicBezTo>
                  <a:pt x="22067" y="4646"/>
                  <a:pt x="22054" y="4431"/>
                  <a:pt x="22076" y="4217"/>
                </a:cubicBezTo>
                <a:cubicBezTo>
                  <a:pt x="22083" y="4146"/>
                  <a:pt x="22056" y="4081"/>
                  <a:pt x="22051" y="4018"/>
                </a:cubicBezTo>
                <a:cubicBezTo>
                  <a:pt x="22043" y="3919"/>
                  <a:pt x="22035" y="3814"/>
                  <a:pt x="22027" y="3721"/>
                </a:cubicBezTo>
                <a:cubicBezTo>
                  <a:pt x="22021" y="3645"/>
                  <a:pt x="22009" y="3567"/>
                  <a:pt x="22002" y="3497"/>
                </a:cubicBezTo>
                <a:cubicBezTo>
                  <a:pt x="21978" y="3255"/>
                  <a:pt x="22058" y="2950"/>
                  <a:pt x="21977" y="2729"/>
                </a:cubicBezTo>
                <a:cubicBezTo>
                  <a:pt x="21965" y="2695"/>
                  <a:pt x="21976" y="2671"/>
                  <a:pt x="21952" y="2654"/>
                </a:cubicBezTo>
                <a:cubicBezTo>
                  <a:pt x="21922" y="2633"/>
                  <a:pt x="21912" y="2616"/>
                  <a:pt x="21878" y="2604"/>
                </a:cubicBezTo>
                <a:cubicBezTo>
                  <a:pt x="21840" y="2591"/>
                  <a:pt x="21796" y="2594"/>
                  <a:pt x="21754" y="2580"/>
                </a:cubicBezTo>
                <a:cubicBezTo>
                  <a:pt x="21699" y="2561"/>
                  <a:pt x="21667" y="2546"/>
                  <a:pt x="21605" y="2555"/>
                </a:cubicBezTo>
                <a:cubicBezTo>
                  <a:pt x="21543" y="2564"/>
                  <a:pt x="21530" y="2549"/>
                  <a:pt x="21481" y="2555"/>
                </a:cubicBezTo>
                <a:cubicBezTo>
                  <a:pt x="21423" y="2562"/>
                  <a:pt x="21382" y="2596"/>
                  <a:pt x="21332" y="2629"/>
                </a:cubicBezTo>
                <a:cubicBezTo>
                  <a:pt x="21273" y="2668"/>
                  <a:pt x="21247" y="2695"/>
                  <a:pt x="21208" y="2753"/>
                </a:cubicBezTo>
                <a:cubicBezTo>
                  <a:pt x="21191" y="2778"/>
                  <a:pt x="21198" y="2776"/>
                  <a:pt x="21183" y="2803"/>
                </a:cubicBezTo>
              </a:path>
              <a:path w="2134" h="5433">
                <a:moveTo>
                  <a:pt x="21580" y="2654"/>
                </a:moveTo>
                <a:cubicBezTo>
                  <a:pt x="21446" y="2677"/>
                  <a:pt x="21480" y="2721"/>
                  <a:pt x="21406" y="2803"/>
                </a:cubicBezTo>
                <a:cubicBezTo>
                  <a:pt x="21371" y="2842"/>
                  <a:pt x="21376" y="2895"/>
                  <a:pt x="21406" y="2952"/>
                </a:cubicBezTo>
                <a:cubicBezTo>
                  <a:pt x="21442" y="3020"/>
                  <a:pt x="21516" y="3104"/>
                  <a:pt x="21605" y="3101"/>
                </a:cubicBezTo>
                <a:cubicBezTo>
                  <a:pt x="21714" y="3097"/>
                  <a:pt x="21770" y="3056"/>
                  <a:pt x="21853" y="3001"/>
                </a:cubicBezTo>
                <a:cubicBezTo>
                  <a:pt x="21930" y="2950"/>
                  <a:pt x="21972" y="2925"/>
                  <a:pt x="21977" y="2828"/>
                </a:cubicBezTo>
                <a:cubicBezTo>
                  <a:pt x="21981" y="2761"/>
                  <a:pt x="21946" y="2703"/>
                  <a:pt x="21903" y="2654"/>
                </a:cubicBezTo>
                <a:cubicBezTo>
                  <a:pt x="21827" y="2568"/>
                  <a:pt x="21697" y="2670"/>
                  <a:pt x="21630" y="2704"/>
                </a:cubicBezTo>
              </a:path>
              <a:path w="2134" h="5433">
                <a:moveTo>
                  <a:pt x="21803" y="1439"/>
                </a:moveTo>
                <a:cubicBezTo>
                  <a:pt x="21851" y="1470"/>
                  <a:pt x="21806" y="1639"/>
                  <a:pt x="21803" y="1712"/>
                </a:cubicBezTo>
                <a:cubicBezTo>
                  <a:pt x="21801" y="1773"/>
                  <a:pt x="21837" y="1877"/>
                  <a:pt x="21779" y="1736"/>
                </a:cubicBezTo>
              </a:path>
              <a:path w="2134" h="5433">
                <a:moveTo>
                  <a:pt x="21878" y="1265"/>
                </a:moveTo>
                <a:cubicBezTo>
                  <a:pt x="21789" y="1265"/>
                  <a:pt x="21727" y="1282"/>
                  <a:pt x="21654" y="1339"/>
                </a:cubicBezTo>
                <a:cubicBezTo>
                  <a:pt x="21569" y="1405"/>
                  <a:pt x="21498" y="1557"/>
                  <a:pt x="21506" y="1662"/>
                </a:cubicBezTo>
                <a:cubicBezTo>
                  <a:pt x="21517" y="1811"/>
                  <a:pt x="21653" y="1950"/>
                  <a:pt x="21803" y="1984"/>
                </a:cubicBezTo>
                <a:cubicBezTo>
                  <a:pt x="21934" y="2014"/>
                  <a:pt x="21974" y="1948"/>
                  <a:pt x="22027" y="1860"/>
                </a:cubicBezTo>
                <a:cubicBezTo>
                  <a:pt x="22082" y="1767"/>
                  <a:pt x="22142" y="1626"/>
                  <a:pt x="22101" y="1513"/>
                </a:cubicBezTo>
                <a:cubicBezTo>
                  <a:pt x="22082" y="1461"/>
                  <a:pt x="21992" y="1349"/>
                  <a:pt x="21927" y="1339"/>
                </a:cubicBezTo>
                <a:cubicBezTo>
                  <a:pt x="21894" y="1339"/>
                  <a:pt x="21861" y="1339"/>
                  <a:pt x="21828" y="133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08920" y="946080"/>
            <a:ext cx="276120" cy="285840"/>
          </a:xfrm>
          <a:custGeom>
            <a:avLst/>
            <a:gdLst/>
            <a:ahLst/>
            <a:rect l="l" t="t" r="r" b="b"/>
            <a:pathLst>
              <a:path w="769" h="795">
                <a:moveTo>
                  <a:pt x="20042" y="3051"/>
                </a:moveTo>
                <a:cubicBezTo>
                  <a:pt x="19987" y="3051"/>
                  <a:pt x="19987" y="3051"/>
                  <a:pt x="20017" y="3026"/>
                </a:cubicBezTo>
                <a:cubicBezTo>
                  <a:pt x="20056" y="2988"/>
                  <a:pt x="20058" y="2971"/>
                  <a:pt x="20092" y="2977"/>
                </a:cubicBezTo>
                <a:cubicBezTo>
                  <a:pt x="20052" y="3083"/>
                  <a:pt x="20020" y="3139"/>
                  <a:pt x="19943" y="3225"/>
                </a:cubicBezTo>
                <a:cubicBezTo>
                  <a:pt x="19995" y="3245"/>
                  <a:pt x="20066" y="3225"/>
                  <a:pt x="20141" y="3225"/>
                </a:cubicBezTo>
              </a:path>
              <a:path w="769" h="795">
                <a:moveTo>
                  <a:pt x="20315" y="2977"/>
                </a:moveTo>
                <a:cubicBezTo>
                  <a:pt x="20195" y="2977"/>
                  <a:pt x="20168" y="2995"/>
                  <a:pt x="20141" y="3125"/>
                </a:cubicBezTo>
                <a:cubicBezTo>
                  <a:pt x="20141" y="3142"/>
                  <a:pt x="20141" y="3158"/>
                  <a:pt x="20141" y="3175"/>
                </a:cubicBezTo>
                <a:cubicBezTo>
                  <a:pt x="20229" y="3167"/>
                  <a:pt x="20297" y="3173"/>
                  <a:pt x="20241" y="3076"/>
                </a:cubicBezTo>
              </a:path>
              <a:path w="769" h="795">
                <a:moveTo>
                  <a:pt x="19893" y="3051"/>
                </a:moveTo>
                <a:cubicBezTo>
                  <a:pt x="20011" y="2948"/>
                  <a:pt x="20099" y="2881"/>
                  <a:pt x="20241" y="2828"/>
                </a:cubicBezTo>
                <a:cubicBezTo>
                  <a:pt x="20282" y="2996"/>
                  <a:pt x="20156" y="3101"/>
                  <a:pt x="20042" y="3225"/>
                </a:cubicBezTo>
                <a:cubicBezTo>
                  <a:pt x="20034" y="3233"/>
                  <a:pt x="20025" y="3241"/>
                  <a:pt x="20017" y="3249"/>
                </a:cubicBezTo>
                <a:cubicBezTo>
                  <a:pt x="20112" y="3187"/>
                  <a:pt x="20203" y="3200"/>
                  <a:pt x="20315" y="3200"/>
                </a:cubicBezTo>
                <a:cubicBezTo>
                  <a:pt x="20350" y="3200"/>
                  <a:pt x="20354" y="3191"/>
                  <a:pt x="20315" y="3150"/>
                </a:cubicBezTo>
              </a:path>
              <a:path w="769" h="795">
                <a:moveTo>
                  <a:pt x="20017" y="2629"/>
                </a:moveTo>
                <a:cubicBezTo>
                  <a:pt x="19795" y="2781"/>
                  <a:pt x="19548" y="3087"/>
                  <a:pt x="19869" y="3349"/>
                </a:cubicBezTo>
                <a:cubicBezTo>
                  <a:pt x="20085" y="3525"/>
                  <a:pt x="20583" y="3343"/>
                  <a:pt x="20513" y="3026"/>
                </a:cubicBezTo>
                <a:cubicBezTo>
                  <a:pt x="20480" y="2985"/>
                  <a:pt x="20447" y="2943"/>
                  <a:pt x="20414" y="290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12000" y="1000080"/>
            <a:ext cx="803160" cy="1357200"/>
          </a:xfrm>
          <a:custGeom>
            <a:avLst/>
            <a:gdLst/>
            <a:ahLst/>
            <a:rect l="l" t="t" r="r" b="b"/>
            <a:pathLst>
              <a:path w="2233" h="3771">
                <a:moveTo>
                  <a:pt x="21084" y="2828"/>
                </a:moveTo>
                <a:cubicBezTo>
                  <a:pt x="21084" y="2820"/>
                  <a:pt x="21084" y="2811"/>
                  <a:pt x="21084" y="2803"/>
                </a:cubicBezTo>
              </a:path>
              <a:path w="2233" h="3771">
                <a:moveTo>
                  <a:pt x="21134" y="2803"/>
                </a:moveTo>
                <a:cubicBezTo>
                  <a:pt x="21173" y="2790"/>
                  <a:pt x="21144" y="2791"/>
                  <a:pt x="21183" y="2778"/>
                </a:cubicBezTo>
                <a:cubicBezTo>
                  <a:pt x="21203" y="2837"/>
                  <a:pt x="21108" y="2853"/>
                  <a:pt x="21084" y="2927"/>
                </a:cubicBezTo>
                <a:cubicBezTo>
                  <a:pt x="21066" y="2981"/>
                  <a:pt x="21075" y="2989"/>
                  <a:pt x="21059" y="3051"/>
                </a:cubicBezTo>
                <a:cubicBezTo>
                  <a:pt x="21046" y="3103"/>
                  <a:pt x="21015" y="3153"/>
                  <a:pt x="21010" y="3200"/>
                </a:cubicBezTo>
                <a:cubicBezTo>
                  <a:pt x="21010" y="3208"/>
                  <a:pt x="21010" y="3217"/>
                  <a:pt x="21010" y="3225"/>
                </a:cubicBezTo>
              </a:path>
              <a:path w="2233" h="3771">
                <a:moveTo>
                  <a:pt x="20861" y="3249"/>
                </a:moveTo>
                <a:cubicBezTo>
                  <a:pt x="20829" y="3257"/>
                  <a:pt x="20766" y="3259"/>
                  <a:pt x="20737" y="3274"/>
                </a:cubicBezTo>
                <a:cubicBezTo>
                  <a:pt x="20729" y="3282"/>
                  <a:pt x="20720" y="3291"/>
                  <a:pt x="20712" y="3299"/>
                </a:cubicBezTo>
                <a:cubicBezTo>
                  <a:pt x="20783" y="3228"/>
                  <a:pt x="20843" y="3245"/>
                  <a:pt x="20935" y="3225"/>
                </a:cubicBezTo>
                <a:cubicBezTo>
                  <a:pt x="21031" y="3204"/>
                  <a:pt x="21108" y="3200"/>
                  <a:pt x="21208" y="3200"/>
                </a:cubicBezTo>
                <a:cubicBezTo>
                  <a:pt x="21282" y="3200"/>
                  <a:pt x="21357" y="3200"/>
                  <a:pt x="21431" y="3200"/>
                </a:cubicBezTo>
                <a:cubicBezTo>
                  <a:pt x="21406" y="3276"/>
                  <a:pt x="21324" y="3343"/>
                  <a:pt x="21307" y="3423"/>
                </a:cubicBezTo>
                <a:cubicBezTo>
                  <a:pt x="21292" y="3493"/>
                  <a:pt x="21282" y="3573"/>
                  <a:pt x="21282" y="3646"/>
                </a:cubicBezTo>
                <a:cubicBezTo>
                  <a:pt x="21282" y="3679"/>
                  <a:pt x="21282" y="3713"/>
                  <a:pt x="21282" y="3746"/>
                </a:cubicBezTo>
                <a:cubicBezTo>
                  <a:pt x="21171" y="3746"/>
                  <a:pt x="21069" y="3760"/>
                  <a:pt x="20960" y="3770"/>
                </a:cubicBezTo>
                <a:cubicBezTo>
                  <a:pt x="20852" y="3780"/>
                  <a:pt x="20746" y="3783"/>
                  <a:pt x="20638" y="3795"/>
                </a:cubicBezTo>
                <a:cubicBezTo>
                  <a:pt x="20596" y="3795"/>
                  <a:pt x="20588" y="3795"/>
                  <a:pt x="20563" y="3795"/>
                </a:cubicBezTo>
                <a:cubicBezTo>
                  <a:pt x="20584" y="3679"/>
                  <a:pt x="20642" y="3567"/>
                  <a:pt x="20662" y="3448"/>
                </a:cubicBezTo>
                <a:cubicBezTo>
                  <a:pt x="20672" y="3389"/>
                  <a:pt x="20673" y="3351"/>
                  <a:pt x="20687" y="3324"/>
                </a:cubicBezTo>
                <a:cubicBezTo>
                  <a:pt x="20708" y="3283"/>
                  <a:pt x="20684" y="3259"/>
                  <a:pt x="20737" y="3225"/>
                </a:cubicBezTo>
                <a:cubicBezTo>
                  <a:pt x="20783" y="3195"/>
                  <a:pt x="20818" y="3201"/>
                  <a:pt x="20861" y="3175"/>
                </a:cubicBezTo>
              </a:path>
              <a:path w="2233" h="3771">
                <a:moveTo>
                  <a:pt x="20886" y="3423"/>
                </a:moveTo>
                <a:cubicBezTo>
                  <a:pt x="20852" y="3344"/>
                  <a:pt x="20861" y="3335"/>
                  <a:pt x="20861" y="3423"/>
                </a:cubicBezTo>
                <a:cubicBezTo>
                  <a:pt x="20861" y="3473"/>
                  <a:pt x="20861" y="3522"/>
                  <a:pt x="20861" y="3572"/>
                </a:cubicBezTo>
              </a:path>
              <a:path w="2233" h="3771">
                <a:moveTo>
                  <a:pt x="21010" y="3423"/>
                </a:moveTo>
                <a:cubicBezTo>
                  <a:pt x="21010" y="3468"/>
                  <a:pt x="20987" y="3580"/>
                  <a:pt x="21010" y="3547"/>
                </a:cubicBezTo>
                <a:cubicBezTo>
                  <a:pt x="21037" y="3519"/>
                  <a:pt x="21045" y="3505"/>
                  <a:pt x="21034" y="3473"/>
                </a:cubicBezTo>
                <a:cubicBezTo>
                  <a:pt x="21072" y="3473"/>
                  <a:pt x="21138" y="3455"/>
                  <a:pt x="21134" y="3522"/>
                </a:cubicBezTo>
                <a:cubicBezTo>
                  <a:pt x="21132" y="3550"/>
                  <a:pt x="21063" y="3627"/>
                  <a:pt x="21034" y="3621"/>
                </a:cubicBezTo>
                <a:cubicBezTo>
                  <a:pt x="21012" y="3599"/>
                  <a:pt x="21004" y="3594"/>
                  <a:pt x="21010" y="3572"/>
                </a:cubicBezTo>
              </a:path>
              <a:path w="2233" h="3771">
                <a:moveTo>
                  <a:pt x="21034" y="3473"/>
                </a:moveTo>
                <a:cubicBezTo>
                  <a:pt x="21026" y="3473"/>
                  <a:pt x="21018" y="3473"/>
                  <a:pt x="21010" y="3473"/>
                </a:cubicBezTo>
                <a:cubicBezTo>
                  <a:pt x="21010" y="3413"/>
                  <a:pt x="21024" y="3349"/>
                  <a:pt x="20985" y="3324"/>
                </a:cubicBezTo>
                <a:cubicBezTo>
                  <a:pt x="20993" y="3316"/>
                  <a:pt x="21002" y="3307"/>
                  <a:pt x="21010" y="3299"/>
                </a:cubicBezTo>
              </a:path>
              <a:path w="2233" h="3771">
                <a:moveTo>
                  <a:pt x="20216" y="3944"/>
                </a:moveTo>
                <a:cubicBezTo>
                  <a:pt x="20150" y="3916"/>
                  <a:pt x="20127" y="3907"/>
                  <a:pt x="20067" y="3944"/>
                </a:cubicBezTo>
                <a:cubicBezTo>
                  <a:pt x="20121" y="3958"/>
                  <a:pt x="20153" y="3956"/>
                  <a:pt x="20216" y="3969"/>
                </a:cubicBezTo>
                <a:cubicBezTo>
                  <a:pt x="20274" y="3981"/>
                  <a:pt x="20358" y="3981"/>
                  <a:pt x="20414" y="3994"/>
                </a:cubicBezTo>
                <a:cubicBezTo>
                  <a:pt x="20466" y="4007"/>
                  <a:pt x="20484" y="4018"/>
                  <a:pt x="20538" y="4018"/>
                </a:cubicBezTo>
                <a:cubicBezTo>
                  <a:pt x="20612" y="4018"/>
                  <a:pt x="20666" y="4038"/>
                  <a:pt x="20737" y="4043"/>
                </a:cubicBezTo>
                <a:cubicBezTo>
                  <a:pt x="20793" y="4047"/>
                  <a:pt x="20813" y="4030"/>
                  <a:pt x="20836" y="4018"/>
                </a:cubicBezTo>
                <a:cubicBezTo>
                  <a:pt x="20844" y="4018"/>
                  <a:pt x="20853" y="4018"/>
                  <a:pt x="20861" y="4018"/>
                </a:cubicBezTo>
                <a:cubicBezTo>
                  <a:pt x="20841" y="3941"/>
                  <a:pt x="20778" y="3961"/>
                  <a:pt x="20712" y="3944"/>
                </a:cubicBezTo>
                <a:cubicBezTo>
                  <a:pt x="20647" y="3928"/>
                  <a:pt x="20575" y="3912"/>
                  <a:pt x="20513" y="3894"/>
                </a:cubicBezTo>
                <a:cubicBezTo>
                  <a:pt x="20428" y="3870"/>
                  <a:pt x="20357" y="3870"/>
                  <a:pt x="20265" y="3870"/>
                </a:cubicBezTo>
                <a:cubicBezTo>
                  <a:pt x="20155" y="3870"/>
                  <a:pt x="20016" y="3864"/>
                  <a:pt x="19943" y="3894"/>
                </a:cubicBezTo>
                <a:cubicBezTo>
                  <a:pt x="19895" y="3914"/>
                  <a:pt x="19891" y="3871"/>
                  <a:pt x="19869" y="3919"/>
                </a:cubicBezTo>
                <a:cubicBezTo>
                  <a:pt x="19849" y="3960"/>
                  <a:pt x="19840" y="3966"/>
                  <a:pt x="19844" y="3994"/>
                </a:cubicBezTo>
                <a:cubicBezTo>
                  <a:pt x="19893" y="4006"/>
                  <a:pt x="19939" y="4006"/>
                  <a:pt x="19993" y="4018"/>
                </a:cubicBezTo>
                <a:cubicBezTo>
                  <a:pt x="20095" y="4040"/>
                  <a:pt x="20183" y="4043"/>
                  <a:pt x="20290" y="4043"/>
                </a:cubicBezTo>
                <a:cubicBezTo>
                  <a:pt x="20340" y="4043"/>
                  <a:pt x="20389" y="4043"/>
                  <a:pt x="20439" y="4043"/>
                </a:cubicBezTo>
              </a:path>
              <a:path w="2233" h="3771">
                <a:moveTo>
                  <a:pt x="19844" y="4118"/>
                </a:moveTo>
                <a:cubicBezTo>
                  <a:pt x="19816" y="4195"/>
                  <a:pt x="19795" y="4266"/>
                  <a:pt x="19769" y="4341"/>
                </a:cubicBezTo>
                <a:cubicBezTo>
                  <a:pt x="19731" y="4453"/>
                  <a:pt x="19741" y="4582"/>
                  <a:pt x="19695" y="4688"/>
                </a:cubicBezTo>
                <a:cubicBezTo>
                  <a:pt x="19650" y="4790"/>
                  <a:pt x="19642" y="4854"/>
                  <a:pt x="19621" y="4961"/>
                </a:cubicBezTo>
                <a:cubicBezTo>
                  <a:pt x="19603" y="5054"/>
                  <a:pt x="19562" y="5141"/>
                  <a:pt x="19546" y="5234"/>
                </a:cubicBezTo>
                <a:cubicBezTo>
                  <a:pt x="19528" y="5335"/>
                  <a:pt x="19499" y="5432"/>
                  <a:pt x="19472" y="5531"/>
                </a:cubicBezTo>
                <a:cubicBezTo>
                  <a:pt x="19439" y="5653"/>
                  <a:pt x="19439" y="5816"/>
                  <a:pt x="19397" y="5928"/>
                </a:cubicBezTo>
                <a:cubicBezTo>
                  <a:pt x="19361" y="6025"/>
                  <a:pt x="19338" y="6132"/>
                  <a:pt x="19298" y="6226"/>
                </a:cubicBezTo>
                <a:cubicBezTo>
                  <a:pt x="19267" y="6300"/>
                  <a:pt x="19236" y="6370"/>
                  <a:pt x="19224" y="6449"/>
                </a:cubicBezTo>
                <a:cubicBezTo>
                  <a:pt x="19218" y="6490"/>
                  <a:pt x="19213" y="6512"/>
                  <a:pt x="19199" y="6548"/>
                </a:cubicBezTo>
                <a:cubicBezTo>
                  <a:pt x="19280" y="6548"/>
                  <a:pt x="19306" y="6567"/>
                  <a:pt x="19348" y="6499"/>
                </a:cubicBezTo>
                <a:cubicBezTo>
                  <a:pt x="19411" y="6397"/>
                  <a:pt x="19421" y="6259"/>
                  <a:pt x="19472" y="6152"/>
                </a:cubicBezTo>
                <a:cubicBezTo>
                  <a:pt x="19530" y="6030"/>
                  <a:pt x="19566" y="5914"/>
                  <a:pt x="19596" y="5779"/>
                </a:cubicBezTo>
                <a:cubicBezTo>
                  <a:pt x="19631" y="5622"/>
                  <a:pt x="19658" y="5464"/>
                  <a:pt x="19695" y="5308"/>
                </a:cubicBezTo>
                <a:cubicBezTo>
                  <a:pt x="19727" y="5175"/>
                  <a:pt x="19724" y="5042"/>
                  <a:pt x="19769" y="4911"/>
                </a:cubicBezTo>
                <a:cubicBezTo>
                  <a:pt x="19786" y="4870"/>
                  <a:pt x="19802" y="4828"/>
                  <a:pt x="19819" y="4787"/>
                </a:cubicBezTo>
              </a:path>
              <a:path w="2233" h="3771">
                <a:moveTo>
                  <a:pt x="20662" y="4118"/>
                </a:moveTo>
                <a:cubicBezTo>
                  <a:pt x="20655" y="4206"/>
                  <a:pt x="20633" y="4278"/>
                  <a:pt x="20613" y="4366"/>
                </a:cubicBezTo>
                <a:cubicBezTo>
                  <a:pt x="20579" y="4519"/>
                  <a:pt x="20584" y="4661"/>
                  <a:pt x="20563" y="4812"/>
                </a:cubicBezTo>
                <a:cubicBezTo>
                  <a:pt x="20547" y="4924"/>
                  <a:pt x="20513" y="5050"/>
                  <a:pt x="20489" y="5159"/>
                </a:cubicBezTo>
                <a:cubicBezTo>
                  <a:pt x="20460" y="5290"/>
                  <a:pt x="20406" y="5423"/>
                  <a:pt x="20389" y="5556"/>
                </a:cubicBezTo>
                <a:cubicBezTo>
                  <a:pt x="20375" y="5666"/>
                  <a:pt x="20376" y="5746"/>
                  <a:pt x="20340" y="5854"/>
                </a:cubicBezTo>
                <a:cubicBezTo>
                  <a:pt x="20309" y="5946"/>
                  <a:pt x="20284" y="6034"/>
                  <a:pt x="20265" y="6127"/>
                </a:cubicBezTo>
                <a:cubicBezTo>
                  <a:pt x="20253" y="6187"/>
                  <a:pt x="20244" y="6238"/>
                  <a:pt x="20241" y="6300"/>
                </a:cubicBezTo>
                <a:cubicBezTo>
                  <a:pt x="20238" y="6360"/>
                  <a:pt x="20224" y="6402"/>
                  <a:pt x="20216" y="6449"/>
                </a:cubicBezTo>
                <a:cubicBezTo>
                  <a:pt x="20211" y="6481"/>
                  <a:pt x="20219" y="6516"/>
                  <a:pt x="20216" y="6548"/>
                </a:cubicBezTo>
                <a:cubicBezTo>
                  <a:pt x="20154" y="6534"/>
                  <a:pt x="20122" y="6514"/>
                  <a:pt x="20067" y="6474"/>
                </a:cubicBezTo>
                <a:cubicBezTo>
                  <a:pt x="20012" y="6433"/>
                  <a:pt x="20117" y="6349"/>
                  <a:pt x="20141" y="6276"/>
                </a:cubicBezTo>
                <a:cubicBezTo>
                  <a:pt x="20190" y="6127"/>
                  <a:pt x="20211" y="5958"/>
                  <a:pt x="20241" y="5804"/>
                </a:cubicBezTo>
                <a:cubicBezTo>
                  <a:pt x="20268" y="5669"/>
                  <a:pt x="20251" y="5537"/>
                  <a:pt x="20290" y="5407"/>
                </a:cubicBezTo>
                <a:cubicBezTo>
                  <a:pt x="20323" y="5298"/>
                  <a:pt x="20338" y="5193"/>
                  <a:pt x="20365" y="5085"/>
                </a:cubicBezTo>
                <a:cubicBezTo>
                  <a:pt x="20396" y="4959"/>
                  <a:pt x="20407" y="4837"/>
                  <a:pt x="20439" y="4713"/>
                </a:cubicBezTo>
                <a:cubicBezTo>
                  <a:pt x="20469" y="4597"/>
                  <a:pt x="20472" y="4482"/>
                  <a:pt x="20513" y="4366"/>
                </a:cubicBezTo>
                <a:cubicBezTo>
                  <a:pt x="20537" y="4298"/>
                  <a:pt x="20591" y="4253"/>
                  <a:pt x="20613" y="4192"/>
                </a:cubicBezTo>
                <a:cubicBezTo>
                  <a:pt x="20631" y="4143"/>
                  <a:pt x="20622" y="4108"/>
                  <a:pt x="20662" y="4068"/>
                </a:cubicBezTo>
                <a:cubicBezTo>
                  <a:pt x="20692" y="4038"/>
                  <a:pt x="20713" y="4005"/>
                  <a:pt x="20737" y="3994"/>
                </a:cubicBezTo>
                <a:cubicBezTo>
                  <a:pt x="20762" y="3994"/>
                  <a:pt x="20770" y="3994"/>
                  <a:pt x="20786" y="3994"/>
                </a:cubicBezTo>
              </a:path>
              <a:path w="2233" h="3771">
                <a:moveTo>
                  <a:pt x="20836" y="3795"/>
                </a:moveTo>
                <a:cubicBezTo>
                  <a:pt x="20829" y="3837"/>
                  <a:pt x="20818" y="3877"/>
                  <a:pt x="20811" y="391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36920" y="2178000"/>
            <a:ext cx="3062160" cy="1563840"/>
          </a:xfrm>
          <a:custGeom>
            <a:avLst/>
            <a:gdLst/>
            <a:ahLst/>
            <a:rect l="l" t="t" r="r" b="b"/>
            <a:pathLst>
              <a:path w="8509" h="4342">
                <a:moveTo>
                  <a:pt x="8830" y="6896"/>
                </a:moveTo>
                <a:cubicBezTo>
                  <a:pt x="8822" y="6896"/>
                  <a:pt x="8814" y="6896"/>
                  <a:pt x="8806" y="6896"/>
                </a:cubicBezTo>
              </a:path>
              <a:path w="8509" h="4342">
                <a:moveTo>
                  <a:pt x="9227" y="7193"/>
                </a:moveTo>
                <a:cubicBezTo>
                  <a:pt x="9253" y="7193"/>
                  <a:pt x="9410" y="7183"/>
                  <a:pt x="9351" y="7193"/>
                </a:cubicBezTo>
                <a:cubicBezTo>
                  <a:pt x="9294" y="7202"/>
                  <a:pt x="8936" y="7280"/>
                  <a:pt x="9227" y="7218"/>
                </a:cubicBezTo>
                <a:cubicBezTo>
                  <a:pt x="9472" y="7166"/>
                  <a:pt x="9372" y="7190"/>
                  <a:pt x="9203" y="7218"/>
                </a:cubicBezTo>
                <a:cubicBezTo>
                  <a:pt x="8999" y="7295"/>
                  <a:pt x="9345" y="7219"/>
                  <a:pt x="9351" y="7218"/>
                </a:cubicBezTo>
                <a:cubicBezTo>
                  <a:pt x="9413" y="7218"/>
                  <a:pt x="9447" y="7209"/>
                  <a:pt x="9401" y="7243"/>
                </a:cubicBezTo>
                <a:cubicBezTo>
                  <a:pt x="9342" y="7243"/>
                  <a:pt x="8983" y="7232"/>
                  <a:pt x="9178" y="7218"/>
                </a:cubicBezTo>
                <a:cubicBezTo>
                  <a:pt x="9293" y="7210"/>
                  <a:pt x="9538" y="7247"/>
                  <a:pt x="9426" y="7218"/>
                </a:cubicBezTo>
                <a:cubicBezTo>
                  <a:pt x="9401" y="7210"/>
                  <a:pt x="9376" y="7201"/>
                  <a:pt x="9351" y="7193"/>
                </a:cubicBezTo>
              </a:path>
              <a:path w="8509" h="4342">
                <a:moveTo>
                  <a:pt x="9079" y="7020"/>
                </a:moveTo>
                <a:cubicBezTo>
                  <a:pt x="8942" y="7020"/>
                  <a:pt x="8867" y="7024"/>
                  <a:pt x="8756" y="7094"/>
                </a:cubicBezTo>
                <a:cubicBezTo>
                  <a:pt x="8803" y="7141"/>
                  <a:pt x="9151" y="7347"/>
                  <a:pt x="9128" y="7119"/>
                </a:cubicBezTo>
                <a:cubicBezTo>
                  <a:pt x="9114" y="6982"/>
                  <a:pt x="9016" y="7014"/>
                  <a:pt x="8954" y="7045"/>
                </a:cubicBezTo>
              </a:path>
              <a:path w="8509" h="4342">
                <a:moveTo>
                  <a:pt x="9401" y="6995"/>
                </a:moveTo>
                <a:cubicBezTo>
                  <a:pt x="9339" y="7002"/>
                  <a:pt x="9304" y="7010"/>
                  <a:pt x="9252" y="7045"/>
                </a:cubicBezTo>
                <a:cubicBezTo>
                  <a:pt x="9367" y="7098"/>
                  <a:pt x="9470" y="7175"/>
                  <a:pt x="9550" y="7045"/>
                </a:cubicBezTo>
                <a:cubicBezTo>
                  <a:pt x="9487" y="6982"/>
                  <a:pt x="9452" y="6962"/>
                  <a:pt x="9376" y="6970"/>
                </a:cubicBezTo>
              </a:path>
              <a:path w="8509" h="4342">
                <a:moveTo>
                  <a:pt x="8756" y="7094"/>
                </a:moveTo>
                <a:cubicBezTo>
                  <a:pt x="8768" y="7057"/>
                  <a:pt x="8894" y="6979"/>
                  <a:pt x="8930" y="6970"/>
                </a:cubicBezTo>
                <a:cubicBezTo>
                  <a:pt x="9142" y="6917"/>
                  <a:pt x="9381" y="6921"/>
                  <a:pt x="9599" y="6921"/>
                </a:cubicBezTo>
                <a:cubicBezTo>
                  <a:pt x="9665" y="6921"/>
                  <a:pt x="9682" y="6921"/>
                  <a:pt x="9723" y="6921"/>
                </a:cubicBezTo>
                <a:cubicBezTo>
                  <a:pt x="9681" y="6878"/>
                  <a:pt x="9659" y="6814"/>
                  <a:pt x="9599" y="6796"/>
                </a:cubicBezTo>
                <a:cubicBezTo>
                  <a:pt x="9539" y="6778"/>
                  <a:pt x="9503" y="6812"/>
                  <a:pt x="9451" y="6821"/>
                </a:cubicBezTo>
                <a:cubicBezTo>
                  <a:pt x="9392" y="6831"/>
                  <a:pt x="9319" y="6840"/>
                  <a:pt x="9302" y="6772"/>
                </a:cubicBezTo>
                <a:cubicBezTo>
                  <a:pt x="9288" y="6714"/>
                  <a:pt x="9288" y="6651"/>
                  <a:pt x="9252" y="6598"/>
                </a:cubicBezTo>
                <a:cubicBezTo>
                  <a:pt x="9218" y="6547"/>
                  <a:pt x="9142" y="6566"/>
                  <a:pt x="9103" y="6573"/>
                </a:cubicBezTo>
                <a:cubicBezTo>
                  <a:pt x="9052" y="6582"/>
                  <a:pt x="9034" y="6696"/>
                  <a:pt x="9029" y="6747"/>
                </a:cubicBezTo>
                <a:cubicBezTo>
                  <a:pt x="9023" y="6810"/>
                  <a:pt x="8933" y="6813"/>
                  <a:pt x="8880" y="6821"/>
                </a:cubicBezTo>
                <a:cubicBezTo>
                  <a:pt x="8784" y="6836"/>
                  <a:pt x="8817" y="6806"/>
                  <a:pt x="8781" y="6871"/>
                </a:cubicBezTo>
                <a:cubicBezTo>
                  <a:pt x="8758" y="6912"/>
                  <a:pt x="8756" y="6919"/>
                  <a:pt x="8756" y="6970"/>
                </a:cubicBezTo>
              </a:path>
              <a:path w="8509" h="4342">
                <a:moveTo>
                  <a:pt x="9252" y="7317"/>
                </a:moveTo>
                <a:cubicBezTo>
                  <a:pt x="9270" y="7311"/>
                  <a:pt x="9387" y="7252"/>
                  <a:pt x="9426" y="7243"/>
                </a:cubicBezTo>
                <a:cubicBezTo>
                  <a:pt x="9546" y="7216"/>
                  <a:pt x="9612" y="7235"/>
                  <a:pt x="9723" y="7243"/>
                </a:cubicBezTo>
                <a:cubicBezTo>
                  <a:pt x="9794" y="7248"/>
                  <a:pt x="9866" y="7259"/>
                  <a:pt x="9922" y="7293"/>
                </a:cubicBezTo>
                <a:cubicBezTo>
                  <a:pt x="9982" y="7329"/>
                  <a:pt x="10020" y="7384"/>
                  <a:pt x="10071" y="7441"/>
                </a:cubicBezTo>
                <a:cubicBezTo>
                  <a:pt x="10133" y="7511"/>
                  <a:pt x="10190" y="7588"/>
                  <a:pt x="10244" y="7665"/>
                </a:cubicBezTo>
                <a:cubicBezTo>
                  <a:pt x="10282" y="7720"/>
                  <a:pt x="10292" y="7789"/>
                  <a:pt x="10319" y="7838"/>
                </a:cubicBezTo>
                <a:cubicBezTo>
                  <a:pt x="10340" y="7875"/>
                  <a:pt x="10387" y="7948"/>
                  <a:pt x="10393" y="7962"/>
                </a:cubicBezTo>
                <a:cubicBezTo>
                  <a:pt x="10413" y="8008"/>
                  <a:pt x="10422" y="8059"/>
                  <a:pt x="10443" y="8111"/>
                </a:cubicBezTo>
                <a:cubicBezTo>
                  <a:pt x="10457" y="8146"/>
                  <a:pt x="10465" y="8182"/>
                  <a:pt x="10492" y="8235"/>
                </a:cubicBezTo>
                <a:cubicBezTo>
                  <a:pt x="10511" y="8272"/>
                  <a:pt x="10548" y="8319"/>
                  <a:pt x="10567" y="8359"/>
                </a:cubicBezTo>
                <a:cubicBezTo>
                  <a:pt x="10583" y="8394"/>
                  <a:pt x="10595" y="8423"/>
                  <a:pt x="10616" y="8458"/>
                </a:cubicBezTo>
                <a:cubicBezTo>
                  <a:pt x="10648" y="8512"/>
                  <a:pt x="10645" y="8511"/>
                  <a:pt x="10691" y="8558"/>
                </a:cubicBezTo>
                <a:cubicBezTo>
                  <a:pt x="10742" y="8611"/>
                  <a:pt x="10755" y="8636"/>
                  <a:pt x="10840" y="8657"/>
                </a:cubicBezTo>
                <a:cubicBezTo>
                  <a:pt x="10943" y="8683"/>
                  <a:pt x="11080" y="8646"/>
                  <a:pt x="11162" y="8582"/>
                </a:cubicBezTo>
                <a:cubicBezTo>
                  <a:pt x="11227" y="8531"/>
                  <a:pt x="11257" y="8465"/>
                  <a:pt x="11311" y="8409"/>
                </a:cubicBezTo>
                <a:cubicBezTo>
                  <a:pt x="11361" y="8357"/>
                  <a:pt x="11396" y="8308"/>
                  <a:pt x="11435" y="8260"/>
                </a:cubicBezTo>
                <a:cubicBezTo>
                  <a:pt x="11476" y="8210"/>
                  <a:pt x="11494" y="8180"/>
                  <a:pt x="11534" y="8136"/>
                </a:cubicBezTo>
                <a:cubicBezTo>
                  <a:pt x="11573" y="8093"/>
                  <a:pt x="11625" y="8019"/>
                  <a:pt x="11658" y="7987"/>
                </a:cubicBezTo>
                <a:cubicBezTo>
                  <a:pt x="11705" y="7942"/>
                  <a:pt x="11777" y="7888"/>
                  <a:pt x="11807" y="7863"/>
                </a:cubicBezTo>
                <a:cubicBezTo>
                  <a:pt x="11881" y="7801"/>
                  <a:pt x="11970" y="7741"/>
                  <a:pt x="12055" y="7714"/>
                </a:cubicBezTo>
                <a:cubicBezTo>
                  <a:pt x="12152" y="7683"/>
                  <a:pt x="12201" y="7686"/>
                  <a:pt x="12303" y="7714"/>
                </a:cubicBezTo>
                <a:cubicBezTo>
                  <a:pt x="12421" y="7746"/>
                  <a:pt x="12572" y="7809"/>
                  <a:pt x="12675" y="7863"/>
                </a:cubicBezTo>
                <a:cubicBezTo>
                  <a:pt x="12724" y="7889"/>
                  <a:pt x="12776" y="7932"/>
                  <a:pt x="12824" y="7962"/>
                </a:cubicBezTo>
                <a:cubicBezTo>
                  <a:pt x="12880" y="7997"/>
                  <a:pt x="12949" y="8032"/>
                  <a:pt x="12998" y="8062"/>
                </a:cubicBezTo>
                <a:cubicBezTo>
                  <a:pt x="13061" y="8100"/>
                  <a:pt x="13111" y="8146"/>
                  <a:pt x="13171" y="8186"/>
                </a:cubicBezTo>
                <a:cubicBezTo>
                  <a:pt x="13384" y="8328"/>
                  <a:pt x="13571" y="8493"/>
                  <a:pt x="13767" y="8657"/>
                </a:cubicBezTo>
                <a:cubicBezTo>
                  <a:pt x="13844" y="8721"/>
                  <a:pt x="13917" y="8787"/>
                  <a:pt x="13990" y="8855"/>
                </a:cubicBezTo>
                <a:cubicBezTo>
                  <a:pt x="14077" y="8936"/>
                  <a:pt x="14156" y="9021"/>
                  <a:pt x="14238" y="9103"/>
                </a:cubicBezTo>
                <a:cubicBezTo>
                  <a:pt x="14327" y="9192"/>
                  <a:pt x="14423" y="9280"/>
                  <a:pt x="14511" y="9376"/>
                </a:cubicBezTo>
                <a:cubicBezTo>
                  <a:pt x="14640" y="9517"/>
                  <a:pt x="14749" y="9687"/>
                  <a:pt x="14883" y="9823"/>
                </a:cubicBezTo>
                <a:cubicBezTo>
                  <a:pt x="15003" y="9945"/>
                  <a:pt x="15151" y="10057"/>
                  <a:pt x="15280" y="10170"/>
                </a:cubicBezTo>
                <a:cubicBezTo>
                  <a:pt x="15369" y="10248"/>
                  <a:pt x="15459" y="10335"/>
                  <a:pt x="15553" y="10393"/>
                </a:cubicBezTo>
                <a:cubicBezTo>
                  <a:pt x="15553" y="10385"/>
                  <a:pt x="15553" y="10376"/>
                  <a:pt x="15553" y="10368"/>
                </a:cubicBezTo>
              </a:path>
              <a:path w="8509" h="4342">
                <a:moveTo>
                  <a:pt x="13171" y="7665"/>
                </a:moveTo>
                <a:cubicBezTo>
                  <a:pt x="13118" y="7507"/>
                  <a:pt x="13392" y="7720"/>
                  <a:pt x="13419" y="7739"/>
                </a:cubicBezTo>
                <a:cubicBezTo>
                  <a:pt x="13463" y="7769"/>
                  <a:pt x="13814" y="8076"/>
                  <a:pt x="13891" y="8037"/>
                </a:cubicBezTo>
                <a:cubicBezTo>
                  <a:pt x="13911" y="8027"/>
                  <a:pt x="13712" y="7796"/>
                  <a:pt x="13692" y="7764"/>
                </a:cubicBezTo>
                <a:cubicBezTo>
                  <a:pt x="13676" y="7731"/>
                  <a:pt x="13659" y="7698"/>
                  <a:pt x="13643" y="7665"/>
                </a:cubicBezTo>
                <a:cubicBezTo>
                  <a:pt x="13623" y="7597"/>
                  <a:pt x="13594" y="7581"/>
                  <a:pt x="13643" y="7565"/>
                </a:cubicBezTo>
                <a:cubicBezTo>
                  <a:pt x="13728" y="7712"/>
                  <a:pt x="13821" y="7845"/>
                  <a:pt x="13915" y="7987"/>
                </a:cubicBezTo>
                <a:cubicBezTo>
                  <a:pt x="13843" y="8042"/>
                  <a:pt x="13593" y="8046"/>
                  <a:pt x="13469" y="8062"/>
                </a:cubicBezTo>
                <a:cubicBezTo>
                  <a:pt x="13441" y="8062"/>
                  <a:pt x="13435" y="8060"/>
                  <a:pt x="13469" y="8037"/>
                </a:cubicBezTo>
              </a:path>
              <a:path w="8509" h="4342">
                <a:moveTo>
                  <a:pt x="8954" y="6276"/>
                </a:moveTo>
                <a:cubicBezTo>
                  <a:pt x="8961" y="6255"/>
                  <a:pt x="8982" y="6220"/>
                  <a:pt x="8930" y="6251"/>
                </a:cubicBezTo>
                <a:cubicBezTo>
                  <a:pt x="8913" y="6261"/>
                  <a:pt x="8836" y="6318"/>
                  <a:pt x="8830" y="6325"/>
                </a:cubicBezTo>
                <a:cubicBezTo>
                  <a:pt x="8805" y="6354"/>
                  <a:pt x="8743" y="6409"/>
                  <a:pt x="8731" y="6449"/>
                </a:cubicBezTo>
                <a:cubicBezTo>
                  <a:pt x="8721" y="6482"/>
                  <a:pt x="8711" y="6569"/>
                  <a:pt x="8706" y="6598"/>
                </a:cubicBezTo>
                <a:cubicBezTo>
                  <a:pt x="8700" y="6638"/>
                  <a:pt x="8697" y="6662"/>
                  <a:pt x="8682" y="6697"/>
                </a:cubicBezTo>
                <a:cubicBezTo>
                  <a:pt x="8649" y="6771"/>
                  <a:pt x="8612" y="6849"/>
                  <a:pt x="8582" y="6921"/>
                </a:cubicBezTo>
                <a:cubicBezTo>
                  <a:pt x="8578" y="6929"/>
                  <a:pt x="8518" y="6990"/>
                  <a:pt x="8508" y="7020"/>
                </a:cubicBezTo>
                <a:cubicBezTo>
                  <a:pt x="8495" y="7058"/>
                  <a:pt x="8487" y="7065"/>
                  <a:pt x="8483" y="7094"/>
                </a:cubicBezTo>
                <a:cubicBezTo>
                  <a:pt x="8475" y="7147"/>
                  <a:pt x="8492" y="7229"/>
                  <a:pt x="8533" y="7268"/>
                </a:cubicBezTo>
                <a:cubicBezTo>
                  <a:pt x="8596" y="7327"/>
                  <a:pt x="8652" y="7398"/>
                  <a:pt x="8706" y="7466"/>
                </a:cubicBezTo>
                <a:cubicBezTo>
                  <a:pt x="8760" y="7534"/>
                  <a:pt x="8790" y="7600"/>
                  <a:pt x="8855" y="7665"/>
                </a:cubicBezTo>
                <a:cubicBezTo>
                  <a:pt x="8910" y="7720"/>
                  <a:pt x="9009" y="7766"/>
                  <a:pt x="9054" y="7813"/>
                </a:cubicBezTo>
                <a:cubicBezTo>
                  <a:pt x="9087" y="7848"/>
                  <a:pt x="9103" y="7880"/>
                  <a:pt x="9128" y="7913"/>
                </a:cubicBezTo>
                <a:cubicBezTo>
                  <a:pt x="9153" y="7913"/>
                  <a:pt x="9161" y="7913"/>
                  <a:pt x="9153" y="7938"/>
                </a:cubicBezTo>
                <a:cubicBezTo>
                  <a:pt x="9077" y="7921"/>
                  <a:pt x="9019" y="7892"/>
                  <a:pt x="8954" y="7838"/>
                </a:cubicBezTo>
                <a:cubicBezTo>
                  <a:pt x="8875" y="7773"/>
                  <a:pt x="8737" y="7731"/>
                  <a:pt x="8682" y="7640"/>
                </a:cubicBezTo>
                <a:cubicBezTo>
                  <a:pt x="8621" y="7540"/>
                  <a:pt x="8574" y="7444"/>
                  <a:pt x="8508" y="7342"/>
                </a:cubicBezTo>
                <a:cubicBezTo>
                  <a:pt x="8473" y="7288"/>
                  <a:pt x="8406" y="7228"/>
                  <a:pt x="8384" y="7169"/>
                </a:cubicBezTo>
                <a:cubicBezTo>
                  <a:pt x="8361" y="7108"/>
                  <a:pt x="8391" y="7001"/>
                  <a:pt x="8409" y="6945"/>
                </a:cubicBezTo>
                <a:cubicBezTo>
                  <a:pt x="8442" y="6838"/>
                  <a:pt x="8506" y="6746"/>
                  <a:pt x="8558" y="6648"/>
                </a:cubicBezTo>
                <a:cubicBezTo>
                  <a:pt x="8617" y="6537"/>
                  <a:pt x="8685" y="6472"/>
                  <a:pt x="8756" y="6375"/>
                </a:cubicBezTo>
                <a:cubicBezTo>
                  <a:pt x="8806" y="6306"/>
                  <a:pt x="8819" y="6280"/>
                  <a:pt x="8880" y="6226"/>
                </a:cubicBezTo>
                <a:cubicBezTo>
                  <a:pt x="8907" y="6202"/>
                  <a:pt x="8971" y="6141"/>
                  <a:pt x="8979" y="6127"/>
                </a:cubicBezTo>
                <a:cubicBezTo>
                  <a:pt x="8979" y="6119"/>
                  <a:pt x="8979" y="6110"/>
                  <a:pt x="8979" y="6102"/>
                </a:cubicBezTo>
                <a:cubicBezTo>
                  <a:pt x="8950" y="6167"/>
                  <a:pt x="8805" y="6305"/>
                  <a:pt x="8731" y="6400"/>
                </a:cubicBezTo>
                <a:cubicBezTo>
                  <a:pt x="8628" y="6533"/>
                  <a:pt x="8587" y="6684"/>
                  <a:pt x="8508" y="6821"/>
                </a:cubicBezTo>
                <a:cubicBezTo>
                  <a:pt x="8480" y="6869"/>
                  <a:pt x="8434" y="6879"/>
                  <a:pt x="8434" y="6945"/>
                </a:cubicBezTo>
                <a:cubicBezTo>
                  <a:pt x="8434" y="7024"/>
                  <a:pt x="8578" y="7172"/>
                  <a:pt x="8632" y="7218"/>
                </a:cubicBezTo>
                <a:cubicBezTo>
                  <a:pt x="8742" y="7312"/>
                  <a:pt x="8822" y="7421"/>
                  <a:pt x="8930" y="7516"/>
                </a:cubicBezTo>
                <a:cubicBezTo>
                  <a:pt x="9022" y="7597"/>
                  <a:pt x="9077" y="7673"/>
                  <a:pt x="9153" y="7764"/>
                </a:cubicBezTo>
                <a:cubicBezTo>
                  <a:pt x="9193" y="7811"/>
                  <a:pt x="9225" y="7808"/>
                  <a:pt x="9252" y="7863"/>
                </a:cubicBezTo>
              </a:path>
              <a:path w="8509" h="4342">
                <a:moveTo>
                  <a:pt x="9054" y="6102"/>
                </a:moveTo>
                <a:cubicBezTo>
                  <a:pt x="9024" y="6162"/>
                  <a:pt x="9004" y="6143"/>
                  <a:pt x="9004" y="6226"/>
                </a:cubicBezTo>
                <a:cubicBezTo>
                  <a:pt x="9060" y="6221"/>
                  <a:pt x="9244" y="6187"/>
                  <a:pt x="9128" y="6077"/>
                </a:cubicBezTo>
                <a:cubicBezTo>
                  <a:pt x="9079" y="6031"/>
                  <a:pt x="8825" y="6029"/>
                  <a:pt x="8905" y="6152"/>
                </a:cubicBezTo>
                <a:cubicBezTo>
                  <a:pt x="8990" y="6284"/>
                  <a:pt x="9045" y="6145"/>
                  <a:pt x="9054" y="6077"/>
                </a:cubicBezTo>
                <a:cubicBezTo>
                  <a:pt x="8902" y="6110"/>
                  <a:pt x="8926" y="6092"/>
                  <a:pt x="8905" y="6251"/>
                </a:cubicBezTo>
              </a:path>
              <a:path w="8509" h="4342">
                <a:moveTo>
                  <a:pt x="9277" y="7665"/>
                </a:moveTo>
                <a:cubicBezTo>
                  <a:pt x="9220" y="7769"/>
                  <a:pt x="9163" y="7870"/>
                  <a:pt x="9203" y="7987"/>
                </a:cubicBezTo>
                <a:cubicBezTo>
                  <a:pt x="9230" y="8066"/>
                  <a:pt x="9350" y="8049"/>
                  <a:pt x="9351" y="7962"/>
                </a:cubicBezTo>
                <a:cubicBezTo>
                  <a:pt x="9343" y="7954"/>
                  <a:pt x="9335" y="7946"/>
                  <a:pt x="9327" y="7938"/>
                </a:cubicBezTo>
                <a:cubicBezTo>
                  <a:pt x="9226" y="7946"/>
                  <a:pt x="9168" y="7932"/>
                  <a:pt x="9153" y="8037"/>
                </a:cubicBezTo>
                <a:cubicBezTo>
                  <a:pt x="9215" y="8037"/>
                  <a:pt x="9309" y="8034"/>
                  <a:pt x="9302" y="7938"/>
                </a:cubicBezTo>
                <a:cubicBezTo>
                  <a:pt x="9296" y="7855"/>
                  <a:pt x="9166" y="7936"/>
                  <a:pt x="9153" y="7962"/>
                </a:cubicBezTo>
              </a:path>
              <a:path w="8509" h="4342">
                <a:moveTo>
                  <a:pt x="8384" y="7069"/>
                </a:moveTo>
                <a:cubicBezTo>
                  <a:pt x="8122" y="7069"/>
                  <a:pt x="7780" y="7122"/>
                  <a:pt x="7541" y="7045"/>
                </a:cubicBezTo>
                <a:cubicBezTo>
                  <a:pt x="7452" y="7016"/>
                  <a:pt x="7309" y="7035"/>
                  <a:pt x="7218" y="7020"/>
                </a:cubicBezTo>
                <a:cubicBezTo>
                  <a:pt x="7180" y="7014"/>
                  <a:pt x="7133" y="7020"/>
                  <a:pt x="7094" y="7020"/>
                </a:cubicBezTo>
              </a:path>
              <a:path w="8509" h="4342">
                <a:moveTo>
                  <a:pt x="7045" y="6821"/>
                </a:moveTo>
                <a:cubicBezTo>
                  <a:pt x="7093" y="6804"/>
                  <a:pt x="7057" y="6790"/>
                  <a:pt x="7069" y="6846"/>
                </a:cubicBezTo>
                <a:cubicBezTo>
                  <a:pt x="7086" y="6928"/>
                  <a:pt x="7094" y="6987"/>
                  <a:pt x="7094" y="7069"/>
                </a:cubicBezTo>
                <a:cubicBezTo>
                  <a:pt x="7094" y="7119"/>
                  <a:pt x="7094" y="7020"/>
                  <a:pt x="7094" y="6970"/>
                </a:cubicBezTo>
                <a:cubicBezTo>
                  <a:pt x="7094" y="6905"/>
                  <a:pt x="7108" y="6838"/>
                  <a:pt x="7094" y="6921"/>
                </a:cubicBezTo>
                <a:cubicBezTo>
                  <a:pt x="7081" y="6995"/>
                  <a:pt x="7069" y="7169"/>
                  <a:pt x="7069" y="7094"/>
                </a:cubicBezTo>
                <a:cubicBezTo>
                  <a:pt x="7084" y="7018"/>
                  <a:pt x="7094" y="6972"/>
                  <a:pt x="7094" y="6896"/>
                </a:cubicBezTo>
                <a:cubicBezTo>
                  <a:pt x="7073" y="7021"/>
                  <a:pt x="7077" y="7116"/>
                  <a:pt x="7094" y="7243"/>
                </a:cubicBezTo>
                <a:cubicBezTo>
                  <a:pt x="7100" y="7292"/>
                  <a:pt x="7111" y="7172"/>
                  <a:pt x="7119" y="7144"/>
                </a:cubicBezTo>
              </a:path>
              <a:path w="8509" h="4342">
                <a:moveTo>
                  <a:pt x="12824" y="7268"/>
                </a:moveTo>
                <a:cubicBezTo>
                  <a:pt x="12824" y="7260"/>
                  <a:pt x="12824" y="7251"/>
                  <a:pt x="12824" y="72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93920" y="4241880"/>
            <a:ext cx="338040" cy="455400"/>
          </a:xfrm>
          <a:custGeom>
            <a:avLst/>
            <a:gdLst/>
            <a:ahLst/>
            <a:rect l="l" t="t" r="r" b="b"/>
            <a:pathLst>
              <a:path w="943" h="1266">
                <a:moveTo>
                  <a:pt x="3944" y="12849"/>
                </a:moveTo>
                <a:cubicBezTo>
                  <a:pt x="3907" y="12898"/>
                  <a:pt x="3880" y="12935"/>
                  <a:pt x="3870" y="12998"/>
                </a:cubicBezTo>
                <a:cubicBezTo>
                  <a:pt x="3860" y="13061"/>
                  <a:pt x="3931" y="13047"/>
                  <a:pt x="3969" y="13047"/>
                </a:cubicBezTo>
                <a:cubicBezTo>
                  <a:pt x="4024" y="13047"/>
                  <a:pt x="4040" y="13035"/>
                  <a:pt x="4093" y="13022"/>
                </a:cubicBezTo>
                <a:cubicBezTo>
                  <a:pt x="4137" y="13011"/>
                  <a:pt x="4196" y="12956"/>
                  <a:pt x="4167" y="12898"/>
                </a:cubicBezTo>
                <a:cubicBezTo>
                  <a:pt x="4165" y="12894"/>
                  <a:pt x="4059" y="12853"/>
                  <a:pt x="4043" y="12849"/>
                </a:cubicBezTo>
              </a:path>
              <a:path w="943" h="1266">
                <a:moveTo>
                  <a:pt x="4192" y="12675"/>
                </a:moveTo>
                <a:cubicBezTo>
                  <a:pt x="4151" y="12723"/>
                  <a:pt x="4102" y="12766"/>
                  <a:pt x="4142" y="12824"/>
                </a:cubicBezTo>
                <a:cubicBezTo>
                  <a:pt x="4156" y="12844"/>
                  <a:pt x="4246" y="12872"/>
                  <a:pt x="4266" y="12849"/>
                </a:cubicBezTo>
                <a:cubicBezTo>
                  <a:pt x="4297" y="12814"/>
                  <a:pt x="4355" y="12715"/>
                  <a:pt x="4291" y="12675"/>
                </a:cubicBezTo>
                <a:cubicBezTo>
                  <a:pt x="4267" y="12660"/>
                  <a:pt x="4201" y="12650"/>
                  <a:pt x="4167" y="12650"/>
                </a:cubicBezTo>
              </a:path>
              <a:path w="943" h="1266">
                <a:moveTo>
                  <a:pt x="4316" y="12427"/>
                </a:moveTo>
                <a:cubicBezTo>
                  <a:pt x="4264" y="12427"/>
                  <a:pt x="4264" y="12422"/>
                  <a:pt x="4242" y="12452"/>
                </a:cubicBezTo>
                <a:cubicBezTo>
                  <a:pt x="4212" y="12492"/>
                  <a:pt x="4223" y="12619"/>
                  <a:pt x="4266" y="12626"/>
                </a:cubicBezTo>
                <a:cubicBezTo>
                  <a:pt x="4348" y="12639"/>
                  <a:pt x="4420" y="12561"/>
                  <a:pt x="4415" y="12477"/>
                </a:cubicBezTo>
                <a:cubicBezTo>
                  <a:pt x="4411" y="12417"/>
                  <a:pt x="4338" y="12408"/>
                  <a:pt x="4291" y="12402"/>
                </a:cubicBezTo>
              </a:path>
              <a:path w="943" h="1266">
                <a:moveTo>
                  <a:pt x="4465" y="12129"/>
                </a:moveTo>
                <a:cubicBezTo>
                  <a:pt x="4365" y="12129"/>
                  <a:pt x="4357" y="12154"/>
                  <a:pt x="4390" y="12254"/>
                </a:cubicBezTo>
                <a:cubicBezTo>
                  <a:pt x="4415" y="12303"/>
                  <a:pt x="4424" y="12320"/>
                  <a:pt x="4440" y="12353"/>
                </a:cubicBezTo>
                <a:cubicBezTo>
                  <a:pt x="4464" y="12338"/>
                  <a:pt x="4609" y="12254"/>
                  <a:pt x="4564" y="12204"/>
                </a:cubicBezTo>
                <a:cubicBezTo>
                  <a:pt x="4520" y="12182"/>
                  <a:pt x="4509" y="12179"/>
                  <a:pt x="4490" y="12154"/>
                </a:cubicBezTo>
              </a:path>
              <a:path w="943" h="1266">
                <a:moveTo>
                  <a:pt x="4589" y="11956"/>
                </a:moveTo>
                <a:cubicBezTo>
                  <a:pt x="4529" y="12030"/>
                  <a:pt x="4534" y="12066"/>
                  <a:pt x="4564" y="12154"/>
                </a:cubicBezTo>
                <a:cubicBezTo>
                  <a:pt x="4685" y="12124"/>
                  <a:pt x="4711" y="12041"/>
                  <a:pt x="4589" y="11981"/>
                </a:cubicBezTo>
                <a:cubicBezTo>
                  <a:pt x="4581" y="11981"/>
                  <a:pt x="4572" y="11981"/>
                  <a:pt x="4564" y="11981"/>
                </a:cubicBezTo>
              </a:path>
              <a:path w="943" h="1266">
                <a:moveTo>
                  <a:pt x="4738" y="11832"/>
                </a:moveTo>
                <a:cubicBezTo>
                  <a:pt x="4671" y="11849"/>
                  <a:pt x="4671" y="11892"/>
                  <a:pt x="4663" y="11956"/>
                </a:cubicBezTo>
                <a:cubicBezTo>
                  <a:pt x="4770" y="12003"/>
                  <a:pt x="4852" y="11932"/>
                  <a:pt x="4812" y="11782"/>
                </a:cubicBezTo>
                <a:cubicBezTo>
                  <a:pt x="4761" y="11782"/>
                  <a:pt x="4728" y="11788"/>
                  <a:pt x="4688" y="1180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43080" y="3679920"/>
            <a:ext cx="214200" cy="214200"/>
          </a:xfrm>
          <a:custGeom>
            <a:avLst/>
            <a:gdLst/>
            <a:ahLst/>
            <a:rect l="l" t="t" r="r" b="b"/>
            <a:pathLst>
              <a:path w="596" h="596">
                <a:moveTo>
                  <a:pt x="6276" y="10492"/>
                </a:moveTo>
                <a:cubicBezTo>
                  <a:pt x="6276" y="10399"/>
                  <a:pt x="6275" y="10370"/>
                  <a:pt x="6325" y="10294"/>
                </a:cubicBezTo>
                <a:cubicBezTo>
                  <a:pt x="6473" y="10382"/>
                  <a:pt x="6372" y="10508"/>
                  <a:pt x="6350" y="10641"/>
                </a:cubicBezTo>
                <a:cubicBezTo>
                  <a:pt x="6350" y="10666"/>
                  <a:pt x="6350" y="10691"/>
                  <a:pt x="6350" y="10716"/>
                </a:cubicBezTo>
                <a:cubicBezTo>
                  <a:pt x="6411" y="10691"/>
                  <a:pt x="6462" y="10630"/>
                  <a:pt x="6524" y="10592"/>
                </a:cubicBezTo>
              </a:path>
              <a:path w="596" h="596">
                <a:moveTo>
                  <a:pt x="6201" y="10220"/>
                </a:moveTo>
                <a:cubicBezTo>
                  <a:pt x="6037" y="10323"/>
                  <a:pt x="5872" y="10409"/>
                  <a:pt x="5978" y="10641"/>
                </a:cubicBezTo>
                <a:cubicBezTo>
                  <a:pt x="6071" y="10845"/>
                  <a:pt x="6357" y="10886"/>
                  <a:pt x="6499" y="10716"/>
                </a:cubicBezTo>
                <a:cubicBezTo>
                  <a:pt x="6578" y="10621"/>
                  <a:pt x="6583" y="10394"/>
                  <a:pt x="6474" y="10319"/>
                </a:cubicBezTo>
                <a:cubicBezTo>
                  <a:pt x="6449" y="10311"/>
                  <a:pt x="6425" y="10302"/>
                  <a:pt x="6400" y="102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54200" y="2500200"/>
            <a:ext cx="839880" cy="1036800"/>
          </a:xfrm>
          <a:custGeom>
            <a:avLst/>
            <a:gdLst/>
            <a:ahLst/>
            <a:rect l="l" t="t" r="r" b="b"/>
            <a:pathLst>
              <a:path w="2333" h="2879">
                <a:moveTo>
                  <a:pt x="8210" y="8806"/>
                </a:moveTo>
                <a:lnTo>
                  <a:pt x="8210" y="8806"/>
                </a:lnTo>
                <a:lnTo>
                  <a:pt x="8210" y="8806"/>
                </a:lnTo>
                <a:lnTo>
                  <a:pt x="8210" y="8806"/>
                </a:lnTo>
              </a:path>
              <a:path w="2333" h="2879">
                <a:moveTo>
                  <a:pt x="8210" y="8781"/>
                </a:moveTo>
                <a:cubicBezTo>
                  <a:pt x="8210" y="8773"/>
                  <a:pt x="8210" y="8764"/>
                  <a:pt x="8210" y="8756"/>
                </a:cubicBezTo>
              </a:path>
              <a:path w="2333" h="2879">
                <a:moveTo>
                  <a:pt x="8210" y="8756"/>
                </a:moveTo>
                <a:cubicBezTo>
                  <a:pt x="8218" y="8748"/>
                  <a:pt x="8227" y="8739"/>
                  <a:pt x="8235" y="8731"/>
                </a:cubicBezTo>
                <a:cubicBezTo>
                  <a:pt x="8235" y="8795"/>
                  <a:pt x="8254" y="8855"/>
                  <a:pt x="8260" y="8905"/>
                </a:cubicBezTo>
                <a:cubicBezTo>
                  <a:pt x="8266" y="8961"/>
                  <a:pt x="8281" y="9028"/>
                  <a:pt x="8285" y="9079"/>
                </a:cubicBezTo>
                <a:cubicBezTo>
                  <a:pt x="8291" y="9153"/>
                  <a:pt x="8290" y="9232"/>
                  <a:pt x="8310" y="9302"/>
                </a:cubicBezTo>
                <a:cubicBezTo>
                  <a:pt x="8333" y="9385"/>
                  <a:pt x="8370" y="9498"/>
                  <a:pt x="8409" y="9575"/>
                </a:cubicBezTo>
                <a:cubicBezTo>
                  <a:pt x="8460" y="9674"/>
                  <a:pt x="8499" y="9738"/>
                  <a:pt x="8607" y="9773"/>
                </a:cubicBezTo>
                <a:cubicBezTo>
                  <a:pt x="8719" y="9809"/>
                  <a:pt x="8817" y="9844"/>
                  <a:pt x="8930" y="9798"/>
                </a:cubicBezTo>
                <a:cubicBezTo>
                  <a:pt x="9064" y="9743"/>
                  <a:pt x="9186" y="9636"/>
                  <a:pt x="9277" y="9525"/>
                </a:cubicBezTo>
                <a:cubicBezTo>
                  <a:pt x="9351" y="9434"/>
                  <a:pt x="9409" y="9320"/>
                  <a:pt x="9426" y="9203"/>
                </a:cubicBezTo>
                <a:cubicBezTo>
                  <a:pt x="9440" y="9107"/>
                  <a:pt x="9436" y="9022"/>
                  <a:pt x="9376" y="8954"/>
                </a:cubicBezTo>
                <a:cubicBezTo>
                  <a:pt x="9303" y="8871"/>
                  <a:pt x="9227" y="8819"/>
                  <a:pt x="9128" y="8756"/>
                </a:cubicBezTo>
                <a:cubicBezTo>
                  <a:pt x="9022" y="8688"/>
                  <a:pt x="8872" y="8566"/>
                  <a:pt x="8806" y="8458"/>
                </a:cubicBezTo>
                <a:cubicBezTo>
                  <a:pt x="8772" y="8402"/>
                  <a:pt x="8745" y="8308"/>
                  <a:pt x="8756" y="8235"/>
                </a:cubicBezTo>
                <a:cubicBezTo>
                  <a:pt x="8769" y="8149"/>
                  <a:pt x="8768" y="8150"/>
                  <a:pt x="8731" y="8062"/>
                </a:cubicBezTo>
                <a:cubicBezTo>
                  <a:pt x="8697" y="7982"/>
                  <a:pt x="8644" y="7916"/>
                  <a:pt x="8607" y="7838"/>
                </a:cubicBezTo>
                <a:cubicBezTo>
                  <a:pt x="8572" y="7764"/>
                  <a:pt x="8542" y="7694"/>
                  <a:pt x="8533" y="7615"/>
                </a:cubicBezTo>
                <a:cubicBezTo>
                  <a:pt x="8522" y="7522"/>
                  <a:pt x="8533" y="7430"/>
                  <a:pt x="8558" y="7342"/>
                </a:cubicBezTo>
                <a:cubicBezTo>
                  <a:pt x="8575" y="7282"/>
                  <a:pt x="8592" y="7227"/>
                  <a:pt x="8632" y="7169"/>
                </a:cubicBezTo>
                <a:cubicBezTo>
                  <a:pt x="8641" y="7156"/>
                  <a:pt x="8747" y="7088"/>
                  <a:pt x="8756" y="7069"/>
                </a:cubicBezTo>
                <a:cubicBezTo>
                  <a:pt x="8774" y="7032"/>
                  <a:pt x="8769" y="7009"/>
                  <a:pt x="8781" y="6970"/>
                </a:cubicBezTo>
                <a:cubicBezTo>
                  <a:pt x="8781" y="6962"/>
                  <a:pt x="8781" y="6953"/>
                  <a:pt x="8781" y="6945"/>
                </a:cubicBezTo>
                <a:cubicBezTo>
                  <a:pt x="8770" y="6977"/>
                  <a:pt x="8762" y="6937"/>
                  <a:pt x="8756" y="6970"/>
                </a:cubicBezTo>
                <a:cubicBezTo>
                  <a:pt x="8749" y="7005"/>
                  <a:pt x="8768" y="7012"/>
                  <a:pt x="8756" y="7045"/>
                </a:cubicBezTo>
                <a:cubicBezTo>
                  <a:pt x="8789" y="7028"/>
                  <a:pt x="8807" y="7019"/>
                  <a:pt x="8781" y="7045"/>
                </a:cubicBezTo>
                <a:cubicBezTo>
                  <a:pt x="8764" y="7062"/>
                  <a:pt x="8778" y="7034"/>
                  <a:pt x="8756" y="7045"/>
                </a:cubicBezTo>
                <a:cubicBezTo>
                  <a:pt x="8764" y="7045"/>
                  <a:pt x="8735" y="7045"/>
                  <a:pt x="8781" y="7045"/>
                </a:cubicBezTo>
              </a:path>
              <a:path w="2333" h="2879">
                <a:moveTo>
                  <a:pt x="7441" y="9153"/>
                </a:moveTo>
                <a:cubicBezTo>
                  <a:pt x="7430" y="9187"/>
                  <a:pt x="7423" y="9189"/>
                  <a:pt x="7392" y="9203"/>
                </a:cubicBezTo>
                <a:cubicBezTo>
                  <a:pt x="7375" y="9211"/>
                  <a:pt x="7359" y="9219"/>
                  <a:pt x="7342" y="9227"/>
                </a:cubicBezTo>
                <a:cubicBezTo>
                  <a:pt x="7366" y="9171"/>
                  <a:pt x="7468" y="8991"/>
                  <a:pt x="7541" y="8979"/>
                </a:cubicBezTo>
                <a:cubicBezTo>
                  <a:pt x="7549" y="8987"/>
                  <a:pt x="7557" y="8996"/>
                  <a:pt x="7565" y="9004"/>
                </a:cubicBezTo>
                <a:cubicBezTo>
                  <a:pt x="7496" y="9218"/>
                  <a:pt x="7519" y="9088"/>
                  <a:pt x="7615" y="9178"/>
                </a:cubicBezTo>
                <a:cubicBezTo>
                  <a:pt x="7743" y="9298"/>
                  <a:pt x="7648" y="9556"/>
                  <a:pt x="7516" y="9624"/>
                </a:cubicBezTo>
                <a:cubicBezTo>
                  <a:pt x="7415" y="9644"/>
                  <a:pt x="7395" y="9663"/>
                  <a:pt x="7342" y="9624"/>
                </a:cubicBezTo>
                <a:cubicBezTo>
                  <a:pt x="7342" y="9556"/>
                  <a:pt x="7373" y="9492"/>
                  <a:pt x="7392" y="9426"/>
                </a:cubicBezTo>
              </a:path>
              <a:path w="2333" h="2879">
                <a:moveTo>
                  <a:pt x="7516" y="8979"/>
                </a:moveTo>
                <a:cubicBezTo>
                  <a:pt x="7357" y="8998"/>
                  <a:pt x="7144" y="9037"/>
                  <a:pt x="7094" y="9227"/>
                </a:cubicBezTo>
                <a:cubicBezTo>
                  <a:pt x="7028" y="9476"/>
                  <a:pt x="7285" y="9748"/>
                  <a:pt x="7541" y="9699"/>
                </a:cubicBezTo>
                <a:cubicBezTo>
                  <a:pt x="7746" y="9659"/>
                  <a:pt x="8015" y="9463"/>
                  <a:pt x="7962" y="9227"/>
                </a:cubicBezTo>
                <a:cubicBezTo>
                  <a:pt x="7925" y="9064"/>
                  <a:pt x="7816" y="9025"/>
                  <a:pt x="7689" y="895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2463840"/>
            <a:ext cx="293760" cy="233280"/>
          </a:xfrm>
          <a:custGeom>
            <a:avLst/>
            <a:gdLst/>
            <a:ahLst/>
            <a:rect l="l" t="t" r="r" b="b"/>
            <a:pathLst>
              <a:path w="819" h="646">
                <a:moveTo>
                  <a:pt x="9971" y="6896"/>
                </a:moveTo>
                <a:cubicBezTo>
                  <a:pt x="9900" y="6872"/>
                  <a:pt x="9971" y="6848"/>
                  <a:pt x="10021" y="6846"/>
                </a:cubicBezTo>
                <a:cubicBezTo>
                  <a:pt x="10165" y="6841"/>
                  <a:pt x="10237" y="6883"/>
                  <a:pt x="10344" y="6970"/>
                </a:cubicBezTo>
                <a:cubicBezTo>
                  <a:pt x="10400" y="7016"/>
                  <a:pt x="10471" y="7115"/>
                  <a:pt x="10517" y="7169"/>
                </a:cubicBezTo>
                <a:cubicBezTo>
                  <a:pt x="10568" y="7229"/>
                  <a:pt x="10625" y="7339"/>
                  <a:pt x="10641" y="7417"/>
                </a:cubicBezTo>
                <a:cubicBezTo>
                  <a:pt x="10641" y="7433"/>
                  <a:pt x="10641" y="7450"/>
                  <a:pt x="10641" y="7466"/>
                </a:cubicBezTo>
                <a:cubicBezTo>
                  <a:pt x="10641" y="7354"/>
                  <a:pt x="10630" y="7252"/>
                  <a:pt x="10616" y="7144"/>
                </a:cubicBezTo>
                <a:cubicBezTo>
                  <a:pt x="10616" y="7103"/>
                  <a:pt x="10625" y="7086"/>
                  <a:pt x="10592" y="7094"/>
                </a:cubicBezTo>
                <a:cubicBezTo>
                  <a:pt x="10662" y="7195"/>
                  <a:pt x="10737" y="7296"/>
                  <a:pt x="10765" y="7417"/>
                </a:cubicBezTo>
                <a:cubicBezTo>
                  <a:pt x="10765" y="7433"/>
                  <a:pt x="10765" y="7450"/>
                  <a:pt x="10765" y="7466"/>
                </a:cubicBezTo>
                <a:cubicBezTo>
                  <a:pt x="10673" y="7497"/>
                  <a:pt x="10557" y="7502"/>
                  <a:pt x="10468" y="7441"/>
                </a:cubicBezTo>
                <a:cubicBezTo>
                  <a:pt x="10446" y="7426"/>
                  <a:pt x="10468" y="7417"/>
                  <a:pt x="10418" y="741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86120" y="3303720"/>
            <a:ext cx="214560" cy="339480"/>
          </a:xfrm>
          <a:custGeom>
            <a:avLst/>
            <a:gdLst/>
            <a:ahLst/>
            <a:rect l="l" t="t" r="r" b="b"/>
            <a:pathLst>
              <a:path w="596" h="943">
                <a:moveTo>
                  <a:pt x="10517" y="9252"/>
                </a:moveTo>
                <a:cubicBezTo>
                  <a:pt x="10517" y="9227"/>
                  <a:pt x="10517" y="9203"/>
                  <a:pt x="10517" y="9178"/>
                </a:cubicBezTo>
                <a:cubicBezTo>
                  <a:pt x="10541" y="9346"/>
                  <a:pt x="10563" y="9511"/>
                  <a:pt x="10616" y="9674"/>
                </a:cubicBezTo>
                <a:cubicBezTo>
                  <a:pt x="10624" y="9690"/>
                  <a:pt x="10633" y="9707"/>
                  <a:pt x="10641" y="9723"/>
                </a:cubicBezTo>
                <a:cubicBezTo>
                  <a:pt x="10776" y="9601"/>
                  <a:pt x="10765" y="9541"/>
                  <a:pt x="10765" y="9351"/>
                </a:cubicBezTo>
                <a:cubicBezTo>
                  <a:pt x="10765" y="9309"/>
                  <a:pt x="10775" y="9314"/>
                  <a:pt x="10740" y="9302"/>
                </a:cubicBezTo>
              </a:path>
              <a:path w="596" h="943">
                <a:moveTo>
                  <a:pt x="11013" y="9748"/>
                </a:moveTo>
                <a:cubicBezTo>
                  <a:pt x="11036" y="9933"/>
                  <a:pt x="11040" y="9985"/>
                  <a:pt x="11088" y="10096"/>
                </a:cubicBezTo>
                <a:cubicBezTo>
                  <a:pt x="11022" y="10060"/>
                  <a:pt x="10986" y="9691"/>
                  <a:pt x="10988" y="9550"/>
                </a:cubicBezTo>
                <a:cubicBezTo>
                  <a:pt x="11008" y="9449"/>
                  <a:pt x="10996" y="9418"/>
                  <a:pt x="11063" y="9401"/>
                </a:cubicBezTo>
                <a:cubicBezTo>
                  <a:pt x="11075" y="9443"/>
                  <a:pt x="11190" y="9840"/>
                  <a:pt x="11013" y="9798"/>
                </a:cubicBezTo>
                <a:cubicBezTo>
                  <a:pt x="11005" y="9781"/>
                  <a:pt x="10996" y="9765"/>
                  <a:pt x="10988" y="97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16240" y="3170160"/>
            <a:ext cx="635040" cy="347760"/>
          </a:xfrm>
          <a:custGeom>
            <a:avLst/>
            <a:gdLst/>
            <a:ahLst/>
            <a:rect l="l" t="t" r="r" b="b"/>
            <a:pathLst>
              <a:path w="1762" h="968">
                <a:moveTo>
                  <a:pt x="11584" y="9252"/>
                </a:moveTo>
                <a:cubicBezTo>
                  <a:pt x="11598" y="9297"/>
                  <a:pt x="11754" y="9714"/>
                  <a:pt x="11633" y="9699"/>
                </a:cubicBezTo>
                <a:cubicBezTo>
                  <a:pt x="11600" y="9674"/>
                  <a:pt x="11567" y="9649"/>
                  <a:pt x="11534" y="9624"/>
                </a:cubicBezTo>
              </a:path>
              <a:path w="1762" h="968">
                <a:moveTo>
                  <a:pt x="11435" y="9500"/>
                </a:moveTo>
                <a:cubicBezTo>
                  <a:pt x="11553" y="9500"/>
                  <a:pt x="11667" y="9453"/>
                  <a:pt x="11782" y="9426"/>
                </a:cubicBezTo>
              </a:path>
              <a:path w="1762" h="968">
                <a:moveTo>
                  <a:pt x="11782" y="9426"/>
                </a:moveTo>
                <a:lnTo>
                  <a:pt x="11782" y="9426"/>
                </a:lnTo>
              </a:path>
              <a:path w="1762" h="968">
                <a:moveTo>
                  <a:pt x="12129" y="9302"/>
                </a:moveTo>
                <a:cubicBezTo>
                  <a:pt x="11966" y="9378"/>
                  <a:pt x="11913" y="9430"/>
                  <a:pt x="12005" y="9599"/>
                </a:cubicBezTo>
                <a:cubicBezTo>
                  <a:pt x="12213" y="9411"/>
                  <a:pt x="12179" y="9114"/>
                  <a:pt x="12129" y="8830"/>
                </a:cubicBezTo>
                <a:cubicBezTo>
                  <a:pt x="12089" y="8602"/>
                  <a:pt x="12175" y="9219"/>
                  <a:pt x="12278" y="9426"/>
                </a:cubicBezTo>
              </a:path>
              <a:path w="1762" h="968">
                <a:moveTo>
                  <a:pt x="12427" y="9302"/>
                </a:moveTo>
                <a:cubicBezTo>
                  <a:pt x="12326" y="9437"/>
                  <a:pt x="12294" y="9411"/>
                  <a:pt x="12378" y="9550"/>
                </a:cubicBezTo>
                <a:cubicBezTo>
                  <a:pt x="12453" y="9480"/>
                  <a:pt x="12574" y="9279"/>
                  <a:pt x="12576" y="9277"/>
                </a:cubicBezTo>
                <a:cubicBezTo>
                  <a:pt x="12576" y="9306"/>
                  <a:pt x="12542" y="9603"/>
                  <a:pt x="12650" y="9500"/>
                </a:cubicBezTo>
                <a:cubicBezTo>
                  <a:pt x="12675" y="9467"/>
                  <a:pt x="12700" y="9434"/>
                  <a:pt x="12725" y="9401"/>
                </a:cubicBezTo>
                <a:cubicBezTo>
                  <a:pt x="12746" y="9429"/>
                  <a:pt x="12782" y="9569"/>
                  <a:pt x="12849" y="9525"/>
                </a:cubicBezTo>
                <a:cubicBezTo>
                  <a:pt x="12916" y="9481"/>
                  <a:pt x="12862" y="9324"/>
                  <a:pt x="12948" y="9277"/>
                </a:cubicBezTo>
                <a:cubicBezTo>
                  <a:pt x="13037" y="9228"/>
                  <a:pt x="13038" y="9398"/>
                  <a:pt x="13047" y="9451"/>
                </a:cubicBezTo>
                <a:cubicBezTo>
                  <a:pt x="13076" y="9394"/>
                  <a:pt x="13108" y="9333"/>
                  <a:pt x="13146" y="9302"/>
                </a:cubicBezTo>
                <a:cubicBezTo>
                  <a:pt x="13212" y="9510"/>
                  <a:pt x="13185" y="9556"/>
                  <a:pt x="13122" y="977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43040" y="3813120"/>
            <a:ext cx="5643720" cy="509760"/>
          </a:xfrm>
          <a:custGeom>
            <a:avLst/>
            <a:gdLst/>
            <a:ahLst/>
            <a:rect l="l" t="t" r="r" b="b"/>
            <a:pathLst>
              <a:path w="15678" h="1414">
                <a:moveTo>
                  <a:pt x="4862" y="11633"/>
                </a:moveTo>
                <a:cubicBezTo>
                  <a:pt x="4830" y="11610"/>
                  <a:pt x="4791" y="11603"/>
                  <a:pt x="4762" y="11584"/>
                </a:cubicBezTo>
                <a:cubicBezTo>
                  <a:pt x="4749" y="11575"/>
                  <a:pt x="4665" y="11562"/>
                  <a:pt x="4663" y="11559"/>
                </a:cubicBezTo>
                <a:cubicBezTo>
                  <a:pt x="4662" y="11557"/>
                  <a:pt x="4511" y="11461"/>
                  <a:pt x="4663" y="11559"/>
                </a:cubicBezTo>
                <a:cubicBezTo>
                  <a:pt x="4790" y="11641"/>
                  <a:pt x="4899" y="11764"/>
                  <a:pt x="5035" y="11832"/>
                </a:cubicBezTo>
                <a:cubicBezTo>
                  <a:pt x="5090" y="11859"/>
                  <a:pt x="5239" y="11933"/>
                  <a:pt x="5184" y="11906"/>
                </a:cubicBezTo>
                <a:cubicBezTo>
                  <a:pt x="5052" y="11841"/>
                  <a:pt x="4925" y="11764"/>
                  <a:pt x="4787" y="11708"/>
                </a:cubicBezTo>
                <a:cubicBezTo>
                  <a:pt x="4724" y="11683"/>
                  <a:pt x="4695" y="11666"/>
                  <a:pt x="4638" y="11633"/>
                </a:cubicBezTo>
                <a:cubicBezTo>
                  <a:pt x="4625" y="11595"/>
                  <a:pt x="4615" y="11595"/>
                  <a:pt x="4663" y="11633"/>
                </a:cubicBezTo>
                <a:cubicBezTo>
                  <a:pt x="4813" y="11752"/>
                  <a:pt x="4989" y="11816"/>
                  <a:pt x="5159" y="11906"/>
                </a:cubicBezTo>
                <a:cubicBezTo>
                  <a:pt x="5206" y="11939"/>
                  <a:pt x="5306" y="12015"/>
                  <a:pt x="5259" y="11981"/>
                </a:cubicBezTo>
                <a:cubicBezTo>
                  <a:pt x="5118" y="11879"/>
                  <a:pt x="4969" y="11808"/>
                  <a:pt x="4812" y="11733"/>
                </a:cubicBezTo>
                <a:cubicBezTo>
                  <a:pt x="4732" y="11695"/>
                  <a:pt x="4667" y="11615"/>
                  <a:pt x="4589" y="11584"/>
                </a:cubicBezTo>
                <a:cubicBezTo>
                  <a:pt x="4497" y="11548"/>
                  <a:pt x="4724" y="11639"/>
                  <a:pt x="4812" y="11683"/>
                </a:cubicBezTo>
                <a:cubicBezTo>
                  <a:pt x="4963" y="11758"/>
                  <a:pt x="5104" y="11852"/>
                  <a:pt x="5234" y="11956"/>
                </a:cubicBezTo>
                <a:cubicBezTo>
                  <a:pt x="5348" y="12013"/>
                  <a:pt x="5376" y="12032"/>
                  <a:pt x="5184" y="11906"/>
                </a:cubicBezTo>
                <a:cubicBezTo>
                  <a:pt x="5034" y="11808"/>
                  <a:pt x="4879" y="11738"/>
                  <a:pt x="4738" y="11633"/>
                </a:cubicBezTo>
                <a:cubicBezTo>
                  <a:pt x="4521" y="11471"/>
                  <a:pt x="4813" y="11693"/>
                  <a:pt x="4837" y="11708"/>
                </a:cubicBezTo>
                <a:cubicBezTo>
                  <a:pt x="4964" y="11786"/>
                  <a:pt x="5358" y="11934"/>
                  <a:pt x="5209" y="11931"/>
                </a:cubicBezTo>
                <a:cubicBezTo>
                  <a:pt x="5140" y="11930"/>
                  <a:pt x="4880" y="11722"/>
                  <a:pt x="4812" y="11683"/>
                </a:cubicBezTo>
                <a:cubicBezTo>
                  <a:pt x="4713" y="11624"/>
                  <a:pt x="4685" y="11626"/>
                  <a:pt x="4663" y="11559"/>
                </a:cubicBezTo>
                <a:cubicBezTo>
                  <a:pt x="4784" y="11659"/>
                  <a:pt x="4931" y="11715"/>
                  <a:pt x="5060" y="11807"/>
                </a:cubicBezTo>
                <a:cubicBezTo>
                  <a:pt x="5141" y="11865"/>
                  <a:pt x="5380" y="12028"/>
                  <a:pt x="5110" y="11881"/>
                </a:cubicBezTo>
                <a:cubicBezTo>
                  <a:pt x="4989" y="11815"/>
                  <a:pt x="4901" y="11690"/>
                  <a:pt x="4787" y="11633"/>
                </a:cubicBezTo>
                <a:cubicBezTo>
                  <a:pt x="4744" y="11612"/>
                  <a:pt x="4767" y="11600"/>
                  <a:pt x="4812" y="11609"/>
                </a:cubicBezTo>
                <a:cubicBezTo>
                  <a:pt x="4954" y="11638"/>
                  <a:pt x="5125" y="11711"/>
                  <a:pt x="5234" y="11807"/>
                </a:cubicBezTo>
                <a:cubicBezTo>
                  <a:pt x="5273" y="11841"/>
                  <a:pt x="5250" y="11829"/>
                  <a:pt x="5209" y="11807"/>
                </a:cubicBezTo>
                <a:cubicBezTo>
                  <a:pt x="5041" y="11719"/>
                  <a:pt x="4896" y="11601"/>
                  <a:pt x="4738" y="11509"/>
                </a:cubicBezTo>
                <a:cubicBezTo>
                  <a:pt x="4730" y="11509"/>
                  <a:pt x="4721" y="11509"/>
                  <a:pt x="4713" y="11509"/>
                </a:cubicBezTo>
                <a:cubicBezTo>
                  <a:pt x="4799" y="11509"/>
                  <a:pt x="4893" y="11586"/>
                  <a:pt x="4961" y="11633"/>
                </a:cubicBezTo>
                <a:cubicBezTo>
                  <a:pt x="5038" y="11686"/>
                  <a:pt x="5113" y="11746"/>
                  <a:pt x="5184" y="11807"/>
                </a:cubicBezTo>
                <a:cubicBezTo>
                  <a:pt x="5083" y="11782"/>
                  <a:pt x="4909" y="11662"/>
                  <a:pt x="4812" y="11609"/>
                </a:cubicBezTo>
                <a:cubicBezTo>
                  <a:pt x="4724" y="11561"/>
                  <a:pt x="4658" y="11496"/>
                  <a:pt x="4837" y="11658"/>
                </a:cubicBezTo>
                <a:cubicBezTo>
                  <a:pt x="4974" y="11782"/>
                  <a:pt x="5129" y="11900"/>
                  <a:pt x="5308" y="11956"/>
                </a:cubicBezTo>
                <a:cubicBezTo>
                  <a:pt x="5333" y="11956"/>
                  <a:pt x="5341" y="11956"/>
                  <a:pt x="5358" y="11956"/>
                </a:cubicBezTo>
              </a:path>
              <a:path w="15678" h="1414">
                <a:moveTo>
                  <a:pt x="5507" y="11981"/>
                </a:moveTo>
                <a:cubicBezTo>
                  <a:pt x="5586" y="11965"/>
                  <a:pt x="5671" y="11938"/>
                  <a:pt x="5755" y="11931"/>
                </a:cubicBezTo>
                <a:cubicBezTo>
                  <a:pt x="5888" y="11920"/>
                  <a:pt x="6020" y="11924"/>
                  <a:pt x="6152" y="11906"/>
                </a:cubicBezTo>
                <a:cubicBezTo>
                  <a:pt x="6260" y="11891"/>
                  <a:pt x="6341" y="11857"/>
                  <a:pt x="6449" y="11857"/>
                </a:cubicBezTo>
                <a:cubicBezTo>
                  <a:pt x="6490" y="11857"/>
                  <a:pt x="6532" y="11857"/>
                  <a:pt x="6573" y="11857"/>
                </a:cubicBezTo>
              </a:path>
              <a:path w="15678" h="1414">
                <a:moveTo>
                  <a:pt x="5804" y="11981"/>
                </a:moveTo>
                <a:cubicBezTo>
                  <a:pt x="5967" y="11936"/>
                  <a:pt x="6130" y="11880"/>
                  <a:pt x="6300" y="11857"/>
                </a:cubicBezTo>
                <a:cubicBezTo>
                  <a:pt x="6547" y="11824"/>
                  <a:pt x="6800" y="11815"/>
                  <a:pt x="7045" y="11782"/>
                </a:cubicBezTo>
                <a:cubicBezTo>
                  <a:pt x="7368" y="11738"/>
                  <a:pt x="7691" y="11705"/>
                  <a:pt x="8012" y="11658"/>
                </a:cubicBezTo>
                <a:cubicBezTo>
                  <a:pt x="8279" y="11619"/>
                  <a:pt x="8537" y="11582"/>
                  <a:pt x="8806" y="11559"/>
                </a:cubicBezTo>
                <a:cubicBezTo>
                  <a:pt x="9083" y="11536"/>
                  <a:pt x="9348" y="11544"/>
                  <a:pt x="9624" y="11559"/>
                </a:cubicBezTo>
                <a:cubicBezTo>
                  <a:pt x="9883" y="11573"/>
                  <a:pt x="10113" y="11609"/>
                  <a:pt x="10368" y="11658"/>
                </a:cubicBezTo>
                <a:cubicBezTo>
                  <a:pt x="10852" y="11750"/>
                  <a:pt x="11312" y="11849"/>
                  <a:pt x="11807" y="11857"/>
                </a:cubicBezTo>
                <a:cubicBezTo>
                  <a:pt x="12365" y="11866"/>
                  <a:pt x="12892" y="11767"/>
                  <a:pt x="13444" y="11708"/>
                </a:cubicBezTo>
                <a:cubicBezTo>
                  <a:pt x="13990" y="11650"/>
                  <a:pt x="14556" y="11573"/>
                  <a:pt x="15106" y="11584"/>
                </a:cubicBezTo>
                <a:cubicBezTo>
                  <a:pt x="15320" y="11588"/>
                  <a:pt x="15539" y="11626"/>
                  <a:pt x="15751" y="11633"/>
                </a:cubicBezTo>
                <a:cubicBezTo>
                  <a:pt x="15965" y="11640"/>
                  <a:pt x="16185" y="11630"/>
                  <a:pt x="16396" y="11658"/>
                </a:cubicBezTo>
                <a:cubicBezTo>
                  <a:pt x="16663" y="11693"/>
                  <a:pt x="16920" y="11721"/>
                  <a:pt x="17190" y="11733"/>
                </a:cubicBezTo>
                <a:cubicBezTo>
                  <a:pt x="17489" y="11747"/>
                  <a:pt x="17786" y="11681"/>
                  <a:pt x="18083" y="11658"/>
                </a:cubicBezTo>
                <a:cubicBezTo>
                  <a:pt x="18198" y="11649"/>
                  <a:pt x="18629" y="11707"/>
                  <a:pt x="18703" y="11658"/>
                </a:cubicBezTo>
                <a:cubicBezTo>
                  <a:pt x="18732" y="11639"/>
                  <a:pt x="18709" y="11429"/>
                  <a:pt x="18728" y="11385"/>
                </a:cubicBezTo>
                <a:cubicBezTo>
                  <a:pt x="18738" y="11549"/>
                  <a:pt x="18749" y="11713"/>
                  <a:pt x="18752" y="11881"/>
                </a:cubicBezTo>
                <a:cubicBezTo>
                  <a:pt x="18752" y="11748"/>
                  <a:pt x="18719" y="11812"/>
                  <a:pt x="18752" y="11683"/>
                </a:cubicBezTo>
                <a:cubicBezTo>
                  <a:pt x="18791" y="11529"/>
                  <a:pt x="18652" y="11578"/>
                  <a:pt x="18777" y="11733"/>
                </a:cubicBezTo>
                <a:cubicBezTo>
                  <a:pt x="18785" y="11758"/>
                  <a:pt x="18794" y="11782"/>
                  <a:pt x="18802" y="11807"/>
                </a:cubicBezTo>
                <a:cubicBezTo>
                  <a:pt x="18774" y="11719"/>
                  <a:pt x="18732" y="11614"/>
                  <a:pt x="18703" y="11534"/>
                </a:cubicBezTo>
                <a:cubicBezTo>
                  <a:pt x="18862" y="11513"/>
                  <a:pt x="19034" y="11485"/>
                  <a:pt x="19199" y="11460"/>
                </a:cubicBezTo>
                <a:cubicBezTo>
                  <a:pt x="19406" y="11428"/>
                  <a:pt x="19614" y="11418"/>
                  <a:pt x="19819" y="11385"/>
                </a:cubicBezTo>
                <a:cubicBezTo>
                  <a:pt x="19912" y="11370"/>
                  <a:pt x="20005" y="11347"/>
                  <a:pt x="20092" y="11336"/>
                </a:cubicBezTo>
                <a:cubicBezTo>
                  <a:pt x="20108" y="11336"/>
                  <a:pt x="20125" y="11336"/>
                  <a:pt x="20141" y="11336"/>
                </a:cubicBezTo>
                <a:cubicBezTo>
                  <a:pt x="20159" y="11442"/>
                  <a:pt x="20169" y="11551"/>
                  <a:pt x="20191" y="11658"/>
                </a:cubicBezTo>
                <a:cubicBezTo>
                  <a:pt x="20208" y="11740"/>
                  <a:pt x="20225" y="11825"/>
                  <a:pt x="20241" y="11906"/>
                </a:cubicBezTo>
                <a:cubicBezTo>
                  <a:pt x="19839" y="11914"/>
                  <a:pt x="19361" y="12041"/>
                  <a:pt x="18976" y="12005"/>
                </a:cubicBezTo>
                <a:cubicBezTo>
                  <a:pt x="18905" y="11998"/>
                  <a:pt x="18815" y="11990"/>
                  <a:pt x="18777" y="11981"/>
                </a:cubicBezTo>
                <a:cubicBezTo>
                  <a:pt x="18757" y="11940"/>
                  <a:pt x="18748" y="11934"/>
                  <a:pt x="18752" y="11906"/>
                </a:cubicBezTo>
              </a:path>
              <a:path w="15678" h="1414">
                <a:moveTo>
                  <a:pt x="19298" y="11609"/>
                </a:moveTo>
                <a:cubicBezTo>
                  <a:pt x="19306" y="11609"/>
                  <a:pt x="19315" y="11609"/>
                  <a:pt x="19323" y="11609"/>
                </a:cubicBezTo>
                <a:cubicBezTo>
                  <a:pt x="19284" y="11637"/>
                  <a:pt x="19231" y="11610"/>
                  <a:pt x="19199" y="11633"/>
                </a:cubicBezTo>
                <a:cubicBezTo>
                  <a:pt x="19172" y="11652"/>
                  <a:pt x="19162" y="11658"/>
                  <a:pt x="19100" y="11658"/>
                </a:cubicBezTo>
                <a:cubicBezTo>
                  <a:pt x="19034" y="11658"/>
                  <a:pt x="18967" y="11658"/>
                  <a:pt x="18901" y="11658"/>
                </a:cubicBezTo>
                <a:cubicBezTo>
                  <a:pt x="18901" y="11724"/>
                  <a:pt x="18914" y="11781"/>
                  <a:pt x="18876" y="11832"/>
                </a:cubicBezTo>
                <a:cubicBezTo>
                  <a:pt x="19006" y="11832"/>
                  <a:pt x="19122" y="11829"/>
                  <a:pt x="19248" y="11807"/>
                </a:cubicBezTo>
                <a:cubicBezTo>
                  <a:pt x="19279" y="11802"/>
                  <a:pt x="19449" y="11807"/>
                  <a:pt x="19397" y="11807"/>
                </a:cubicBezTo>
              </a:path>
              <a:path w="15678" h="1414">
                <a:moveTo>
                  <a:pt x="18926" y="11782"/>
                </a:moveTo>
                <a:cubicBezTo>
                  <a:pt x="18831" y="11741"/>
                  <a:pt x="18731" y="11758"/>
                  <a:pt x="18628" y="11733"/>
                </a:cubicBezTo>
                <a:cubicBezTo>
                  <a:pt x="18678" y="11733"/>
                  <a:pt x="18711" y="11733"/>
                  <a:pt x="18752" y="11733"/>
                </a:cubicBezTo>
                <a:cubicBezTo>
                  <a:pt x="18844" y="11733"/>
                  <a:pt x="18620" y="11717"/>
                  <a:pt x="18529" y="11708"/>
                </a:cubicBezTo>
                <a:cubicBezTo>
                  <a:pt x="18418" y="11697"/>
                  <a:pt x="18754" y="11708"/>
                  <a:pt x="18827" y="11708"/>
                </a:cubicBezTo>
              </a:path>
              <a:path w="15678" h="1414">
                <a:moveTo>
                  <a:pt x="19447" y="11683"/>
                </a:moveTo>
                <a:cubicBezTo>
                  <a:pt x="19455" y="11683"/>
                  <a:pt x="19464" y="11683"/>
                  <a:pt x="19472" y="11683"/>
                </a:cubicBezTo>
              </a:path>
              <a:path w="15678" h="1414">
                <a:moveTo>
                  <a:pt x="18827" y="11336"/>
                </a:moveTo>
                <a:cubicBezTo>
                  <a:pt x="18870" y="11418"/>
                  <a:pt x="18868" y="11216"/>
                  <a:pt x="18901" y="11137"/>
                </a:cubicBezTo>
                <a:cubicBezTo>
                  <a:pt x="18984" y="10940"/>
                  <a:pt x="19129" y="10791"/>
                  <a:pt x="19348" y="10765"/>
                </a:cubicBezTo>
                <a:cubicBezTo>
                  <a:pt x="19458" y="10752"/>
                  <a:pt x="19592" y="10755"/>
                  <a:pt x="19695" y="10790"/>
                </a:cubicBezTo>
                <a:cubicBezTo>
                  <a:pt x="19687" y="10790"/>
                  <a:pt x="19678" y="10790"/>
                  <a:pt x="19670" y="10790"/>
                </a:cubicBezTo>
                <a:cubicBezTo>
                  <a:pt x="19567" y="10716"/>
                  <a:pt x="19447" y="10657"/>
                  <a:pt x="19348" y="10592"/>
                </a:cubicBezTo>
                <a:cubicBezTo>
                  <a:pt x="19356" y="10592"/>
                  <a:pt x="19364" y="10592"/>
                  <a:pt x="19372" y="10592"/>
                </a:cubicBezTo>
                <a:cubicBezTo>
                  <a:pt x="19495" y="10684"/>
                  <a:pt x="19659" y="10682"/>
                  <a:pt x="19769" y="10765"/>
                </a:cubicBezTo>
                <a:cubicBezTo>
                  <a:pt x="19845" y="10822"/>
                  <a:pt x="19602" y="10989"/>
                  <a:pt x="19571" y="1101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54320" y="3724200"/>
            <a:ext cx="393840" cy="241200"/>
          </a:xfrm>
          <a:custGeom>
            <a:avLst/>
            <a:gdLst/>
            <a:ahLst/>
            <a:rect l="l" t="t" r="r" b="b"/>
            <a:pathLst>
              <a:path w="1093" h="670">
                <a:moveTo>
                  <a:pt x="11286" y="10393"/>
                </a:moveTo>
                <a:cubicBezTo>
                  <a:pt x="11240" y="10553"/>
                  <a:pt x="11333" y="10788"/>
                  <a:pt x="11361" y="10964"/>
                </a:cubicBezTo>
                <a:cubicBezTo>
                  <a:pt x="11361" y="10980"/>
                  <a:pt x="11361" y="10997"/>
                  <a:pt x="11361" y="11013"/>
                </a:cubicBezTo>
                <a:cubicBezTo>
                  <a:pt x="11378" y="10961"/>
                  <a:pt x="11397" y="10673"/>
                  <a:pt x="11509" y="10790"/>
                </a:cubicBezTo>
                <a:cubicBezTo>
                  <a:pt x="11561" y="10845"/>
                  <a:pt x="11579" y="10976"/>
                  <a:pt x="11609" y="11013"/>
                </a:cubicBezTo>
                <a:cubicBezTo>
                  <a:pt x="11647" y="10949"/>
                  <a:pt x="11649" y="10885"/>
                  <a:pt x="11708" y="10939"/>
                </a:cubicBezTo>
                <a:cubicBezTo>
                  <a:pt x="11747" y="10978"/>
                  <a:pt x="11763" y="10979"/>
                  <a:pt x="11757" y="11013"/>
                </a:cubicBezTo>
              </a:path>
              <a:path w="1093" h="670">
                <a:moveTo>
                  <a:pt x="11584" y="10542"/>
                </a:moveTo>
                <a:cubicBezTo>
                  <a:pt x="11609" y="10542"/>
                  <a:pt x="11617" y="10542"/>
                  <a:pt x="11609" y="10567"/>
                </a:cubicBezTo>
              </a:path>
              <a:path w="1093" h="670">
                <a:moveTo>
                  <a:pt x="11956" y="10393"/>
                </a:moveTo>
                <a:cubicBezTo>
                  <a:pt x="11971" y="10451"/>
                  <a:pt x="12060" y="10881"/>
                  <a:pt x="12105" y="10840"/>
                </a:cubicBezTo>
              </a:path>
              <a:path w="1093" h="670">
                <a:moveTo>
                  <a:pt x="12204" y="10344"/>
                </a:moveTo>
                <a:cubicBezTo>
                  <a:pt x="12280" y="10524"/>
                  <a:pt x="12313" y="10698"/>
                  <a:pt x="12353" y="108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70200" y="4402080"/>
            <a:ext cx="357120" cy="295200"/>
          </a:xfrm>
          <a:custGeom>
            <a:avLst/>
            <a:gdLst/>
            <a:ahLst/>
            <a:rect l="l" t="t" r="r" b="b"/>
            <a:pathLst>
              <a:path w="993" h="819">
                <a:moveTo>
                  <a:pt x="10616" y="12427"/>
                </a:moveTo>
                <a:cubicBezTo>
                  <a:pt x="10677" y="12528"/>
                  <a:pt x="10625" y="12659"/>
                  <a:pt x="10616" y="12774"/>
                </a:cubicBezTo>
                <a:cubicBezTo>
                  <a:pt x="10616" y="12799"/>
                  <a:pt x="10616" y="12824"/>
                  <a:pt x="10616" y="12849"/>
                </a:cubicBezTo>
              </a:path>
              <a:path w="993" h="819">
                <a:moveTo>
                  <a:pt x="10616" y="12278"/>
                </a:moveTo>
                <a:cubicBezTo>
                  <a:pt x="10516" y="12289"/>
                  <a:pt x="10443" y="12309"/>
                  <a:pt x="10368" y="12378"/>
                </a:cubicBezTo>
                <a:cubicBezTo>
                  <a:pt x="10276" y="12462"/>
                  <a:pt x="10174" y="12668"/>
                  <a:pt x="10195" y="12799"/>
                </a:cubicBezTo>
                <a:cubicBezTo>
                  <a:pt x="10224" y="12981"/>
                  <a:pt x="10493" y="13047"/>
                  <a:pt x="10641" y="13047"/>
                </a:cubicBezTo>
                <a:cubicBezTo>
                  <a:pt x="10837" y="13047"/>
                  <a:pt x="10977" y="12982"/>
                  <a:pt x="11088" y="12824"/>
                </a:cubicBezTo>
                <a:cubicBezTo>
                  <a:pt x="11205" y="12656"/>
                  <a:pt x="11225" y="12483"/>
                  <a:pt x="11038" y="12353"/>
                </a:cubicBezTo>
                <a:cubicBezTo>
                  <a:pt x="10942" y="12286"/>
                  <a:pt x="10801" y="12258"/>
                  <a:pt x="10691" y="122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7520" y="85680"/>
            <a:ext cx="132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rown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88120" y="2143080"/>
            <a:ext cx="1251000" cy="1312920"/>
          </a:xfrm>
          <a:custGeom>
            <a:avLst/>
            <a:gdLst/>
            <a:ahLst/>
            <a:rect l="l" t="t" r="r" b="b"/>
            <a:pathLst>
              <a:path w="3473" h="3647">
                <a:moveTo>
                  <a:pt x="22671" y="7094"/>
                </a:moveTo>
                <a:cubicBezTo>
                  <a:pt x="22642" y="7086"/>
                  <a:pt x="22626" y="7076"/>
                  <a:pt x="22597" y="7069"/>
                </a:cubicBezTo>
              </a:path>
              <a:path w="3473" h="3647">
                <a:moveTo>
                  <a:pt x="22796" y="7094"/>
                </a:moveTo>
                <a:cubicBezTo>
                  <a:pt x="22757" y="7066"/>
                  <a:pt x="22734" y="7037"/>
                  <a:pt x="22696" y="6995"/>
                </a:cubicBezTo>
                <a:cubicBezTo>
                  <a:pt x="22632" y="6924"/>
                  <a:pt x="22635" y="6839"/>
                  <a:pt x="22597" y="6747"/>
                </a:cubicBezTo>
                <a:cubicBezTo>
                  <a:pt x="22570" y="6681"/>
                  <a:pt x="22568" y="6614"/>
                  <a:pt x="22547" y="6548"/>
                </a:cubicBezTo>
                <a:cubicBezTo>
                  <a:pt x="22523" y="6474"/>
                  <a:pt x="22505" y="6381"/>
                  <a:pt x="22523" y="6300"/>
                </a:cubicBezTo>
                <a:cubicBezTo>
                  <a:pt x="22534" y="6250"/>
                  <a:pt x="22565" y="6168"/>
                  <a:pt x="22597" y="6127"/>
                </a:cubicBezTo>
                <a:cubicBezTo>
                  <a:pt x="22644" y="6067"/>
                  <a:pt x="22722" y="6000"/>
                  <a:pt x="22796" y="5978"/>
                </a:cubicBezTo>
                <a:cubicBezTo>
                  <a:pt x="22889" y="5951"/>
                  <a:pt x="22952" y="5959"/>
                  <a:pt x="23044" y="5978"/>
                </a:cubicBezTo>
                <a:cubicBezTo>
                  <a:pt x="23135" y="5997"/>
                  <a:pt x="23194" y="6052"/>
                  <a:pt x="23267" y="6102"/>
                </a:cubicBezTo>
                <a:cubicBezTo>
                  <a:pt x="23321" y="6140"/>
                  <a:pt x="23398" y="6213"/>
                  <a:pt x="23416" y="6276"/>
                </a:cubicBezTo>
                <a:cubicBezTo>
                  <a:pt x="23435" y="6342"/>
                  <a:pt x="23449" y="6454"/>
                  <a:pt x="23440" y="6524"/>
                </a:cubicBezTo>
                <a:cubicBezTo>
                  <a:pt x="23432" y="6583"/>
                  <a:pt x="23405" y="6607"/>
                  <a:pt x="23366" y="6648"/>
                </a:cubicBezTo>
                <a:cubicBezTo>
                  <a:pt x="23317" y="6700"/>
                  <a:pt x="23255" y="6739"/>
                  <a:pt x="23192" y="6772"/>
                </a:cubicBezTo>
                <a:cubicBezTo>
                  <a:pt x="23135" y="6802"/>
                  <a:pt x="23068" y="6821"/>
                  <a:pt x="23019" y="6846"/>
                </a:cubicBezTo>
                <a:cubicBezTo>
                  <a:pt x="22970" y="6871"/>
                  <a:pt x="22934" y="6913"/>
                  <a:pt x="22895" y="6945"/>
                </a:cubicBezTo>
                <a:cubicBezTo>
                  <a:pt x="22857" y="6977"/>
                  <a:pt x="22840" y="7009"/>
                  <a:pt x="22820" y="7045"/>
                </a:cubicBezTo>
                <a:cubicBezTo>
                  <a:pt x="22780" y="7117"/>
                  <a:pt x="22815" y="7107"/>
                  <a:pt x="22746" y="7119"/>
                </a:cubicBezTo>
                <a:cubicBezTo>
                  <a:pt x="22701" y="7127"/>
                  <a:pt x="22642" y="7129"/>
                  <a:pt x="22597" y="7144"/>
                </a:cubicBezTo>
                <a:cubicBezTo>
                  <a:pt x="22564" y="7155"/>
                  <a:pt x="22502" y="7175"/>
                  <a:pt x="22473" y="7193"/>
                </a:cubicBezTo>
                <a:cubicBezTo>
                  <a:pt x="22452" y="7206"/>
                  <a:pt x="22453" y="7234"/>
                  <a:pt x="22448" y="7268"/>
                </a:cubicBezTo>
                <a:cubicBezTo>
                  <a:pt x="22495" y="7293"/>
                  <a:pt x="22555" y="7298"/>
                  <a:pt x="22622" y="7317"/>
                </a:cubicBezTo>
                <a:cubicBezTo>
                  <a:pt x="22704" y="7340"/>
                  <a:pt x="22725" y="7327"/>
                  <a:pt x="22796" y="7317"/>
                </a:cubicBezTo>
                <a:cubicBezTo>
                  <a:pt x="22843" y="7310"/>
                  <a:pt x="22897" y="7317"/>
                  <a:pt x="22944" y="7317"/>
                </a:cubicBezTo>
                <a:cubicBezTo>
                  <a:pt x="22909" y="7260"/>
                  <a:pt x="22898" y="7227"/>
                  <a:pt x="22845" y="7193"/>
                </a:cubicBezTo>
                <a:cubicBezTo>
                  <a:pt x="22823" y="7171"/>
                  <a:pt x="22818" y="7163"/>
                  <a:pt x="22796" y="7169"/>
                </a:cubicBezTo>
              </a:path>
              <a:path w="3473" h="3647">
                <a:moveTo>
                  <a:pt x="22572" y="7441"/>
                </a:moveTo>
                <a:cubicBezTo>
                  <a:pt x="22493" y="7451"/>
                  <a:pt x="22433" y="7466"/>
                  <a:pt x="22349" y="7466"/>
                </a:cubicBezTo>
                <a:cubicBezTo>
                  <a:pt x="22267" y="7466"/>
                  <a:pt x="22142" y="7447"/>
                  <a:pt x="22101" y="7441"/>
                </a:cubicBezTo>
                <a:cubicBezTo>
                  <a:pt x="22063" y="7435"/>
                  <a:pt x="22009" y="7414"/>
                  <a:pt x="21977" y="7417"/>
                </a:cubicBezTo>
                <a:cubicBezTo>
                  <a:pt x="21906" y="7425"/>
                  <a:pt x="21910" y="7489"/>
                  <a:pt x="21878" y="7516"/>
                </a:cubicBezTo>
                <a:cubicBezTo>
                  <a:pt x="21851" y="7539"/>
                  <a:pt x="21780" y="7571"/>
                  <a:pt x="21754" y="7565"/>
                </a:cubicBezTo>
                <a:cubicBezTo>
                  <a:pt x="21692" y="7551"/>
                  <a:pt x="21642" y="7503"/>
                  <a:pt x="21580" y="7491"/>
                </a:cubicBezTo>
                <a:cubicBezTo>
                  <a:pt x="21525" y="7480"/>
                  <a:pt x="21524" y="7503"/>
                  <a:pt x="21506" y="7541"/>
                </a:cubicBezTo>
                <a:cubicBezTo>
                  <a:pt x="21465" y="7628"/>
                  <a:pt x="21475" y="7703"/>
                  <a:pt x="21456" y="7789"/>
                </a:cubicBezTo>
                <a:cubicBezTo>
                  <a:pt x="21437" y="7876"/>
                  <a:pt x="21376" y="7953"/>
                  <a:pt x="21357" y="8037"/>
                </a:cubicBezTo>
                <a:cubicBezTo>
                  <a:pt x="21357" y="8062"/>
                  <a:pt x="21357" y="8070"/>
                  <a:pt x="21357" y="8086"/>
                </a:cubicBezTo>
                <a:cubicBezTo>
                  <a:pt x="21419" y="8114"/>
                  <a:pt x="21484" y="8120"/>
                  <a:pt x="21555" y="8136"/>
                </a:cubicBezTo>
                <a:cubicBezTo>
                  <a:pt x="21662" y="8160"/>
                  <a:pt x="21769" y="8191"/>
                  <a:pt x="21878" y="8210"/>
                </a:cubicBezTo>
                <a:cubicBezTo>
                  <a:pt x="22071" y="8244"/>
                  <a:pt x="22301" y="8210"/>
                  <a:pt x="22498" y="8210"/>
                </a:cubicBezTo>
                <a:cubicBezTo>
                  <a:pt x="22505" y="8130"/>
                  <a:pt x="22536" y="8065"/>
                  <a:pt x="22547" y="7987"/>
                </a:cubicBezTo>
                <a:cubicBezTo>
                  <a:pt x="22558" y="7909"/>
                  <a:pt x="22540" y="7813"/>
                  <a:pt x="22572" y="7739"/>
                </a:cubicBezTo>
                <a:cubicBezTo>
                  <a:pt x="22595" y="7685"/>
                  <a:pt x="22634" y="7631"/>
                  <a:pt x="22647" y="7565"/>
                </a:cubicBezTo>
                <a:cubicBezTo>
                  <a:pt x="22656" y="7520"/>
                  <a:pt x="22647" y="7463"/>
                  <a:pt x="22647" y="7417"/>
                </a:cubicBezTo>
              </a:path>
              <a:path w="3473" h="3647">
                <a:moveTo>
                  <a:pt x="22671" y="7565"/>
                </a:moveTo>
                <a:cubicBezTo>
                  <a:pt x="22699" y="7529"/>
                  <a:pt x="22716" y="7489"/>
                  <a:pt x="22721" y="7441"/>
                </a:cubicBezTo>
                <a:cubicBezTo>
                  <a:pt x="22723" y="7417"/>
                  <a:pt x="22721" y="7391"/>
                  <a:pt x="22721" y="7367"/>
                </a:cubicBezTo>
              </a:path>
              <a:path w="3473" h="3647">
                <a:moveTo>
                  <a:pt x="21605" y="7764"/>
                </a:moveTo>
                <a:cubicBezTo>
                  <a:pt x="21605" y="7857"/>
                  <a:pt x="21612" y="7947"/>
                  <a:pt x="21630" y="8037"/>
                </a:cubicBezTo>
                <a:cubicBezTo>
                  <a:pt x="21630" y="8029"/>
                  <a:pt x="21630" y="8020"/>
                  <a:pt x="21630" y="8012"/>
                </a:cubicBezTo>
                <a:cubicBezTo>
                  <a:pt x="21600" y="7905"/>
                  <a:pt x="21610" y="7871"/>
                  <a:pt x="21630" y="7764"/>
                </a:cubicBezTo>
                <a:cubicBezTo>
                  <a:pt x="21638" y="7721"/>
                  <a:pt x="21614" y="7728"/>
                  <a:pt x="21654" y="7714"/>
                </a:cubicBezTo>
                <a:cubicBezTo>
                  <a:pt x="21785" y="7714"/>
                  <a:pt x="21703" y="7771"/>
                  <a:pt x="21679" y="7863"/>
                </a:cubicBezTo>
                <a:cubicBezTo>
                  <a:pt x="21664" y="7918"/>
                  <a:pt x="21735" y="7868"/>
                  <a:pt x="21754" y="7863"/>
                </a:cubicBezTo>
                <a:cubicBezTo>
                  <a:pt x="21732" y="7960"/>
                  <a:pt x="21717" y="8005"/>
                  <a:pt x="21630" y="7987"/>
                </a:cubicBezTo>
                <a:cubicBezTo>
                  <a:pt x="21602" y="7987"/>
                  <a:pt x="21596" y="7985"/>
                  <a:pt x="21630" y="7962"/>
                </a:cubicBezTo>
              </a:path>
              <a:path w="3473" h="3647">
                <a:moveTo>
                  <a:pt x="21903" y="8012"/>
                </a:moveTo>
                <a:cubicBezTo>
                  <a:pt x="21903" y="7944"/>
                  <a:pt x="21857" y="7841"/>
                  <a:pt x="21903" y="7789"/>
                </a:cubicBezTo>
                <a:cubicBezTo>
                  <a:pt x="21928" y="7772"/>
                  <a:pt x="21952" y="7756"/>
                  <a:pt x="21977" y="7739"/>
                </a:cubicBezTo>
              </a:path>
              <a:path w="3473" h="3647">
                <a:moveTo>
                  <a:pt x="22076" y="7789"/>
                </a:moveTo>
                <a:cubicBezTo>
                  <a:pt x="22005" y="7849"/>
                  <a:pt x="22007" y="7847"/>
                  <a:pt x="22027" y="7938"/>
                </a:cubicBezTo>
                <a:cubicBezTo>
                  <a:pt x="22089" y="7906"/>
                  <a:pt x="22093" y="7837"/>
                  <a:pt x="22101" y="7764"/>
                </a:cubicBezTo>
              </a:path>
              <a:path w="3473" h="3647">
                <a:moveTo>
                  <a:pt x="22151" y="7764"/>
                </a:moveTo>
                <a:cubicBezTo>
                  <a:pt x="22174" y="7812"/>
                  <a:pt x="22182" y="7826"/>
                  <a:pt x="22175" y="7863"/>
                </a:cubicBezTo>
                <a:cubicBezTo>
                  <a:pt x="22265" y="7818"/>
                  <a:pt x="22190" y="7724"/>
                  <a:pt x="22275" y="7789"/>
                </a:cubicBezTo>
                <a:cubicBezTo>
                  <a:pt x="22331" y="7755"/>
                  <a:pt x="22335" y="7728"/>
                  <a:pt x="22349" y="7665"/>
                </a:cubicBezTo>
              </a:path>
              <a:path w="3473" h="3647">
                <a:moveTo>
                  <a:pt x="22423" y="7764"/>
                </a:moveTo>
                <a:cubicBezTo>
                  <a:pt x="22423" y="7713"/>
                  <a:pt x="22411" y="7582"/>
                  <a:pt x="22448" y="7615"/>
                </a:cubicBezTo>
                <a:cubicBezTo>
                  <a:pt x="22538" y="7697"/>
                  <a:pt x="22444" y="7822"/>
                  <a:pt x="22523" y="7689"/>
                </a:cubicBezTo>
              </a:path>
              <a:path w="3473" h="3647">
                <a:moveTo>
                  <a:pt x="22572" y="7466"/>
                </a:moveTo>
                <a:cubicBezTo>
                  <a:pt x="22540" y="7546"/>
                  <a:pt x="22637" y="7546"/>
                  <a:pt x="22622" y="7615"/>
                </a:cubicBezTo>
                <a:cubicBezTo>
                  <a:pt x="22601" y="7708"/>
                  <a:pt x="22565" y="7725"/>
                  <a:pt x="22498" y="7764"/>
                </a:cubicBezTo>
              </a:path>
              <a:path w="3473" h="3647">
                <a:moveTo>
                  <a:pt x="22002" y="8186"/>
                </a:moveTo>
                <a:cubicBezTo>
                  <a:pt x="22072" y="8115"/>
                  <a:pt x="22205" y="8074"/>
                  <a:pt x="22299" y="8037"/>
                </a:cubicBezTo>
                <a:cubicBezTo>
                  <a:pt x="22373" y="8008"/>
                  <a:pt x="22490" y="7938"/>
                  <a:pt x="22572" y="7938"/>
                </a:cubicBezTo>
              </a:path>
              <a:path w="3473" h="3647">
                <a:moveTo>
                  <a:pt x="21828" y="7640"/>
                </a:moveTo>
                <a:cubicBezTo>
                  <a:pt x="21865" y="7566"/>
                  <a:pt x="22047" y="7539"/>
                  <a:pt x="22126" y="7516"/>
                </a:cubicBezTo>
                <a:cubicBezTo>
                  <a:pt x="22213" y="7491"/>
                  <a:pt x="22224" y="7466"/>
                  <a:pt x="22275" y="7491"/>
                </a:cubicBezTo>
              </a:path>
              <a:path w="3473" h="3647">
                <a:moveTo>
                  <a:pt x="22771" y="7342"/>
                </a:moveTo>
                <a:lnTo>
                  <a:pt x="22771" y="7342"/>
                </a:lnTo>
              </a:path>
              <a:path w="3473" h="3647">
                <a:moveTo>
                  <a:pt x="22771" y="7317"/>
                </a:moveTo>
                <a:cubicBezTo>
                  <a:pt x="22778" y="7353"/>
                  <a:pt x="22755" y="7359"/>
                  <a:pt x="22771" y="7392"/>
                </a:cubicBezTo>
                <a:cubicBezTo>
                  <a:pt x="22803" y="7456"/>
                  <a:pt x="22807" y="7472"/>
                  <a:pt x="22820" y="7541"/>
                </a:cubicBezTo>
                <a:cubicBezTo>
                  <a:pt x="22831" y="7601"/>
                  <a:pt x="22856" y="7660"/>
                  <a:pt x="22870" y="7714"/>
                </a:cubicBezTo>
                <a:cubicBezTo>
                  <a:pt x="22895" y="7808"/>
                  <a:pt x="22904" y="7848"/>
                  <a:pt x="22870" y="7938"/>
                </a:cubicBezTo>
                <a:cubicBezTo>
                  <a:pt x="22850" y="7991"/>
                  <a:pt x="22809" y="8022"/>
                  <a:pt x="22771" y="8062"/>
                </a:cubicBezTo>
                <a:cubicBezTo>
                  <a:pt x="22734" y="8101"/>
                  <a:pt x="22713" y="8120"/>
                  <a:pt x="22671" y="8161"/>
                </a:cubicBezTo>
                <a:cubicBezTo>
                  <a:pt x="22626" y="8206"/>
                  <a:pt x="22575" y="8254"/>
                  <a:pt x="22547" y="8310"/>
                </a:cubicBezTo>
                <a:cubicBezTo>
                  <a:pt x="22532" y="8341"/>
                  <a:pt x="22523" y="8366"/>
                  <a:pt x="22498" y="8409"/>
                </a:cubicBezTo>
                <a:cubicBezTo>
                  <a:pt x="22462" y="8471"/>
                  <a:pt x="22440" y="8480"/>
                  <a:pt x="22374" y="8508"/>
                </a:cubicBezTo>
                <a:cubicBezTo>
                  <a:pt x="22290" y="8543"/>
                  <a:pt x="22210" y="8559"/>
                  <a:pt x="22126" y="8582"/>
                </a:cubicBezTo>
                <a:cubicBezTo>
                  <a:pt x="22060" y="8600"/>
                  <a:pt x="22024" y="8605"/>
                  <a:pt x="21952" y="8607"/>
                </a:cubicBezTo>
                <a:cubicBezTo>
                  <a:pt x="21849" y="8610"/>
                  <a:pt x="21754" y="8611"/>
                  <a:pt x="21654" y="8632"/>
                </a:cubicBezTo>
                <a:cubicBezTo>
                  <a:pt x="21611" y="8641"/>
                  <a:pt x="21520" y="8638"/>
                  <a:pt x="21481" y="8657"/>
                </a:cubicBezTo>
                <a:cubicBezTo>
                  <a:pt x="21433" y="8680"/>
                  <a:pt x="21437" y="8698"/>
                  <a:pt x="21382" y="8706"/>
                </a:cubicBezTo>
                <a:cubicBezTo>
                  <a:pt x="21293" y="8719"/>
                  <a:pt x="21161" y="8719"/>
                  <a:pt x="21084" y="8682"/>
                </a:cubicBezTo>
                <a:cubicBezTo>
                  <a:pt x="21044" y="8663"/>
                  <a:pt x="21021" y="8656"/>
                  <a:pt x="20985" y="8632"/>
                </a:cubicBezTo>
                <a:cubicBezTo>
                  <a:pt x="20965" y="8618"/>
                  <a:pt x="20896" y="8595"/>
                  <a:pt x="20886" y="8582"/>
                </a:cubicBezTo>
                <a:cubicBezTo>
                  <a:pt x="20859" y="8548"/>
                  <a:pt x="20842" y="8481"/>
                  <a:pt x="20861" y="8434"/>
                </a:cubicBezTo>
                <a:cubicBezTo>
                  <a:pt x="20883" y="8379"/>
                  <a:pt x="20922" y="8327"/>
                  <a:pt x="20960" y="8285"/>
                </a:cubicBezTo>
                <a:cubicBezTo>
                  <a:pt x="20975" y="8268"/>
                  <a:pt x="21033" y="8210"/>
                  <a:pt x="21034" y="8210"/>
                </a:cubicBezTo>
                <a:cubicBezTo>
                  <a:pt x="21091" y="8188"/>
                  <a:pt x="21149" y="8221"/>
                  <a:pt x="21183" y="8260"/>
                </a:cubicBezTo>
                <a:cubicBezTo>
                  <a:pt x="21198" y="8278"/>
                  <a:pt x="21224" y="8317"/>
                  <a:pt x="21233" y="8359"/>
                </a:cubicBezTo>
                <a:cubicBezTo>
                  <a:pt x="21244" y="8410"/>
                  <a:pt x="21235" y="8447"/>
                  <a:pt x="21208" y="8483"/>
                </a:cubicBezTo>
                <a:cubicBezTo>
                  <a:pt x="21184" y="8516"/>
                  <a:pt x="21140" y="8518"/>
                  <a:pt x="21109" y="8533"/>
                </a:cubicBezTo>
                <a:cubicBezTo>
                  <a:pt x="21071" y="8551"/>
                  <a:pt x="21065" y="8554"/>
                  <a:pt x="21034" y="8607"/>
                </a:cubicBezTo>
                <a:cubicBezTo>
                  <a:pt x="21019" y="8632"/>
                  <a:pt x="20987" y="8701"/>
                  <a:pt x="20985" y="8731"/>
                </a:cubicBezTo>
                <a:cubicBezTo>
                  <a:pt x="20981" y="8802"/>
                  <a:pt x="21019" y="8851"/>
                  <a:pt x="21059" y="8905"/>
                </a:cubicBezTo>
                <a:cubicBezTo>
                  <a:pt x="21104" y="8965"/>
                  <a:pt x="21160" y="9010"/>
                  <a:pt x="21233" y="9054"/>
                </a:cubicBezTo>
                <a:cubicBezTo>
                  <a:pt x="21316" y="9104"/>
                  <a:pt x="21489" y="9090"/>
                  <a:pt x="21580" y="9079"/>
                </a:cubicBezTo>
                <a:cubicBezTo>
                  <a:pt x="21652" y="9070"/>
                  <a:pt x="21732" y="9068"/>
                  <a:pt x="21803" y="9054"/>
                </a:cubicBezTo>
                <a:cubicBezTo>
                  <a:pt x="21903" y="9034"/>
                  <a:pt x="22002" y="9023"/>
                  <a:pt x="22101" y="9004"/>
                </a:cubicBezTo>
                <a:cubicBezTo>
                  <a:pt x="22202" y="8985"/>
                  <a:pt x="22301" y="8956"/>
                  <a:pt x="22399" y="8930"/>
                </a:cubicBezTo>
                <a:cubicBezTo>
                  <a:pt x="22506" y="8902"/>
                  <a:pt x="22608" y="8862"/>
                  <a:pt x="22721" y="8880"/>
                </a:cubicBezTo>
                <a:cubicBezTo>
                  <a:pt x="22794" y="8892"/>
                  <a:pt x="22939" y="8931"/>
                  <a:pt x="22994" y="8979"/>
                </a:cubicBezTo>
                <a:cubicBezTo>
                  <a:pt x="23063" y="9039"/>
                  <a:pt x="23061" y="9075"/>
                  <a:pt x="23044" y="9153"/>
                </a:cubicBezTo>
                <a:cubicBezTo>
                  <a:pt x="23016" y="9280"/>
                  <a:pt x="22956" y="9311"/>
                  <a:pt x="22845" y="9351"/>
                </a:cubicBezTo>
                <a:cubicBezTo>
                  <a:pt x="22731" y="9393"/>
                  <a:pt x="22637" y="9400"/>
                  <a:pt x="22523" y="9376"/>
                </a:cubicBezTo>
                <a:cubicBezTo>
                  <a:pt x="22430" y="9357"/>
                  <a:pt x="22317" y="9338"/>
                  <a:pt x="22225" y="9376"/>
                </a:cubicBezTo>
                <a:cubicBezTo>
                  <a:pt x="22151" y="9407"/>
                  <a:pt x="22147" y="9470"/>
                  <a:pt x="22101" y="9525"/>
                </a:cubicBezTo>
                <a:cubicBezTo>
                  <a:pt x="22041" y="9598"/>
                  <a:pt x="22008" y="9614"/>
                  <a:pt x="21903" y="9599"/>
                </a:cubicBezTo>
                <a:cubicBezTo>
                  <a:pt x="21845" y="9591"/>
                  <a:pt x="21760" y="9568"/>
                  <a:pt x="21704" y="9550"/>
                </a:cubicBezTo>
                <a:cubicBezTo>
                  <a:pt x="21665" y="9537"/>
                  <a:pt x="21678" y="9524"/>
                  <a:pt x="21654" y="9500"/>
                </a:cubicBezTo>
              </a:path>
              <a:path w="3473" h="3647">
                <a:moveTo>
                  <a:pt x="20489" y="8781"/>
                </a:moveTo>
                <a:cubicBezTo>
                  <a:pt x="20447" y="8754"/>
                  <a:pt x="20389" y="8711"/>
                  <a:pt x="20340" y="8682"/>
                </a:cubicBezTo>
                <a:cubicBezTo>
                  <a:pt x="20306" y="8662"/>
                  <a:pt x="20271" y="8647"/>
                  <a:pt x="20241" y="8632"/>
                </a:cubicBezTo>
                <a:cubicBezTo>
                  <a:pt x="20401" y="8657"/>
                  <a:pt x="20492" y="8708"/>
                  <a:pt x="20638" y="8781"/>
                </a:cubicBezTo>
                <a:cubicBezTo>
                  <a:pt x="20835" y="8879"/>
                  <a:pt x="21030" y="8910"/>
                  <a:pt x="21233" y="8979"/>
                </a:cubicBezTo>
                <a:cubicBezTo>
                  <a:pt x="21360" y="9023"/>
                  <a:pt x="21511" y="9061"/>
                  <a:pt x="21630" y="9128"/>
                </a:cubicBezTo>
                <a:cubicBezTo>
                  <a:pt x="21640" y="9134"/>
                  <a:pt x="21678" y="9250"/>
                  <a:pt x="21605" y="9103"/>
                </a:cubicBezTo>
              </a:path>
              <a:path w="3473" h="3647">
                <a:moveTo>
                  <a:pt x="21779" y="8756"/>
                </a:moveTo>
                <a:cubicBezTo>
                  <a:pt x="21705" y="8762"/>
                  <a:pt x="21601" y="8781"/>
                  <a:pt x="21506" y="8830"/>
                </a:cubicBezTo>
                <a:cubicBezTo>
                  <a:pt x="21272" y="8950"/>
                  <a:pt x="21049" y="9092"/>
                  <a:pt x="20811" y="9203"/>
                </a:cubicBezTo>
                <a:cubicBezTo>
                  <a:pt x="20676" y="9266"/>
                  <a:pt x="20538" y="9320"/>
                  <a:pt x="20414" y="9401"/>
                </a:cubicBezTo>
                <a:cubicBezTo>
                  <a:pt x="20406" y="9409"/>
                  <a:pt x="20397" y="9418"/>
                  <a:pt x="20389" y="9426"/>
                </a:cubicBezTo>
                <a:cubicBezTo>
                  <a:pt x="20389" y="9350"/>
                  <a:pt x="20474" y="9250"/>
                  <a:pt x="20414" y="9203"/>
                </a:cubicBezTo>
                <a:cubicBezTo>
                  <a:pt x="20325" y="9134"/>
                  <a:pt x="20098" y="9167"/>
                  <a:pt x="20067" y="9302"/>
                </a:cubicBezTo>
                <a:cubicBezTo>
                  <a:pt x="20001" y="9589"/>
                  <a:pt x="20370" y="9702"/>
                  <a:pt x="20538" y="9500"/>
                </a:cubicBezTo>
                <a:cubicBezTo>
                  <a:pt x="20705" y="9300"/>
                  <a:pt x="20490" y="9105"/>
                  <a:pt x="20340" y="9029"/>
                </a:cubicBezTo>
              </a:path>
              <a:path w="3473" h="3647">
                <a:moveTo>
                  <a:pt x="20414" y="8359"/>
                </a:moveTo>
                <a:cubicBezTo>
                  <a:pt x="20262" y="8298"/>
                  <a:pt x="20152" y="8286"/>
                  <a:pt x="20042" y="8434"/>
                </a:cubicBezTo>
                <a:cubicBezTo>
                  <a:pt x="19905" y="8618"/>
                  <a:pt x="19986" y="8683"/>
                  <a:pt x="20092" y="8830"/>
                </a:cubicBezTo>
                <a:cubicBezTo>
                  <a:pt x="20183" y="8801"/>
                  <a:pt x="20699" y="8585"/>
                  <a:pt x="20389" y="8434"/>
                </a:cubicBezTo>
                <a:cubicBezTo>
                  <a:pt x="20327" y="8404"/>
                  <a:pt x="20147" y="8438"/>
                  <a:pt x="20092" y="84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40160" y="1677960"/>
            <a:ext cx="357120" cy="420840"/>
          </a:xfrm>
          <a:custGeom>
            <a:avLst/>
            <a:gdLst/>
            <a:ahLst/>
            <a:rect l="l" t="t" r="r" b="b"/>
            <a:pathLst>
              <a:path w="993" h="1167">
                <a:moveTo>
                  <a:pt x="12254" y="4961"/>
                </a:moveTo>
                <a:cubicBezTo>
                  <a:pt x="12283" y="4922"/>
                  <a:pt x="12318" y="4835"/>
                  <a:pt x="12278" y="4862"/>
                </a:cubicBezTo>
                <a:cubicBezTo>
                  <a:pt x="12111" y="4973"/>
                  <a:pt x="12040" y="5166"/>
                  <a:pt x="12055" y="5358"/>
                </a:cubicBezTo>
                <a:cubicBezTo>
                  <a:pt x="12070" y="5548"/>
                  <a:pt x="12138" y="5710"/>
                  <a:pt x="12328" y="5779"/>
                </a:cubicBezTo>
                <a:cubicBezTo>
                  <a:pt x="12523" y="5850"/>
                  <a:pt x="12658" y="5832"/>
                  <a:pt x="12824" y="5705"/>
                </a:cubicBezTo>
                <a:cubicBezTo>
                  <a:pt x="12946" y="5611"/>
                  <a:pt x="13059" y="5466"/>
                  <a:pt x="13047" y="5308"/>
                </a:cubicBezTo>
                <a:cubicBezTo>
                  <a:pt x="13036" y="5154"/>
                  <a:pt x="12950" y="5019"/>
                  <a:pt x="12849" y="4911"/>
                </a:cubicBezTo>
                <a:cubicBezTo>
                  <a:pt x="12746" y="4801"/>
                  <a:pt x="12602" y="4770"/>
                  <a:pt x="12452" y="4787"/>
                </a:cubicBezTo>
                <a:cubicBezTo>
                  <a:pt x="12328" y="4801"/>
                  <a:pt x="12177" y="4921"/>
                  <a:pt x="12129" y="5035"/>
                </a:cubicBezTo>
                <a:cubicBezTo>
                  <a:pt x="12051" y="5219"/>
                  <a:pt x="12041" y="5491"/>
                  <a:pt x="12154" y="5655"/>
                </a:cubicBezTo>
                <a:cubicBezTo>
                  <a:pt x="12242" y="5743"/>
                  <a:pt x="12260" y="5766"/>
                  <a:pt x="12328" y="5804"/>
                </a:cubicBezTo>
              </a:path>
              <a:path w="993" h="1167">
                <a:moveTo>
                  <a:pt x="12229" y="5259"/>
                </a:moveTo>
                <a:cubicBezTo>
                  <a:pt x="12250" y="5387"/>
                  <a:pt x="12213" y="5691"/>
                  <a:pt x="12328" y="5631"/>
                </a:cubicBezTo>
                <a:cubicBezTo>
                  <a:pt x="12328" y="5614"/>
                  <a:pt x="12328" y="5598"/>
                  <a:pt x="12328" y="5581"/>
                </a:cubicBezTo>
                <a:cubicBezTo>
                  <a:pt x="12263" y="5459"/>
                  <a:pt x="12094" y="5190"/>
                  <a:pt x="12254" y="5060"/>
                </a:cubicBezTo>
                <a:cubicBezTo>
                  <a:pt x="12270" y="5068"/>
                  <a:pt x="12287" y="5077"/>
                  <a:pt x="12303" y="5085"/>
                </a:cubicBezTo>
                <a:cubicBezTo>
                  <a:pt x="12313" y="5201"/>
                  <a:pt x="12209" y="5452"/>
                  <a:pt x="12303" y="5383"/>
                </a:cubicBezTo>
                <a:cubicBezTo>
                  <a:pt x="12525" y="5221"/>
                  <a:pt x="12498" y="5399"/>
                  <a:pt x="12402" y="5581"/>
                </a:cubicBezTo>
                <a:cubicBezTo>
                  <a:pt x="12276" y="5820"/>
                  <a:pt x="12283" y="5752"/>
                  <a:pt x="12303" y="5606"/>
                </a:cubicBezTo>
              </a:path>
              <a:path w="993" h="1167">
                <a:moveTo>
                  <a:pt x="12477" y="5333"/>
                </a:moveTo>
                <a:cubicBezTo>
                  <a:pt x="12455" y="5398"/>
                  <a:pt x="12447" y="5413"/>
                  <a:pt x="12452" y="5457"/>
                </a:cubicBezTo>
                <a:cubicBezTo>
                  <a:pt x="12585" y="5457"/>
                  <a:pt x="12648" y="5468"/>
                  <a:pt x="12675" y="5308"/>
                </a:cubicBezTo>
                <a:cubicBezTo>
                  <a:pt x="12710" y="5450"/>
                  <a:pt x="12758" y="5284"/>
                  <a:pt x="12774" y="5234"/>
                </a:cubicBezTo>
              </a:path>
              <a:path w="993" h="1167">
                <a:moveTo>
                  <a:pt x="12650" y="4961"/>
                </a:moveTo>
                <a:cubicBezTo>
                  <a:pt x="12707" y="5049"/>
                  <a:pt x="12705" y="5138"/>
                  <a:pt x="12799" y="5184"/>
                </a:cubicBezTo>
              </a:path>
              <a:path w="993" h="1167">
                <a:moveTo>
                  <a:pt x="12774" y="4663"/>
                </a:moveTo>
                <a:cubicBezTo>
                  <a:pt x="12836" y="4863"/>
                  <a:pt x="12904" y="5046"/>
                  <a:pt x="12998" y="52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02120" y="2455920"/>
            <a:ext cx="63720" cy="196920"/>
          </a:xfrm>
          <a:custGeom>
            <a:avLst/>
            <a:gdLst/>
            <a:ahLst/>
            <a:rect l="l" t="t" r="r" b="b"/>
            <a:pathLst>
              <a:path w="174" h="547">
                <a:moveTo>
                  <a:pt x="13791" y="6821"/>
                </a:moveTo>
                <a:cubicBezTo>
                  <a:pt x="13729" y="7002"/>
                  <a:pt x="13671" y="7191"/>
                  <a:pt x="13618" y="7367"/>
                </a:cubicBezTo>
                <a:cubicBezTo>
                  <a:pt x="13618" y="7359"/>
                  <a:pt x="13618" y="7350"/>
                  <a:pt x="13618" y="73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99040" y="2571840"/>
            <a:ext cx="179280" cy="196920"/>
          </a:xfrm>
          <a:custGeom>
            <a:avLst/>
            <a:gdLst/>
            <a:ahLst/>
            <a:rect l="l" t="t" r="r" b="b"/>
            <a:pathLst>
              <a:path w="498" h="546">
                <a:moveTo>
                  <a:pt x="14263" y="7342"/>
                </a:moveTo>
                <a:cubicBezTo>
                  <a:pt x="14236" y="7415"/>
                  <a:pt x="14173" y="7560"/>
                  <a:pt x="14163" y="7565"/>
                </a:cubicBezTo>
                <a:cubicBezTo>
                  <a:pt x="14245" y="7403"/>
                  <a:pt x="14316" y="7281"/>
                  <a:pt x="14436" y="7144"/>
                </a:cubicBezTo>
                <a:cubicBezTo>
                  <a:pt x="14430" y="7211"/>
                  <a:pt x="14394" y="7385"/>
                  <a:pt x="14412" y="7367"/>
                </a:cubicBezTo>
                <a:cubicBezTo>
                  <a:pt x="14483" y="7296"/>
                  <a:pt x="14642" y="7066"/>
                  <a:pt x="14660" y="7293"/>
                </a:cubicBezTo>
                <a:cubicBezTo>
                  <a:pt x="14660" y="7477"/>
                  <a:pt x="14664" y="7530"/>
                  <a:pt x="14610" y="7640"/>
                </a:cubicBezTo>
                <a:cubicBezTo>
                  <a:pt x="14532" y="7741"/>
                  <a:pt x="14601" y="7565"/>
                  <a:pt x="14610" y="75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00800" y="2625840"/>
            <a:ext cx="625320" cy="419040"/>
          </a:xfrm>
          <a:custGeom>
            <a:avLst/>
            <a:gdLst/>
            <a:ahLst/>
            <a:rect l="l" t="t" r="r" b="b"/>
            <a:pathLst>
              <a:path w="1737" h="1166">
                <a:moveTo>
                  <a:pt x="15577" y="7293"/>
                </a:moveTo>
                <a:cubicBezTo>
                  <a:pt x="15598" y="7509"/>
                  <a:pt x="15487" y="7807"/>
                  <a:pt x="15429" y="8037"/>
                </a:cubicBezTo>
                <a:cubicBezTo>
                  <a:pt x="15421" y="8062"/>
                  <a:pt x="15412" y="8086"/>
                  <a:pt x="15404" y="8111"/>
                </a:cubicBezTo>
              </a:path>
              <a:path w="1737" h="1166">
                <a:moveTo>
                  <a:pt x="15280" y="7615"/>
                </a:moveTo>
                <a:cubicBezTo>
                  <a:pt x="15489" y="7667"/>
                  <a:pt x="15640" y="7752"/>
                  <a:pt x="15825" y="7863"/>
                </a:cubicBezTo>
              </a:path>
              <a:path w="1737" h="1166">
                <a:moveTo>
                  <a:pt x="15949" y="8111"/>
                </a:moveTo>
                <a:cubicBezTo>
                  <a:pt x="15873" y="8112"/>
                  <a:pt x="15956" y="7860"/>
                  <a:pt x="16024" y="7789"/>
                </a:cubicBezTo>
                <a:cubicBezTo>
                  <a:pt x="16106" y="7703"/>
                  <a:pt x="16199" y="7844"/>
                  <a:pt x="16247" y="7888"/>
                </a:cubicBezTo>
              </a:path>
              <a:path w="1737" h="1166">
                <a:moveTo>
                  <a:pt x="16396" y="7913"/>
                </a:moveTo>
                <a:cubicBezTo>
                  <a:pt x="16283" y="7965"/>
                  <a:pt x="16139" y="8029"/>
                  <a:pt x="16173" y="8186"/>
                </a:cubicBezTo>
                <a:cubicBezTo>
                  <a:pt x="16192" y="8270"/>
                  <a:pt x="16298" y="8084"/>
                  <a:pt x="16346" y="8012"/>
                </a:cubicBezTo>
                <a:cubicBezTo>
                  <a:pt x="16346" y="7963"/>
                  <a:pt x="16302" y="8136"/>
                  <a:pt x="16346" y="8161"/>
                </a:cubicBezTo>
                <a:cubicBezTo>
                  <a:pt x="16363" y="8161"/>
                  <a:pt x="16379" y="8161"/>
                  <a:pt x="16396" y="8161"/>
                </a:cubicBezTo>
              </a:path>
              <a:path w="1737" h="1166">
                <a:moveTo>
                  <a:pt x="16694" y="8037"/>
                </a:moveTo>
                <a:cubicBezTo>
                  <a:pt x="16580" y="8056"/>
                  <a:pt x="16453" y="8105"/>
                  <a:pt x="16495" y="8260"/>
                </a:cubicBezTo>
                <a:cubicBezTo>
                  <a:pt x="16552" y="8344"/>
                  <a:pt x="16581" y="8371"/>
                  <a:pt x="16669" y="8359"/>
                </a:cubicBezTo>
              </a:path>
              <a:path w="1737" h="1166">
                <a:moveTo>
                  <a:pt x="16892" y="8136"/>
                </a:moveTo>
                <a:cubicBezTo>
                  <a:pt x="16872" y="8294"/>
                  <a:pt x="16851" y="8322"/>
                  <a:pt x="16892" y="8409"/>
                </a:cubicBezTo>
              </a:path>
              <a:path w="1737" h="1166">
                <a:moveTo>
                  <a:pt x="17016" y="8086"/>
                </a:moveTo>
                <a:cubicBezTo>
                  <a:pt x="16978" y="8127"/>
                  <a:pt x="16671" y="8376"/>
                  <a:pt x="16842" y="8458"/>
                </a:cubicBezTo>
                <a:cubicBezTo>
                  <a:pt x="16938" y="8458"/>
                  <a:pt x="16968" y="8460"/>
                  <a:pt x="17016" y="84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10080" y="2044800"/>
            <a:ext cx="2678040" cy="965160"/>
          </a:xfrm>
          <a:custGeom>
            <a:avLst/>
            <a:gdLst/>
            <a:ahLst/>
            <a:rect l="l" t="t" r="r" b="b"/>
            <a:pathLst>
              <a:path w="7443" h="2680">
                <a:moveTo>
                  <a:pt x="19968" y="8359"/>
                </a:moveTo>
                <a:cubicBezTo>
                  <a:pt x="19950" y="8349"/>
                  <a:pt x="19885" y="8306"/>
                  <a:pt x="19844" y="8285"/>
                </a:cubicBezTo>
                <a:cubicBezTo>
                  <a:pt x="19775" y="8249"/>
                  <a:pt x="19716" y="8219"/>
                  <a:pt x="19645" y="8186"/>
                </a:cubicBezTo>
                <a:cubicBezTo>
                  <a:pt x="19585" y="8158"/>
                  <a:pt x="19529" y="8135"/>
                  <a:pt x="19472" y="8111"/>
                </a:cubicBezTo>
                <a:cubicBezTo>
                  <a:pt x="19338" y="8055"/>
                  <a:pt x="19195" y="8004"/>
                  <a:pt x="19050" y="7962"/>
                </a:cubicBezTo>
                <a:cubicBezTo>
                  <a:pt x="18760" y="7878"/>
                  <a:pt x="18467" y="7807"/>
                  <a:pt x="18182" y="7714"/>
                </a:cubicBezTo>
                <a:cubicBezTo>
                  <a:pt x="18015" y="7660"/>
                  <a:pt x="17852" y="7595"/>
                  <a:pt x="17686" y="7541"/>
                </a:cubicBezTo>
                <a:cubicBezTo>
                  <a:pt x="17506" y="7483"/>
                  <a:pt x="17322" y="7428"/>
                  <a:pt x="17140" y="7367"/>
                </a:cubicBezTo>
                <a:cubicBezTo>
                  <a:pt x="16552" y="7170"/>
                  <a:pt x="15939" y="7043"/>
                  <a:pt x="15354" y="6846"/>
                </a:cubicBezTo>
                <a:cubicBezTo>
                  <a:pt x="15046" y="6742"/>
                  <a:pt x="14765" y="6588"/>
                  <a:pt x="14461" y="6499"/>
                </a:cubicBezTo>
                <a:cubicBezTo>
                  <a:pt x="14368" y="6472"/>
                  <a:pt x="14303" y="6441"/>
                  <a:pt x="14213" y="6400"/>
                </a:cubicBezTo>
                <a:cubicBezTo>
                  <a:pt x="14005" y="6305"/>
                  <a:pt x="13819" y="6229"/>
                  <a:pt x="13593" y="6176"/>
                </a:cubicBezTo>
                <a:cubicBezTo>
                  <a:pt x="13493" y="6152"/>
                  <a:pt x="13410" y="6128"/>
                  <a:pt x="13345" y="6102"/>
                </a:cubicBezTo>
                <a:cubicBezTo>
                  <a:pt x="13253" y="6066"/>
                  <a:pt x="13169" y="6017"/>
                  <a:pt x="13072" y="5978"/>
                </a:cubicBezTo>
                <a:cubicBezTo>
                  <a:pt x="13027" y="5960"/>
                  <a:pt x="12932" y="5925"/>
                  <a:pt x="12898" y="5904"/>
                </a:cubicBezTo>
                <a:cubicBezTo>
                  <a:pt x="12849" y="5874"/>
                  <a:pt x="12788" y="5814"/>
                  <a:pt x="12725" y="5779"/>
                </a:cubicBezTo>
                <a:cubicBezTo>
                  <a:pt x="12658" y="5741"/>
                  <a:pt x="12618" y="5726"/>
                  <a:pt x="12576" y="5705"/>
                </a:cubicBezTo>
                <a:cubicBezTo>
                  <a:pt x="12554" y="5694"/>
                  <a:pt x="12549" y="5690"/>
                  <a:pt x="12526" y="56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73720" y="2170080"/>
            <a:ext cx="2679480" cy="919080"/>
          </a:xfrm>
          <a:custGeom>
            <a:avLst/>
            <a:gdLst/>
            <a:ahLst/>
            <a:rect l="l" t="t" r="r" b="b"/>
            <a:pathLst>
              <a:path w="7443" h="2555">
                <a:moveTo>
                  <a:pt x="12427" y="6028"/>
                </a:moveTo>
                <a:cubicBezTo>
                  <a:pt x="12530" y="6049"/>
                  <a:pt x="12621" y="6069"/>
                  <a:pt x="12725" y="6102"/>
                </a:cubicBezTo>
                <a:cubicBezTo>
                  <a:pt x="12893" y="6156"/>
                  <a:pt x="13043" y="6217"/>
                  <a:pt x="13196" y="6300"/>
                </a:cubicBezTo>
                <a:cubicBezTo>
                  <a:pt x="13301" y="6357"/>
                  <a:pt x="13374" y="6406"/>
                  <a:pt x="13494" y="6449"/>
                </a:cubicBezTo>
                <a:cubicBezTo>
                  <a:pt x="13694" y="6521"/>
                  <a:pt x="13880" y="6600"/>
                  <a:pt x="14064" y="6697"/>
                </a:cubicBezTo>
                <a:cubicBezTo>
                  <a:pt x="14282" y="6812"/>
                  <a:pt x="14506" y="6925"/>
                  <a:pt x="14734" y="7020"/>
                </a:cubicBezTo>
                <a:cubicBezTo>
                  <a:pt x="14889" y="7084"/>
                  <a:pt x="15070" y="7124"/>
                  <a:pt x="15230" y="7169"/>
                </a:cubicBezTo>
                <a:cubicBezTo>
                  <a:pt x="15429" y="7225"/>
                  <a:pt x="15608" y="7295"/>
                  <a:pt x="15801" y="7367"/>
                </a:cubicBezTo>
                <a:cubicBezTo>
                  <a:pt x="15910" y="7408"/>
                  <a:pt x="16017" y="7432"/>
                  <a:pt x="16123" y="7466"/>
                </a:cubicBezTo>
                <a:cubicBezTo>
                  <a:pt x="16241" y="7504"/>
                  <a:pt x="16337" y="7556"/>
                  <a:pt x="16446" y="7615"/>
                </a:cubicBezTo>
                <a:cubicBezTo>
                  <a:pt x="16632" y="7716"/>
                  <a:pt x="16819" y="7804"/>
                  <a:pt x="17016" y="7888"/>
                </a:cubicBezTo>
                <a:cubicBezTo>
                  <a:pt x="17127" y="7936"/>
                  <a:pt x="17247" y="7997"/>
                  <a:pt x="17363" y="8037"/>
                </a:cubicBezTo>
                <a:cubicBezTo>
                  <a:pt x="17542" y="8099"/>
                  <a:pt x="17725" y="8154"/>
                  <a:pt x="17909" y="8210"/>
                </a:cubicBezTo>
                <a:cubicBezTo>
                  <a:pt x="18092" y="8266"/>
                  <a:pt x="18294" y="8343"/>
                  <a:pt x="18479" y="8384"/>
                </a:cubicBezTo>
                <a:cubicBezTo>
                  <a:pt x="18572" y="8405"/>
                  <a:pt x="18682" y="8390"/>
                  <a:pt x="18777" y="8409"/>
                </a:cubicBezTo>
                <a:cubicBezTo>
                  <a:pt x="18884" y="8430"/>
                  <a:pt x="18986" y="8475"/>
                  <a:pt x="19100" y="8483"/>
                </a:cubicBezTo>
                <a:cubicBezTo>
                  <a:pt x="19234" y="8492"/>
                  <a:pt x="19338" y="8508"/>
                  <a:pt x="19472" y="8533"/>
                </a:cubicBezTo>
                <a:cubicBezTo>
                  <a:pt x="19542" y="8546"/>
                  <a:pt x="19600" y="8597"/>
                  <a:pt x="19670" y="8582"/>
                </a:cubicBezTo>
                <a:cubicBezTo>
                  <a:pt x="19770" y="8561"/>
                  <a:pt x="19731" y="8565"/>
                  <a:pt x="19794" y="8483"/>
                </a:cubicBezTo>
                <a:cubicBezTo>
                  <a:pt x="19842" y="8421"/>
                  <a:pt x="19823" y="8361"/>
                  <a:pt x="19844" y="82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14800" y="911160"/>
            <a:ext cx="652320" cy="598680"/>
          </a:xfrm>
          <a:custGeom>
            <a:avLst/>
            <a:gdLst/>
            <a:ahLst/>
            <a:rect l="l" t="t" r="r" b="b"/>
            <a:pathLst>
              <a:path w="1811" h="1663">
                <a:moveTo>
                  <a:pt x="10740" y="2555"/>
                </a:moveTo>
                <a:cubicBezTo>
                  <a:pt x="10734" y="2556"/>
                  <a:pt x="10666" y="2576"/>
                  <a:pt x="10616" y="2604"/>
                </a:cubicBezTo>
                <a:cubicBezTo>
                  <a:pt x="10559" y="2636"/>
                  <a:pt x="10502" y="2678"/>
                  <a:pt x="10443" y="2704"/>
                </a:cubicBezTo>
                <a:cubicBezTo>
                  <a:pt x="10354" y="2743"/>
                  <a:pt x="10242" y="2789"/>
                  <a:pt x="10145" y="2828"/>
                </a:cubicBezTo>
                <a:cubicBezTo>
                  <a:pt x="10045" y="2869"/>
                  <a:pt x="9948" y="2910"/>
                  <a:pt x="9847" y="2952"/>
                </a:cubicBezTo>
                <a:cubicBezTo>
                  <a:pt x="9777" y="2981"/>
                  <a:pt x="9717" y="3020"/>
                  <a:pt x="9649" y="3051"/>
                </a:cubicBezTo>
                <a:cubicBezTo>
                  <a:pt x="9592" y="3077"/>
                  <a:pt x="9536" y="3107"/>
                  <a:pt x="9500" y="3125"/>
                </a:cubicBezTo>
                <a:cubicBezTo>
                  <a:pt x="9468" y="3067"/>
                  <a:pt x="9419" y="3010"/>
                  <a:pt x="9376" y="2952"/>
                </a:cubicBezTo>
                <a:cubicBezTo>
                  <a:pt x="9322" y="2879"/>
                  <a:pt x="9328" y="2866"/>
                  <a:pt x="9302" y="2803"/>
                </a:cubicBezTo>
                <a:cubicBezTo>
                  <a:pt x="9350" y="2837"/>
                  <a:pt x="9389" y="2871"/>
                  <a:pt x="9426" y="2927"/>
                </a:cubicBezTo>
                <a:cubicBezTo>
                  <a:pt x="9468" y="2991"/>
                  <a:pt x="9474" y="2983"/>
                  <a:pt x="9525" y="3051"/>
                </a:cubicBezTo>
                <a:cubicBezTo>
                  <a:pt x="9555" y="3090"/>
                  <a:pt x="9592" y="3154"/>
                  <a:pt x="9624" y="3200"/>
                </a:cubicBezTo>
                <a:cubicBezTo>
                  <a:pt x="9654" y="3244"/>
                  <a:pt x="9650" y="3308"/>
                  <a:pt x="9674" y="3349"/>
                </a:cubicBezTo>
                <a:cubicBezTo>
                  <a:pt x="9704" y="3401"/>
                  <a:pt x="9749" y="3436"/>
                  <a:pt x="9773" y="3497"/>
                </a:cubicBezTo>
                <a:cubicBezTo>
                  <a:pt x="9800" y="3565"/>
                  <a:pt x="9817" y="3572"/>
                  <a:pt x="9872" y="3621"/>
                </a:cubicBezTo>
                <a:cubicBezTo>
                  <a:pt x="9906" y="3651"/>
                  <a:pt x="9925" y="3695"/>
                  <a:pt x="9947" y="3721"/>
                </a:cubicBezTo>
                <a:cubicBezTo>
                  <a:pt x="9957" y="3733"/>
                  <a:pt x="9994" y="3775"/>
                  <a:pt x="10021" y="3795"/>
                </a:cubicBezTo>
                <a:cubicBezTo>
                  <a:pt x="10059" y="3824"/>
                  <a:pt x="10066" y="3828"/>
                  <a:pt x="10096" y="3845"/>
                </a:cubicBezTo>
                <a:cubicBezTo>
                  <a:pt x="10112" y="3854"/>
                  <a:pt x="10216" y="3906"/>
                  <a:pt x="10220" y="3919"/>
                </a:cubicBezTo>
                <a:cubicBezTo>
                  <a:pt x="10238" y="3973"/>
                  <a:pt x="10223" y="4052"/>
                  <a:pt x="10195" y="4093"/>
                </a:cubicBezTo>
                <a:cubicBezTo>
                  <a:pt x="10144" y="4166"/>
                  <a:pt x="10127" y="4140"/>
                  <a:pt x="10071" y="4167"/>
                </a:cubicBezTo>
                <a:cubicBezTo>
                  <a:pt x="9990" y="4205"/>
                  <a:pt x="9926" y="4185"/>
                  <a:pt x="9847" y="4142"/>
                </a:cubicBezTo>
                <a:cubicBezTo>
                  <a:pt x="9790" y="4111"/>
                  <a:pt x="9750" y="4057"/>
                  <a:pt x="9699" y="4018"/>
                </a:cubicBezTo>
                <a:cubicBezTo>
                  <a:pt x="9675" y="4000"/>
                  <a:pt x="9631" y="3981"/>
                  <a:pt x="9599" y="3944"/>
                </a:cubicBezTo>
                <a:cubicBezTo>
                  <a:pt x="9585" y="3928"/>
                  <a:pt x="9530" y="3853"/>
                  <a:pt x="9525" y="3845"/>
                </a:cubicBezTo>
                <a:cubicBezTo>
                  <a:pt x="9480" y="3778"/>
                  <a:pt x="9434" y="3781"/>
                  <a:pt x="9401" y="3746"/>
                </a:cubicBezTo>
                <a:cubicBezTo>
                  <a:pt x="9372" y="3715"/>
                  <a:pt x="9341" y="3671"/>
                  <a:pt x="9302" y="3646"/>
                </a:cubicBezTo>
                <a:cubicBezTo>
                  <a:pt x="9263" y="3621"/>
                  <a:pt x="9225" y="3590"/>
                  <a:pt x="9203" y="3572"/>
                </a:cubicBezTo>
                <a:cubicBezTo>
                  <a:pt x="9158" y="3535"/>
                  <a:pt x="9129" y="3489"/>
                  <a:pt x="9103" y="3448"/>
                </a:cubicBezTo>
                <a:cubicBezTo>
                  <a:pt x="9076" y="3406"/>
                  <a:pt x="9049" y="3364"/>
                  <a:pt x="9029" y="3324"/>
                </a:cubicBezTo>
                <a:cubicBezTo>
                  <a:pt x="9002" y="3270"/>
                  <a:pt x="8994" y="3235"/>
                  <a:pt x="8979" y="3200"/>
                </a:cubicBezTo>
                <a:cubicBezTo>
                  <a:pt x="8963" y="3162"/>
                  <a:pt x="8936" y="3122"/>
                  <a:pt x="8930" y="3076"/>
                </a:cubicBezTo>
                <a:cubicBezTo>
                  <a:pt x="8922" y="3016"/>
                  <a:pt x="8934" y="2975"/>
                  <a:pt x="8954" y="2927"/>
                </a:cubicBezTo>
                <a:cubicBezTo>
                  <a:pt x="8986" y="2851"/>
                  <a:pt x="8993" y="2871"/>
                  <a:pt x="9029" y="2803"/>
                </a:cubicBezTo>
                <a:cubicBezTo>
                  <a:pt x="9052" y="2759"/>
                  <a:pt x="9074" y="2755"/>
                  <a:pt x="9103" y="2729"/>
                </a:cubicBezTo>
                <a:cubicBezTo>
                  <a:pt x="9111" y="2722"/>
                  <a:pt x="9142" y="2662"/>
                  <a:pt x="9153" y="2654"/>
                </a:cubicBezTo>
                <a:cubicBezTo>
                  <a:pt x="9161" y="2654"/>
                  <a:pt x="9170" y="2654"/>
                  <a:pt x="9178" y="2654"/>
                </a:cubicBezTo>
                <a:cubicBezTo>
                  <a:pt x="9225" y="2688"/>
                  <a:pt x="9245" y="2714"/>
                  <a:pt x="9277" y="2778"/>
                </a:cubicBezTo>
                <a:cubicBezTo>
                  <a:pt x="9298" y="2820"/>
                  <a:pt x="9306" y="2866"/>
                  <a:pt x="9327" y="2902"/>
                </a:cubicBezTo>
                <a:cubicBezTo>
                  <a:pt x="9350" y="2941"/>
                  <a:pt x="9384" y="2980"/>
                  <a:pt x="9401" y="3001"/>
                </a:cubicBezTo>
                <a:cubicBezTo>
                  <a:pt x="9426" y="3026"/>
                  <a:pt x="9434" y="3034"/>
                  <a:pt x="9451" y="3051"/>
                </a:cubicBezTo>
                <a:cubicBezTo>
                  <a:pt x="9506" y="3011"/>
                  <a:pt x="9510" y="3019"/>
                  <a:pt x="9500" y="2952"/>
                </a:cubicBezTo>
                <a:cubicBezTo>
                  <a:pt x="9491" y="2891"/>
                  <a:pt x="9455" y="2875"/>
                  <a:pt x="9426" y="2828"/>
                </a:cubicBezTo>
                <a:cubicBezTo>
                  <a:pt x="9389" y="2769"/>
                  <a:pt x="9386" y="2765"/>
                  <a:pt x="9327" y="2729"/>
                </a:cubicBezTo>
                <a:cubicBezTo>
                  <a:pt x="9302" y="2714"/>
                  <a:pt x="9303" y="2710"/>
                  <a:pt x="9252" y="2704"/>
                </a:cubicBezTo>
                <a:cubicBezTo>
                  <a:pt x="9244" y="2704"/>
                  <a:pt x="9235" y="2704"/>
                  <a:pt x="9227" y="2704"/>
                </a:cubicBezTo>
                <a:cubicBezTo>
                  <a:pt x="9225" y="2732"/>
                  <a:pt x="9202" y="2814"/>
                  <a:pt x="9203" y="2828"/>
                </a:cubicBezTo>
                <a:cubicBezTo>
                  <a:pt x="9207" y="2874"/>
                  <a:pt x="9258" y="2928"/>
                  <a:pt x="9277" y="2952"/>
                </a:cubicBezTo>
              </a:path>
              <a:path w="1811" h="1663">
                <a:moveTo>
                  <a:pt x="9550" y="3274"/>
                </a:moveTo>
                <a:cubicBezTo>
                  <a:pt x="9520" y="3395"/>
                  <a:pt x="9531" y="3496"/>
                  <a:pt x="9624" y="3597"/>
                </a:cubicBezTo>
                <a:cubicBezTo>
                  <a:pt x="9657" y="3633"/>
                  <a:pt x="9841" y="3753"/>
                  <a:pt x="9897" y="3746"/>
                </a:cubicBezTo>
                <a:cubicBezTo>
                  <a:pt x="9897" y="3738"/>
                  <a:pt x="9897" y="3729"/>
                  <a:pt x="9897" y="3721"/>
                </a:cubicBezTo>
              </a:path>
              <a:path w="1811" h="1663">
                <a:moveTo>
                  <a:pt x="9550" y="3324"/>
                </a:moveTo>
                <a:cubicBezTo>
                  <a:pt x="9550" y="3332"/>
                  <a:pt x="9550" y="3341"/>
                  <a:pt x="9550" y="3349"/>
                </a:cubicBezTo>
              </a:path>
              <a:path w="1811" h="1663">
                <a:moveTo>
                  <a:pt x="9624" y="3423"/>
                </a:moveTo>
                <a:cubicBezTo>
                  <a:pt x="9624" y="3465"/>
                  <a:pt x="9641" y="3473"/>
                  <a:pt x="9699" y="3448"/>
                </a:cubicBezTo>
              </a:path>
              <a:path w="1811" h="1663">
                <a:moveTo>
                  <a:pt x="9723" y="3497"/>
                </a:moveTo>
                <a:cubicBezTo>
                  <a:pt x="9692" y="3561"/>
                  <a:pt x="9699" y="3574"/>
                  <a:pt x="9798" y="3522"/>
                </a:cubicBezTo>
              </a:path>
              <a:path w="1811" h="1663">
                <a:moveTo>
                  <a:pt x="9798" y="3522"/>
                </a:moveTo>
                <a:lnTo>
                  <a:pt x="9798" y="3522"/>
                </a:lnTo>
              </a:path>
              <a:path w="1811" h="1663">
                <a:moveTo>
                  <a:pt x="9847" y="3621"/>
                </a:moveTo>
                <a:cubicBezTo>
                  <a:pt x="9847" y="3698"/>
                  <a:pt x="9828" y="3684"/>
                  <a:pt x="9897" y="36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46160" y="5510160"/>
            <a:ext cx="750960" cy="544680"/>
          </a:xfrm>
          <a:custGeom>
            <a:avLst/>
            <a:gdLst/>
            <a:ahLst/>
            <a:rect l="l" t="t" r="r" b="b"/>
            <a:pathLst>
              <a:path w="2085" h="1515">
                <a:moveTo>
                  <a:pt x="5432" y="15974"/>
                </a:moveTo>
                <a:cubicBezTo>
                  <a:pt x="5427" y="16011"/>
                  <a:pt x="5423" y="16380"/>
                  <a:pt x="5507" y="16346"/>
                </a:cubicBezTo>
                <a:cubicBezTo>
                  <a:pt x="5558" y="16269"/>
                  <a:pt x="5574" y="16241"/>
                  <a:pt x="5556" y="16173"/>
                </a:cubicBezTo>
                <a:cubicBezTo>
                  <a:pt x="5600" y="16187"/>
                  <a:pt x="5579" y="16314"/>
                  <a:pt x="5655" y="16272"/>
                </a:cubicBezTo>
                <a:cubicBezTo>
                  <a:pt x="5781" y="16203"/>
                  <a:pt x="5748" y="16083"/>
                  <a:pt x="5730" y="15974"/>
                </a:cubicBezTo>
              </a:path>
              <a:path w="2085" h="1515">
                <a:moveTo>
                  <a:pt x="5978" y="16123"/>
                </a:moveTo>
                <a:cubicBezTo>
                  <a:pt x="5986" y="16123"/>
                  <a:pt x="5995" y="16123"/>
                  <a:pt x="6003" y="16123"/>
                </a:cubicBezTo>
              </a:path>
              <a:path w="2085" h="1515">
                <a:moveTo>
                  <a:pt x="6003" y="16123"/>
                </a:moveTo>
                <a:lnTo>
                  <a:pt x="6003" y="16123"/>
                </a:lnTo>
              </a:path>
              <a:path w="2085" h="1515">
                <a:moveTo>
                  <a:pt x="6127" y="16073"/>
                </a:moveTo>
                <a:cubicBezTo>
                  <a:pt x="6181" y="16056"/>
                  <a:pt x="6170" y="15963"/>
                  <a:pt x="6176" y="15900"/>
                </a:cubicBezTo>
                <a:cubicBezTo>
                  <a:pt x="6282" y="15935"/>
                  <a:pt x="6333" y="16027"/>
                  <a:pt x="6424" y="16098"/>
                </a:cubicBezTo>
              </a:path>
              <a:path w="2085" h="1515">
                <a:moveTo>
                  <a:pt x="6573" y="15825"/>
                </a:moveTo>
                <a:cubicBezTo>
                  <a:pt x="6454" y="15873"/>
                  <a:pt x="6484" y="15927"/>
                  <a:pt x="6524" y="16024"/>
                </a:cubicBezTo>
                <a:cubicBezTo>
                  <a:pt x="6691" y="15855"/>
                  <a:pt x="6579" y="15667"/>
                  <a:pt x="6524" y="15453"/>
                </a:cubicBezTo>
                <a:cubicBezTo>
                  <a:pt x="6533" y="15463"/>
                  <a:pt x="6647" y="15734"/>
                  <a:pt x="6697" y="15825"/>
                </a:cubicBezTo>
              </a:path>
              <a:path w="2085" h="1515">
                <a:moveTo>
                  <a:pt x="6821" y="15751"/>
                </a:moveTo>
                <a:cubicBezTo>
                  <a:pt x="6876" y="15737"/>
                  <a:pt x="6872" y="15733"/>
                  <a:pt x="6945" y="15726"/>
                </a:cubicBezTo>
              </a:path>
              <a:path w="2085" h="1515">
                <a:moveTo>
                  <a:pt x="7045" y="15677"/>
                </a:moveTo>
                <a:cubicBezTo>
                  <a:pt x="7058" y="15754"/>
                  <a:pt x="7080" y="15783"/>
                  <a:pt x="7119" y="15850"/>
                </a:cubicBezTo>
                <a:cubicBezTo>
                  <a:pt x="7254" y="15783"/>
                  <a:pt x="7223" y="15674"/>
                  <a:pt x="7193" y="15528"/>
                </a:cubicBezTo>
              </a:path>
              <a:path w="2085" h="1515">
                <a:moveTo>
                  <a:pt x="7417" y="15776"/>
                </a:moveTo>
                <a:cubicBezTo>
                  <a:pt x="7456" y="15876"/>
                  <a:pt x="7461" y="15894"/>
                  <a:pt x="7491" y="15949"/>
                </a:cubicBezTo>
                <a:cubicBezTo>
                  <a:pt x="7463" y="15784"/>
                  <a:pt x="7392" y="15625"/>
                  <a:pt x="7392" y="15453"/>
                </a:cubicBezTo>
                <a:cubicBezTo>
                  <a:pt x="7400" y="15412"/>
                  <a:pt x="7409" y="15370"/>
                  <a:pt x="7417" y="15329"/>
                </a:cubicBezTo>
                <a:cubicBezTo>
                  <a:pt x="7501" y="15300"/>
                  <a:pt x="7486" y="15597"/>
                  <a:pt x="7441" y="15677"/>
                </a:cubicBezTo>
                <a:cubicBezTo>
                  <a:pt x="7400" y="15718"/>
                  <a:pt x="7358" y="15760"/>
                  <a:pt x="7317" y="15801"/>
                </a:cubicBezTo>
              </a:path>
              <a:path w="2085" h="1515">
                <a:moveTo>
                  <a:pt x="6176" y="16470"/>
                </a:moveTo>
                <a:cubicBezTo>
                  <a:pt x="6084" y="16486"/>
                  <a:pt x="5966" y="16516"/>
                  <a:pt x="5904" y="16594"/>
                </a:cubicBezTo>
                <a:cubicBezTo>
                  <a:pt x="5775" y="16756"/>
                  <a:pt x="6090" y="16822"/>
                  <a:pt x="6176" y="16818"/>
                </a:cubicBezTo>
                <a:cubicBezTo>
                  <a:pt x="6217" y="16810"/>
                  <a:pt x="6259" y="16801"/>
                  <a:pt x="6300" y="16793"/>
                </a:cubicBezTo>
              </a:path>
              <a:path w="2085" h="1515">
                <a:moveTo>
                  <a:pt x="6499" y="16495"/>
                </a:moveTo>
                <a:cubicBezTo>
                  <a:pt x="6441" y="16553"/>
                  <a:pt x="6377" y="16600"/>
                  <a:pt x="6400" y="16694"/>
                </a:cubicBezTo>
                <a:cubicBezTo>
                  <a:pt x="6439" y="16856"/>
                  <a:pt x="6541" y="16658"/>
                  <a:pt x="6548" y="16619"/>
                </a:cubicBezTo>
                <a:cubicBezTo>
                  <a:pt x="6548" y="16578"/>
                  <a:pt x="6540" y="16562"/>
                  <a:pt x="6573" y="16570"/>
                </a:cubicBezTo>
                <a:cubicBezTo>
                  <a:pt x="6661" y="16599"/>
                  <a:pt x="6684" y="16638"/>
                  <a:pt x="6772" y="16594"/>
                </a:cubicBezTo>
              </a:path>
              <a:path w="2085" h="1515">
                <a:moveTo>
                  <a:pt x="6871" y="16470"/>
                </a:moveTo>
                <a:cubicBezTo>
                  <a:pt x="6914" y="16535"/>
                  <a:pt x="6926" y="16549"/>
                  <a:pt x="6945" y="16594"/>
                </a:cubicBezTo>
                <a:cubicBezTo>
                  <a:pt x="6914" y="16521"/>
                  <a:pt x="6810" y="16394"/>
                  <a:pt x="6871" y="16297"/>
                </a:cubicBezTo>
                <a:cubicBezTo>
                  <a:pt x="6928" y="16269"/>
                  <a:pt x="6951" y="16258"/>
                  <a:pt x="6995" y="162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97120" y="1276200"/>
            <a:ext cx="1652760" cy="2938680"/>
          </a:xfrm>
          <a:custGeom>
            <a:avLst/>
            <a:gdLst/>
            <a:ahLst/>
            <a:rect l="l" t="t" r="r" b="b"/>
            <a:pathLst>
              <a:path w="4590" h="8162">
                <a:moveTo>
                  <a:pt x="8781" y="3572"/>
                </a:moveTo>
                <a:cubicBezTo>
                  <a:pt x="8832" y="3572"/>
                  <a:pt x="8733" y="3542"/>
                  <a:pt x="8682" y="3547"/>
                </a:cubicBezTo>
                <a:cubicBezTo>
                  <a:pt x="8665" y="3555"/>
                  <a:pt x="8649" y="3564"/>
                  <a:pt x="8632" y="3572"/>
                </a:cubicBezTo>
                <a:cubicBezTo>
                  <a:pt x="8672" y="3640"/>
                  <a:pt x="8853" y="3773"/>
                  <a:pt x="8756" y="3870"/>
                </a:cubicBezTo>
                <a:cubicBezTo>
                  <a:pt x="8652" y="3974"/>
                  <a:pt x="8401" y="3952"/>
                  <a:pt x="8582" y="3770"/>
                </a:cubicBezTo>
              </a:path>
              <a:path w="4590" h="8162">
                <a:moveTo>
                  <a:pt x="8905" y="3572"/>
                </a:moveTo>
                <a:cubicBezTo>
                  <a:pt x="8861" y="3737"/>
                  <a:pt x="8825" y="3904"/>
                  <a:pt x="8781" y="4068"/>
                </a:cubicBezTo>
                <a:cubicBezTo>
                  <a:pt x="8850" y="4014"/>
                  <a:pt x="8950" y="3813"/>
                  <a:pt x="8979" y="3969"/>
                </a:cubicBezTo>
                <a:cubicBezTo>
                  <a:pt x="8979" y="4069"/>
                  <a:pt x="8979" y="4103"/>
                  <a:pt x="8954" y="4167"/>
                </a:cubicBezTo>
              </a:path>
              <a:path w="4590" h="8162">
                <a:moveTo>
                  <a:pt x="9178" y="4068"/>
                </a:moveTo>
                <a:cubicBezTo>
                  <a:pt x="9135" y="4114"/>
                  <a:pt x="8933" y="4309"/>
                  <a:pt x="9128" y="4316"/>
                </a:cubicBezTo>
                <a:cubicBezTo>
                  <a:pt x="9302" y="4322"/>
                  <a:pt x="9231" y="4225"/>
                  <a:pt x="9203" y="4167"/>
                </a:cubicBezTo>
                <a:cubicBezTo>
                  <a:pt x="9203" y="4159"/>
                  <a:pt x="9203" y="4150"/>
                  <a:pt x="9203" y="4142"/>
                </a:cubicBezTo>
              </a:path>
              <a:path w="4590" h="8162">
                <a:moveTo>
                  <a:pt x="9426" y="4266"/>
                </a:moveTo>
                <a:cubicBezTo>
                  <a:pt x="9526" y="4266"/>
                  <a:pt x="9584" y="4298"/>
                  <a:pt x="9599" y="4192"/>
                </a:cubicBezTo>
                <a:cubicBezTo>
                  <a:pt x="9444" y="4145"/>
                  <a:pt x="9342" y="4223"/>
                  <a:pt x="9401" y="4415"/>
                </a:cubicBezTo>
                <a:cubicBezTo>
                  <a:pt x="9474" y="4653"/>
                  <a:pt x="9650" y="4494"/>
                  <a:pt x="9723" y="4390"/>
                </a:cubicBezTo>
              </a:path>
              <a:path w="4590" h="8162">
                <a:moveTo>
                  <a:pt x="10517" y="4242"/>
                </a:moveTo>
                <a:cubicBezTo>
                  <a:pt x="10492" y="4242"/>
                  <a:pt x="10484" y="4242"/>
                  <a:pt x="10492" y="4217"/>
                </a:cubicBezTo>
                <a:cubicBezTo>
                  <a:pt x="10477" y="4300"/>
                  <a:pt x="10642" y="4416"/>
                  <a:pt x="10716" y="4490"/>
                </a:cubicBezTo>
                <a:cubicBezTo>
                  <a:pt x="10821" y="4595"/>
                  <a:pt x="10931" y="4670"/>
                  <a:pt x="11063" y="4738"/>
                </a:cubicBezTo>
                <a:cubicBezTo>
                  <a:pt x="11186" y="4801"/>
                  <a:pt x="11346" y="4844"/>
                  <a:pt x="11485" y="4862"/>
                </a:cubicBezTo>
                <a:cubicBezTo>
                  <a:pt x="11511" y="4865"/>
                  <a:pt x="11600" y="4880"/>
                  <a:pt x="11584" y="4837"/>
                </a:cubicBezTo>
                <a:cubicBezTo>
                  <a:pt x="11551" y="4747"/>
                  <a:pt x="11505" y="4721"/>
                  <a:pt x="11435" y="4663"/>
                </a:cubicBezTo>
                <a:cubicBezTo>
                  <a:pt x="11427" y="4655"/>
                  <a:pt x="11418" y="4646"/>
                  <a:pt x="11410" y="4638"/>
                </a:cubicBezTo>
                <a:cubicBezTo>
                  <a:pt x="11452" y="4674"/>
                  <a:pt x="11547" y="4754"/>
                  <a:pt x="11584" y="4787"/>
                </a:cubicBezTo>
                <a:cubicBezTo>
                  <a:pt x="11654" y="4849"/>
                  <a:pt x="11593" y="4971"/>
                  <a:pt x="11559" y="5035"/>
                </a:cubicBezTo>
                <a:cubicBezTo>
                  <a:pt x="11529" y="5090"/>
                  <a:pt x="11467" y="5149"/>
                  <a:pt x="11435" y="5184"/>
                </a:cubicBezTo>
              </a:path>
              <a:path w="4590" h="8162">
                <a:moveTo>
                  <a:pt x="8037" y="4291"/>
                </a:moveTo>
                <a:cubicBezTo>
                  <a:pt x="8106" y="4277"/>
                  <a:pt x="8164" y="4268"/>
                  <a:pt x="8235" y="4266"/>
                </a:cubicBezTo>
                <a:cubicBezTo>
                  <a:pt x="8371" y="4262"/>
                  <a:pt x="8476" y="4233"/>
                  <a:pt x="8607" y="4242"/>
                </a:cubicBezTo>
                <a:cubicBezTo>
                  <a:pt x="8716" y="4249"/>
                  <a:pt x="8822" y="4262"/>
                  <a:pt x="8930" y="4266"/>
                </a:cubicBezTo>
                <a:cubicBezTo>
                  <a:pt x="9031" y="4269"/>
                  <a:pt x="9125" y="4288"/>
                  <a:pt x="9227" y="4291"/>
                </a:cubicBezTo>
                <a:cubicBezTo>
                  <a:pt x="9339" y="4294"/>
                  <a:pt x="9442" y="4294"/>
                  <a:pt x="9550" y="4266"/>
                </a:cubicBezTo>
                <a:cubicBezTo>
                  <a:pt x="9652" y="4239"/>
                  <a:pt x="9741" y="4242"/>
                  <a:pt x="9847" y="4242"/>
                </a:cubicBezTo>
                <a:cubicBezTo>
                  <a:pt x="9929" y="4242"/>
                  <a:pt x="9949" y="4220"/>
                  <a:pt x="10021" y="4217"/>
                </a:cubicBezTo>
                <a:cubicBezTo>
                  <a:pt x="10085" y="4214"/>
                  <a:pt x="10170" y="4196"/>
                  <a:pt x="10220" y="4192"/>
                </a:cubicBezTo>
                <a:cubicBezTo>
                  <a:pt x="10285" y="4187"/>
                  <a:pt x="10353" y="4192"/>
                  <a:pt x="10418" y="4192"/>
                </a:cubicBezTo>
                <a:cubicBezTo>
                  <a:pt x="10440" y="4264"/>
                  <a:pt x="10460" y="4339"/>
                  <a:pt x="10468" y="4415"/>
                </a:cubicBezTo>
                <a:cubicBezTo>
                  <a:pt x="10470" y="4432"/>
                  <a:pt x="10505" y="4542"/>
                  <a:pt x="10492" y="4564"/>
                </a:cubicBezTo>
                <a:cubicBezTo>
                  <a:pt x="10456" y="4624"/>
                  <a:pt x="10274" y="4647"/>
                  <a:pt x="10220" y="4663"/>
                </a:cubicBezTo>
                <a:cubicBezTo>
                  <a:pt x="10097" y="4700"/>
                  <a:pt x="9973" y="4770"/>
                  <a:pt x="9847" y="4787"/>
                </a:cubicBezTo>
                <a:cubicBezTo>
                  <a:pt x="9742" y="4802"/>
                  <a:pt x="9631" y="4833"/>
                  <a:pt x="9525" y="4837"/>
                </a:cubicBezTo>
                <a:cubicBezTo>
                  <a:pt x="9383" y="4842"/>
                  <a:pt x="9247" y="4862"/>
                  <a:pt x="9103" y="4862"/>
                </a:cubicBezTo>
                <a:cubicBezTo>
                  <a:pt x="8893" y="4862"/>
                  <a:pt x="8688" y="4868"/>
                  <a:pt x="8483" y="4887"/>
                </a:cubicBezTo>
                <a:cubicBezTo>
                  <a:pt x="8398" y="4895"/>
                  <a:pt x="8320" y="4908"/>
                  <a:pt x="8235" y="4911"/>
                </a:cubicBezTo>
                <a:cubicBezTo>
                  <a:pt x="8169" y="4914"/>
                  <a:pt x="8138" y="4909"/>
                  <a:pt x="8086" y="4887"/>
                </a:cubicBezTo>
                <a:cubicBezTo>
                  <a:pt x="8007" y="4854"/>
                  <a:pt x="7943" y="4715"/>
                  <a:pt x="7913" y="4638"/>
                </a:cubicBezTo>
                <a:cubicBezTo>
                  <a:pt x="7875" y="4540"/>
                  <a:pt x="7888" y="4473"/>
                  <a:pt x="7913" y="4390"/>
                </a:cubicBezTo>
                <a:cubicBezTo>
                  <a:pt x="7935" y="4316"/>
                  <a:pt x="7908" y="4345"/>
                  <a:pt x="7987" y="4316"/>
                </a:cubicBezTo>
                <a:cubicBezTo>
                  <a:pt x="8116" y="4268"/>
                  <a:pt x="8252" y="4268"/>
                  <a:pt x="8384" y="4242"/>
                </a:cubicBezTo>
                <a:cubicBezTo>
                  <a:pt x="8527" y="4214"/>
                  <a:pt x="8593" y="4212"/>
                  <a:pt x="8731" y="4217"/>
                </a:cubicBezTo>
                <a:cubicBezTo>
                  <a:pt x="8839" y="4221"/>
                  <a:pt x="8943" y="4192"/>
                  <a:pt x="9054" y="4192"/>
                </a:cubicBezTo>
                <a:cubicBezTo>
                  <a:pt x="9145" y="4192"/>
                  <a:pt x="9186" y="4192"/>
                  <a:pt x="9252" y="4192"/>
                </a:cubicBezTo>
              </a:path>
              <a:path w="4590" h="8162">
                <a:moveTo>
                  <a:pt x="10716" y="4713"/>
                </a:moveTo>
                <a:cubicBezTo>
                  <a:pt x="10716" y="4780"/>
                  <a:pt x="10726" y="4772"/>
                  <a:pt x="10666" y="4812"/>
                </a:cubicBezTo>
              </a:path>
              <a:path w="4590" h="8162">
                <a:moveTo>
                  <a:pt x="10021" y="4837"/>
                </a:moveTo>
                <a:cubicBezTo>
                  <a:pt x="9853" y="4837"/>
                  <a:pt x="9713" y="4872"/>
                  <a:pt x="9550" y="4887"/>
                </a:cubicBezTo>
                <a:cubicBezTo>
                  <a:pt x="9426" y="4898"/>
                  <a:pt x="9316" y="4855"/>
                  <a:pt x="9203" y="4887"/>
                </a:cubicBezTo>
                <a:cubicBezTo>
                  <a:pt x="9050" y="4930"/>
                  <a:pt x="8908" y="4943"/>
                  <a:pt x="8756" y="4986"/>
                </a:cubicBezTo>
                <a:cubicBezTo>
                  <a:pt x="8624" y="5023"/>
                  <a:pt x="8489" y="5027"/>
                  <a:pt x="8359" y="5060"/>
                </a:cubicBezTo>
                <a:cubicBezTo>
                  <a:pt x="8237" y="5091"/>
                  <a:pt x="8137" y="5105"/>
                  <a:pt x="8012" y="5110"/>
                </a:cubicBezTo>
                <a:cubicBezTo>
                  <a:pt x="8004" y="5110"/>
                  <a:pt x="7995" y="5110"/>
                  <a:pt x="7987" y="5110"/>
                </a:cubicBezTo>
                <a:cubicBezTo>
                  <a:pt x="7987" y="5005"/>
                  <a:pt x="7986" y="4914"/>
                  <a:pt x="7962" y="4812"/>
                </a:cubicBezTo>
                <a:cubicBezTo>
                  <a:pt x="7936" y="4703"/>
                  <a:pt x="7892" y="4599"/>
                  <a:pt x="7888" y="4490"/>
                </a:cubicBezTo>
                <a:cubicBezTo>
                  <a:pt x="7885" y="4405"/>
                  <a:pt x="7880" y="4435"/>
                  <a:pt x="7962" y="4390"/>
                </a:cubicBezTo>
                <a:cubicBezTo>
                  <a:pt x="8116" y="4306"/>
                  <a:pt x="8230" y="4275"/>
                  <a:pt x="8409" y="4266"/>
                </a:cubicBezTo>
                <a:cubicBezTo>
                  <a:pt x="8643" y="4254"/>
                  <a:pt x="8871" y="4277"/>
                  <a:pt x="9103" y="4242"/>
                </a:cubicBezTo>
                <a:cubicBezTo>
                  <a:pt x="9268" y="4217"/>
                  <a:pt x="9433" y="4196"/>
                  <a:pt x="9599" y="4192"/>
                </a:cubicBezTo>
                <a:cubicBezTo>
                  <a:pt x="9720" y="4189"/>
                  <a:pt x="9826" y="4217"/>
                  <a:pt x="9947" y="4217"/>
                </a:cubicBezTo>
                <a:cubicBezTo>
                  <a:pt x="10064" y="4217"/>
                  <a:pt x="10415" y="4166"/>
                  <a:pt x="10468" y="4242"/>
                </a:cubicBezTo>
                <a:cubicBezTo>
                  <a:pt x="10492" y="4276"/>
                  <a:pt x="10512" y="4396"/>
                  <a:pt x="10517" y="4465"/>
                </a:cubicBezTo>
                <a:cubicBezTo>
                  <a:pt x="10525" y="4574"/>
                  <a:pt x="10538" y="4678"/>
                  <a:pt x="10542" y="4787"/>
                </a:cubicBezTo>
                <a:cubicBezTo>
                  <a:pt x="10544" y="4863"/>
                  <a:pt x="10551" y="4864"/>
                  <a:pt x="10468" y="4911"/>
                </a:cubicBezTo>
                <a:cubicBezTo>
                  <a:pt x="10237" y="5041"/>
                  <a:pt x="9970" y="4968"/>
                  <a:pt x="9723" y="4961"/>
                </a:cubicBezTo>
                <a:cubicBezTo>
                  <a:pt x="9631" y="4958"/>
                  <a:pt x="9652" y="4962"/>
                  <a:pt x="9575" y="4986"/>
                </a:cubicBezTo>
              </a:path>
              <a:path w="4590" h="8162">
                <a:moveTo>
                  <a:pt x="9103" y="5011"/>
                </a:moveTo>
                <a:cubicBezTo>
                  <a:pt x="9103" y="5077"/>
                  <a:pt x="9119" y="5131"/>
                  <a:pt x="9128" y="5184"/>
                </a:cubicBezTo>
                <a:cubicBezTo>
                  <a:pt x="9159" y="5370"/>
                  <a:pt x="9122" y="5572"/>
                  <a:pt x="9153" y="5755"/>
                </a:cubicBezTo>
                <a:cubicBezTo>
                  <a:pt x="9175" y="5886"/>
                  <a:pt x="9166" y="6045"/>
                  <a:pt x="9178" y="6176"/>
                </a:cubicBezTo>
                <a:cubicBezTo>
                  <a:pt x="9185" y="6253"/>
                  <a:pt x="9194" y="6325"/>
                  <a:pt x="9203" y="6400"/>
                </a:cubicBezTo>
                <a:cubicBezTo>
                  <a:pt x="9211" y="6470"/>
                  <a:pt x="9217" y="6533"/>
                  <a:pt x="9227" y="6598"/>
                </a:cubicBezTo>
                <a:cubicBezTo>
                  <a:pt x="9247" y="6732"/>
                  <a:pt x="9227" y="6884"/>
                  <a:pt x="9227" y="7020"/>
                </a:cubicBezTo>
                <a:cubicBezTo>
                  <a:pt x="9295" y="7020"/>
                  <a:pt x="9428" y="7045"/>
                  <a:pt x="9451" y="6995"/>
                </a:cubicBezTo>
                <a:cubicBezTo>
                  <a:pt x="9482" y="6930"/>
                  <a:pt x="9471" y="6891"/>
                  <a:pt x="9451" y="6821"/>
                </a:cubicBezTo>
                <a:cubicBezTo>
                  <a:pt x="9427" y="6740"/>
                  <a:pt x="9412" y="6655"/>
                  <a:pt x="9401" y="6573"/>
                </a:cubicBezTo>
                <a:cubicBezTo>
                  <a:pt x="9392" y="6511"/>
                  <a:pt x="9370" y="6438"/>
                  <a:pt x="9351" y="6375"/>
                </a:cubicBezTo>
                <a:cubicBezTo>
                  <a:pt x="9330" y="6308"/>
                  <a:pt x="9345" y="6241"/>
                  <a:pt x="9327" y="6176"/>
                </a:cubicBezTo>
                <a:cubicBezTo>
                  <a:pt x="9307" y="6105"/>
                  <a:pt x="9302" y="6055"/>
                  <a:pt x="9302" y="5978"/>
                </a:cubicBezTo>
                <a:cubicBezTo>
                  <a:pt x="9302" y="5891"/>
                  <a:pt x="9277" y="5820"/>
                  <a:pt x="9277" y="5730"/>
                </a:cubicBezTo>
                <a:cubicBezTo>
                  <a:pt x="9277" y="5661"/>
                  <a:pt x="9255" y="5603"/>
                  <a:pt x="9252" y="5531"/>
                </a:cubicBezTo>
                <a:cubicBezTo>
                  <a:pt x="9250" y="5480"/>
                  <a:pt x="9233" y="5445"/>
                  <a:pt x="9227" y="5407"/>
                </a:cubicBezTo>
                <a:cubicBezTo>
                  <a:pt x="9202" y="5259"/>
                  <a:pt x="9227" y="5087"/>
                  <a:pt x="9227" y="4936"/>
                </a:cubicBezTo>
              </a:path>
              <a:path w="4590" h="8162">
                <a:moveTo>
                  <a:pt x="7962" y="7069"/>
                </a:moveTo>
                <a:cubicBezTo>
                  <a:pt x="7954" y="7069"/>
                  <a:pt x="7946" y="7069"/>
                  <a:pt x="7938" y="7069"/>
                </a:cubicBezTo>
              </a:path>
              <a:path w="4590" h="8162">
                <a:moveTo>
                  <a:pt x="7590" y="11559"/>
                </a:moveTo>
                <a:cubicBezTo>
                  <a:pt x="7613" y="11539"/>
                  <a:pt x="7627" y="11507"/>
                  <a:pt x="7665" y="11485"/>
                </a:cubicBezTo>
                <a:cubicBezTo>
                  <a:pt x="7713" y="11457"/>
                  <a:pt x="7781" y="11431"/>
                  <a:pt x="7838" y="11410"/>
                </a:cubicBezTo>
                <a:cubicBezTo>
                  <a:pt x="7920" y="11380"/>
                  <a:pt x="8005" y="11357"/>
                  <a:pt x="8086" y="11336"/>
                </a:cubicBezTo>
                <a:cubicBezTo>
                  <a:pt x="8170" y="11314"/>
                  <a:pt x="8232" y="11277"/>
                  <a:pt x="8310" y="11237"/>
                </a:cubicBezTo>
                <a:cubicBezTo>
                  <a:pt x="8415" y="11183"/>
                  <a:pt x="8522" y="11134"/>
                  <a:pt x="8632" y="11088"/>
                </a:cubicBezTo>
                <a:cubicBezTo>
                  <a:pt x="8759" y="11035"/>
                  <a:pt x="8879" y="10970"/>
                  <a:pt x="9004" y="10914"/>
                </a:cubicBezTo>
                <a:cubicBezTo>
                  <a:pt x="9112" y="10865"/>
                  <a:pt x="9217" y="10806"/>
                  <a:pt x="9327" y="10765"/>
                </a:cubicBezTo>
                <a:cubicBezTo>
                  <a:pt x="9445" y="10722"/>
                  <a:pt x="9560" y="10690"/>
                  <a:pt x="9674" y="10641"/>
                </a:cubicBezTo>
                <a:cubicBezTo>
                  <a:pt x="9916" y="10538"/>
                  <a:pt x="10153" y="10426"/>
                  <a:pt x="10393" y="10319"/>
                </a:cubicBezTo>
                <a:cubicBezTo>
                  <a:pt x="10579" y="10236"/>
                  <a:pt x="10777" y="10221"/>
                  <a:pt x="10964" y="10145"/>
                </a:cubicBezTo>
                <a:cubicBezTo>
                  <a:pt x="11136" y="10075"/>
                  <a:pt x="11312" y="10036"/>
                  <a:pt x="11485" y="9971"/>
                </a:cubicBezTo>
                <a:cubicBezTo>
                  <a:pt x="11585" y="9934"/>
                  <a:pt x="11681" y="9902"/>
                  <a:pt x="11782" y="9872"/>
                </a:cubicBezTo>
                <a:cubicBezTo>
                  <a:pt x="11811" y="9864"/>
                  <a:pt x="11828" y="9855"/>
                  <a:pt x="11857" y="9847"/>
                </a:cubicBezTo>
              </a:path>
              <a:path w="4590" h="8162">
                <a:moveTo>
                  <a:pt x="7541" y="11311"/>
                </a:moveTo>
                <a:cubicBezTo>
                  <a:pt x="7580" y="11263"/>
                  <a:pt x="7598" y="11218"/>
                  <a:pt x="7665" y="11187"/>
                </a:cubicBezTo>
                <a:cubicBezTo>
                  <a:pt x="7754" y="11145"/>
                  <a:pt x="7848" y="11145"/>
                  <a:pt x="7938" y="11112"/>
                </a:cubicBezTo>
                <a:cubicBezTo>
                  <a:pt x="8066" y="11065"/>
                  <a:pt x="8184" y="11012"/>
                  <a:pt x="8310" y="10964"/>
                </a:cubicBezTo>
                <a:cubicBezTo>
                  <a:pt x="8437" y="10916"/>
                  <a:pt x="8559" y="10868"/>
                  <a:pt x="8682" y="10815"/>
                </a:cubicBezTo>
                <a:cubicBezTo>
                  <a:pt x="8795" y="10767"/>
                  <a:pt x="8875" y="10702"/>
                  <a:pt x="8979" y="10641"/>
                </a:cubicBezTo>
                <a:cubicBezTo>
                  <a:pt x="9037" y="10607"/>
                  <a:pt x="9130" y="10596"/>
                  <a:pt x="9178" y="10567"/>
                </a:cubicBezTo>
                <a:cubicBezTo>
                  <a:pt x="9244" y="10527"/>
                  <a:pt x="9311" y="10463"/>
                  <a:pt x="9376" y="10418"/>
                </a:cubicBezTo>
                <a:cubicBezTo>
                  <a:pt x="9465" y="10356"/>
                  <a:pt x="9479" y="10357"/>
                  <a:pt x="9575" y="10319"/>
                </a:cubicBezTo>
                <a:cubicBezTo>
                  <a:pt x="9656" y="10287"/>
                  <a:pt x="9755" y="10259"/>
                  <a:pt x="9847" y="10220"/>
                </a:cubicBezTo>
                <a:cubicBezTo>
                  <a:pt x="9922" y="10188"/>
                  <a:pt x="9994" y="10148"/>
                  <a:pt x="10071" y="10120"/>
                </a:cubicBezTo>
                <a:cubicBezTo>
                  <a:pt x="10166" y="10085"/>
                  <a:pt x="10278" y="10063"/>
                  <a:pt x="10368" y="10021"/>
                </a:cubicBezTo>
                <a:cubicBezTo>
                  <a:pt x="10441" y="9987"/>
                  <a:pt x="10492" y="9977"/>
                  <a:pt x="10567" y="9947"/>
                </a:cubicBezTo>
                <a:cubicBezTo>
                  <a:pt x="10642" y="9917"/>
                  <a:pt x="10715" y="9878"/>
                  <a:pt x="10790" y="9847"/>
                </a:cubicBezTo>
                <a:cubicBezTo>
                  <a:pt x="10857" y="9820"/>
                  <a:pt x="10923" y="9801"/>
                  <a:pt x="10988" y="9773"/>
                </a:cubicBezTo>
                <a:cubicBezTo>
                  <a:pt x="11027" y="9756"/>
                  <a:pt x="11071" y="9715"/>
                  <a:pt x="11112" y="9699"/>
                </a:cubicBezTo>
                <a:cubicBezTo>
                  <a:pt x="11173" y="9675"/>
                  <a:pt x="11252" y="9672"/>
                  <a:pt x="11311" y="9649"/>
                </a:cubicBezTo>
                <a:cubicBezTo>
                  <a:pt x="11361" y="9630"/>
                  <a:pt x="11403" y="9613"/>
                  <a:pt x="11460" y="9599"/>
                </a:cubicBezTo>
                <a:cubicBezTo>
                  <a:pt x="11511" y="9587"/>
                  <a:pt x="11577" y="9566"/>
                  <a:pt x="11633" y="9550"/>
                </a:cubicBezTo>
                <a:cubicBezTo>
                  <a:pt x="11670" y="9540"/>
                  <a:pt x="11659" y="9536"/>
                  <a:pt x="11708" y="9525"/>
                </a:cubicBezTo>
                <a:cubicBezTo>
                  <a:pt x="11716" y="9525"/>
                  <a:pt x="11725" y="9525"/>
                  <a:pt x="11733" y="9525"/>
                </a:cubicBezTo>
              </a:path>
              <a:path w="4590" h="8162">
                <a:moveTo>
                  <a:pt x="7491" y="11261"/>
                </a:moveTo>
                <a:cubicBezTo>
                  <a:pt x="7491" y="11253"/>
                  <a:pt x="7491" y="11245"/>
                  <a:pt x="7491" y="11237"/>
                </a:cubicBezTo>
                <a:cubicBezTo>
                  <a:pt x="7517" y="11313"/>
                  <a:pt x="7493" y="11437"/>
                  <a:pt x="7516" y="11534"/>
                </a:cubicBezTo>
                <a:cubicBezTo>
                  <a:pt x="7532" y="11602"/>
                  <a:pt x="7541" y="11658"/>
                  <a:pt x="7615" y="11683"/>
                </a:cubicBezTo>
                <a:cubicBezTo>
                  <a:pt x="7664" y="11699"/>
                  <a:pt x="7706" y="11662"/>
                  <a:pt x="7739" y="11633"/>
                </a:cubicBezTo>
                <a:cubicBezTo>
                  <a:pt x="7747" y="11625"/>
                  <a:pt x="7756" y="11617"/>
                  <a:pt x="7764" y="11609"/>
                </a:cubicBezTo>
                <a:cubicBezTo>
                  <a:pt x="7737" y="11640"/>
                  <a:pt x="7696" y="11689"/>
                  <a:pt x="7640" y="11658"/>
                </a:cubicBezTo>
                <a:cubicBezTo>
                  <a:pt x="7606" y="11639"/>
                  <a:pt x="7568" y="11542"/>
                  <a:pt x="7565" y="11534"/>
                </a:cubicBezTo>
                <a:cubicBezTo>
                  <a:pt x="7565" y="11501"/>
                  <a:pt x="7565" y="11485"/>
                  <a:pt x="7565" y="11460"/>
                </a:cubicBezTo>
              </a:path>
              <a:path w="4590" h="8162">
                <a:moveTo>
                  <a:pt x="7739" y="11708"/>
                </a:moveTo>
                <a:cubicBezTo>
                  <a:pt x="7847" y="11646"/>
                  <a:pt x="7936" y="11585"/>
                  <a:pt x="8037" y="11509"/>
                </a:cubicBezTo>
                <a:cubicBezTo>
                  <a:pt x="8154" y="11421"/>
                  <a:pt x="8281" y="11365"/>
                  <a:pt x="8409" y="11286"/>
                </a:cubicBezTo>
                <a:cubicBezTo>
                  <a:pt x="8544" y="11203"/>
                  <a:pt x="8656" y="11102"/>
                  <a:pt x="8781" y="11013"/>
                </a:cubicBezTo>
                <a:cubicBezTo>
                  <a:pt x="8862" y="10955"/>
                  <a:pt x="8938" y="10933"/>
                  <a:pt x="9029" y="10889"/>
                </a:cubicBezTo>
                <a:cubicBezTo>
                  <a:pt x="9122" y="10844"/>
                  <a:pt x="9209" y="10784"/>
                  <a:pt x="9302" y="10740"/>
                </a:cubicBezTo>
                <a:cubicBezTo>
                  <a:pt x="9397" y="10695"/>
                  <a:pt x="9501" y="10676"/>
                  <a:pt x="9599" y="10641"/>
                </a:cubicBezTo>
                <a:cubicBezTo>
                  <a:pt x="9698" y="10606"/>
                  <a:pt x="9796" y="10574"/>
                  <a:pt x="9897" y="10542"/>
                </a:cubicBezTo>
                <a:cubicBezTo>
                  <a:pt x="10011" y="10506"/>
                  <a:pt x="10114" y="10462"/>
                  <a:pt x="10220" y="10418"/>
                </a:cubicBezTo>
                <a:cubicBezTo>
                  <a:pt x="10318" y="10377"/>
                  <a:pt x="10417" y="10328"/>
                  <a:pt x="10517" y="10294"/>
                </a:cubicBezTo>
                <a:cubicBezTo>
                  <a:pt x="10622" y="10259"/>
                  <a:pt x="10733" y="10252"/>
                  <a:pt x="10840" y="10220"/>
                </a:cubicBezTo>
                <a:cubicBezTo>
                  <a:pt x="10980" y="10178"/>
                  <a:pt x="11122" y="10140"/>
                  <a:pt x="11261" y="10096"/>
                </a:cubicBezTo>
                <a:cubicBezTo>
                  <a:pt x="11345" y="10070"/>
                  <a:pt x="11430" y="10068"/>
                  <a:pt x="11509" y="10046"/>
                </a:cubicBezTo>
                <a:cubicBezTo>
                  <a:pt x="11568" y="10029"/>
                  <a:pt x="11625" y="9995"/>
                  <a:pt x="11683" y="9971"/>
                </a:cubicBezTo>
                <a:cubicBezTo>
                  <a:pt x="11736" y="9950"/>
                  <a:pt x="11811" y="9944"/>
                  <a:pt x="11857" y="9922"/>
                </a:cubicBezTo>
                <a:cubicBezTo>
                  <a:pt x="11878" y="9912"/>
                  <a:pt x="11944" y="9882"/>
                  <a:pt x="11956" y="9872"/>
                </a:cubicBezTo>
                <a:cubicBezTo>
                  <a:pt x="11976" y="9855"/>
                  <a:pt x="12009" y="9767"/>
                  <a:pt x="12030" y="9748"/>
                </a:cubicBezTo>
                <a:cubicBezTo>
                  <a:pt x="12038" y="9748"/>
                  <a:pt x="12047" y="9748"/>
                  <a:pt x="12055" y="9748"/>
                </a:cubicBezTo>
                <a:cubicBezTo>
                  <a:pt x="12055" y="9833"/>
                  <a:pt x="12096" y="9843"/>
                  <a:pt x="12055" y="9922"/>
                </a:cubicBezTo>
                <a:cubicBezTo>
                  <a:pt x="12020" y="9990"/>
                  <a:pt x="12007" y="9918"/>
                  <a:pt x="11981" y="98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53240" y="2170080"/>
            <a:ext cx="330120" cy="366840"/>
          </a:xfrm>
          <a:custGeom>
            <a:avLst/>
            <a:gdLst/>
            <a:ahLst/>
            <a:rect l="l" t="t" r="r" b="b"/>
            <a:pathLst>
              <a:path w="918" h="1018">
                <a:moveTo>
                  <a:pt x="21580" y="6350"/>
                </a:moveTo>
                <a:cubicBezTo>
                  <a:pt x="21580" y="6493"/>
                  <a:pt x="21562" y="6630"/>
                  <a:pt x="21555" y="6772"/>
                </a:cubicBezTo>
                <a:cubicBezTo>
                  <a:pt x="21555" y="6796"/>
                  <a:pt x="21555" y="6804"/>
                  <a:pt x="21555" y="6772"/>
                </a:cubicBezTo>
              </a:path>
              <a:path w="918" h="1018">
                <a:moveTo>
                  <a:pt x="21927" y="6400"/>
                </a:moveTo>
                <a:cubicBezTo>
                  <a:pt x="21792" y="6437"/>
                  <a:pt x="21731" y="6527"/>
                  <a:pt x="21853" y="6648"/>
                </a:cubicBezTo>
                <a:cubicBezTo>
                  <a:pt x="21870" y="6656"/>
                  <a:pt x="21886" y="6664"/>
                  <a:pt x="21903" y="6672"/>
                </a:cubicBezTo>
                <a:cubicBezTo>
                  <a:pt x="21943" y="6563"/>
                  <a:pt x="22010" y="6411"/>
                  <a:pt x="21853" y="6350"/>
                </a:cubicBezTo>
                <a:cubicBezTo>
                  <a:pt x="21836" y="6350"/>
                  <a:pt x="21820" y="6350"/>
                  <a:pt x="21803" y="6350"/>
                </a:cubicBezTo>
              </a:path>
              <a:path w="918" h="1018">
                <a:moveTo>
                  <a:pt x="21779" y="6028"/>
                </a:moveTo>
                <a:cubicBezTo>
                  <a:pt x="21502" y="6067"/>
                  <a:pt x="21349" y="6176"/>
                  <a:pt x="21282" y="6474"/>
                </a:cubicBezTo>
                <a:cubicBezTo>
                  <a:pt x="21220" y="6746"/>
                  <a:pt x="21335" y="7084"/>
                  <a:pt x="21679" y="7045"/>
                </a:cubicBezTo>
                <a:cubicBezTo>
                  <a:pt x="21908" y="7019"/>
                  <a:pt x="22186" y="6851"/>
                  <a:pt x="22175" y="6598"/>
                </a:cubicBezTo>
                <a:cubicBezTo>
                  <a:pt x="22125" y="6397"/>
                  <a:pt x="22108" y="6328"/>
                  <a:pt x="22051" y="620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0760" y="3990960"/>
            <a:ext cx="1349280" cy="858960"/>
          </a:xfrm>
          <a:custGeom>
            <a:avLst/>
            <a:gdLst/>
            <a:ahLst/>
            <a:rect l="l" t="t" r="r" b="b"/>
            <a:pathLst>
              <a:path w="3746" h="2382">
                <a:moveTo>
                  <a:pt x="13891" y="13469"/>
                </a:moveTo>
                <a:cubicBezTo>
                  <a:pt x="13909" y="13374"/>
                  <a:pt x="14013" y="13276"/>
                  <a:pt x="14089" y="13221"/>
                </a:cubicBezTo>
                <a:cubicBezTo>
                  <a:pt x="14193" y="13146"/>
                  <a:pt x="14362" y="13132"/>
                  <a:pt x="14486" y="13122"/>
                </a:cubicBezTo>
                <a:cubicBezTo>
                  <a:pt x="14517" y="13119"/>
                  <a:pt x="14747" y="13113"/>
                  <a:pt x="14759" y="13122"/>
                </a:cubicBezTo>
                <a:cubicBezTo>
                  <a:pt x="14780" y="13138"/>
                  <a:pt x="14817" y="13213"/>
                  <a:pt x="14833" y="13246"/>
                </a:cubicBezTo>
              </a:path>
              <a:path w="3746" h="2382">
                <a:moveTo>
                  <a:pt x="14734" y="13271"/>
                </a:moveTo>
                <a:cubicBezTo>
                  <a:pt x="14716" y="13342"/>
                  <a:pt x="14654" y="13320"/>
                  <a:pt x="14610" y="13370"/>
                </a:cubicBezTo>
                <a:cubicBezTo>
                  <a:pt x="14610" y="13378"/>
                  <a:pt x="14610" y="13387"/>
                  <a:pt x="14610" y="13395"/>
                </a:cubicBezTo>
              </a:path>
              <a:path w="3746" h="2382">
                <a:moveTo>
                  <a:pt x="14982" y="13246"/>
                </a:moveTo>
                <a:cubicBezTo>
                  <a:pt x="15006" y="13206"/>
                  <a:pt x="15015" y="13168"/>
                  <a:pt x="15056" y="13122"/>
                </a:cubicBezTo>
                <a:cubicBezTo>
                  <a:pt x="15126" y="13044"/>
                  <a:pt x="15173" y="13015"/>
                  <a:pt x="15255" y="12948"/>
                </a:cubicBezTo>
                <a:cubicBezTo>
                  <a:pt x="15305" y="12907"/>
                  <a:pt x="15372" y="12830"/>
                  <a:pt x="15429" y="12799"/>
                </a:cubicBezTo>
                <a:cubicBezTo>
                  <a:pt x="15526" y="12746"/>
                  <a:pt x="15587" y="12695"/>
                  <a:pt x="15677" y="12626"/>
                </a:cubicBezTo>
                <a:cubicBezTo>
                  <a:pt x="15755" y="12566"/>
                  <a:pt x="15828" y="12544"/>
                  <a:pt x="15900" y="12477"/>
                </a:cubicBezTo>
                <a:cubicBezTo>
                  <a:pt x="15976" y="12406"/>
                  <a:pt x="16043" y="12315"/>
                  <a:pt x="16123" y="12254"/>
                </a:cubicBezTo>
                <a:cubicBezTo>
                  <a:pt x="16180" y="12211"/>
                  <a:pt x="16219" y="12161"/>
                  <a:pt x="16272" y="12105"/>
                </a:cubicBezTo>
                <a:cubicBezTo>
                  <a:pt x="16292" y="12084"/>
                  <a:pt x="16348" y="12002"/>
                  <a:pt x="16371" y="11981"/>
                </a:cubicBezTo>
                <a:cubicBezTo>
                  <a:pt x="16419" y="11936"/>
                  <a:pt x="16490" y="11896"/>
                  <a:pt x="16545" y="11857"/>
                </a:cubicBezTo>
                <a:cubicBezTo>
                  <a:pt x="16614" y="11809"/>
                  <a:pt x="16657" y="11759"/>
                  <a:pt x="16718" y="11708"/>
                </a:cubicBezTo>
                <a:cubicBezTo>
                  <a:pt x="16746" y="11684"/>
                  <a:pt x="16761" y="11675"/>
                  <a:pt x="16793" y="11658"/>
                </a:cubicBezTo>
                <a:cubicBezTo>
                  <a:pt x="16801" y="11658"/>
                  <a:pt x="16810" y="11658"/>
                  <a:pt x="16818" y="11658"/>
                </a:cubicBezTo>
              </a:path>
              <a:path w="3746" h="2382">
                <a:moveTo>
                  <a:pt x="14784" y="12898"/>
                </a:moveTo>
                <a:cubicBezTo>
                  <a:pt x="14805" y="12864"/>
                  <a:pt x="14825" y="12833"/>
                  <a:pt x="14858" y="12799"/>
                </a:cubicBezTo>
                <a:cubicBezTo>
                  <a:pt x="14882" y="12774"/>
                  <a:pt x="14903" y="12733"/>
                  <a:pt x="14932" y="12700"/>
                </a:cubicBezTo>
                <a:cubicBezTo>
                  <a:pt x="14984" y="12641"/>
                  <a:pt x="15014" y="12600"/>
                  <a:pt x="15081" y="12551"/>
                </a:cubicBezTo>
                <a:cubicBezTo>
                  <a:pt x="15121" y="12522"/>
                  <a:pt x="15173" y="12455"/>
                  <a:pt x="15205" y="12427"/>
                </a:cubicBezTo>
                <a:cubicBezTo>
                  <a:pt x="15259" y="12378"/>
                  <a:pt x="15325" y="12350"/>
                  <a:pt x="15379" y="12303"/>
                </a:cubicBezTo>
                <a:cubicBezTo>
                  <a:pt x="15431" y="12258"/>
                  <a:pt x="15508" y="12227"/>
                  <a:pt x="15553" y="12179"/>
                </a:cubicBezTo>
                <a:cubicBezTo>
                  <a:pt x="15604" y="12124"/>
                  <a:pt x="15636" y="12074"/>
                  <a:pt x="15701" y="12030"/>
                </a:cubicBezTo>
                <a:cubicBezTo>
                  <a:pt x="15736" y="12006"/>
                  <a:pt x="15805" y="11947"/>
                  <a:pt x="15850" y="11906"/>
                </a:cubicBezTo>
                <a:cubicBezTo>
                  <a:pt x="15901" y="11860"/>
                  <a:pt x="15959" y="11821"/>
                  <a:pt x="15999" y="11782"/>
                </a:cubicBezTo>
                <a:cubicBezTo>
                  <a:pt x="16047" y="11734"/>
                  <a:pt x="16111" y="11682"/>
                  <a:pt x="16173" y="11633"/>
                </a:cubicBezTo>
                <a:cubicBezTo>
                  <a:pt x="16223" y="11593"/>
                  <a:pt x="16287" y="11527"/>
                  <a:pt x="16321" y="11485"/>
                </a:cubicBezTo>
                <a:cubicBezTo>
                  <a:pt x="16345" y="11455"/>
                  <a:pt x="16365" y="11398"/>
                  <a:pt x="16396" y="11361"/>
                </a:cubicBezTo>
                <a:cubicBezTo>
                  <a:pt x="16438" y="11311"/>
                  <a:pt x="16478" y="11261"/>
                  <a:pt x="16520" y="11212"/>
                </a:cubicBezTo>
                <a:cubicBezTo>
                  <a:pt x="16537" y="11193"/>
                  <a:pt x="16563" y="11168"/>
                  <a:pt x="16594" y="11137"/>
                </a:cubicBezTo>
              </a:path>
              <a:path w="3746" h="2382">
                <a:moveTo>
                  <a:pt x="15900" y="12080"/>
                </a:moveTo>
                <a:cubicBezTo>
                  <a:pt x="15837" y="12080"/>
                  <a:pt x="15803" y="12090"/>
                  <a:pt x="15776" y="12154"/>
                </a:cubicBezTo>
                <a:cubicBezTo>
                  <a:pt x="15749" y="12218"/>
                  <a:pt x="15759" y="12227"/>
                  <a:pt x="15776" y="12278"/>
                </a:cubicBezTo>
                <a:cubicBezTo>
                  <a:pt x="15787" y="12312"/>
                  <a:pt x="15851" y="12366"/>
                  <a:pt x="15900" y="12353"/>
                </a:cubicBezTo>
                <a:cubicBezTo>
                  <a:pt x="15948" y="12340"/>
                  <a:pt x="16008" y="12296"/>
                  <a:pt x="16024" y="12254"/>
                </a:cubicBezTo>
                <a:cubicBezTo>
                  <a:pt x="16037" y="12218"/>
                  <a:pt x="16049" y="12197"/>
                  <a:pt x="16049" y="12154"/>
                </a:cubicBezTo>
                <a:cubicBezTo>
                  <a:pt x="16049" y="12146"/>
                  <a:pt x="16049" y="12137"/>
                  <a:pt x="16049" y="12129"/>
                </a:cubicBezTo>
                <a:cubicBezTo>
                  <a:pt x="16007" y="12119"/>
                  <a:pt x="15951" y="12054"/>
                  <a:pt x="15900" y="12080"/>
                </a:cubicBezTo>
                <a:cubicBezTo>
                  <a:pt x="15893" y="12083"/>
                  <a:pt x="15816" y="12119"/>
                  <a:pt x="15801" y="12154"/>
                </a:cubicBezTo>
                <a:cubicBezTo>
                  <a:pt x="15789" y="12181"/>
                  <a:pt x="15738" y="12245"/>
                  <a:pt x="15751" y="12278"/>
                </a:cubicBezTo>
                <a:cubicBezTo>
                  <a:pt x="15761" y="12304"/>
                  <a:pt x="15784" y="12330"/>
                  <a:pt x="15801" y="12353"/>
                </a:cubicBezTo>
                <a:cubicBezTo>
                  <a:pt x="15884" y="12353"/>
                  <a:pt x="15916" y="12360"/>
                  <a:pt x="15974" y="12303"/>
                </a:cubicBezTo>
                <a:cubicBezTo>
                  <a:pt x="16037" y="12241"/>
                  <a:pt x="16024" y="12212"/>
                  <a:pt x="16024" y="12129"/>
                </a:cubicBezTo>
                <a:cubicBezTo>
                  <a:pt x="16024" y="12075"/>
                  <a:pt x="15941" y="12058"/>
                  <a:pt x="15900" y="12055"/>
                </a:cubicBezTo>
                <a:cubicBezTo>
                  <a:pt x="15840" y="12050"/>
                  <a:pt x="15810" y="12134"/>
                  <a:pt x="15801" y="12179"/>
                </a:cubicBezTo>
                <a:cubicBezTo>
                  <a:pt x="15790" y="12234"/>
                  <a:pt x="15795" y="12287"/>
                  <a:pt x="15825" y="12328"/>
                </a:cubicBezTo>
                <a:cubicBezTo>
                  <a:pt x="15880" y="12328"/>
                  <a:pt x="15986" y="12333"/>
                  <a:pt x="16024" y="12278"/>
                </a:cubicBezTo>
                <a:cubicBezTo>
                  <a:pt x="16058" y="12229"/>
                  <a:pt x="16089" y="12150"/>
                  <a:pt x="16049" y="12105"/>
                </a:cubicBezTo>
                <a:cubicBezTo>
                  <a:pt x="16019" y="12071"/>
                  <a:pt x="15990" y="12063"/>
                  <a:pt x="15949" y="12055"/>
                </a:cubicBezTo>
              </a:path>
              <a:path w="3746" h="2382">
                <a:moveTo>
                  <a:pt x="16098" y="11857"/>
                </a:moveTo>
                <a:cubicBezTo>
                  <a:pt x="16098" y="11916"/>
                  <a:pt x="16095" y="11942"/>
                  <a:pt x="16073" y="11981"/>
                </a:cubicBezTo>
                <a:cubicBezTo>
                  <a:pt x="16228" y="12006"/>
                  <a:pt x="16341" y="11920"/>
                  <a:pt x="16297" y="11733"/>
                </a:cubicBezTo>
                <a:cubicBezTo>
                  <a:pt x="16246" y="11682"/>
                  <a:pt x="16228" y="11666"/>
                  <a:pt x="16173" y="11683"/>
                </a:cubicBezTo>
              </a:path>
              <a:path w="3746" h="2382">
                <a:moveTo>
                  <a:pt x="16371" y="11509"/>
                </a:moveTo>
                <a:cubicBezTo>
                  <a:pt x="16344" y="11617"/>
                  <a:pt x="16337" y="11658"/>
                  <a:pt x="16371" y="11733"/>
                </a:cubicBezTo>
                <a:cubicBezTo>
                  <a:pt x="16488" y="11755"/>
                  <a:pt x="16644" y="11700"/>
                  <a:pt x="16619" y="11534"/>
                </a:cubicBezTo>
                <a:cubicBezTo>
                  <a:pt x="16569" y="11484"/>
                  <a:pt x="16550" y="11467"/>
                  <a:pt x="16495" y="11485"/>
                </a:cubicBezTo>
              </a:path>
              <a:path w="3746" h="2382">
                <a:moveTo>
                  <a:pt x="16694" y="11261"/>
                </a:moveTo>
                <a:cubicBezTo>
                  <a:pt x="16643" y="11404"/>
                  <a:pt x="16634" y="11422"/>
                  <a:pt x="16694" y="11559"/>
                </a:cubicBezTo>
                <a:cubicBezTo>
                  <a:pt x="16826" y="11523"/>
                  <a:pt x="16874" y="11442"/>
                  <a:pt x="16793" y="11311"/>
                </a:cubicBezTo>
                <a:cubicBezTo>
                  <a:pt x="16785" y="11303"/>
                  <a:pt x="16776" y="11294"/>
                  <a:pt x="16768" y="11286"/>
                </a:cubicBezTo>
              </a:path>
              <a:path w="3746" h="2382">
                <a:moveTo>
                  <a:pt x="16842" y="11137"/>
                </a:moveTo>
                <a:cubicBezTo>
                  <a:pt x="16817" y="11239"/>
                  <a:pt x="16811" y="11275"/>
                  <a:pt x="16867" y="11336"/>
                </a:cubicBezTo>
                <a:cubicBezTo>
                  <a:pt x="16991" y="11264"/>
                  <a:pt x="17069" y="11206"/>
                  <a:pt x="16966" y="11088"/>
                </a:cubicBezTo>
              </a:path>
              <a:path w="3746" h="2382">
                <a:moveTo>
                  <a:pt x="16396" y="12229"/>
                </a:moveTo>
                <a:cubicBezTo>
                  <a:pt x="16422" y="12262"/>
                  <a:pt x="16444" y="12295"/>
                  <a:pt x="16470" y="12328"/>
                </a:cubicBezTo>
                <a:cubicBezTo>
                  <a:pt x="16460" y="12243"/>
                  <a:pt x="16446" y="12166"/>
                  <a:pt x="16446" y="12080"/>
                </a:cubicBezTo>
                <a:cubicBezTo>
                  <a:pt x="16493" y="12139"/>
                  <a:pt x="16523" y="12236"/>
                  <a:pt x="16594" y="12254"/>
                </a:cubicBezTo>
                <a:cubicBezTo>
                  <a:pt x="16642" y="12182"/>
                  <a:pt x="16657" y="12161"/>
                  <a:pt x="16669" y="12105"/>
                </a:cubicBezTo>
                <a:cubicBezTo>
                  <a:pt x="16732" y="12130"/>
                  <a:pt x="16766" y="12198"/>
                  <a:pt x="16818" y="12229"/>
                </a:cubicBezTo>
              </a:path>
              <a:path w="3746" h="2382">
                <a:moveTo>
                  <a:pt x="16892" y="12005"/>
                </a:moveTo>
                <a:cubicBezTo>
                  <a:pt x="16848" y="12094"/>
                  <a:pt x="16824" y="12093"/>
                  <a:pt x="16867" y="12179"/>
                </a:cubicBezTo>
                <a:cubicBezTo>
                  <a:pt x="16980" y="12141"/>
                  <a:pt x="16933" y="12088"/>
                  <a:pt x="16991" y="12030"/>
                </a:cubicBezTo>
                <a:cubicBezTo>
                  <a:pt x="17001" y="12020"/>
                  <a:pt x="17049" y="12009"/>
                  <a:pt x="17066" y="12005"/>
                </a:cubicBezTo>
                <a:cubicBezTo>
                  <a:pt x="17045" y="11942"/>
                  <a:pt x="16976" y="11854"/>
                  <a:pt x="17041" y="11782"/>
                </a:cubicBezTo>
                <a:cubicBezTo>
                  <a:pt x="17057" y="11774"/>
                  <a:pt x="17074" y="11765"/>
                  <a:pt x="17090" y="11757"/>
                </a:cubicBezTo>
              </a:path>
              <a:path w="3746" h="2382">
                <a:moveTo>
                  <a:pt x="17066" y="11534"/>
                </a:moveTo>
                <a:cubicBezTo>
                  <a:pt x="17111" y="11647"/>
                  <a:pt x="17148" y="11740"/>
                  <a:pt x="17165" y="11857"/>
                </a:cubicBezTo>
                <a:cubicBezTo>
                  <a:pt x="17194" y="11799"/>
                  <a:pt x="17217" y="11744"/>
                  <a:pt x="17239" y="11683"/>
                </a:cubicBezTo>
                <a:cubicBezTo>
                  <a:pt x="17296" y="11702"/>
                  <a:pt x="17272" y="11803"/>
                  <a:pt x="17239" y="11857"/>
                </a:cubicBezTo>
                <a:cubicBezTo>
                  <a:pt x="17239" y="11849"/>
                  <a:pt x="17239" y="11840"/>
                  <a:pt x="17239" y="11832"/>
                </a:cubicBezTo>
              </a:path>
              <a:path w="3746" h="2382">
                <a:moveTo>
                  <a:pt x="17239" y="11460"/>
                </a:moveTo>
                <a:cubicBezTo>
                  <a:pt x="17268" y="11624"/>
                  <a:pt x="17245" y="11674"/>
                  <a:pt x="17363" y="11733"/>
                </a:cubicBezTo>
                <a:cubicBezTo>
                  <a:pt x="17445" y="11659"/>
                  <a:pt x="17555" y="11569"/>
                  <a:pt x="17438" y="11509"/>
                </a:cubicBezTo>
                <a:cubicBezTo>
                  <a:pt x="17448" y="11599"/>
                  <a:pt x="17439" y="11602"/>
                  <a:pt x="17512" y="11633"/>
                </a:cubicBezTo>
              </a:path>
              <a:path w="3746" h="2382">
                <a:moveTo>
                  <a:pt x="17537" y="11286"/>
                </a:moveTo>
                <a:cubicBezTo>
                  <a:pt x="17527" y="11410"/>
                  <a:pt x="17636" y="11432"/>
                  <a:pt x="17636" y="11534"/>
                </a:cubicBezTo>
                <a:cubicBezTo>
                  <a:pt x="17628" y="11559"/>
                  <a:pt x="17619" y="11584"/>
                  <a:pt x="17611" y="1160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43680" y="4259160"/>
            <a:ext cx="482400" cy="268560"/>
          </a:xfrm>
          <a:custGeom>
            <a:avLst/>
            <a:gdLst/>
            <a:ahLst/>
            <a:rect l="l" t="t" r="r" b="b"/>
            <a:pathLst>
              <a:path w="1340" h="745">
                <a:moveTo>
                  <a:pt x="15553" y="11906"/>
                </a:moveTo>
                <a:cubicBezTo>
                  <a:pt x="15553" y="11948"/>
                  <a:pt x="15592" y="11931"/>
                  <a:pt x="15627" y="11931"/>
                </a:cubicBezTo>
              </a:path>
              <a:path w="1340" h="745">
                <a:moveTo>
                  <a:pt x="14635" y="12055"/>
                </a:moveTo>
                <a:cubicBezTo>
                  <a:pt x="14647" y="12007"/>
                  <a:pt x="14668" y="11997"/>
                  <a:pt x="14709" y="11956"/>
                </a:cubicBezTo>
                <a:cubicBezTo>
                  <a:pt x="14779" y="12078"/>
                  <a:pt x="14683" y="12101"/>
                  <a:pt x="14709" y="12204"/>
                </a:cubicBezTo>
                <a:cubicBezTo>
                  <a:pt x="14727" y="12276"/>
                  <a:pt x="14755" y="12368"/>
                  <a:pt x="14635" y="12402"/>
                </a:cubicBezTo>
                <a:cubicBezTo>
                  <a:pt x="14458" y="12452"/>
                  <a:pt x="14485" y="12392"/>
                  <a:pt x="14511" y="12278"/>
                </a:cubicBezTo>
              </a:path>
              <a:path w="1340" h="745">
                <a:moveTo>
                  <a:pt x="14635" y="11857"/>
                </a:moveTo>
                <a:cubicBezTo>
                  <a:pt x="14408" y="11814"/>
                  <a:pt x="14306" y="11890"/>
                  <a:pt x="14288" y="12154"/>
                </a:cubicBezTo>
                <a:cubicBezTo>
                  <a:pt x="14270" y="12414"/>
                  <a:pt x="14417" y="12710"/>
                  <a:pt x="14709" y="12502"/>
                </a:cubicBezTo>
                <a:cubicBezTo>
                  <a:pt x="14967" y="12318"/>
                  <a:pt x="14907" y="12178"/>
                  <a:pt x="14759" y="1198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81800" y="4510080"/>
            <a:ext cx="722160" cy="554040"/>
          </a:xfrm>
          <a:custGeom>
            <a:avLst/>
            <a:gdLst/>
            <a:ahLst/>
            <a:rect l="l" t="t" r="r" b="b"/>
            <a:pathLst>
              <a:path w="2010" h="1539">
                <a:moveTo>
                  <a:pt x="15974" y="12849"/>
                </a:moveTo>
                <a:cubicBezTo>
                  <a:pt x="15963" y="12926"/>
                  <a:pt x="15949" y="12993"/>
                  <a:pt x="15949" y="13072"/>
                </a:cubicBezTo>
                <a:cubicBezTo>
                  <a:pt x="15936" y="12967"/>
                  <a:pt x="15911" y="12891"/>
                  <a:pt x="15949" y="12799"/>
                </a:cubicBezTo>
                <a:cubicBezTo>
                  <a:pt x="15957" y="12822"/>
                  <a:pt x="16012" y="13053"/>
                  <a:pt x="16049" y="12973"/>
                </a:cubicBezTo>
                <a:cubicBezTo>
                  <a:pt x="16074" y="12919"/>
                  <a:pt x="16104" y="12872"/>
                  <a:pt x="16123" y="12824"/>
                </a:cubicBezTo>
                <a:cubicBezTo>
                  <a:pt x="16141" y="12888"/>
                  <a:pt x="16172" y="12957"/>
                  <a:pt x="16197" y="13022"/>
                </a:cubicBezTo>
              </a:path>
              <a:path w="2010" h="1539">
                <a:moveTo>
                  <a:pt x="16247" y="12973"/>
                </a:moveTo>
                <a:cubicBezTo>
                  <a:pt x="16290" y="12956"/>
                  <a:pt x="16335" y="12932"/>
                  <a:pt x="16346" y="12898"/>
                </a:cubicBezTo>
                <a:cubicBezTo>
                  <a:pt x="16269" y="12868"/>
                  <a:pt x="16244" y="12925"/>
                  <a:pt x="16297" y="12998"/>
                </a:cubicBezTo>
                <a:cubicBezTo>
                  <a:pt x="16354" y="13055"/>
                  <a:pt x="16381" y="13069"/>
                  <a:pt x="16446" y="13022"/>
                </a:cubicBezTo>
              </a:path>
              <a:path w="2010" h="1539">
                <a:moveTo>
                  <a:pt x="16619" y="12576"/>
                </a:moveTo>
                <a:cubicBezTo>
                  <a:pt x="16577" y="12756"/>
                  <a:pt x="16592" y="12865"/>
                  <a:pt x="16644" y="13047"/>
                </a:cubicBezTo>
              </a:path>
              <a:path w="2010" h="1539">
                <a:moveTo>
                  <a:pt x="16495" y="12898"/>
                </a:moveTo>
                <a:cubicBezTo>
                  <a:pt x="16583" y="12898"/>
                  <a:pt x="16659" y="12881"/>
                  <a:pt x="16743" y="12874"/>
                </a:cubicBezTo>
                <a:cubicBezTo>
                  <a:pt x="16779" y="12871"/>
                  <a:pt x="16718" y="12912"/>
                  <a:pt x="16694" y="12973"/>
                </a:cubicBezTo>
                <a:cubicBezTo>
                  <a:pt x="16694" y="12981"/>
                  <a:pt x="16694" y="12990"/>
                  <a:pt x="16694" y="12998"/>
                </a:cubicBezTo>
                <a:cubicBezTo>
                  <a:pt x="16772" y="12982"/>
                  <a:pt x="16792" y="12950"/>
                  <a:pt x="16818" y="12874"/>
                </a:cubicBezTo>
                <a:cubicBezTo>
                  <a:pt x="16836" y="12945"/>
                  <a:pt x="16832" y="12916"/>
                  <a:pt x="16892" y="12874"/>
                </a:cubicBezTo>
              </a:path>
              <a:path w="2010" h="1539">
                <a:moveTo>
                  <a:pt x="16917" y="12551"/>
                </a:moveTo>
                <a:cubicBezTo>
                  <a:pt x="16926" y="12677"/>
                  <a:pt x="16961" y="12797"/>
                  <a:pt x="16966" y="12923"/>
                </a:cubicBezTo>
                <a:cubicBezTo>
                  <a:pt x="16966" y="12993"/>
                  <a:pt x="16957" y="13028"/>
                  <a:pt x="16917" y="13072"/>
                </a:cubicBezTo>
              </a:path>
              <a:path w="2010" h="1539">
                <a:moveTo>
                  <a:pt x="16321" y="13494"/>
                </a:moveTo>
                <a:cubicBezTo>
                  <a:pt x="16321" y="13561"/>
                  <a:pt x="16312" y="13597"/>
                  <a:pt x="16297" y="13667"/>
                </a:cubicBezTo>
                <a:cubicBezTo>
                  <a:pt x="16297" y="13792"/>
                  <a:pt x="16304" y="13469"/>
                  <a:pt x="16321" y="13345"/>
                </a:cubicBezTo>
                <a:cubicBezTo>
                  <a:pt x="16329" y="13320"/>
                  <a:pt x="16338" y="13296"/>
                  <a:pt x="16346" y="13271"/>
                </a:cubicBezTo>
                <a:cubicBezTo>
                  <a:pt x="16370" y="13355"/>
                  <a:pt x="16369" y="13589"/>
                  <a:pt x="16421" y="13519"/>
                </a:cubicBezTo>
                <a:cubicBezTo>
                  <a:pt x="16468" y="13455"/>
                  <a:pt x="16486" y="13346"/>
                  <a:pt x="16520" y="13271"/>
                </a:cubicBezTo>
                <a:cubicBezTo>
                  <a:pt x="16535" y="13346"/>
                  <a:pt x="16516" y="13498"/>
                  <a:pt x="16594" y="13543"/>
                </a:cubicBezTo>
                <a:cubicBezTo>
                  <a:pt x="16611" y="13535"/>
                  <a:pt x="16627" y="13527"/>
                  <a:pt x="16644" y="13519"/>
                </a:cubicBezTo>
              </a:path>
              <a:path w="2010" h="1539">
                <a:moveTo>
                  <a:pt x="16718" y="13320"/>
                </a:moveTo>
                <a:cubicBezTo>
                  <a:pt x="16675" y="13369"/>
                  <a:pt x="16656" y="13383"/>
                  <a:pt x="16644" y="13444"/>
                </a:cubicBezTo>
                <a:cubicBezTo>
                  <a:pt x="16720" y="13431"/>
                  <a:pt x="16789" y="13395"/>
                  <a:pt x="16867" y="13395"/>
                </a:cubicBezTo>
                <a:cubicBezTo>
                  <a:pt x="16852" y="13293"/>
                  <a:pt x="16808" y="13205"/>
                  <a:pt x="16917" y="13146"/>
                </a:cubicBezTo>
                <a:cubicBezTo>
                  <a:pt x="16942" y="13138"/>
                  <a:pt x="16966" y="13130"/>
                  <a:pt x="16991" y="13122"/>
                </a:cubicBezTo>
              </a:path>
              <a:path w="2010" h="1539">
                <a:moveTo>
                  <a:pt x="17066" y="12998"/>
                </a:moveTo>
                <a:cubicBezTo>
                  <a:pt x="17066" y="13056"/>
                  <a:pt x="17047" y="13278"/>
                  <a:pt x="17090" y="13320"/>
                </a:cubicBezTo>
                <a:cubicBezTo>
                  <a:pt x="17145" y="13374"/>
                  <a:pt x="17163" y="13182"/>
                  <a:pt x="17239" y="13171"/>
                </a:cubicBezTo>
                <a:cubicBezTo>
                  <a:pt x="17226" y="13310"/>
                  <a:pt x="17164" y="13623"/>
                  <a:pt x="17165" y="13221"/>
                </a:cubicBezTo>
              </a:path>
              <a:path w="2010" h="1539">
                <a:moveTo>
                  <a:pt x="17264" y="12898"/>
                </a:moveTo>
                <a:cubicBezTo>
                  <a:pt x="17281" y="12953"/>
                  <a:pt x="17290" y="13197"/>
                  <a:pt x="17314" y="13221"/>
                </a:cubicBezTo>
                <a:cubicBezTo>
                  <a:pt x="17437" y="13345"/>
                  <a:pt x="17505" y="13109"/>
                  <a:pt x="17512" y="13047"/>
                </a:cubicBezTo>
                <a:cubicBezTo>
                  <a:pt x="17512" y="13022"/>
                  <a:pt x="17512" y="13014"/>
                  <a:pt x="17487" y="13022"/>
                </a:cubicBezTo>
                <a:cubicBezTo>
                  <a:pt x="17487" y="13082"/>
                  <a:pt x="17447" y="13240"/>
                  <a:pt x="17512" y="13196"/>
                </a:cubicBezTo>
              </a:path>
              <a:path w="2010" h="1539">
                <a:moveTo>
                  <a:pt x="15776" y="12725"/>
                </a:moveTo>
                <a:cubicBezTo>
                  <a:pt x="15800" y="12749"/>
                  <a:pt x="15769" y="12742"/>
                  <a:pt x="15801" y="12750"/>
                </a:cubicBezTo>
                <a:cubicBezTo>
                  <a:pt x="15838" y="12759"/>
                  <a:pt x="15896" y="12740"/>
                  <a:pt x="15925" y="12725"/>
                </a:cubicBezTo>
                <a:cubicBezTo>
                  <a:pt x="15959" y="12708"/>
                  <a:pt x="15985" y="12663"/>
                  <a:pt x="15999" y="12650"/>
                </a:cubicBezTo>
                <a:cubicBezTo>
                  <a:pt x="16074" y="12576"/>
                  <a:pt x="16032" y="12619"/>
                  <a:pt x="16049" y="12551"/>
                </a:cubicBezTo>
                <a:cubicBezTo>
                  <a:pt x="15987" y="12514"/>
                  <a:pt x="15944" y="12520"/>
                  <a:pt x="15875" y="12551"/>
                </a:cubicBezTo>
                <a:cubicBezTo>
                  <a:pt x="15799" y="12585"/>
                  <a:pt x="15747" y="12658"/>
                  <a:pt x="15677" y="12700"/>
                </a:cubicBezTo>
                <a:cubicBezTo>
                  <a:pt x="15599" y="12747"/>
                  <a:pt x="15645" y="12729"/>
                  <a:pt x="15627" y="12799"/>
                </a:cubicBezTo>
                <a:cubicBezTo>
                  <a:pt x="15682" y="12836"/>
                  <a:pt x="15729" y="12881"/>
                  <a:pt x="15825" y="12824"/>
                </a:cubicBezTo>
                <a:cubicBezTo>
                  <a:pt x="15872" y="12796"/>
                  <a:pt x="15936" y="12736"/>
                  <a:pt x="15974" y="12700"/>
                </a:cubicBezTo>
                <a:cubicBezTo>
                  <a:pt x="15999" y="12676"/>
                  <a:pt x="16009" y="12665"/>
                  <a:pt x="16024" y="12650"/>
                </a:cubicBezTo>
                <a:cubicBezTo>
                  <a:pt x="15948" y="12617"/>
                  <a:pt x="15887" y="12591"/>
                  <a:pt x="15801" y="12601"/>
                </a:cubicBezTo>
                <a:cubicBezTo>
                  <a:pt x="15736" y="12609"/>
                  <a:pt x="15701" y="12631"/>
                  <a:pt x="15652" y="12650"/>
                </a:cubicBezTo>
                <a:cubicBezTo>
                  <a:pt x="15659" y="12702"/>
                  <a:pt x="15669" y="12686"/>
                  <a:pt x="15677" y="12725"/>
                </a:cubicBezTo>
                <a:cubicBezTo>
                  <a:pt x="15691" y="12795"/>
                  <a:pt x="15652" y="12896"/>
                  <a:pt x="15652" y="12973"/>
                </a:cubicBezTo>
                <a:cubicBezTo>
                  <a:pt x="15652" y="13083"/>
                  <a:pt x="15683" y="13218"/>
                  <a:pt x="15677" y="13320"/>
                </a:cubicBezTo>
                <a:cubicBezTo>
                  <a:pt x="15670" y="13428"/>
                  <a:pt x="15652" y="13532"/>
                  <a:pt x="15652" y="13643"/>
                </a:cubicBezTo>
                <a:cubicBezTo>
                  <a:pt x="15652" y="13750"/>
                  <a:pt x="15626" y="13951"/>
                  <a:pt x="15677" y="14015"/>
                </a:cubicBezTo>
                <a:cubicBezTo>
                  <a:pt x="15697" y="14041"/>
                  <a:pt x="15714" y="14043"/>
                  <a:pt x="15751" y="14064"/>
                </a:cubicBezTo>
                <a:cubicBezTo>
                  <a:pt x="15814" y="14002"/>
                  <a:pt x="15822" y="13956"/>
                  <a:pt x="15825" y="13866"/>
                </a:cubicBezTo>
                <a:cubicBezTo>
                  <a:pt x="15829" y="13740"/>
                  <a:pt x="15850" y="13622"/>
                  <a:pt x="15850" y="13494"/>
                </a:cubicBezTo>
                <a:cubicBezTo>
                  <a:pt x="15850" y="13333"/>
                  <a:pt x="15842" y="13179"/>
                  <a:pt x="15825" y="13022"/>
                </a:cubicBezTo>
                <a:cubicBezTo>
                  <a:pt x="15817" y="12947"/>
                  <a:pt x="15874" y="12871"/>
                  <a:pt x="15850" y="12799"/>
                </a:cubicBezTo>
                <a:cubicBezTo>
                  <a:pt x="15842" y="12799"/>
                  <a:pt x="15833" y="12799"/>
                  <a:pt x="15825" y="12799"/>
                </a:cubicBezTo>
              </a:path>
              <a:path w="2010" h="1539">
                <a:moveTo>
                  <a:pt x="15776" y="12973"/>
                </a:moveTo>
                <a:cubicBezTo>
                  <a:pt x="15709" y="12978"/>
                  <a:pt x="15503" y="12971"/>
                  <a:pt x="15528" y="13097"/>
                </a:cubicBezTo>
                <a:cubicBezTo>
                  <a:pt x="15565" y="13284"/>
                  <a:pt x="15810" y="13211"/>
                  <a:pt x="15925" y="13196"/>
                </a:cubicBezTo>
                <a:cubicBezTo>
                  <a:pt x="16012" y="13042"/>
                  <a:pt x="15737" y="13113"/>
                  <a:pt x="15627" y="13122"/>
                </a:cubicBezTo>
                <a:cubicBezTo>
                  <a:pt x="15473" y="13172"/>
                  <a:pt x="15710" y="13239"/>
                  <a:pt x="15776" y="13246"/>
                </a:cubicBezTo>
                <a:cubicBezTo>
                  <a:pt x="15962" y="13265"/>
                  <a:pt x="16004" y="13220"/>
                  <a:pt x="15801" y="13271"/>
                </a:cubicBezTo>
                <a:cubicBezTo>
                  <a:pt x="15735" y="13288"/>
                  <a:pt x="15288" y="13454"/>
                  <a:pt x="15602" y="13494"/>
                </a:cubicBezTo>
                <a:cubicBezTo>
                  <a:pt x="15708" y="13507"/>
                  <a:pt x="15976" y="13501"/>
                  <a:pt x="15949" y="13370"/>
                </a:cubicBezTo>
                <a:cubicBezTo>
                  <a:pt x="15904" y="13374"/>
                  <a:pt x="15417" y="13458"/>
                  <a:pt x="15602" y="13519"/>
                </a:cubicBezTo>
                <a:cubicBezTo>
                  <a:pt x="15732" y="13562"/>
                  <a:pt x="15828" y="13534"/>
                  <a:pt x="15949" y="13494"/>
                </a:cubicBezTo>
                <a:cubicBezTo>
                  <a:pt x="15857" y="13487"/>
                  <a:pt x="15539" y="13504"/>
                  <a:pt x="15577" y="13692"/>
                </a:cubicBezTo>
                <a:cubicBezTo>
                  <a:pt x="15633" y="13969"/>
                  <a:pt x="15964" y="13732"/>
                  <a:pt x="16049" y="13643"/>
                </a:cubicBezTo>
                <a:cubicBezTo>
                  <a:pt x="16120" y="13568"/>
                  <a:pt x="15926" y="13620"/>
                  <a:pt x="15825" y="13643"/>
                </a:cubicBezTo>
                <a:cubicBezTo>
                  <a:pt x="15643" y="13779"/>
                  <a:pt x="15674" y="13912"/>
                  <a:pt x="15949" y="13841"/>
                </a:cubicBezTo>
                <a:cubicBezTo>
                  <a:pt x="15990" y="13816"/>
                  <a:pt x="16032" y="13792"/>
                  <a:pt x="16073" y="13767"/>
                </a:cubicBezTo>
                <a:cubicBezTo>
                  <a:pt x="16122" y="13571"/>
                  <a:pt x="15867" y="13716"/>
                  <a:pt x="15776" y="13767"/>
                </a:cubicBezTo>
                <a:cubicBezTo>
                  <a:pt x="15645" y="13840"/>
                  <a:pt x="15788" y="13816"/>
                  <a:pt x="15825" y="138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76920" y="5348160"/>
            <a:ext cx="241200" cy="243000"/>
          </a:xfrm>
          <a:custGeom>
            <a:avLst/>
            <a:gdLst/>
            <a:ahLst/>
            <a:rect l="l" t="t" r="r" b="b"/>
            <a:pathLst>
              <a:path w="670" h="671">
                <a:moveTo>
                  <a:pt x="16346" y="14982"/>
                </a:moveTo>
                <a:cubicBezTo>
                  <a:pt x="16386" y="14969"/>
                  <a:pt x="16356" y="14970"/>
                  <a:pt x="16396" y="14957"/>
                </a:cubicBezTo>
                <a:cubicBezTo>
                  <a:pt x="16435" y="14970"/>
                  <a:pt x="16456" y="15027"/>
                  <a:pt x="16470" y="15081"/>
                </a:cubicBezTo>
                <a:cubicBezTo>
                  <a:pt x="16477" y="15107"/>
                  <a:pt x="16461" y="15214"/>
                  <a:pt x="16446" y="15230"/>
                </a:cubicBezTo>
                <a:cubicBezTo>
                  <a:pt x="16405" y="15275"/>
                  <a:pt x="16386" y="15245"/>
                  <a:pt x="16371" y="15304"/>
                </a:cubicBezTo>
                <a:cubicBezTo>
                  <a:pt x="16429" y="15285"/>
                  <a:pt x="16498" y="15227"/>
                  <a:pt x="16570" y="15255"/>
                </a:cubicBezTo>
                <a:cubicBezTo>
                  <a:pt x="16592" y="15278"/>
                  <a:pt x="16597" y="15286"/>
                  <a:pt x="16619" y="15280"/>
                </a:cubicBezTo>
              </a:path>
              <a:path w="670" h="671">
                <a:moveTo>
                  <a:pt x="16446" y="14932"/>
                </a:moveTo>
                <a:cubicBezTo>
                  <a:pt x="16376" y="14852"/>
                  <a:pt x="16258" y="14819"/>
                  <a:pt x="16148" y="14883"/>
                </a:cubicBezTo>
                <a:cubicBezTo>
                  <a:pt x="16016" y="14959"/>
                  <a:pt x="16012" y="15232"/>
                  <a:pt x="16073" y="15354"/>
                </a:cubicBezTo>
                <a:cubicBezTo>
                  <a:pt x="16168" y="15543"/>
                  <a:pt x="16422" y="15587"/>
                  <a:pt x="16594" y="15478"/>
                </a:cubicBezTo>
                <a:cubicBezTo>
                  <a:pt x="16755" y="15376"/>
                  <a:pt x="16734" y="15227"/>
                  <a:pt x="16669" y="15081"/>
                </a:cubicBezTo>
                <a:cubicBezTo>
                  <a:pt x="16652" y="15048"/>
                  <a:pt x="16636" y="15015"/>
                  <a:pt x="16619" y="149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86040" y="1938240"/>
            <a:ext cx="1589040" cy="500040"/>
          </a:xfrm>
          <a:custGeom>
            <a:avLst/>
            <a:gdLst/>
            <a:ahLst/>
            <a:rect l="l" t="t" r="r" b="b"/>
            <a:pathLst>
              <a:path w="4416" h="1390">
                <a:moveTo>
                  <a:pt x="7764" y="5680"/>
                </a:moveTo>
                <a:cubicBezTo>
                  <a:pt x="7744" y="5828"/>
                  <a:pt x="7753" y="5980"/>
                  <a:pt x="7863" y="6102"/>
                </a:cubicBezTo>
                <a:cubicBezTo>
                  <a:pt x="7863" y="6094"/>
                  <a:pt x="7863" y="6085"/>
                  <a:pt x="7863" y="6077"/>
                </a:cubicBezTo>
              </a:path>
              <a:path w="4416" h="1390">
                <a:moveTo>
                  <a:pt x="7938" y="5829"/>
                </a:moveTo>
                <a:cubicBezTo>
                  <a:pt x="7988" y="5798"/>
                  <a:pt x="8051" y="5785"/>
                  <a:pt x="8111" y="5755"/>
                </a:cubicBezTo>
              </a:path>
              <a:path w="4416" h="1390">
                <a:moveTo>
                  <a:pt x="8186" y="5407"/>
                </a:moveTo>
                <a:cubicBezTo>
                  <a:pt x="8228" y="5562"/>
                  <a:pt x="8266" y="5700"/>
                  <a:pt x="8359" y="5829"/>
                </a:cubicBezTo>
              </a:path>
              <a:path w="4416" h="1390">
                <a:moveTo>
                  <a:pt x="8409" y="5680"/>
                </a:moveTo>
                <a:cubicBezTo>
                  <a:pt x="8484" y="5633"/>
                  <a:pt x="8508" y="5622"/>
                  <a:pt x="8508" y="5531"/>
                </a:cubicBezTo>
                <a:cubicBezTo>
                  <a:pt x="8508" y="5523"/>
                  <a:pt x="8508" y="5515"/>
                  <a:pt x="8508" y="5507"/>
                </a:cubicBezTo>
                <a:cubicBezTo>
                  <a:pt x="8445" y="5532"/>
                  <a:pt x="8370" y="5647"/>
                  <a:pt x="8458" y="5705"/>
                </a:cubicBezTo>
                <a:cubicBezTo>
                  <a:pt x="8570" y="5733"/>
                  <a:pt x="8612" y="5733"/>
                  <a:pt x="8657" y="5631"/>
                </a:cubicBezTo>
              </a:path>
              <a:path w="4416" h="1390">
                <a:moveTo>
                  <a:pt x="8657" y="5407"/>
                </a:moveTo>
                <a:cubicBezTo>
                  <a:pt x="8657" y="5458"/>
                  <a:pt x="8675" y="5539"/>
                  <a:pt x="8682" y="5432"/>
                </a:cubicBezTo>
                <a:cubicBezTo>
                  <a:pt x="8682" y="5416"/>
                  <a:pt x="8682" y="5399"/>
                  <a:pt x="8682" y="5383"/>
                </a:cubicBezTo>
                <a:cubicBezTo>
                  <a:pt x="8705" y="5499"/>
                  <a:pt x="8816" y="5583"/>
                  <a:pt x="8830" y="5705"/>
                </a:cubicBezTo>
                <a:cubicBezTo>
                  <a:pt x="8851" y="5887"/>
                  <a:pt x="8679" y="5977"/>
                  <a:pt x="8558" y="6052"/>
                </a:cubicBezTo>
              </a:path>
              <a:path w="4416" h="1390">
                <a:moveTo>
                  <a:pt x="8037" y="6424"/>
                </a:moveTo>
                <a:cubicBezTo>
                  <a:pt x="8053" y="6555"/>
                  <a:pt x="8148" y="6633"/>
                  <a:pt x="8210" y="6747"/>
                </a:cubicBezTo>
                <a:cubicBezTo>
                  <a:pt x="8210" y="6755"/>
                  <a:pt x="8210" y="6764"/>
                  <a:pt x="8210" y="6772"/>
                </a:cubicBezTo>
              </a:path>
              <a:path w="4416" h="1390">
                <a:moveTo>
                  <a:pt x="7938" y="6623"/>
                </a:moveTo>
                <a:cubicBezTo>
                  <a:pt x="8044" y="6570"/>
                  <a:pt x="8161" y="6527"/>
                  <a:pt x="8260" y="6474"/>
                </a:cubicBezTo>
                <a:cubicBezTo>
                  <a:pt x="8301" y="6454"/>
                  <a:pt x="8317" y="6456"/>
                  <a:pt x="8310" y="6424"/>
                </a:cubicBezTo>
                <a:cubicBezTo>
                  <a:pt x="8260" y="6444"/>
                  <a:pt x="8193" y="6487"/>
                  <a:pt x="8260" y="6548"/>
                </a:cubicBezTo>
                <a:cubicBezTo>
                  <a:pt x="8342" y="6623"/>
                  <a:pt x="8344" y="6498"/>
                  <a:pt x="8359" y="6449"/>
                </a:cubicBezTo>
                <a:cubicBezTo>
                  <a:pt x="8406" y="6567"/>
                  <a:pt x="8453" y="6541"/>
                  <a:pt x="8483" y="6449"/>
                </a:cubicBezTo>
              </a:path>
              <a:path w="4416" h="1390">
                <a:moveTo>
                  <a:pt x="8310" y="6152"/>
                </a:moveTo>
                <a:cubicBezTo>
                  <a:pt x="8414" y="6256"/>
                  <a:pt x="8495" y="6357"/>
                  <a:pt x="8582" y="6474"/>
                </a:cubicBezTo>
                <a:cubicBezTo>
                  <a:pt x="8582" y="6452"/>
                  <a:pt x="8564" y="6323"/>
                  <a:pt x="8607" y="6350"/>
                </a:cubicBezTo>
                <a:cubicBezTo>
                  <a:pt x="8725" y="6422"/>
                  <a:pt x="8661" y="6536"/>
                  <a:pt x="8558" y="6524"/>
                </a:cubicBezTo>
              </a:path>
              <a:path w="4416" h="1390">
                <a:moveTo>
                  <a:pt x="8533" y="6077"/>
                </a:moveTo>
                <a:cubicBezTo>
                  <a:pt x="8621" y="6202"/>
                  <a:pt x="8697" y="6316"/>
                  <a:pt x="8806" y="6424"/>
                </a:cubicBezTo>
                <a:cubicBezTo>
                  <a:pt x="8823" y="6320"/>
                  <a:pt x="8830" y="6257"/>
                  <a:pt x="8806" y="6152"/>
                </a:cubicBezTo>
                <a:cubicBezTo>
                  <a:pt x="8784" y="6182"/>
                  <a:pt x="8754" y="6306"/>
                  <a:pt x="8830" y="6350"/>
                </a:cubicBezTo>
                <a:cubicBezTo>
                  <a:pt x="8891" y="6370"/>
                  <a:pt x="8906" y="6389"/>
                  <a:pt x="8930" y="6350"/>
                </a:cubicBezTo>
              </a:path>
              <a:path w="4416" h="1390">
                <a:moveTo>
                  <a:pt x="9872" y="6127"/>
                </a:moveTo>
                <a:cubicBezTo>
                  <a:pt x="9952" y="6095"/>
                  <a:pt x="10035" y="6066"/>
                  <a:pt x="10120" y="6052"/>
                </a:cubicBezTo>
                <a:cubicBezTo>
                  <a:pt x="10120" y="6177"/>
                  <a:pt x="10101" y="6299"/>
                  <a:pt x="10096" y="6424"/>
                </a:cubicBezTo>
                <a:cubicBezTo>
                  <a:pt x="10096" y="6432"/>
                  <a:pt x="10096" y="6441"/>
                  <a:pt x="10096" y="6449"/>
                </a:cubicBezTo>
              </a:path>
              <a:path w="4416" h="1390">
                <a:moveTo>
                  <a:pt x="9872" y="5904"/>
                </a:moveTo>
                <a:cubicBezTo>
                  <a:pt x="9649" y="6096"/>
                  <a:pt x="9440" y="6384"/>
                  <a:pt x="9723" y="6672"/>
                </a:cubicBezTo>
                <a:cubicBezTo>
                  <a:pt x="9950" y="6903"/>
                  <a:pt x="10452" y="6707"/>
                  <a:pt x="10492" y="6400"/>
                </a:cubicBezTo>
                <a:cubicBezTo>
                  <a:pt x="10516" y="6212"/>
                  <a:pt x="10340" y="6135"/>
                  <a:pt x="10220" y="6052"/>
                </a:cubicBezTo>
              </a:path>
              <a:path w="4416" h="1390">
                <a:moveTo>
                  <a:pt x="11708" y="6176"/>
                </a:moveTo>
                <a:cubicBezTo>
                  <a:pt x="11676" y="6114"/>
                  <a:pt x="11672" y="6136"/>
                  <a:pt x="11609" y="6152"/>
                </a:cubicBezTo>
                <a:cubicBezTo>
                  <a:pt x="11597" y="6302"/>
                  <a:pt x="11649" y="6421"/>
                  <a:pt x="11807" y="6276"/>
                </a:cubicBezTo>
                <a:cubicBezTo>
                  <a:pt x="11824" y="6251"/>
                  <a:pt x="11840" y="6226"/>
                  <a:pt x="11857" y="6201"/>
                </a:cubicBezTo>
                <a:cubicBezTo>
                  <a:pt x="11761" y="6122"/>
                  <a:pt x="11690" y="6034"/>
                  <a:pt x="11658" y="6176"/>
                </a:cubicBezTo>
              </a:path>
              <a:path w="4416" h="1390">
                <a:moveTo>
                  <a:pt x="11683" y="6375"/>
                </a:moveTo>
                <a:cubicBezTo>
                  <a:pt x="11586" y="6462"/>
                  <a:pt x="11588" y="6445"/>
                  <a:pt x="11609" y="6573"/>
                </a:cubicBezTo>
                <a:cubicBezTo>
                  <a:pt x="11733" y="6584"/>
                  <a:pt x="11886" y="6493"/>
                  <a:pt x="11782" y="6325"/>
                </a:cubicBezTo>
                <a:cubicBezTo>
                  <a:pt x="11696" y="6261"/>
                  <a:pt x="11680" y="6236"/>
                  <a:pt x="11609" y="6251"/>
                </a:cubicBezTo>
              </a:path>
              <a:path w="4416" h="1390">
                <a:moveTo>
                  <a:pt x="11509" y="5928"/>
                </a:moveTo>
                <a:cubicBezTo>
                  <a:pt x="11324" y="6140"/>
                  <a:pt x="11110" y="6532"/>
                  <a:pt x="11509" y="6722"/>
                </a:cubicBezTo>
                <a:cubicBezTo>
                  <a:pt x="11785" y="6853"/>
                  <a:pt x="12346" y="6538"/>
                  <a:pt x="12129" y="6201"/>
                </a:cubicBezTo>
                <a:cubicBezTo>
                  <a:pt x="11987" y="6130"/>
                  <a:pt x="11944" y="6109"/>
                  <a:pt x="11857" y="605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25920" y="2759040"/>
            <a:ext cx="2490840" cy="3313080"/>
          </a:xfrm>
          <a:custGeom>
            <a:avLst/>
            <a:gdLst/>
            <a:ahLst/>
            <a:rect l="l" t="t" r="r" b="b"/>
            <a:pathLst>
              <a:path w="6921" h="9203">
                <a:moveTo>
                  <a:pt x="12005" y="9773"/>
                </a:moveTo>
                <a:cubicBezTo>
                  <a:pt x="11990" y="9727"/>
                  <a:pt x="11914" y="9749"/>
                  <a:pt x="11857" y="9723"/>
                </a:cubicBezTo>
                <a:cubicBezTo>
                  <a:pt x="11795" y="9694"/>
                  <a:pt x="11706" y="9578"/>
                  <a:pt x="11733" y="9500"/>
                </a:cubicBezTo>
                <a:cubicBezTo>
                  <a:pt x="11741" y="9492"/>
                  <a:pt x="11749" y="9483"/>
                  <a:pt x="11757" y="9475"/>
                </a:cubicBezTo>
              </a:path>
              <a:path w="6921" h="9203">
                <a:moveTo>
                  <a:pt x="11956" y="9500"/>
                </a:moveTo>
                <a:cubicBezTo>
                  <a:pt x="11964" y="9500"/>
                  <a:pt x="11973" y="9500"/>
                  <a:pt x="11981" y="9500"/>
                </a:cubicBezTo>
              </a:path>
              <a:path w="6921" h="9203">
                <a:moveTo>
                  <a:pt x="11658" y="9054"/>
                </a:moveTo>
                <a:cubicBezTo>
                  <a:pt x="11649" y="9026"/>
                  <a:pt x="11607" y="9007"/>
                  <a:pt x="11584" y="9054"/>
                </a:cubicBezTo>
                <a:cubicBezTo>
                  <a:pt x="11566" y="9090"/>
                  <a:pt x="11538" y="9133"/>
                  <a:pt x="11534" y="9178"/>
                </a:cubicBezTo>
                <a:cubicBezTo>
                  <a:pt x="11534" y="9186"/>
                  <a:pt x="11534" y="9195"/>
                  <a:pt x="11534" y="9203"/>
                </a:cubicBezTo>
                <a:cubicBezTo>
                  <a:pt x="11602" y="9223"/>
                  <a:pt x="11657" y="9249"/>
                  <a:pt x="11708" y="9178"/>
                </a:cubicBezTo>
                <a:cubicBezTo>
                  <a:pt x="11746" y="9125"/>
                  <a:pt x="11751" y="9101"/>
                  <a:pt x="11733" y="9054"/>
                </a:cubicBezTo>
                <a:cubicBezTo>
                  <a:pt x="11671" y="9054"/>
                  <a:pt x="11568" y="9064"/>
                  <a:pt x="11534" y="9128"/>
                </a:cubicBezTo>
                <a:cubicBezTo>
                  <a:pt x="11534" y="9145"/>
                  <a:pt x="11534" y="9161"/>
                  <a:pt x="11534" y="9178"/>
                </a:cubicBezTo>
                <a:cubicBezTo>
                  <a:pt x="11579" y="9280"/>
                  <a:pt x="11690" y="9265"/>
                  <a:pt x="11782" y="9178"/>
                </a:cubicBezTo>
                <a:cubicBezTo>
                  <a:pt x="11838" y="9125"/>
                  <a:pt x="11856" y="9019"/>
                  <a:pt x="11757" y="9004"/>
                </a:cubicBezTo>
                <a:cubicBezTo>
                  <a:pt x="11653" y="8988"/>
                  <a:pt x="11636" y="9030"/>
                  <a:pt x="11559" y="9079"/>
                </a:cubicBezTo>
                <a:cubicBezTo>
                  <a:pt x="11568" y="9183"/>
                  <a:pt x="11562" y="9211"/>
                  <a:pt x="11658" y="9153"/>
                </a:cubicBezTo>
              </a:path>
              <a:path w="6921" h="9203">
                <a:moveTo>
                  <a:pt x="12154" y="10071"/>
                </a:moveTo>
                <a:cubicBezTo>
                  <a:pt x="12045" y="10107"/>
                  <a:pt x="12012" y="10157"/>
                  <a:pt x="12005" y="10269"/>
                </a:cubicBezTo>
                <a:cubicBezTo>
                  <a:pt x="12005" y="10302"/>
                  <a:pt x="12005" y="10335"/>
                  <a:pt x="12005" y="10368"/>
                </a:cubicBezTo>
                <a:cubicBezTo>
                  <a:pt x="12121" y="10368"/>
                  <a:pt x="12162" y="10384"/>
                  <a:pt x="12204" y="10294"/>
                </a:cubicBezTo>
                <a:cubicBezTo>
                  <a:pt x="12267" y="10161"/>
                  <a:pt x="12067" y="10230"/>
                  <a:pt x="12055" y="10294"/>
                </a:cubicBezTo>
                <a:cubicBezTo>
                  <a:pt x="12025" y="10457"/>
                  <a:pt x="12164" y="10321"/>
                  <a:pt x="12179" y="10294"/>
                </a:cubicBezTo>
              </a:path>
              <a:path w="6921" h="9203">
                <a:moveTo>
                  <a:pt x="11757" y="9079"/>
                </a:moveTo>
                <a:cubicBezTo>
                  <a:pt x="11816" y="9079"/>
                  <a:pt x="11825" y="9086"/>
                  <a:pt x="11881" y="9103"/>
                </a:cubicBezTo>
                <a:cubicBezTo>
                  <a:pt x="11981" y="9133"/>
                  <a:pt x="12077" y="9164"/>
                  <a:pt x="12179" y="9178"/>
                </a:cubicBezTo>
                <a:cubicBezTo>
                  <a:pt x="12247" y="9187"/>
                  <a:pt x="12313" y="9194"/>
                  <a:pt x="12378" y="9203"/>
                </a:cubicBezTo>
                <a:cubicBezTo>
                  <a:pt x="12461" y="9215"/>
                  <a:pt x="12546" y="9214"/>
                  <a:pt x="12626" y="9227"/>
                </a:cubicBezTo>
                <a:cubicBezTo>
                  <a:pt x="12708" y="9240"/>
                  <a:pt x="12699" y="9244"/>
                  <a:pt x="12750" y="9302"/>
                </a:cubicBezTo>
                <a:cubicBezTo>
                  <a:pt x="12816" y="9377"/>
                  <a:pt x="12808" y="9395"/>
                  <a:pt x="12799" y="9475"/>
                </a:cubicBezTo>
                <a:cubicBezTo>
                  <a:pt x="12791" y="9543"/>
                  <a:pt x="12767" y="9593"/>
                  <a:pt x="12725" y="9649"/>
                </a:cubicBezTo>
                <a:cubicBezTo>
                  <a:pt x="12679" y="9711"/>
                  <a:pt x="12650" y="9788"/>
                  <a:pt x="12601" y="9847"/>
                </a:cubicBezTo>
                <a:cubicBezTo>
                  <a:pt x="12557" y="9900"/>
                  <a:pt x="12496" y="9913"/>
                  <a:pt x="12452" y="9947"/>
                </a:cubicBezTo>
                <a:cubicBezTo>
                  <a:pt x="12394" y="9992"/>
                  <a:pt x="12347" y="10044"/>
                  <a:pt x="12303" y="10096"/>
                </a:cubicBezTo>
                <a:cubicBezTo>
                  <a:pt x="12281" y="10118"/>
                  <a:pt x="12276" y="10126"/>
                  <a:pt x="12254" y="10120"/>
                </a:cubicBezTo>
              </a:path>
              <a:path w="6921" h="9203">
                <a:moveTo>
                  <a:pt x="12626" y="9351"/>
                </a:moveTo>
                <a:cubicBezTo>
                  <a:pt x="12634" y="9343"/>
                  <a:pt x="12642" y="9335"/>
                  <a:pt x="12650" y="9327"/>
                </a:cubicBezTo>
                <a:cubicBezTo>
                  <a:pt x="12631" y="9307"/>
                  <a:pt x="12561" y="9326"/>
                  <a:pt x="12526" y="9376"/>
                </a:cubicBezTo>
                <a:cubicBezTo>
                  <a:pt x="12492" y="9425"/>
                  <a:pt x="12463" y="9496"/>
                  <a:pt x="12502" y="9550"/>
                </a:cubicBezTo>
                <a:cubicBezTo>
                  <a:pt x="12509" y="9560"/>
                  <a:pt x="12602" y="9588"/>
                  <a:pt x="12626" y="9575"/>
                </a:cubicBezTo>
                <a:cubicBezTo>
                  <a:pt x="12681" y="9546"/>
                  <a:pt x="12741" y="9469"/>
                  <a:pt x="12725" y="9401"/>
                </a:cubicBezTo>
                <a:cubicBezTo>
                  <a:pt x="12711" y="9341"/>
                  <a:pt x="12658" y="9306"/>
                  <a:pt x="12601" y="9302"/>
                </a:cubicBezTo>
                <a:cubicBezTo>
                  <a:pt x="12508" y="9296"/>
                  <a:pt x="12508" y="9298"/>
                  <a:pt x="12477" y="9376"/>
                </a:cubicBezTo>
                <a:cubicBezTo>
                  <a:pt x="12455" y="9432"/>
                  <a:pt x="12426" y="9497"/>
                  <a:pt x="12477" y="9525"/>
                </a:cubicBezTo>
                <a:cubicBezTo>
                  <a:pt x="12519" y="9548"/>
                  <a:pt x="12556" y="9566"/>
                  <a:pt x="12601" y="9575"/>
                </a:cubicBezTo>
                <a:cubicBezTo>
                  <a:pt x="12630" y="9508"/>
                  <a:pt x="12637" y="9501"/>
                  <a:pt x="12626" y="9451"/>
                </a:cubicBezTo>
                <a:cubicBezTo>
                  <a:pt x="12617" y="9408"/>
                  <a:pt x="12615" y="9442"/>
                  <a:pt x="12601" y="9401"/>
                </a:cubicBezTo>
              </a:path>
              <a:path w="6921" h="9203">
                <a:moveTo>
                  <a:pt x="12154" y="10864"/>
                </a:moveTo>
                <a:cubicBezTo>
                  <a:pt x="12198" y="10996"/>
                  <a:pt x="12210" y="11027"/>
                  <a:pt x="12229" y="11112"/>
                </a:cubicBezTo>
                <a:cubicBezTo>
                  <a:pt x="12229" y="10991"/>
                  <a:pt x="12178" y="10860"/>
                  <a:pt x="12154" y="10740"/>
                </a:cubicBezTo>
                <a:cubicBezTo>
                  <a:pt x="12229" y="10842"/>
                  <a:pt x="12284" y="11088"/>
                  <a:pt x="12328" y="10790"/>
                </a:cubicBezTo>
                <a:cubicBezTo>
                  <a:pt x="12328" y="10672"/>
                  <a:pt x="12314" y="10651"/>
                  <a:pt x="12353" y="10592"/>
                </a:cubicBezTo>
                <a:cubicBezTo>
                  <a:pt x="12407" y="10726"/>
                  <a:pt x="12441" y="10876"/>
                  <a:pt x="12551" y="10889"/>
                </a:cubicBezTo>
              </a:path>
              <a:path w="6921" h="9203">
                <a:moveTo>
                  <a:pt x="12576" y="10616"/>
                </a:moveTo>
                <a:cubicBezTo>
                  <a:pt x="12509" y="10741"/>
                  <a:pt x="12479" y="10773"/>
                  <a:pt x="12576" y="10889"/>
                </a:cubicBezTo>
                <a:cubicBezTo>
                  <a:pt x="12648" y="10810"/>
                  <a:pt x="12646" y="10570"/>
                  <a:pt x="12725" y="10641"/>
                </a:cubicBezTo>
                <a:cubicBezTo>
                  <a:pt x="12750" y="10674"/>
                  <a:pt x="12774" y="10707"/>
                  <a:pt x="12799" y="10740"/>
                </a:cubicBezTo>
                <a:cubicBezTo>
                  <a:pt x="12773" y="10647"/>
                  <a:pt x="12631" y="10477"/>
                  <a:pt x="12799" y="10517"/>
                </a:cubicBezTo>
                <a:cubicBezTo>
                  <a:pt x="12807" y="10525"/>
                  <a:pt x="12816" y="10534"/>
                  <a:pt x="12824" y="10542"/>
                </a:cubicBezTo>
              </a:path>
              <a:path w="6921" h="9203">
                <a:moveTo>
                  <a:pt x="12750" y="10220"/>
                </a:moveTo>
                <a:cubicBezTo>
                  <a:pt x="12829" y="10393"/>
                  <a:pt x="12888" y="10583"/>
                  <a:pt x="12998" y="10740"/>
                </a:cubicBezTo>
                <a:cubicBezTo>
                  <a:pt x="13046" y="10808"/>
                  <a:pt x="12998" y="10575"/>
                  <a:pt x="12998" y="10492"/>
                </a:cubicBezTo>
                <a:cubicBezTo>
                  <a:pt x="13011" y="10501"/>
                  <a:pt x="13088" y="10691"/>
                  <a:pt x="13022" y="10691"/>
                </a:cubicBezTo>
                <a:cubicBezTo>
                  <a:pt x="13006" y="10674"/>
                  <a:pt x="12989" y="10658"/>
                  <a:pt x="12973" y="10641"/>
                </a:cubicBezTo>
              </a:path>
              <a:path w="6921" h="9203">
                <a:moveTo>
                  <a:pt x="12948" y="10046"/>
                </a:moveTo>
                <a:cubicBezTo>
                  <a:pt x="13036" y="10274"/>
                  <a:pt x="13102" y="10447"/>
                  <a:pt x="13295" y="10592"/>
                </a:cubicBezTo>
                <a:cubicBezTo>
                  <a:pt x="13367" y="10442"/>
                  <a:pt x="13372" y="10392"/>
                  <a:pt x="13345" y="10220"/>
                </a:cubicBezTo>
                <a:cubicBezTo>
                  <a:pt x="13231" y="10265"/>
                  <a:pt x="13257" y="10415"/>
                  <a:pt x="13370" y="10468"/>
                </a:cubicBezTo>
                <a:cubicBezTo>
                  <a:pt x="13486" y="10522"/>
                  <a:pt x="13550" y="10372"/>
                  <a:pt x="13419" y="10567"/>
                </a:cubicBezTo>
              </a:path>
              <a:path w="6921" h="9203">
                <a:moveTo>
                  <a:pt x="12551" y="11286"/>
                </a:moveTo>
                <a:cubicBezTo>
                  <a:pt x="12463" y="11264"/>
                  <a:pt x="12476" y="11271"/>
                  <a:pt x="12402" y="11336"/>
                </a:cubicBezTo>
                <a:cubicBezTo>
                  <a:pt x="12422" y="11414"/>
                  <a:pt x="12579" y="11539"/>
                  <a:pt x="12576" y="11584"/>
                </a:cubicBezTo>
                <a:cubicBezTo>
                  <a:pt x="12571" y="11653"/>
                  <a:pt x="12350" y="11823"/>
                  <a:pt x="12402" y="11559"/>
                </a:cubicBezTo>
              </a:path>
              <a:path w="6921" h="9203">
                <a:moveTo>
                  <a:pt x="12576" y="11013"/>
                </a:moveTo>
                <a:cubicBezTo>
                  <a:pt x="12601" y="11121"/>
                  <a:pt x="12669" y="11625"/>
                  <a:pt x="12799" y="11633"/>
                </a:cubicBezTo>
                <a:cubicBezTo>
                  <a:pt x="12807" y="11600"/>
                  <a:pt x="12816" y="11567"/>
                  <a:pt x="12824" y="11534"/>
                </a:cubicBezTo>
              </a:path>
              <a:path w="6921" h="9203">
                <a:moveTo>
                  <a:pt x="12874" y="11385"/>
                </a:moveTo>
                <a:cubicBezTo>
                  <a:pt x="12896" y="11453"/>
                  <a:pt x="12907" y="11485"/>
                  <a:pt x="12874" y="11410"/>
                </a:cubicBezTo>
              </a:path>
              <a:path w="6921" h="9203">
                <a:moveTo>
                  <a:pt x="12874" y="11410"/>
                </a:moveTo>
                <a:lnTo>
                  <a:pt x="12874" y="11410"/>
                </a:lnTo>
              </a:path>
              <a:path w="6921" h="9203">
                <a:moveTo>
                  <a:pt x="12774" y="11088"/>
                </a:moveTo>
                <a:cubicBezTo>
                  <a:pt x="12815" y="11113"/>
                  <a:pt x="12857" y="11137"/>
                  <a:pt x="12898" y="11162"/>
                </a:cubicBezTo>
              </a:path>
              <a:path w="6921" h="9203">
                <a:moveTo>
                  <a:pt x="13047" y="11410"/>
                </a:moveTo>
                <a:cubicBezTo>
                  <a:pt x="13059" y="11404"/>
                  <a:pt x="13047" y="11263"/>
                  <a:pt x="13047" y="11162"/>
                </a:cubicBezTo>
                <a:cubicBezTo>
                  <a:pt x="13085" y="11192"/>
                  <a:pt x="13154" y="11286"/>
                  <a:pt x="13196" y="11336"/>
                </a:cubicBezTo>
              </a:path>
              <a:path w="6921" h="9203">
                <a:moveTo>
                  <a:pt x="13246" y="11112"/>
                </a:moveTo>
                <a:cubicBezTo>
                  <a:pt x="13221" y="11202"/>
                  <a:pt x="13215" y="11203"/>
                  <a:pt x="13246" y="11286"/>
                </a:cubicBezTo>
                <a:cubicBezTo>
                  <a:pt x="13255" y="11205"/>
                  <a:pt x="13257" y="11100"/>
                  <a:pt x="13345" y="11212"/>
                </a:cubicBezTo>
                <a:cubicBezTo>
                  <a:pt x="13573" y="11503"/>
                  <a:pt x="13616" y="11712"/>
                  <a:pt x="13419" y="12005"/>
                </a:cubicBezTo>
                <a:cubicBezTo>
                  <a:pt x="13293" y="11879"/>
                  <a:pt x="13253" y="11810"/>
                  <a:pt x="13271" y="11658"/>
                </a:cubicBezTo>
              </a:path>
              <a:path w="6921" h="9203">
                <a:moveTo>
                  <a:pt x="13419" y="10964"/>
                </a:moveTo>
                <a:cubicBezTo>
                  <a:pt x="13338" y="11087"/>
                  <a:pt x="13418" y="11112"/>
                  <a:pt x="13543" y="11162"/>
                </a:cubicBezTo>
                <a:cubicBezTo>
                  <a:pt x="13576" y="11175"/>
                  <a:pt x="13509" y="11276"/>
                  <a:pt x="13419" y="11187"/>
                </a:cubicBezTo>
              </a:path>
              <a:path w="6921" h="9203">
                <a:moveTo>
                  <a:pt x="13568" y="10840"/>
                </a:moveTo>
                <a:cubicBezTo>
                  <a:pt x="13632" y="10930"/>
                  <a:pt x="13689" y="11016"/>
                  <a:pt x="13742" y="11112"/>
                </a:cubicBezTo>
                <a:cubicBezTo>
                  <a:pt x="13747" y="11062"/>
                  <a:pt x="13744" y="10911"/>
                  <a:pt x="13791" y="10988"/>
                </a:cubicBezTo>
                <a:cubicBezTo>
                  <a:pt x="13834" y="11052"/>
                  <a:pt x="13837" y="11077"/>
                  <a:pt x="13891" y="11063"/>
                </a:cubicBezTo>
              </a:path>
              <a:path w="6921" h="9203">
                <a:moveTo>
                  <a:pt x="13915" y="10864"/>
                </a:moveTo>
                <a:cubicBezTo>
                  <a:pt x="13892" y="10912"/>
                  <a:pt x="13884" y="10927"/>
                  <a:pt x="13891" y="10964"/>
                </a:cubicBezTo>
                <a:cubicBezTo>
                  <a:pt x="13989" y="10972"/>
                  <a:pt x="14061" y="10950"/>
                  <a:pt x="14039" y="10815"/>
                </a:cubicBezTo>
                <a:cubicBezTo>
                  <a:pt x="14031" y="10790"/>
                  <a:pt x="14023" y="10765"/>
                  <a:pt x="14015" y="10740"/>
                </a:cubicBezTo>
              </a:path>
              <a:path w="6921" h="9203">
                <a:moveTo>
                  <a:pt x="13940" y="10195"/>
                </a:moveTo>
                <a:cubicBezTo>
                  <a:pt x="13977" y="10398"/>
                  <a:pt x="14199" y="10758"/>
                  <a:pt x="14139" y="10964"/>
                </a:cubicBezTo>
                <a:cubicBezTo>
                  <a:pt x="14122" y="10939"/>
                  <a:pt x="14106" y="10914"/>
                  <a:pt x="14089" y="10889"/>
                </a:cubicBezTo>
              </a:path>
              <a:path w="6921" h="9203">
                <a:moveTo>
                  <a:pt x="13990" y="10790"/>
                </a:moveTo>
                <a:cubicBezTo>
                  <a:pt x="14102" y="10730"/>
                  <a:pt x="14192" y="10674"/>
                  <a:pt x="14288" y="10592"/>
                </a:cubicBezTo>
              </a:path>
              <a:path w="6921" h="9203">
                <a:moveTo>
                  <a:pt x="14288" y="10592"/>
                </a:moveTo>
                <a:lnTo>
                  <a:pt x="14288" y="10592"/>
                </a:lnTo>
              </a:path>
              <a:path w="6921" h="9203">
                <a:moveTo>
                  <a:pt x="12799" y="9401"/>
                </a:moveTo>
                <a:cubicBezTo>
                  <a:pt x="12799" y="9393"/>
                  <a:pt x="12799" y="9384"/>
                  <a:pt x="12799" y="9376"/>
                </a:cubicBezTo>
              </a:path>
              <a:path w="6921" h="9203">
                <a:moveTo>
                  <a:pt x="12799" y="9351"/>
                </a:moveTo>
                <a:lnTo>
                  <a:pt x="12799" y="9351"/>
                </a:lnTo>
              </a:path>
              <a:path w="6921" h="9203">
                <a:moveTo>
                  <a:pt x="12799" y="9351"/>
                </a:moveTo>
                <a:cubicBezTo>
                  <a:pt x="12799" y="9275"/>
                  <a:pt x="12786" y="9222"/>
                  <a:pt x="12774" y="9153"/>
                </a:cubicBezTo>
                <a:cubicBezTo>
                  <a:pt x="12765" y="9100"/>
                  <a:pt x="12774" y="9034"/>
                  <a:pt x="12774" y="8979"/>
                </a:cubicBezTo>
                <a:cubicBezTo>
                  <a:pt x="12745" y="9119"/>
                  <a:pt x="12750" y="9256"/>
                  <a:pt x="12750" y="9401"/>
                </a:cubicBezTo>
                <a:cubicBezTo>
                  <a:pt x="12750" y="9440"/>
                  <a:pt x="12705" y="9426"/>
                  <a:pt x="12750" y="9426"/>
                </a:cubicBezTo>
                <a:cubicBezTo>
                  <a:pt x="12711" y="9322"/>
                  <a:pt x="12739" y="9263"/>
                  <a:pt x="12750" y="9153"/>
                </a:cubicBezTo>
                <a:cubicBezTo>
                  <a:pt x="12757" y="9080"/>
                  <a:pt x="12728" y="8988"/>
                  <a:pt x="12774" y="8954"/>
                </a:cubicBezTo>
                <a:cubicBezTo>
                  <a:pt x="12818" y="8921"/>
                  <a:pt x="12843" y="8905"/>
                  <a:pt x="12898" y="8905"/>
                </a:cubicBezTo>
                <a:cubicBezTo>
                  <a:pt x="12980" y="8905"/>
                  <a:pt x="12921" y="8897"/>
                  <a:pt x="12973" y="8880"/>
                </a:cubicBezTo>
                <a:cubicBezTo>
                  <a:pt x="12973" y="8983"/>
                  <a:pt x="12959" y="9079"/>
                  <a:pt x="12948" y="9178"/>
                </a:cubicBezTo>
                <a:cubicBezTo>
                  <a:pt x="12932" y="9326"/>
                  <a:pt x="13012" y="9510"/>
                  <a:pt x="12874" y="9575"/>
                </a:cubicBezTo>
                <a:cubicBezTo>
                  <a:pt x="12805" y="9607"/>
                  <a:pt x="12846" y="9608"/>
                  <a:pt x="12799" y="9624"/>
                </a:cubicBezTo>
                <a:cubicBezTo>
                  <a:pt x="12799" y="9522"/>
                  <a:pt x="12821" y="9429"/>
                  <a:pt x="12824" y="9327"/>
                </a:cubicBezTo>
                <a:cubicBezTo>
                  <a:pt x="12827" y="9216"/>
                  <a:pt x="12799" y="9116"/>
                  <a:pt x="12799" y="9004"/>
                </a:cubicBezTo>
                <a:cubicBezTo>
                  <a:pt x="12799" y="8941"/>
                  <a:pt x="12789" y="8906"/>
                  <a:pt x="12824" y="8880"/>
                </a:cubicBezTo>
                <a:cubicBezTo>
                  <a:pt x="12887" y="8833"/>
                  <a:pt x="12916" y="8830"/>
                  <a:pt x="12998" y="8830"/>
                </a:cubicBezTo>
                <a:cubicBezTo>
                  <a:pt x="13006" y="8830"/>
                  <a:pt x="13014" y="8830"/>
                  <a:pt x="13022" y="8830"/>
                </a:cubicBezTo>
                <a:cubicBezTo>
                  <a:pt x="13022" y="8965"/>
                  <a:pt x="13001" y="9093"/>
                  <a:pt x="12998" y="9227"/>
                </a:cubicBezTo>
                <a:cubicBezTo>
                  <a:pt x="12997" y="9271"/>
                  <a:pt x="13025" y="9494"/>
                  <a:pt x="12973" y="9500"/>
                </a:cubicBezTo>
                <a:cubicBezTo>
                  <a:pt x="12920" y="9507"/>
                  <a:pt x="12909" y="9550"/>
                  <a:pt x="12849" y="9550"/>
                </a:cubicBezTo>
              </a:path>
              <a:path w="6921" h="9203">
                <a:moveTo>
                  <a:pt x="12700" y="9748"/>
                </a:moveTo>
                <a:cubicBezTo>
                  <a:pt x="12700" y="9756"/>
                  <a:pt x="12700" y="9765"/>
                  <a:pt x="12700" y="9773"/>
                </a:cubicBezTo>
                <a:cubicBezTo>
                  <a:pt x="12744" y="9762"/>
                  <a:pt x="12808" y="9727"/>
                  <a:pt x="12849" y="9699"/>
                </a:cubicBezTo>
                <a:cubicBezTo>
                  <a:pt x="12895" y="9667"/>
                  <a:pt x="12985" y="9639"/>
                  <a:pt x="13022" y="9599"/>
                </a:cubicBezTo>
                <a:cubicBezTo>
                  <a:pt x="13066" y="9552"/>
                  <a:pt x="13093" y="9523"/>
                  <a:pt x="13097" y="9451"/>
                </a:cubicBezTo>
                <a:cubicBezTo>
                  <a:pt x="13102" y="9370"/>
                  <a:pt x="13078" y="9364"/>
                  <a:pt x="13072" y="9302"/>
                </a:cubicBezTo>
                <a:cubicBezTo>
                  <a:pt x="13068" y="9258"/>
                  <a:pt x="13033" y="9247"/>
                  <a:pt x="12998" y="9227"/>
                </a:cubicBezTo>
                <a:cubicBezTo>
                  <a:pt x="12950" y="9200"/>
                  <a:pt x="12911" y="9217"/>
                  <a:pt x="12898" y="9178"/>
                </a:cubicBezTo>
              </a:path>
              <a:path w="6921" h="9203">
                <a:moveTo>
                  <a:pt x="12576" y="9178"/>
                </a:moveTo>
                <a:cubicBezTo>
                  <a:pt x="12533" y="9153"/>
                  <a:pt x="12487" y="9148"/>
                  <a:pt x="12452" y="9128"/>
                </a:cubicBezTo>
                <a:cubicBezTo>
                  <a:pt x="12416" y="9108"/>
                  <a:pt x="12370" y="9082"/>
                  <a:pt x="12328" y="9079"/>
                </a:cubicBezTo>
                <a:cubicBezTo>
                  <a:pt x="12236" y="9073"/>
                  <a:pt x="12166" y="9076"/>
                  <a:pt x="12080" y="9054"/>
                </a:cubicBezTo>
                <a:cubicBezTo>
                  <a:pt x="12038" y="9043"/>
                  <a:pt x="11973" y="9054"/>
                  <a:pt x="11931" y="9054"/>
                </a:cubicBezTo>
              </a:path>
              <a:path w="6921" h="9203">
                <a:moveTo>
                  <a:pt x="12526" y="9971"/>
                </a:moveTo>
                <a:cubicBezTo>
                  <a:pt x="12453" y="10083"/>
                  <a:pt x="12375" y="10139"/>
                  <a:pt x="12254" y="10195"/>
                </a:cubicBezTo>
              </a:path>
              <a:path w="6921" h="9203">
                <a:moveTo>
                  <a:pt x="12948" y="8806"/>
                </a:moveTo>
                <a:cubicBezTo>
                  <a:pt x="12948" y="8847"/>
                  <a:pt x="12960" y="8770"/>
                  <a:pt x="12948" y="8731"/>
                </a:cubicBezTo>
                <a:cubicBezTo>
                  <a:pt x="12929" y="8666"/>
                  <a:pt x="12923" y="8627"/>
                  <a:pt x="12923" y="8558"/>
                </a:cubicBezTo>
                <a:cubicBezTo>
                  <a:pt x="12923" y="8451"/>
                  <a:pt x="12921" y="8360"/>
                  <a:pt x="12898" y="8260"/>
                </a:cubicBezTo>
                <a:cubicBezTo>
                  <a:pt x="12869" y="8133"/>
                  <a:pt x="12893" y="7960"/>
                  <a:pt x="12923" y="7838"/>
                </a:cubicBezTo>
                <a:cubicBezTo>
                  <a:pt x="12931" y="7804"/>
                  <a:pt x="12955" y="7748"/>
                  <a:pt x="12973" y="7739"/>
                </a:cubicBezTo>
                <a:cubicBezTo>
                  <a:pt x="13013" y="7719"/>
                  <a:pt x="13018" y="7671"/>
                  <a:pt x="13072" y="7665"/>
                </a:cubicBezTo>
                <a:cubicBezTo>
                  <a:pt x="13099" y="7662"/>
                  <a:pt x="13158" y="7673"/>
                  <a:pt x="13171" y="7689"/>
                </a:cubicBezTo>
                <a:cubicBezTo>
                  <a:pt x="13191" y="7730"/>
                  <a:pt x="13189" y="7746"/>
                  <a:pt x="13221" y="7739"/>
                </a:cubicBezTo>
                <a:cubicBezTo>
                  <a:pt x="13170" y="7729"/>
                  <a:pt x="13103" y="7692"/>
                  <a:pt x="13047" y="7714"/>
                </a:cubicBezTo>
                <a:cubicBezTo>
                  <a:pt x="12987" y="7737"/>
                  <a:pt x="12971" y="7802"/>
                  <a:pt x="12948" y="7863"/>
                </a:cubicBezTo>
                <a:cubicBezTo>
                  <a:pt x="12923" y="7930"/>
                  <a:pt x="12906" y="8010"/>
                  <a:pt x="12973" y="8062"/>
                </a:cubicBezTo>
                <a:cubicBezTo>
                  <a:pt x="12999" y="8082"/>
                  <a:pt x="13131" y="8134"/>
                  <a:pt x="13171" y="8111"/>
                </a:cubicBezTo>
                <a:cubicBezTo>
                  <a:pt x="13207" y="8090"/>
                  <a:pt x="13285" y="8002"/>
                  <a:pt x="13295" y="7962"/>
                </a:cubicBezTo>
                <a:cubicBezTo>
                  <a:pt x="13314" y="7891"/>
                  <a:pt x="13303" y="7845"/>
                  <a:pt x="13246" y="7813"/>
                </a:cubicBezTo>
                <a:cubicBezTo>
                  <a:pt x="13202" y="7788"/>
                  <a:pt x="13191" y="7789"/>
                  <a:pt x="13146" y="7789"/>
                </a:cubicBezTo>
              </a:path>
              <a:path w="6921" h="9203">
                <a:moveTo>
                  <a:pt x="13271" y="7838"/>
                </a:moveTo>
                <a:cubicBezTo>
                  <a:pt x="13340" y="7894"/>
                  <a:pt x="13334" y="7910"/>
                  <a:pt x="13370" y="7987"/>
                </a:cubicBezTo>
                <a:cubicBezTo>
                  <a:pt x="13394" y="8039"/>
                  <a:pt x="13432" y="8101"/>
                  <a:pt x="13444" y="8161"/>
                </a:cubicBezTo>
                <a:cubicBezTo>
                  <a:pt x="13456" y="8220"/>
                  <a:pt x="13455" y="8272"/>
                  <a:pt x="13469" y="8334"/>
                </a:cubicBezTo>
                <a:cubicBezTo>
                  <a:pt x="13481" y="8389"/>
                  <a:pt x="13491" y="8425"/>
                  <a:pt x="13494" y="8483"/>
                </a:cubicBezTo>
                <a:cubicBezTo>
                  <a:pt x="13498" y="8554"/>
                  <a:pt x="13515" y="8516"/>
                  <a:pt x="13519" y="8582"/>
                </a:cubicBezTo>
                <a:cubicBezTo>
                  <a:pt x="13522" y="8631"/>
                  <a:pt x="13528" y="8687"/>
                  <a:pt x="13543" y="8731"/>
                </a:cubicBezTo>
                <a:cubicBezTo>
                  <a:pt x="13558" y="8776"/>
                  <a:pt x="13585" y="8840"/>
                  <a:pt x="13593" y="8880"/>
                </a:cubicBezTo>
                <a:cubicBezTo>
                  <a:pt x="13602" y="8926"/>
                  <a:pt x="13599" y="8989"/>
                  <a:pt x="13618" y="9029"/>
                </a:cubicBezTo>
                <a:cubicBezTo>
                  <a:pt x="13642" y="9080"/>
                  <a:pt x="13643" y="9087"/>
                  <a:pt x="13643" y="9153"/>
                </a:cubicBezTo>
                <a:cubicBezTo>
                  <a:pt x="13643" y="9200"/>
                  <a:pt x="13665" y="9267"/>
                  <a:pt x="13667" y="9277"/>
                </a:cubicBezTo>
                <a:cubicBezTo>
                  <a:pt x="13677" y="9330"/>
                  <a:pt x="13693" y="9543"/>
                  <a:pt x="13692" y="9550"/>
                </a:cubicBezTo>
                <a:cubicBezTo>
                  <a:pt x="13686" y="9582"/>
                  <a:pt x="13690" y="9552"/>
                  <a:pt x="13667" y="9575"/>
                </a:cubicBezTo>
              </a:path>
              <a:path w="6921" h="9203">
                <a:moveTo>
                  <a:pt x="13618" y="9674"/>
                </a:moveTo>
                <a:cubicBezTo>
                  <a:pt x="13593" y="9674"/>
                  <a:pt x="13568" y="9674"/>
                  <a:pt x="13543" y="9674"/>
                </a:cubicBezTo>
                <a:cubicBezTo>
                  <a:pt x="13568" y="9711"/>
                  <a:pt x="13609" y="9699"/>
                  <a:pt x="13667" y="9699"/>
                </a:cubicBezTo>
                <a:cubicBezTo>
                  <a:pt x="13757" y="9699"/>
                  <a:pt x="13779" y="9710"/>
                  <a:pt x="13866" y="9699"/>
                </a:cubicBezTo>
                <a:cubicBezTo>
                  <a:pt x="13942" y="9689"/>
                  <a:pt x="13992" y="9691"/>
                  <a:pt x="14064" y="9674"/>
                </a:cubicBezTo>
                <a:cubicBezTo>
                  <a:pt x="14118" y="9662"/>
                  <a:pt x="14188" y="9672"/>
                  <a:pt x="14238" y="9649"/>
                </a:cubicBezTo>
                <a:cubicBezTo>
                  <a:pt x="14266" y="9636"/>
                  <a:pt x="14303" y="9580"/>
                  <a:pt x="14312" y="9575"/>
                </a:cubicBezTo>
                <a:cubicBezTo>
                  <a:pt x="14345" y="9559"/>
                  <a:pt x="14384" y="9564"/>
                  <a:pt x="14387" y="9525"/>
                </a:cubicBezTo>
                <a:cubicBezTo>
                  <a:pt x="14394" y="9440"/>
                  <a:pt x="14393" y="9504"/>
                  <a:pt x="14412" y="9451"/>
                </a:cubicBezTo>
                <a:cubicBezTo>
                  <a:pt x="14334" y="9451"/>
                  <a:pt x="14257" y="9454"/>
                  <a:pt x="14213" y="9475"/>
                </a:cubicBezTo>
                <a:cubicBezTo>
                  <a:pt x="14184" y="9489"/>
                  <a:pt x="14142" y="9481"/>
                  <a:pt x="14114" y="9500"/>
                </a:cubicBezTo>
                <a:cubicBezTo>
                  <a:pt x="14066" y="9532"/>
                  <a:pt x="14051" y="9559"/>
                  <a:pt x="13990" y="9575"/>
                </a:cubicBezTo>
                <a:cubicBezTo>
                  <a:pt x="13948" y="9586"/>
                  <a:pt x="13882" y="9583"/>
                  <a:pt x="13841" y="9599"/>
                </a:cubicBezTo>
                <a:cubicBezTo>
                  <a:pt x="13789" y="9619"/>
                  <a:pt x="13783" y="9624"/>
                  <a:pt x="13717" y="9624"/>
                </a:cubicBezTo>
                <a:cubicBezTo>
                  <a:pt x="13666" y="9624"/>
                  <a:pt x="13659" y="9635"/>
                  <a:pt x="13618" y="9649"/>
                </a:cubicBezTo>
                <a:cubicBezTo>
                  <a:pt x="13610" y="9649"/>
                  <a:pt x="13601" y="9649"/>
                  <a:pt x="13593" y="9649"/>
                </a:cubicBezTo>
              </a:path>
              <a:path w="6921" h="9203">
                <a:moveTo>
                  <a:pt x="13593" y="9699"/>
                </a:moveTo>
                <a:cubicBezTo>
                  <a:pt x="13593" y="9780"/>
                  <a:pt x="13607" y="9844"/>
                  <a:pt x="13618" y="9922"/>
                </a:cubicBezTo>
                <a:cubicBezTo>
                  <a:pt x="13628" y="9991"/>
                  <a:pt x="13640" y="10047"/>
                  <a:pt x="13643" y="10120"/>
                </a:cubicBezTo>
                <a:cubicBezTo>
                  <a:pt x="13645" y="10159"/>
                  <a:pt x="13652" y="10233"/>
                  <a:pt x="13667" y="10269"/>
                </a:cubicBezTo>
                <a:cubicBezTo>
                  <a:pt x="13678" y="10296"/>
                  <a:pt x="13711" y="10353"/>
                  <a:pt x="13742" y="10368"/>
                </a:cubicBezTo>
                <a:cubicBezTo>
                  <a:pt x="13790" y="10391"/>
                  <a:pt x="13843" y="10378"/>
                  <a:pt x="13891" y="10393"/>
                </a:cubicBezTo>
                <a:cubicBezTo>
                  <a:pt x="13990" y="10425"/>
                  <a:pt x="14036" y="10405"/>
                  <a:pt x="14139" y="10393"/>
                </a:cubicBezTo>
                <a:cubicBezTo>
                  <a:pt x="14257" y="10380"/>
                  <a:pt x="14404" y="10428"/>
                  <a:pt x="14511" y="10368"/>
                </a:cubicBezTo>
                <a:cubicBezTo>
                  <a:pt x="14553" y="10345"/>
                  <a:pt x="14596" y="10326"/>
                  <a:pt x="14610" y="10269"/>
                </a:cubicBezTo>
                <a:cubicBezTo>
                  <a:pt x="14632" y="10178"/>
                  <a:pt x="14614" y="10116"/>
                  <a:pt x="14610" y="10021"/>
                </a:cubicBezTo>
                <a:cubicBezTo>
                  <a:pt x="14607" y="9934"/>
                  <a:pt x="14612" y="9856"/>
                  <a:pt x="14585" y="9773"/>
                </a:cubicBezTo>
                <a:cubicBezTo>
                  <a:pt x="14574" y="9737"/>
                  <a:pt x="14542" y="9681"/>
                  <a:pt x="14536" y="9649"/>
                </a:cubicBezTo>
                <a:cubicBezTo>
                  <a:pt x="14536" y="9632"/>
                  <a:pt x="14536" y="9616"/>
                  <a:pt x="14536" y="9599"/>
                </a:cubicBezTo>
              </a:path>
              <a:path w="6921" h="9203">
                <a:moveTo>
                  <a:pt x="11063" y="9178"/>
                </a:moveTo>
                <a:cubicBezTo>
                  <a:pt x="10964" y="9198"/>
                  <a:pt x="10823" y="9297"/>
                  <a:pt x="10740" y="9351"/>
                </a:cubicBezTo>
                <a:cubicBezTo>
                  <a:pt x="10568" y="9463"/>
                  <a:pt x="10403" y="9557"/>
                  <a:pt x="10220" y="9649"/>
                </a:cubicBezTo>
                <a:cubicBezTo>
                  <a:pt x="10137" y="9690"/>
                  <a:pt x="10121" y="9699"/>
                  <a:pt x="10071" y="9723"/>
                </a:cubicBezTo>
                <a:cubicBezTo>
                  <a:pt x="10142" y="9676"/>
                  <a:pt x="10240" y="9638"/>
                  <a:pt x="10269" y="9550"/>
                </a:cubicBezTo>
                <a:cubicBezTo>
                  <a:pt x="10269" y="9525"/>
                  <a:pt x="10269" y="9517"/>
                  <a:pt x="10269" y="9500"/>
                </a:cubicBezTo>
                <a:cubicBezTo>
                  <a:pt x="10156" y="9523"/>
                  <a:pt x="10161" y="9576"/>
                  <a:pt x="10120" y="9674"/>
                </a:cubicBezTo>
                <a:cubicBezTo>
                  <a:pt x="10091" y="9744"/>
                  <a:pt x="10042" y="9763"/>
                  <a:pt x="10145" y="9798"/>
                </a:cubicBezTo>
                <a:cubicBezTo>
                  <a:pt x="10170" y="9798"/>
                  <a:pt x="10178" y="9798"/>
                  <a:pt x="10195" y="9798"/>
                </a:cubicBezTo>
              </a:path>
              <a:path w="6921" h="9203">
                <a:moveTo>
                  <a:pt x="14511" y="9475"/>
                </a:moveTo>
                <a:lnTo>
                  <a:pt x="14511" y="9475"/>
                </a:lnTo>
              </a:path>
              <a:path w="6921" h="9203">
                <a:moveTo>
                  <a:pt x="14536" y="9550"/>
                </a:moveTo>
                <a:cubicBezTo>
                  <a:pt x="14536" y="9558"/>
                  <a:pt x="14536" y="9567"/>
                  <a:pt x="14536" y="9575"/>
                </a:cubicBezTo>
              </a:path>
              <a:path w="6921" h="9203">
                <a:moveTo>
                  <a:pt x="13692" y="9649"/>
                </a:moveTo>
                <a:cubicBezTo>
                  <a:pt x="13692" y="9624"/>
                  <a:pt x="13692" y="9616"/>
                  <a:pt x="13717" y="9624"/>
                </a:cubicBezTo>
                <a:cubicBezTo>
                  <a:pt x="13727" y="9675"/>
                  <a:pt x="13732" y="9723"/>
                  <a:pt x="13742" y="9773"/>
                </a:cubicBezTo>
                <a:cubicBezTo>
                  <a:pt x="13759" y="9857"/>
                  <a:pt x="13785" y="9935"/>
                  <a:pt x="13791" y="10021"/>
                </a:cubicBezTo>
                <a:cubicBezTo>
                  <a:pt x="13797" y="10111"/>
                  <a:pt x="13820" y="10181"/>
                  <a:pt x="13841" y="10269"/>
                </a:cubicBezTo>
                <a:cubicBezTo>
                  <a:pt x="13865" y="10370"/>
                  <a:pt x="13903" y="10484"/>
                  <a:pt x="13915" y="10592"/>
                </a:cubicBezTo>
                <a:cubicBezTo>
                  <a:pt x="13929" y="10723"/>
                  <a:pt x="13923" y="10857"/>
                  <a:pt x="13940" y="10988"/>
                </a:cubicBezTo>
                <a:cubicBezTo>
                  <a:pt x="13960" y="11144"/>
                  <a:pt x="13970" y="11304"/>
                  <a:pt x="13990" y="11460"/>
                </a:cubicBezTo>
                <a:cubicBezTo>
                  <a:pt x="14008" y="11606"/>
                  <a:pt x="14011" y="11763"/>
                  <a:pt x="14039" y="11906"/>
                </a:cubicBezTo>
                <a:cubicBezTo>
                  <a:pt x="14063" y="12030"/>
                  <a:pt x="14085" y="12150"/>
                  <a:pt x="14089" y="12278"/>
                </a:cubicBezTo>
                <a:cubicBezTo>
                  <a:pt x="14092" y="12381"/>
                  <a:pt x="14105" y="12475"/>
                  <a:pt x="14114" y="12576"/>
                </a:cubicBezTo>
                <a:cubicBezTo>
                  <a:pt x="14122" y="12668"/>
                  <a:pt x="14131" y="12760"/>
                  <a:pt x="14139" y="12849"/>
                </a:cubicBezTo>
                <a:cubicBezTo>
                  <a:pt x="14150" y="12963"/>
                  <a:pt x="14151" y="13094"/>
                  <a:pt x="14163" y="13196"/>
                </a:cubicBezTo>
                <a:cubicBezTo>
                  <a:pt x="14163" y="13221"/>
                  <a:pt x="14163" y="13229"/>
                  <a:pt x="14163" y="13246"/>
                </a:cubicBezTo>
              </a:path>
              <a:path w="6921" h="9203">
                <a:moveTo>
                  <a:pt x="13841" y="13395"/>
                </a:moveTo>
                <a:cubicBezTo>
                  <a:pt x="13937" y="13426"/>
                  <a:pt x="14060" y="13435"/>
                  <a:pt x="14163" y="13419"/>
                </a:cubicBezTo>
                <a:cubicBezTo>
                  <a:pt x="14280" y="13401"/>
                  <a:pt x="14399" y="13358"/>
                  <a:pt x="14511" y="13320"/>
                </a:cubicBezTo>
                <a:cubicBezTo>
                  <a:pt x="14576" y="13298"/>
                  <a:pt x="14599" y="13298"/>
                  <a:pt x="14660" y="13295"/>
                </a:cubicBezTo>
                <a:cubicBezTo>
                  <a:pt x="14726" y="13292"/>
                  <a:pt x="14715" y="13322"/>
                  <a:pt x="14734" y="13395"/>
                </a:cubicBezTo>
                <a:cubicBezTo>
                  <a:pt x="14778" y="13564"/>
                  <a:pt x="14780" y="13722"/>
                  <a:pt x="14833" y="13891"/>
                </a:cubicBezTo>
                <a:cubicBezTo>
                  <a:pt x="14862" y="13984"/>
                  <a:pt x="14862" y="14072"/>
                  <a:pt x="14883" y="14163"/>
                </a:cubicBezTo>
                <a:cubicBezTo>
                  <a:pt x="14912" y="14288"/>
                  <a:pt x="14881" y="14339"/>
                  <a:pt x="14784" y="14436"/>
                </a:cubicBezTo>
                <a:cubicBezTo>
                  <a:pt x="14652" y="14568"/>
                  <a:pt x="14414" y="14594"/>
                  <a:pt x="14263" y="14511"/>
                </a:cubicBezTo>
                <a:cubicBezTo>
                  <a:pt x="14119" y="14432"/>
                  <a:pt x="13999" y="14262"/>
                  <a:pt x="13940" y="14114"/>
                </a:cubicBezTo>
                <a:cubicBezTo>
                  <a:pt x="13888" y="13983"/>
                  <a:pt x="13852" y="13852"/>
                  <a:pt x="13891" y="13717"/>
                </a:cubicBezTo>
                <a:cubicBezTo>
                  <a:pt x="13920" y="13628"/>
                  <a:pt x="13925" y="13587"/>
                  <a:pt x="13891" y="13519"/>
                </a:cubicBezTo>
              </a:path>
              <a:path w="6921" h="9203">
                <a:moveTo>
                  <a:pt x="13692" y="10170"/>
                </a:moveTo>
                <a:cubicBezTo>
                  <a:pt x="13730" y="10079"/>
                  <a:pt x="13778" y="10028"/>
                  <a:pt x="13841" y="9947"/>
                </a:cubicBezTo>
                <a:cubicBezTo>
                  <a:pt x="13920" y="9845"/>
                  <a:pt x="13929" y="9824"/>
                  <a:pt x="13940" y="9723"/>
                </a:cubicBezTo>
                <a:cubicBezTo>
                  <a:pt x="13957" y="9563"/>
                  <a:pt x="14110" y="9437"/>
                  <a:pt x="14213" y="9327"/>
                </a:cubicBezTo>
                <a:cubicBezTo>
                  <a:pt x="14199" y="9361"/>
                  <a:pt x="14041" y="9654"/>
                  <a:pt x="14139" y="9599"/>
                </a:cubicBezTo>
                <a:cubicBezTo>
                  <a:pt x="14238" y="9544"/>
                  <a:pt x="14242" y="9493"/>
                  <a:pt x="14337" y="9525"/>
                </a:cubicBezTo>
                <a:cubicBezTo>
                  <a:pt x="14300" y="9618"/>
                  <a:pt x="14055" y="9982"/>
                  <a:pt x="14238" y="9996"/>
                </a:cubicBezTo>
                <a:cubicBezTo>
                  <a:pt x="14372" y="10007"/>
                  <a:pt x="14554" y="9835"/>
                  <a:pt x="14436" y="10021"/>
                </a:cubicBezTo>
                <a:cubicBezTo>
                  <a:pt x="14373" y="10126"/>
                  <a:pt x="14355" y="10147"/>
                  <a:pt x="14337" y="10220"/>
                </a:cubicBezTo>
                <a:cubicBezTo>
                  <a:pt x="14426" y="10198"/>
                  <a:pt x="14451" y="10197"/>
                  <a:pt x="14486" y="10145"/>
                </a:cubicBezTo>
                <a:cubicBezTo>
                  <a:pt x="14395" y="10000"/>
                  <a:pt x="13983" y="10133"/>
                  <a:pt x="14039" y="9971"/>
                </a:cubicBezTo>
                <a:cubicBezTo>
                  <a:pt x="14088" y="9828"/>
                  <a:pt x="14520" y="9627"/>
                  <a:pt x="14387" y="9699"/>
                </a:cubicBezTo>
                <a:cubicBezTo>
                  <a:pt x="14326" y="9732"/>
                  <a:pt x="14250" y="9775"/>
                  <a:pt x="14188" y="9823"/>
                </a:cubicBezTo>
                <a:cubicBezTo>
                  <a:pt x="14323" y="9756"/>
                  <a:pt x="14452" y="9674"/>
                  <a:pt x="14585" y="9599"/>
                </a:cubicBezTo>
                <a:cubicBezTo>
                  <a:pt x="14542" y="9637"/>
                  <a:pt x="14307" y="9776"/>
                  <a:pt x="14387" y="9872"/>
                </a:cubicBezTo>
                <a:cubicBezTo>
                  <a:pt x="14485" y="9897"/>
                  <a:pt x="14517" y="9905"/>
                  <a:pt x="14585" y="9897"/>
                </a:cubicBezTo>
              </a:path>
              <a:path w="6921" h="9203">
                <a:moveTo>
                  <a:pt x="16197" y="14089"/>
                </a:moveTo>
                <a:cubicBezTo>
                  <a:pt x="16211" y="14185"/>
                  <a:pt x="16221" y="14322"/>
                  <a:pt x="16247" y="14412"/>
                </a:cubicBezTo>
                <a:cubicBezTo>
                  <a:pt x="16255" y="14420"/>
                  <a:pt x="16264" y="14428"/>
                  <a:pt x="16272" y="14436"/>
                </a:cubicBezTo>
                <a:cubicBezTo>
                  <a:pt x="16292" y="14428"/>
                  <a:pt x="16385" y="14379"/>
                  <a:pt x="16396" y="14362"/>
                </a:cubicBezTo>
                <a:cubicBezTo>
                  <a:pt x="16396" y="14354"/>
                  <a:pt x="16396" y="14345"/>
                  <a:pt x="16396" y="14337"/>
                </a:cubicBezTo>
              </a:path>
              <a:path w="6921" h="9203">
                <a:moveTo>
                  <a:pt x="16197" y="14238"/>
                </a:moveTo>
                <a:cubicBezTo>
                  <a:pt x="16247" y="14228"/>
                  <a:pt x="16296" y="14206"/>
                  <a:pt x="16346" y="14188"/>
                </a:cubicBezTo>
              </a:path>
              <a:path w="6921" h="9203">
                <a:moveTo>
                  <a:pt x="16173" y="14139"/>
                </a:moveTo>
                <a:cubicBezTo>
                  <a:pt x="16240" y="14118"/>
                  <a:pt x="16299" y="14114"/>
                  <a:pt x="16371" y="14114"/>
                </a:cubicBezTo>
              </a:path>
              <a:path w="6921" h="9203">
                <a:moveTo>
                  <a:pt x="16545" y="14188"/>
                </a:moveTo>
                <a:cubicBezTo>
                  <a:pt x="16600" y="14188"/>
                  <a:pt x="16626" y="14174"/>
                  <a:pt x="16644" y="14213"/>
                </a:cubicBezTo>
                <a:cubicBezTo>
                  <a:pt x="16680" y="14290"/>
                  <a:pt x="16688" y="14353"/>
                  <a:pt x="16694" y="14436"/>
                </a:cubicBezTo>
                <a:cubicBezTo>
                  <a:pt x="16679" y="14303"/>
                  <a:pt x="16653" y="14173"/>
                  <a:pt x="16644" y="14039"/>
                </a:cubicBezTo>
                <a:cubicBezTo>
                  <a:pt x="16738" y="14063"/>
                  <a:pt x="16708" y="14206"/>
                  <a:pt x="16768" y="14238"/>
                </a:cubicBezTo>
                <a:cubicBezTo>
                  <a:pt x="16845" y="14279"/>
                  <a:pt x="16889" y="14022"/>
                  <a:pt x="16892" y="13990"/>
                </a:cubicBezTo>
                <a:cubicBezTo>
                  <a:pt x="16892" y="13982"/>
                  <a:pt x="16892" y="13973"/>
                  <a:pt x="16892" y="13965"/>
                </a:cubicBezTo>
                <a:cubicBezTo>
                  <a:pt x="16932" y="14084"/>
                  <a:pt x="16969" y="14215"/>
                  <a:pt x="16991" y="14337"/>
                </a:cubicBezTo>
              </a:path>
              <a:path w="6921" h="9203">
                <a:moveTo>
                  <a:pt x="15553" y="13816"/>
                </a:moveTo>
                <a:cubicBezTo>
                  <a:pt x="15494" y="13866"/>
                  <a:pt x="15465" y="13913"/>
                  <a:pt x="15453" y="14015"/>
                </a:cubicBezTo>
                <a:cubicBezTo>
                  <a:pt x="15437" y="14157"/>
                  <a:pt x="15474" y="14295"/>
                  <a:pt x="15478" y="14436"/>
                </a:cubicBezTo>
                <a:cubicBezTo>
                  <a:pt x="15482" y="14579"/>
                  <a:pt x="15492" y="14691"/>
                  <a:pt x="15478" y="14833"/>
                </a:cubicBezTo>
                <a:cubicBezTo>
                  <a:pt x="15465" y="14962"/>
                  <a:pt x="15428" y="15001"/>
                  <a:pt x="15354" y="15106"/>
                </a:cubicBezTo>
                <a:cubicBezTo>
                  <a:pt x="15218" y="15300"/>
                  <a:pt x="15048" y="15374"/>
                  <a:pt x="14833" y="15453"/>
                </a:cubicBezTo>
                <a:cubicBezTo>
                  <a:pt x="14689" y="15506"/>
                  <a:pt x="14566" y="15549"/>
                  <a:pt x="14412" y="15553"/>
                </a:cubicBezTo>
                <a:cubicBezTo>
                  <a:pt x="14269" y="15557"/>
                  <a:pt x="14132" y="15514"/>
                  <a:pt x="13990" y="15503"/>
                </a:cubicBezTo>
                <a:cubicBezTo>
                  <a:pt x="13920" y="15498"/>
                  <a:pt x="13785" y="15547"/>
                  <a:pt x="13791" y="15478"/>
                </a:cubicBezTo>
                <a:cubicBezTo>
                  <a:pt x="13791" y="15413"/>
                  <a:pt x="13812" y="15370"/>
                  <a:pt x="13866" y="15329"/>
                </a:cubicBezTo>
              </a:path>
              <a:path w="6921" h="9203">
                <a:moveTo>
                  <a:pt x="15875" y="14139"/>
                </a:moveTo>
                <a:cubicBezTo>
                  <a:pt x="15875" y="14111"/>
                  <a:pt x="15877" y="14100"/>
                  <a:pt x="15900" y="14089"/>
                </a:cubicBezTo>
                <a:cubicBezTo>
                  <a:pt x="15900" y="14164"/>
                  <a:pt x="15900" y="14188"/>
                  <a:pt x="15900" y="14263"/>
                </a:cubicBezTo>
                <a:cubicBezTo>
                  <a:pt x="15900" y="14415"/>
                  <a:pt x="15917" y="14537"/>
                  <a:pt x="15949" y="14684"/>
                </a:cubicBezTo>
                <a:cubicBezTo>
                  <a:pt x="15983" y="14840"/>
                  <a:pt x="16051" y="14978"/>
                  <a:pt x="16098" y="15131"/>
                </a:cubicBezTo>
                <a:cubicBezTo>
                  <a:pt x="16129" y="15231"/>
                  <a:pt x="16163" y="15399"/>
                  <a:pt x="16148" y="15503"/>
                </a:cubicBezTo>
                <a:cubicBezTo>
                  <a:pt x="16133" y="15607"/>
                  <a:pt x="16075" y="15761"/>
                  <a:pt x="16024" y="15850"/>
                </a:cubicBezTo>
                <a:cubicBezTo>
                  <a:pt x="15950" y="15978"/>
                  <a:pt x="15879" y="16090"/>
                  <a:pt x="15776" y="16173"/>
                </a:cubicBezTo>
                <a:cubicBezTo>
                  <a:pt x="15680" y="16250"/>
                  <a:pt x="15556" y="16271"/>
                  <a:pt x="15453" y="16346"/>
                </a:cubicBezTo>
                <a:cubicBezTo>
                  <a:pt x="15380" y="16399"/>
                  <a:pt x="15326" y="16447"/>
                  <a:pt x="15255" y="16495"/>
                </a:cubicBezTo>
                <a:cubicBezTo>
                  <a:pt x="15184" y="16543"/>
                  <a:pt x="15081" y="16638"/>
                  <a:pt x="15007" y="16669"/>
                </a:cubicBezTo>
                <a:cubicBezTo>
                  <a:pt x="14982" y="16694"/>
                  <a:pt x="14974" y="16702"/>
                  <a:pt x="14957" y="16669"/>
                </a:cubicBezTo>
              </a:path>
              <a:path w="6921" h="9203">
                <a:moveTo>
                  <a:pt x="14908" y="16470"/>
                </a:moveTo>
                <a:cubicBezTo>
                  <a:pt x="14951" y="16591"/>
                  <a:pt x="14977" y="16726"/>
                  <a:pt x="15032" y="16842"/>
                </a:cubicBezTo>
                <a:cubicBezTo>
                  <a:pt x="15040" y="16850"/>
                  <a:pt x="15048" y="16859"/>
                  <a:pt x="15056" y="16867"/>
                </a:cubicBezTo>
              </a:path>
              <a:path w="6921" h="9203">
                <a:moveTo>
                  <a:pt x="12005" y="8235"/>
                </a:moveTo>
                <a:cubicBezTo>
                  <a:pt x="12013" y="8273"/>
                  <a:pt x="12009" y="8449"/>
                  <a:pt x="12080" y="8434"/>
                </a:cubicBezTo>
                <a:cubicBezTo>
                  <a:pt x="12143" y="8421"/>
                  <a:pt x="12168" y="8409"/>
                  <a:pt x="12229" y="8409"/>
                </a:cubicBezTo>
              </a:path>
              <a:path w="6921" h="9203">
                <a:moveTo>
                  <a:pt x="12179" y="8136"/>
                </a:moveTo>
                <a:cubicBezTo>
                  <a:pt x="12193" y="8248"/>
                  <a:pt x="12230" y="8349"/>
                  <a:pt x="12254" y="8458"/>
                </a:cubicBezTo>
                <a:cubicBezTo>
                  <a:pt x="12254" y="8466"/>
                  <a:pt x="12254" y="8475"/>
                  <a:pt x="12254" y="8483"/>
                </a:cubicBezTo>
              </a:path>
              <a:path w="6921" h="9203">
                <a:moveTo>
                  <a:pt x="12080" y="7913"/>
                </a:moveTo>
                <a:cubicBezTo>
                  <a:pt x="11875" y="7964"/>
                  <a:pt x="11703" y="8006"/>
                  <a:pt x="11683" y="8260"/>
                </a:cubicBezTo>
                <a:cubicBezTo>
                  <a:pt x="11666" y="8487"/>
                  <a:pt x="11821" y="8722"/>
                  <a:pt x="12055" y="8731"/>
                </a:cubicBezTo>
                <a:cubicBezTo>
                  <a:pt x="12182" y="8736"/>
                  <a:pt x="12439" y="8667"/>
                  <a:pt x="12502" y="8533"/>
                </a:cubicBezTo>
                <a:cubicBezTo>
                  <a:pt x="12572" y="8385"/>
                  <a:pt x="12545" y="8268"/>
                  <a:pt x="12477" y="8136"/>
                </a:cubicBezTo>
                <a:cubicBezTo>
                  <a:pt x="12379" y="7946"/>
                  <a:pt x="12226" y="7953"/>
                  <a:pt x="12030" y="79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6040" y="2455920"/>
            <a:ext cx="2805120" cy="2509920"/>
          </a:xfrm>
          <a:custGeom>
            <a:avLst/>
            <a:gdLst/>
            <a:ahLst/>
            <a:rect l="l" t="t" r="r" b="b"/>
            <a:pathLst>
              <a:path w="7790" h="6971">
                <a:moveTo>
                  <a:pt x="2853" y="8954"/>
                </a:moveTo>
                <a:cubicBezTo>
                  <a:pt x="2828" y="8954"/>
                  <a:pt x="2820" y="8954"/>
                  <a:pt x="2803" y="8954"/>
                </a:cubicBezTo>
                <a:cubicBezTo>
                  <a:pt x="2813" y="8939"/>
                  <a:pt x="2814" y="8895"/>
                  <a:pt x="2828" y="8880"/>
                </a:cubicBezTo>
                <a:cubicBezTo>
                  <a:pt x="2866" y="8841"/>
                  <a:pt x="2861" y="8860"/>
                  <a:pt x="2927" y="8806"/>
                </a:cubicBezTo>
                <a:cubicBezTo>
                  <a:pt x="2941" y="8795"/>
                  <a:pt x="2989" y="8741"/>
                  <a:pt x="3026" y="8731"/>
                </a:cubicBezTo>
                <a:cubicBezTo>
                  <a:pt x="3136" y="8702"/>
                  <a:pt x="3239" y="8745"/>
                  <a:pt x="3324" y="8806"/>
                </a:cubicBezTo>
                <a:cubicBezTo>
                  <a:pt x="3433" y="8885"/>
                  <a:pt x="3473" y="9003"/>
                  <a:pt x="3547" y="9103"/>
                </a:cubicBezTo>
                <a:cubicBezTo>
                  <a:pt x="3603" y="9179"/>
                  <a:pt x="3661" y="9253"/>
                  <a:pt x="3721" y="9327"/>
                </a:cubicBezTo>
                <a:cubicBezTo>
                  <a:pt x="3794" y="9417"/>
                  <a:pt x="3856" y="9475"/>
                  <a:pt x="3944" y="9550"/>
                </a:cubicBezTo>
                <a:cubicBezTo>
                  <a:pt x="4008" y="9605"/>
                  <a:pt x="4072" y="9652"/>
                  <a:pt x="4142" y="9699"/>
                </a:cubicBezTo>
                <a:cubicBezTo>
                  <a:pt x="4243" y="9768"/>
                  <a:pt x="4347" y="9838"/>
                  <a:pt x="4465" y="9872"/>
                </a:cubicBezTo>
                <a:cubicBezTo>
                  <a:pt x="4565" y="9901"/>
                  <a:pt x="4742" y="9928"/>
                  <a:pt x="4837" y="9872"/>
                </a:cubicBezTo>
                <a:cubicBezTo>
                  <a:pt x="4910" y="9829"/>
                  <a:pt x="4912" y="9796"/>
                  <a:pt x="4961" y="9723"/>
                </a:cubicBezTo>
                <a:cubicBezTo>
                  <a:pt x="5038" y="9610"/>
                  <a:pt x="5037" y="9529"/>
                  <a:pt x="5060" y="9401"/>
                </a:cubicBezTo>
                <a:cubicBezTo>
                  <a:pt x="5082" y="9277"/>
                  <a:pt x="5076" y="9200"/>
                  <a:pt x="5060" y="9079"/>
                </a:cubicBezTo>
                <a:cubicBezTo>
                  <a:pt x="5050" y="9001"/>
                  <a:pt x="5047" y="8932"/>
                  <a:pt x="5035" y="8855"/>
                </a:cubicBezTo>
                <a:cubicBezTo>
                  <a:pt x="5023" y="8778"/>
                  <a:pt x="5016" y="8713"/>
                  <a:pt x="5011" y="8632"/>
                </a:cubicBezTo>
                <a:cubicBezTo>
                  <a:pt x="5005" y="8544"/>
                  <a:pt x="5017" y="8468"/>
                  <a:pt x="5035" y="8384"/>
                </a:cubicBezTo>
                <a:cubicBezTo>
                  <a:pt x="5052" y="8303"/>
                  <a:pt x="5078" y="8213"/>
                  <a:pt x="5110" y="8136"/>
                </a:cubicBezTo>
                <a:cubicBezTo>
                  <a:pt x="5148" y="8043"/>
                  <a:pt x="5194" y="7934"/>
                  <a:pt x="5283" y="7863"/>
                </a:cubicBezTo>
                <a:cubicBezTo>
                  <a:pt x="5341" y="7816"/>
                  <a:pt x="5407" y="7790"/>
                  <a:pt x="5482" y="7789"/>
                </a:cubicBezTo>
                <a:cubicBezTo>
                  <a:pt x="5565" y="7787"/>
                  <a:pt x="5650" y="7838"/>
                  <a:pt x="5730" y="7863"/>
                </a:cubicBezTo>
                <a:cubicBezTo>
                  <a:pt x="5798" y="7885"/>
                  <a:pt x="5859" y="7906"/>
                  <a:pt x="5928" y="7938"/>
                </a:cubicBezTo>
                <a:cubicBezTo>
                  <a:pt x="6009" y="7976"/>
                  <a:pt x="6077" y="7987"/>
                  <a:pt x="6152" y="8012"/>
                </a:cubicBezTo>
                <a:cubicBezTo>
                  <a:pt x="6231" y="8039"/>
                  <a:pt x="6291" y="8068"/>
                  <a:pt x="6375" y="8086"/>
                </a:cubicBezTo>
                <a:cubicBezTo>
                  <a:pt x="6504" y="8113"/>
                  <a:pt x="6639" y="8122"/>
                  <a:pt x="6772" y="8111"/>
                </a:cubicBezTo>
                <a:cubicBezTo>
                  <a:pt x="6851" y="8104"/>
                  <a:pt x="6946" y="8110"/>
                  <a:pt x="7020" y="8086"/>
                </a:cubicBezTo>
                <a:cubicBezTo>
                  <a:pt x="7148" y="8044"/>
                  <a:pt x="7271" y="7968"/>
                  <a:pt x="7392" y="7913"/>
                </a:cubicBezTo>
                <a:cubicBezTo>
                  <a:pt x="7495" y="7866"/>
                  <a:pt x="7587" y="7817"/>
                  <a:pt x="7689" y="7764"/>
                </a:cubicBezTo>
                <a:cubicBezTo>
                  <a:pt x="7797" y="7708"/>
                  <a:pt x="7905" y="7650"/>
                  <a:pt x="8012" y="7590"/>
                </a:cubicBezTo>
                <a:cubicBezTo>
                  <a:pt x="8131" y="7523"/>
                  <a:pt x="8240" y="7437"/>
                  <a:pt x="8359" y="7367"/>
                </a:cubicBezTo>
                <a:cubicBezTo>
                  <a:pt x="8433" y="7324"/>
                  <a:pt x="8507" y="7286"/>
                  <a:pt x="8582" y="7243"/>
                </a:cubicBezTo>
                <a:cubicBezTo>
                  <a:pt x="8657" y="7200"/>
                  <a:pt x="8734" y="7159"/>
                  <a:pt x="8806" y="7119"/>
                </a:cubicBezTo>
                <a:cubicBezTo>
                  <a:pt x="8853" y="7092"/>
                  <a:pt x="8906" y="7066"/>
                  <a:pt x="8930" y="7045"/>
                </a:cubicBezTo>
                <a:cubicBezTo>
                  <a:pt x="8966" y="7013"/>
                  <a:pt x="8970" y="7004"/>
                  <a:pt x="9004" y="6970"/>
                </a:cubicBezTo>
                <a:cubicBezTo>
                  <a:pt x="9004" y="6945"/>
                  <a:pt x="9004" y="6937"/>
                  <a:pt x="9029" y="6945"/>
                </a:cubicBezTo>
              </a:path>
              <a:path w="7790" h="6971">
                <a:moveTo>
                  <a:pt x="9004" y="6821"/>
                </a:moveTo>
                <a:cubicBezTo>
                  <a:pt x="8968" y="6858"/>
                  <a:pt x="8967" y="6859"/>
                  <a:pt x="8930" y="6896"/>
                </a:cubicBezTo>
                <a:cubicBezTo>
                  <a:pt x="8883" y="6943"/>
                  <a:pt x="8817" y="7034"/>
                  <a:pt x="8756" y="7069"/>
                </a:cubicBezTo>
                <a:cubicBezTo>
                  <a:pt x="8719" y="7091"/>
                  <a:pt x="8653" y="7097"/>
                  <a:pt x="8607" y="7119"/>
                </a:cubicBezTo>
                <a:cubicBezTo>
                  <a:pt x="8556" y="7143"/>
                  <a:pt x="8506" y="7172"/>
                  <a:pt x="8458" y="7193"/>
                </a:cubicBezTo>
                <a:cubicBezTo>
                  <a:pt x="8378" y="7228"/>
                  <a:pt x="8292" y="7278"/>
                  <a:pt x="8210" y="7317"/>
                </a:cubicBezTo>
                <a:cubicBezTo>
                  <a:pt x="8157" y="7343"/>
                  <a:pt x="8166" y="7335"/>
                  <a:pt x="8111" y="7367"/>
                </a:cubicBezTo>
                <a:cubicBezTo>
                  <a:pt x="8035" y="7412"/>
                  <a:pt x="7956" y="7463"/>
                  <a:pt x="7888" y="7516"/>
                </a:cubicBezTo>
                <a:cubicBezTo>
                  <a:pt x="7826" y="7565"/>
                  <a:pt x="7771" y="7647"/>
                  <a:pt x="7714" y="7689"/>
                </a:cubicBezTo>
                <a:cubicBezTo>
                  <a:pt x="7654" y="7733"/>
                  <a:pt x="7582" y="7780"/>
                  <a:pt x="7516" y="7813"/>
                </a:cubicBezTo>
                <a:cubicBezTo>
                  <a:pt x="7431" y="7855"/>
                  <a:pt x="7352" y="7898"/>
                  <a:pt x="7268" y="7938"/>
                </a:cubicBezTo>
                <a:cubicBezTo>
                  <a:pt x="7217" y="7962"/>
                  <a:pt x="7152" y="7988"/>
                  <a:pt x="7094" y="8012"/>
                </a:cubicBezTo>
                <a:cubicBezTo>
                  <a:pt x="6999" y="8051"/>
                  <a:pt x="6915" y="8107"/>
                  <a:pt x="6821" y="8136"/>
                </a:cubicBezTo>
                <a:cubicBezTo>
                  <a:pt x="6731" y="8164"/>
                  <a:pt x="6645" y="8165"/>
                  <a:pt x="6548" y="8161"/>
                </a:cubicBezTo>
                <a:cubicBezTo>
                  <a:pt x="6439" y="8156"/>
                  <a:pt x="6308" y="8157"/>
                  <a:pt x="6201" y="8136"/>
                </a:cubicBezTo>
                <a:cubicBezTo>
                  <a:pt x="6094" y="8115"/>
                  <a:pt x="6000" y="8069"/>
                  <a:pt x="5904" y="8037"/>
                </a:cubicBezTo>
                <a:cubicBezTo>
                  <a:pt x="5804" y="8004"/>
                  <a:pt x="5717" y="7971"/>
                  <a:pt x="5631" y="7913"/>
                </a:cubicBezTo>
                <a:cubicBezTo>
                  <a:pt x="5587" y="7883"/>
                  <a:pt x="5502" y="7773"/>
                  <a:pt x="5457" y="7764"/>
                </a:cubicBezTo>
                <a:cubicBezTo>
                  <a:pt x="5401" y="7752"/>
                  <a:pt x="5305" y="7769"/>
                  <a:pt x="5259" y="7789"/>
                </a:cubicBezTo>
                <a:cubicBezTo>
                  <a:pt x="5196" y="7816"/>
                  <a:pt x="5158" y="7864"/>
                  <a:pt x="5110" y="7913"/>
                </a:cubicBezTo>
                <a:cubicBezTo>
                  <a:pt x="5099" y="7925"/>
                  <a:pt x="5045" y="8014"/>
                  <a:pt x="5035" y="8037"/>
                </a:cubicBezTo>
                <a:cubicBezTo>
                  <a:pt x="5003" y="8106"/>
                  <a:pt x="4983" y="8180"/>
                  <a:pt x="4961" y="8260"/>
                </a:cubicBezTo>
                <a:cubicBezTo>
                  <a:pt x="4927" y="8383"/>
                  <a:pt x="4938" y="8504"/>
                  <a:pt x="4936" y="8632"/>
                </a:cubicBezTo>
                <a:cubicBezTo>
                  <a:pt x="4934" y="8753"/>
                  <a:pt x="4955" y="8864"/>
                  <a:pt x="4986" y="8979"/>
                </a:cubicBezTo>
                <a:cubicBezTo>
                  <a:pt x="5002" y="9038"/>
                  <a:pt x="5022" y="9093"/>
                  <a:pt x="5035" y="9153"/>
                </a:cubicBezTo>
                <a:cubicBezTo>
                  <a:pt x="5043" y="9189"/>
                  <a:pt x="5062" y="9272"/>
                  <a:pt x="5060" y="9302"/>
                </a:cubicBezTo>
                <a:cubicBezTo>
                  <a:pt x="5055" y="9358"/>
                  <a:pt x="5030" y="9447"/>
                  <a:pt x="5011" y="9500"/>
                </a:cubicBezTo>
                <a:cubicBezTo>
                  <a:pt x="4989" y="9561"/>
                  <a:pt x="4933" y="9631"/>
                  <a:pt x="4887" y="9674"/>
                </a:cubicBezTo>
                <a:cubicBezTo>
                  <a:pt x="4814" y="9743"/>
                  <a:pt x="4754" y="9745"/>
                  <a:pt x="4663" y="9748"/>
                </a:cubicBezTo>
                <a:cubicBezTo>
                  <a:pt x="4550" y="9752"/>
                  <a:pt x="4466" y="9718"/>
                  <a:pt x="4366" y="9674"/>
                </a:cubicBezTo>
                <a:cubicBezTo>
                  <a:pt x="4282" y="9637"/>
                  <a:pt x="4213" y="9560"/>
                  <a:pt x="4142" y="9500"/>
                </a:cubicBezTo>
                <a:cubicBezTo>
                  <a:pt x="4050" y="9421"/>
                  <a:pt x="3965" y="9327"/>
                  <a:pt x="3870" y="9252"/>
                </a:cubicBezTo>
                <a:cubicBezTo>
                  <a:pt x="3774" y="9176"/>
                  <a:pt x="3655" y="9084"/>
                  <a:pt x="3547" y="9029"/>
                </a:cubicBezTo>
                <a:cubicBezTo>
                  <a:pt x="3497" y="9003"/>
                  <a:pt x="3463" y="8980"/>
                  <a:pt x="3398" y="8979"/>
                </a:cubicBezTo>
                <a:cubicBezTo>
                  <a:pt x="3323" y="8978"/>
                  <a:pt x="3186" y="9051"/>
                  <a:pt x="3125" y="9079"/>
                </a:cubicBezTo>
                <a:cubicBezTo>
                  <a:pt x="3094" y="9093"/>
                  <a:pt x="3054" y="9112"/>
                  <a:pt x="3026" y="9128"/>
                </a:cubicBezTo>
                <a:cubicBezTo>
                  <a:pt x="2995" y="9145"/>
                  <a:pt x="2937" y="9198"/>
                  <a:pt x="2927" y="9203"/>
                </a:cubicBezTo>
                <a:cubicBezTo>
                  <a:pt x="2919" y="9203"/>
                  <a:pt x="2910" y="9203"/>
                  <a:pt x="2902" y="9203"/>
                </a:cubicBezTo>
              </a:path>
              <a:path w="7790" h="6971">
                <a:moveTo>
                  <a:pt x="2902" y="8930"/>
                </a:moveTo>
                <a:cubicBezTo>
                  <a:pt x="2867" y="8918"/>
                  <a:pt x="2877" y="8923"/>
                  <a:pt x="2877" y="8880"/>
                </a:cubicBezTo>
                <a:cubicBezTo>
                  <a:pt x="2831" y="8927"/>
                  <a:pt x="2819" y="8941"/>
                  <a:pt x="2778" y="8954"/>
                </a:cubicBezTo>
              </a:path>
              <a:path w="7790" h="6971">
                <a:moveTo>
                  <a:pt x="2828" y="8830"/>
                </a:moveTo>
                <a:cubicBezTo>
                  <a:pt x="2828" y="8794"/>
                  <a:pt x="2829" y="8705"/>
                  <a:pt x="2803" y="8731"/>
                </a:cubicBezTo>
                <a:cubicBezTo>
                  <a:pt x="2727" y="8807"/>
                  <a:pt x="2653" y="8940"/>
                  <a:pt x="2580" y="9029"/>
                </a:cubicBezTo>
                <a:cubicBezTo>
                  <a:pt x="2537" y="9080"/>
                  <a:pt x="2511" y="9141"/>
                  <a:pt x="2456" y="9178"/>
                </a:cubicBezTo>
                <a:cubicBezTo>
                  <a:pt x="2425" y="9199"/>
                  <a:pt x="2428" y="9198"/>
                  <a:pt x="2406" y="9227"/>
                </a:cubicBezTo>
                <a:cubicBezTo>
                  <a:pt x="2363" y="9283"/>
                  <a:pt x="2393" y="9296"/>
                  <a:pt x="2431" y="9351"/>
                </a:cubicBezTo>
                <a:cubicBezTo>
                  <a:pt x="2459" y="9391"/>
                  <a:pt x="2551" y="9471"/>
                  <a:pt x="2555" y="9500"/>
                </a:cubicBezTo>
                <a:cubicBezTo>
                  <a:pt x="2555" y="9528"/>
                  <a:pt x="2557" y="9539"/>
                  <a:pt x="2580" y="9550"/>
                </a:cubicBezTo>
                <a:cubicBezTo>
                  <a:pt x="2700" y="9509"/>
                  <a:pt x="2704" y="9422"/>
                  <a:pt x="2778" y="9327"/>
                </a:cubicBezTo>
                <a:cubicBezTo>
                  <a:pt x="2822" y="9271"/>
                  <a:pt x="2886" y="9194"/>
                  <a:pt x="2952" y="9178"/>
                </a:cubicBezTo>
              </a:path>
              <a:path w="7790" h="6971">
                <a:moveTo>
                  <a:pt x="2555" y="9252"/>
                </a:moveTo>
                <a:cubicBezTo>
                  <a:pt x="2487" y="9320"/>
                  <a:pt x="2468" y="9380"/>
                  <a:pt x="2505" y="9475"/>
                </a:cubicBezTo>
                <a:cubicBezTo>
                  <a:pt x="2550" y="9589"/>
                  <a:pt x="2668" y="9479"/>
                  <a:pt x="2679" y="9401"/>
                </a:cubicBezTo>
                <a:cubicBezTo>
                  <a:pt x="2691" y="9320"/>
                  <a:pt x="2607" y="9303"/>
                  <a:pt x="2555" y="9277"/>
                </a:cubicBezTo>
              </a:path>
              <a:path w="7790" h="6971">
                <a:moveTo>
                  <a:pt x="2729" y="9079"/>
                </a:moveTo>
                <a:cubicBezTo>
                  <a:pt x="2666" y="9104"/>
                  <a:pt x="2600" y="9168"/>
                  <a:pt x="2629" y="9252"/>
                </a:cubicBezTo>
                <a:cubicBezTo>
                  <a:pt x="2692" y="9434"/>
                  <a:pt x="2851" y="9266"/>
                  <a:pt x="2902" y="9178"/>
                </a:cubicBezTo>
                <a:cubicBezTo>
                  <a:pt x="2921" y="9120"/>
                  <a:pt x="2930" y="9114"/>
                  <a:pt x="2927" y="9079"/>
                </a:cubicBezTo>
                <a:cubicBezTo>
                  <a:pt x="2864" y="9079"/>
                  <a:pt x="2836" y="9082"/>
                  <a:pt x="2778" y="9103"/>
                </a:cubicBezTo>
              </a:path>
              <a:path w="7790" h="6971">
                <a:moveTo>
                  <a:pt x="2456" y="9525"/>
                </a:moveTo>
                <a:cubicBezTo>
                  <a:pt x="2379" y="9551"/>
                  <a:pt x="2457" y="9423"/>
                  <a:pt x="2505" y="9327"/>
                </a:cubicBezTo>
                <a:cubicBezTo>
                  <a:pt x="2595" y="9146"/>
                  <a:pt x="2708" y="8963"/>
                  <a:pt x="2853" y="8830"/>
                </a:cubicBezTo>
                <a:cubicBezTo>
                  <a:pt x="2853" y="8806"/>
                  <a:pt x="2853" y="8798"/>
                  <a:pt x="2853" y="8830"/>
                </a:cubicBezTo>
                <a:cubicBezTo>
                  <a:pt x="2688" y="9007"/>
                  <a:pt x="2584" y="9200"/>
                  <a:pt x="2456" y="9401"/>
                </a:cubicBezTo>
                <a:cubicBezTo>
                  <a:pt x="2448" y="9409"/>
                  <a:pt x="2439" y="9418"/>
                  <a:pt x="2431" y="9426"/>
                </a:cubicBezTo>
                <a:cubicBezTo>
                  <a:pt x="2492" y="9241"/>
                  <a:pt x="2622" y="9099"/>
                  <a:pt x="2753" y="8954"/>
                </a:cubicBezTo>
                <a:cubicBezTo>
                  <a:pt x="2801" y="8901"/>
                  <a:pt x="2876" y="8834"/>
                  <a:pt x="2902" y="8781"/>
                </a:cubicBezTo>
                <a:cubicBezTo>
                  <a:pt x="2887" y="8751"/>
                  <a:pt x="2820" y="8823"/>
                  <a:pt x="2753" y="8830"/>
                </a:cubicBezTo>
                <a:cubicBezTo>
                  <a:pt x="2683" y="8837"/>
                  <a:pt x="2633" y="8857"/>
                  <a:pt x="2580" y="8905"/>
                </a:cubicBezTo>
                <a:cubicBezTo>
                  <a:pt x="2547" y="8935"/>
                  <a:pt x="2517" y="9016"/>
                  <a:pt x="2480" y="9029"/>
                </a:cubicBezTo>
                <a:cubicBezTo>
                  <a:pt x="2433" y="9046"/>
                  <a:pt x="2383" y="8971"/>
                  <a:pt x="2332" y="8954"/>
                </a:cubicBezTo>
                <a:cubicBezTo>
                  <a:pt x="2277" y="8936"/>
                  <a:pt x="2203" y="8953"/>
                  <a:pt x="2183" y="8979"/>
                </a:cubicBezTo>
                <a:cubicBezTo>
                  <a:pt x="2153" y="9018"/>
                  <a:pt x="2107" y="9041"/>
                  <a:pt x="2133" y="9103"/>
                </a:cubicBezTo>
                <a:cubicBezTo>
                  <a:pt x="2159" y="9165"/>
                  <a:pt x="2207" y="9190"/>
                  <a:pt x="2257" y="9227"/>
                </a:cubicBezTo>
                <a:cubicBezTo>
                  <a:pt x="2287" y="9257"/>
                  <a:pt x="2301" y="9268"/>
                  <a:pt x="2332" y="9277"/>
                </a:cubicBezTo>
                <a:cubicBezTo>
                  <a:pt x="2340" y="9277"/>
                  <a:pt x="2348" y="9277"/>
                  <a:pt x="2356" y="9277"/>
                </a:cubicBezTo>
                <a:cubicBezTo>
                  <a:pt x="2342" y="9335"/>
                  <a:pt x="2290" y="9346"/>
                  <a:pt x="2257" y="9401"/>
                </a:cubicBezTo>
                <a:cubicBezTo>
                  <a:pt x="2221" y="9462"/>
                  <a:pt x="2184" y="9516"/>
                  <a:pt x="2232" y="9575"/>
                </a:cubicBezTo>
                <a:cubicBezTo>
                  <a:pt x="2260" y="9610"/>
                  <a:pt x="2249" y="9611"/>
                  <a:pt x="2307" y="9649"/>
                </a:cubicBezTo>
                <a:cubicBezTo>
                  <a:pt x="2347" y="9639"/>
                  <a:pt x="2370" y="9631"/>
                  <a:pt x="2381" y="9599"/>
                </a:cubicBezTo>
                <a:cubicBezTo>
                  <a:pt x="2412" y="9506"/>
                  <a:pt x="2401" y="9413"/>
                  <a:pt x="2456" y="9327"/>
                </a:cubicBezTo>
                <a:cubicBezTo>
                  <a:pt x="2482" y="9286"/>
                  <a:pt x="2536" y="9260"/>
                  <a:pt x="2555" y="9227"/>
                </a:cubicBezTo>
                <a:cubicBezTo>
                  <a:pt x="2597" y="9155"/>
                  <a:pt x="2663" y="9100"/>
                  <a:pt x="2704" y="9029"/>
                </a:cubicBezTo>
                <a:cubicBezTo>
                  <a:pt x="2725" y="8992"/>
                  <a:pt x="2752" y="8973"/>
                  <a:pt x="2778" y="8954"/>
                </a:cubicBezTo>
                <a:cubicBezTo>
                  <a:pt x="2822" y="8922"/>
                  <a:pt x="2803" y="8913"/>
                  <a:pt x="2778" y="8880"/>
                </a:cubicBezTo>
                <a:cubicBezTo>
                  <a:pt x="2716" y="8859"/>
                  <a:pt x="2769" y="8836"/>
                  <a:pt x="2704" y="8905"/>
                </a:cubicBezTo>
                <a:cubicBezTo>
                  <a:pt x="2642" y="8970"/>
                  <a:pt x="2595" y="9039"/>
                  <a:pt x="2530" y="9103"/>
                </a:cubicBezTo>
              </a:path>
              <a:path w="7790" h="6971">
                <a:moveTo>
                  <a:pt x="1612" y="8731"/>
                </a:moveTo>
                <a:cubicBezTo>
                  <a:pt x="1591" y="8665"/>
                  <a:pt x="1449" y="8679"/>
                  <a:pt x="1389" y="8706"/>
                </a:cubicBezTo>
                <a:cubicBezTo>
                  <a:pt x="1234" y="8776"/>
                  <a:pt x="1187" y="8925"/>
                  <a:pt x="1364" y="9004"/>
                </a:cubicBezTo>
                <a:cubicBezTo>
                  <a:pt x="1505" y="9067"/>
                  <a:pt x="1571" y="8986"/>
                  <a:pt x="1637" y="8880"/>
                </a:cubicBezTo>
              </a:path>
              <a:path w="7790" h="6971">
                <a:moveTo>
                  <a:pt x="1736" y="8607"/>
                </a:moveTo>
                <a:cubicBezTo>
                  <a:pt x="1659" y="8617"/>
                  <a:pt x="1573" y="8649"/>
                  <a:pt x="1612" y="8756"/>
                </a:cubicBezTo>
                <a:cubicBezTo>
                  <a:pt x="1663" y="8756"/>
                  <a:pt x="1696" y="8762"/>
                  <a:pt x="1736" y="8781"/>
                </a:cubicBezTo>
                <a:cubicBezTo>
                  <a:pt x="1758" y="8672"/>
                  <a:pt x="1777" y="8652"/>
                  <a:pt x="1736" y="8582"/>
                </a:cubicBezTo>
                <a:cubicBezTo>
                  <a:pt x="1715" y="8547"/>
                  <a:pt x="1824" y="8637"/>
                  <a:pt x="1860" y="8582"/>
                </a:cubicBezTo>
                <a:cubicBezTo>
                  <a:pt x="1868" y="8557"/>
                  <a:pt x="1877" y="8533"/>
                  <a:pt x="1885" y="8508"/>
                </a:cubicBezTo>
              </a:path>
              <a:path w="7790" h="6971">
                <a:moveTo>
                  <a:pt x="1860" y="8384"/>
                </a:moveTo>
                <a:cubicBezTo>
                  <a:pt x="1949" y="8413"/>
                  <a:pt x="1988" y="8424"/>
                  <a:pt x="2059" y="8483"/>
                </a:cubicBezTo>
                <a:cubicBezTo>
                  <a:pt x="1983" y="8438"/>
                  <a:pt x="1888" y="8315"/>
                  <a:pt x="1885" y="8210"/>
                </a:cubicBezTo>
                <a:cubicBezTo>
                  <a:pt x="1882" y="8083"/>
                  <a:pt x="1968" y="8075"/>
                  <a:pt x="2059" y="8037"/>
                </a:cubicBezTo>
              </a:path>
              <a:path w="7790" h="6971">
                <a:moveTo>
                  <a:pt x="5953" y="11162"/>
                </a:moveTo>
                <a:cubicBezTo>
                  <a:pt x="5804" y="11205"/>
                  <a:pt x="5656" y="11245"/>
                  <a:pt x="5507" y="11286"/>
                </a:cubicBezTo>
                <a:cubicBezTo>
                  <a:pt x="5301" y="11342"/>
                  <a:pt x="5167" y="11344"/>
                  <a:pt x="4961" y="11336"/>
                </a:cubicBezTo>
                <a:cubicBezTo>
                  <a:pt x="4870" y="11333"/>
                  <a:pt x="4885" y="11324"/>
                  <a:pt x="4961" y="11336"/>
                </a:cubicBezTo>
                <a:cubicBezTo>
                  <a:pt x="5037" y="11348"/>
                  <a:pt x="5134" y="11375"/>
                  <a:pt x="5135" y="11385"/>
                </a:cubicBezTo>
                <a:cubicBezTo>
                  <a:pt x="5057" y="11346"/>
                  <a:pt x="4981" y="11311"/>
                  <a:pt x="4911" y="11261"/>
                </a:cubicBezTo>
                <a:cubicBezTo>
                  <a:pt x="5009" y="11213"/>
                  <a:pt x="5074" y="11195"/>
                  <a:pt x="5184" y="11187"/>
                </a:cubicBezTo>
              </a:path>
              <a:path w="7790" h="6971">
                <a:moveTo>
                  <a:pt x="2803" y="8359"/>
                </a:moveTo>
                <a:cubicBezTo>
                  <a:pt x="2866" y="8265"/>
                  <a:pt x="2932" y="8213"/>
                  <a:pt x="3051" y="8161"/>
                </a:cubicBezTo>
                <a:cubicBezTo>
                  <a:pt x="3158" y="8114"/>
                  <a:pt x="3339" y="8115"/>
                  <a:pt x="3448" y="8161"/>
                </a:cubicBezTo>
                <a:cubicBezTo>
                  <a:pt x="3546" y="8202"/>
                  <a:pt x="3655" y="8302"/>
                  <a:pt x="3721" y="8384"/>
                </a:cubicBezTo>
                <a:cubicBezTo>
                  <a:pt x="3805" y="8487"/>
                  <a:pt x="3906" y="8540"/>
                  <a:pt x="3994" y="8632"/>
                </a:cubicBezTo>
                <a:cubicBezTo>
                  <a:pt x="4062" y="8703"/>
                  <a:pt x="4101" y="8780"/>
                  <a:pt x="4192" y="8830"/>
                </a:cubicBezTo>
                <a:cubicBezTo>
                  <a:pt x="4232" y="8852"/>
                  <a:pt x="4280" y="8880"/>
                  <a:pt x="4316" y="8830"/>
                </a:cubicBezTo>
                <a:cubicBezTo>
                  <a:pt x="4384" y="8737"/>
                  <a:pt x="4315" y="8601"/>
                  <a:pt x="4291" y="8508"/>
                </a:cubicBezTo>
                <a:cubicBezTo>
                  <a:pt x="4258" y="8382"/>
                  <a:pt x="4221" y="8265"/>
                  <a:pt x="4217" y="8136"/>
                </a:cubicBezTo>
                <a:cubicBezTo>
                  <a:pt x="4214" y="8037"/>
                  <a:pt x="4201" y="8000"/>
                  <a:pt x="4217" y="7913"/>
                </a:cubicBezTo>
                <a:cubicBezTo>
                  <a:pt x="4147" y="7961"/>
                  <a:pt x="4064" y="8022"/>
                  <a:pt x="3994" y="8086"/>
                </a:cubicBezTo>
                <a:cubicBezTo>
                  <a:pt x="4033" y="8008"/>
                  <a:pt x="4068" y="7927"/>
                  <a:pt x="4142" y="7863"/>
                </a:cubicBezTo>
                <a:cubicBezTo>
                  <a:pt x="4197" y="7816"/>
                  <a:pt x="4242" y="7831"/>
                  <a:pt x="4291" y="7888"/>
                </a:cubicBezTo>
                <a:cubicBezTo>
                  <a:pt x="4338" y="7943"/>
                  <a:pt x="4378" y="7982"/>
                  <a:pt x="4415" y="8012"/>
                </a:cubicBezTo>
              </a:path>
              <a:path w="7790" h="6971">
                <a:moveTo>
                  <a:pt x="6871" y="13097"/>
                </a:moveTo>
                <a:cubicBezTo>
                  <a:pt x="6932" y="13243"/>
                  <a:pt x="6995" y="13396"/>
                  <a:pt x="7045" y="13543"/>
                </a:cubicBezTo>
              </a:path>
              <a:path w="7790" h="6971">
                <a:moveTo>
                  <a:pt x="6871" y="12948"/>
                </a:moveTo>
                <a:cubicBezTo>
                  <a:pt x="6726" y="12924"/>
                  <a:pt x="6599" y="12981"/>
                  <a:pt x="6548" y="13146"/>
                </a:cubicBezTo>
                <a:cubicBezTo>
                  <a:pt x="6461" y="13427"/>
                  <a:pt x="6606" y="13715"/>
                  <a:pt x="6896" y="13791"/>
                </a:cubicBezTo>
                <a:cubicBezTo>
                  <a:pt x="7233" y="13879"/>
                  <a:pt x="7362" y="13511"/>
                  <a:pt x="7367" y="13246"/>
                </a:cubicBezTo>
                <a:cubicBezTo>
                  <a:pt x="7370" y="13059"/>
                  <a:pt x="7268" y="13005"/>
                  <a:pt x="7119" y="12948"/>
                </a:cubicBezTo>
              </a:path>
              <a:path w="7790" h="6971">
                <a:moveTo>
                  <a:pt x="7764" y="10244"/>
                </a:moveTo>
                <a:cubicBezTo>
                  <a:pt x="7756" y="10310"/>
                  <a:pt x="7745" y="10376"/>
                  <a:pt x="7739" y="10443"/>
                </a:cubicBezTo>
                <a:cubicBezTo>
                  <a:pt x="7807" y="10443"/>
                  <a:pt x="7878" y="10343"/>
                  <a:pt x="7938" y="10418"/>
                </a:cubicBezTo>
                <a:cubicBezTo>
                  <a:pt x="8098" y="10617"/>
                  <a:pt x="7802" y="10673"/>
                  <a:pt x="7689" y="10666"/>
                </a:cubicBezTo>
              </a:path>
              <a:path w="7790" h="6971">
                <a:moveTo>
                  <a:pt x="7689" y="10294"/>
                </a:moveTo>
                <a:cubicBezTo>
                  <a:pt x="7736" y="10186"/>
                  <a:pt x="7779" y="10144"/>
                  <a:pt x="7888" y="10120"/>
                </a:cubicBezTo>
              </a:path>
              <a:path w="7790" h="6971">
                <a:moveTo>
                  <a:pt x="7739" y="10046"/>
                </a:moveTo>
                <a:cubicBezTo>
                  <a:pt x="7534" y="10195"/>
                  <a:pt x="7230" y="10461"/>
                  <a:pt x="7565" y="10716"/>
                </a:cubicBezTo>
                <a:cubicBezTo>
                  <a:pt x="7847" y="10931"/>
                  <a:pt x="8220" y="10593"/>
                  <a:pt x="8161" y="10294"/>
                </a:cubicBezTo>
                <a:cubicBezTo>
                  <a:pt x="8084" y="10192"/>
                  <a:pt x="8056" y="10158"/>
                  <a:pt x="7962" y="10145"/>
                </a:cubicBezTo>
              </a:path>
              <a:path w="7790" h="6971">
                <a:moveTo>
                  <a:pt x="2877" y="9872"/>
                </a:moveTo>
                <a:cubicBezTo>
                  <a:pt x="2749" y="9898"/>
                  <a:pt x="2774" y="10013"/>
                  <a:pt x="2803" y="10120"/>
                </a:cubicBezTo>
                <a:cubicBezTo>
                  <a:pt x="2848" y="10285"/>
                  <a:pt x="3055" y="10363"/>
                  <a:pt x="3200" y="10244"/>
                </a:cubicBezTo>
                <a:cubicBezTo>
                  <a:pt x="3200" y="10228"/>
                  <a:pt x="3200" y="10211"/>
                  <a:pt x="3200" y="10195"/>
                </a:cubicBezTo>
                <a:cubicBezTo>
                  <a:pt x="3165" y="10142"/>
                  <a:pt x="3101" y="10109"/>
                  <a:pt x="3051" y="10195"/>
                </a:cubicBezTo>
                <a:cubicBezTo>
                  <a:pt x="3031" y="10255"/>
                  <a:pt x="3012" y="10270"/>
                  <a:pt x="3051" y="10294"/>
                </a:cubicBezTo>
              </a:path>
              <a:path w="7790" h="6971">
                <a:moveTo>
                  <a:pt x="2580" y="9847"/>
                </a:moveTo>
                <a:cubicBezTo>
                  <a:pt x="2498" y="10092"/>
                  <a:pt x="2558" y="10249"/>
                  <a:pt x="2778" y="10418"/>
                </a:cubicBezTo>
                <a:cubicBezTo>
                  <a:pt x="2937" y="10540"/>
                  <a:pt x="3295" y="10452"/>
                  <a:pt x="3324" y="10220"/>
                </a:cubicBezTo>
                <a:cubicBezTo>
                  <a:pt x="3339" y="10098"/>
                  <a:pt x="3123" y="9996"/>
                  <a:pt x="3051" y="99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4071960"/>
            <a:ext cx="822240" cy="1170000"/>
          </a:xfrm>
          <a:custGeom>
            <a:avLst/>
            <a:gdLst/>
            <a:ahLst/>
            <a:rect l="l" t="t" r="r" b="b"/>
            <a:pathLst>
              <a:path w="2283" h="3250">
                <a:moveTo>
                  <a:pt x="11385" y="11336"/>
                </a:moveTo>
                <a:cubicBezTo>
                  <a:pt x="11377" y="11328"/>
                  <a:pt x="11369" y="11319"/>
                  <a:pt x="11361" y="11311"/>
                </a:cubicBezTo>
                <a:cubicBezTo>
                  <a:pt x="11315" y="11402"/>
                  <a:pt x="11270" y="11488"/>
                  <a:pt x="11237" y="11584"/>
                </a:cubicBezTo>
                <a:cubicBezTo>
                  <a:pt x="11209" y="11666"/>
                  <a:pt x="11172" y="11746"/>
                  <a:pt x="11162" y="11832"/>
                </a:cubicBezTo>
                <a:cubicBezTo>
                  <a:pt x="11151" y="11930"/>
                  <a:pt x="11133" y="12033"/>
                  <a:pt x="11112" y="12129"/>
                </a:cubicBezTo>
                <a:cubicBezTo>
                  <a:pt x="11100" y="12183"/>
                  <a:pt x="11090" y="12282"/>
                  <a:pt x="11063" y="12328"/>
                </a:cubicBezTo>
                <a:cubicBezTo>
                  <a:pt x="11028" y="12387"/>
                  <a:pt x="10977" y="12445"/>
                  <a:pt x="10939" y="12502"/>
                </a:cubicBezTo>
                <a:cubicBezTo>
                  <a:pt x="10916" y="12537"/>
                  <a:pt x="10881" y="12585"/>
                  <a:pt x="10864" y="12626"/>
                </a:cubicBezTo>
                <a:cubicBezTo>
                  <a:pt x="10842" y="12677"/>
                  <a:pt x="10818" y="12725"/>
                  <a:pt x="10790" y="12774"/>
                </a:cubicBezTo>
                <a:cubicBezTo>
                  <a:pt x="10752" y="12840"/>
                  <a:pt x="10717" y="12902"/>
                  <a:pt x="10691" y="12973"/>
                </a:cubicBezTo>
                <a:cubicBezTo>
                  <a:pt x="10669" y="13031"/>
                  <a:pt x="10643" y="13086"/>
                  <a:pt x="10616" y="13146"/>
                </a:cubicBezTo>
                <a:cubicBezTo>
                  <a:pt x="10581" y="13225"/>
                  <a:pt x="10532" y="13294"/>
                  <a:pt x="10492" y="13370"/>
                </a:cubicBezTo>
                <a:cubicBezTo>
                  <a:pt x="10463" y="13425"/>
                  <a:pt x="10455" y="13439"/>
                  <a:pt x="10443" y="13494"/>
                </a:cubicBezTo>
              </a:path>
              <a:path w="2283" h="3250">
                <a:moveTo>
                  <a:pt x="9252" y="13866"/>
                </a:moveTo>
                <a:cubicBezTo>
                  <a:pt x="9322" y="13827"/>
                  <a:pt x="9353" y="13824"/>
                  <a:pt x="9426" y="13791"/>
                </a:cubicBezTo>
                <a:cubicBezTo>
                  <a:pt x="9609" y="13707"/>
                  <a:pt x="9793" y="13628"/>
                  <a:pt x="9971" y="13543"/>
                </a:cubicBezTo>
                <a:cubicBezTo>
                  <a:pt x="9979" y="13543"/>
                  <a:pt x="9988" y="13543"/>
                  <a:pt x="9996" y="13543"/>
                </a:cubicBezTo>
                <a:cubicBezTo>
                  <a:pt x="10026" y="13707"/>
                  <a:pt x="10124" y="13814"/>
                  <a:pt x="10195" y="13965"/>
                </a:cubicBezTo>
                <a:cubicBezTo>
                  <a:pt x="10214" y="14006"/>
                  <a:pt x="10331" y="14184"/>
                  <a:pt x="10319" y="14238"/>
                </a:cubicBezTo>
                <a:cubicBezTo>
                  <a:pt x="10284" y="14390"/>
                  <a:pt x="9926" y="14434"/>
                  <a:pt x="9823" y="14461"/>
                </a:cubicBezTo>
                <a:cubicBezTo>
                  <a:pt x="9734" y="14484"/>
                  <a:pt x="9653" y="14483"/>
                  <a:pt x="9575" y="14536"/>
                </a:cubicBezTo>
                <a:cubicBezTo>
                  <a:pt x="9557" y="14549"/>
                  <a:pt x="9497" y="14595"/>
                  <a:pt x="9451" y="14536"/>
                </a:cubicBezTo>
                <a:cubicBezTo>
                  <a:pt x="9346" y="14402"/>
                  <a:pt x="9303" y="14192"/>
                  <a:pt x="9227" y="14039"/>
                </a:cubicBezTo>
                <a:cubicBezTo>
                  <a:pt x="9210" y="14004"/>
                  <a:pt x="9193" y="13970"/>
                  <a:pt x="9178" y="13940"/>
                </a:cubicBezTo>
              </a:path>
              <a:path w="2283" h="3250">
                <a:moveTo>
                  <a:pt x="9575" y="13767"/>
                </a:moveTo>
                <a:cubicBezTo>
                  <a:pt x="9568" y="13772"/>
                  <a:pt x="9508" y="13790"/>
                  <a:pt x="9475" y="13767"/>
                </a:cubicBezTo>
                <a:cubicBezTo>
                  <a:pt x="9469" y="13762"/>
                  <a:pt x="9406" y="13726"/>
                  <a:pt x="9401" y="13717"/>
                </a:cubicBezTo>
                <a:cubicBezTo>
                  <a:pt x="9387" y="13689"/>
                  <a:pt x="9342" y="13689"/>
                  <a:pt x="9327" y="13667"/>
                </a:cubicBezTo>
                <a:cubicBezTo>
                  <a:pt x="9316" y="13650"/>
                  <a:pt x="9308" y="13608"/>
                  <a:pt x="9277" y="13593"/>
                </a:cubicBezTo>
                <a:cubicBezTo>
                  <a:pt x="9238" y="13574"/>
                  <a:pt x="9208" y="13542"/>
                  <a:pt x="9178" y="13519"/>
                </a:cubicBezTo>
                <a:cubicBezTo>
                  <a:pt x="9151" y="13498"/>
                  <a:pt x="9127" y="13468"/>
                  <a:pt x="9103" y="13444"/>
                </a:cubicBezTo>
                <a:cubicBezTo>
                  <a:pt x="9134" y="13406"/>
                  <a:pt x="9160" y="13369"/>
                  <a:pt x="9178" y="13345"/>
                </a:cubicBezTo>
                <a:cubicBezTo>
                  <a:pt x="9200" y="13316"/>
                  <a:pt x="9230" y="13302"/>
                  <a:pt x="9252" y="13295"/>
                </a:cubicBezTo>
                <a:cubicBezTo>
                  <a:pt x="9291" y="13308"/>
                  <a:pt x="9324" y="13370"/>
                  <a:pt x="9351" y="13419"/>
                </a:cubicBezTo>
                <a:cubicBezTo>
                  <a:pt x="9395" y="13498"/>
                  <a:pt x="9461" y="13554"/>
                  <a:pt x="9525" y="13618"/>
                </a:cubicBezTo>
                <a:cubicBezTo>
                  <a:pt x="9544" y="13637"/>
                  <a:pt x="9596" y="13686"/>
                  <a:pt x="9599" y="13692"/>
                </a:cubicBezTo>
                <a:cubicBezTo>
                  <a:pt x="9614" y="13723"/>
                  <a:pt x="9615" y="13731"/>
                  <a:pt x="9649" y="13742"/>
                </a:cubicBezTo>
              </a:path>
              <a:path w="2283" h="3250">
                <a:moveTo>
                  <a:pt x="9649" y="14139"/>
                </a:moveTo>
                <a:cubicBezTo>
                  <a:pt x="9586" y="14210"/>
                  <a:pt x="9551" y="14230"/>
                  <a:pt x="9575" y="14312"/>
                </a:cubicBezTo>
                <a:cubicBezTo>
                  <a:pt x="9694" y="14352"/>
                  <a:pt x="9714" y="14343"/>
                  <a:pt x="9723" y="14213"/>
                </a:cubicBezTo>
                <a:cubicBezTo>
                  <a:pt x="9723" y="14180"/>
                  <a:pt x="9723" y="14164"/>
                  <a:pt x="9723" y="14139"/>
                </a:cubicBezTo>
              </a:path>
              <a:path w="2283" h="3250">
                <a:moveTo>
                  <a:pt x="9847" y="14188"/>
                </a:moveTo>
                <a:cubicBezTo>
                  <a:pt x="9979" y="14278"/>
                  <a:pt x="9796" y="14094"/>
                  <a:pt x="9872" y="14039"/>
                </a:cubicBezTo>
                <a:cubicBezTo>
                  <a:pt x="9981" y="13960"/>
                  <a:pt x="10066" y="14106"/>
                  <a:pt x="10096" y="14188"/>
                </a:cubicBezTo>
                <a:cubicBezTo>
                  <a:pt x="10096" y="14196"/>
                  <a:pt x="10096" y="14205"/>
                  <a:pt x="10096" y="14213"/>
                </a:cubicBezTo>
              </a:path>
              <a:path w="2283" h="3250">
                <a:moveTo>
                  <a:pt x="10393" y="13519"/>
                </a:moveTo>
                <a:cubicBezTo>
                  <a:pt x="10306" y="13606"/>
                  <a:pt x="10194" y="13699"/>
                  <a:pt x="10120" y="13791"/>
                </a:cubicBezTo>
                <a:cubicBezTo>
                  <a:pt x="10120" y="13799"/>
                  <a:pt x="10120" y="13808"/>
                  <a:pt x="10120" y="138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24040" y="3490920"/>
            <a:ext cx="374760" cy="349200"/>
          </a:xfrm>
          <a:custGeom>
            <a:avLst/>
            <a:gdLst/>
            <a:ahLst/>
            <a:rect l="l" t="t" r="r" b="b"/>
            <a:pathLst>
              <a:path w="1043" h="968">
                <a:moveTo>
                  <a:pt x="4787" y="10244"/>
                </a:moveTo>
                <a:cubicBezTo>
                  <a:pt x="4834" y="10386"/>
                  <a:pt x="4941" y="10520"/>
                  <a:pt x="5035" y="10641"/>
                </a:cubicBezTo>
                <a:cubicBezTo>
                  <a:pt x="5063" y="10669"/>
                  <a:pt x="5072" y="10673"/>
                  <a:pt x="5060" y="10616"/>
                </a:cubicBezTo>
              </a:path>
              <a:path w="1043" h="968">
                <a:moveTo>
                  <a:pt x="4961" y="10046"/>
                </a:moveTo>
                <a:cubicBezTo>
                  <a:pt x="5018" y="10159"/>
                  <a:pt x="5208" y="10308"/>
                  <a:pt x="5234" y="10418"/>
                </a:cubicBezTo>
                <a:cubicBezTo>
                  <a:pt x="5226" y="10435"/>
                  <a:pt x="5217" y="10451"/>
                  <a:pt x="5209" y="10468"/>
                </a:cubicBezTo>
              </a:path>
              <a:path w="1043" h="968">
                <a:moveTo>
                  <a:pt x="4961" y="10344"/>
                </a:moveTo>
                <a:cubicBezTo>
                  <a:pt x="5080" y="10279"/>
                  <a:pt x="5180" y="10227"/>
                  <a:pt x="5283" y="10145"/>
                </a:cubicBezTo>
              </a:path>
              <a:path w="1043" h="968">
                <a:moveTo>
                  <a:pt x="5383" y="10170"/>
                </a:moveTo>
                <a:cubicBezTo>
                  <a:pt x="5408" y="10187"/>
                  <a:pt x="5432" y="10203"/>
                  <a:pt x="5457" y="10220"/>
                </a:cubicBezTo>
              </a:path>
              <a:path w="1043" h="968">
                <a:moveTo>
                  <a:pt x="5457" y="10220"/>
                </a:moveTo>
                <a:lnTo>
                  <a:pt x="5457" y="10220"/>
                </a:lnTo>
              </a:path>
              <a:path w="1043" h="968">
                <a:moveTo>
                  <a:pt x="5184" y="9971"/>
                </a:moveTo>
                <a:cubicBezTo>
                  <a:pt x="5192" y="9971"/>
                  <a:pt x="5201" y="9971"/>
                  <a:pt x="5209" y="9971"/>
                </a:cubicBezTo>
              </a:path>
              <a:path w="1043" h="968">
                <a:moveTo>
                  <a:pt x="5383" y="9773"/>
                </a:moveTo>
                <a:cubicBezTo>
                  <a:pt x="5465" y="9891"/>
                  <a:pt x="5596" y="10025"/>
                  <a:pt x="5655" y="10145"/>
                </a:cubicBezTo>
              </a:path>
              <a:path w="1043" h="968">
                <a:moveTo>
                  <a:pt x="5556" y="9699"/>
                </a:moveTo>
                <a:cubicBezTo>
                  <a:pt x="5643" y="9830"/>
                  <a:pt x="5749" y="10206"/>
                  <a:pt x="5829" y="10071"/>
                </a:cubicBezTo>
                <a:cubicBezTo>
                  <a:pt x="5829" y="10054"/>
                  <a:pt x="5829" y="10038"/>
                  <a:pt x="5829" y="100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720" y="3116160"/>
            <a:ext cx="501480" cy="384120"/>
          </a:xfrm>
          <a:custGeom>
            <a:avLst/>
            <a:gdLst/>
            <a:ahLst/>
            <a:rect l="l" t="t" r="r" b="b"/>
            <a:pathLst>
              <a:path w="1390" h="1067">
                <a:moveTo>
                  <a:pt x="6003" y="9203"/>
                </a:moveTo>
                <a:cubicBezTo>
                  <a:pt x="6079" y="9380"/>
                  <a:pt x="6192" y="9516"/>
                  <a:pt x="6300" y="9674"/>
                </a:cubicBezTo>
                <a:cubicBezTo>
                  <a:pt x="6308" y="9690"/>
                  <a:pt x="6317" y="9707"/>
                  <a:pt x="6325" y="9723"/>
                </a:cubicBezTo>
              </a:path>
              <a:path w="1390" h="1067">
                <a:moveTo>
                  <a:pt x="6028" y="9550"/>
                </a:moveTo>
                <a:cubicBezTo>
                  <a:pt x="6133" y="9501"/>
                  <a:pt x="6213" y="9467"/>
                  <a:pt x="6325" y="9451"/>
                </a:cubicBezTo>
              </a:path>
              <a:path w="1390" h="1067">
                <a:moveTo>
                  <a:pt x="6524" y="9550"/>
                </a:moveTo>
                <a:cubicBezTo>
                  <a:pt x="6504" y="9591"/>
                  <a:pt x="6420" y="9464"/>
                  <a:pt x="6400" y="9426"/>
                </a:cubicBezTo>
                <a:cubicBezTo>
                  <a:pt x="6332" y="9296"/>
                  <a:pt x="6330" y="9295"/>
                  <a:pt x="6400" y="9203"/>
                </a:cubicBezTo>
              </a:path>
              <a:path w="1390" h="1067">
                <a:moveTo>
                  <a:pt x="6672" y="9178"/>
                </a:moveTo>
                <a:cubicBezTo>
                  <a:pt x="6574" y="9217"/>
                  <a:pt x="6559" y="9302"/>
                  <a:pt x="6598" y="9401"/>
                </a:cubicBezTo>
                <a:cubicBezTo>
                  <a:pt x="6606" y="9409"/>
                  <a:pt x="6615" y="9418"/>
                  <a:pt x="6623" y="9426"/>
                </a:cubicBezTo>
                <a:cubicBezTo>
                  <a:pt x="6678" y="9361"/>
                  <a:pt x="6612" y="9192"/>
                  <a:pt x="6672" y="9252"/>
                </a:cubicBezTo>
                <a:cubicBezTo>
                  <a:pt x="6713" y="9293"/>
                  <a:pt x="6743" y="9307"/>
                  <a:pt x="6796" y="9302"/>
                </a:cubicBezTo>
              </a:path>
              <a:path w="1390" h="1067">
                <a:moveTo>
                  <a:pt x="6772" y="9054"/>
                </a:moveTo>
                <a:cubicBezTo>
                  <a:pt x="6785" y="9107"/>
                  <a:pt x="6910" y="9373"/>
                  <a:pt x="6995" y="9203"/>
                </a:cubicBezTo>
                <a:cubicBezTo>
                  <a:pt x="7003" y="9153"/>
                  <a:pt x="7012" y="9104"/>
                  <a:pt x="7020" y="9054"/>
                </a:cubicBezTo>
              </a:path>
              <a:path w="1390" h="1067">
                <a:moveTo>
                  <a:pt x="6871" y="8830"/>
                </a:moveTo>
                <a:cubicBezTo>
                  <a:pt x="6962" y="8921"/>
                  <a:pt x="7053" y="9013"/>
                  <a:pt x="7144" y="9103"/>
                </a:cubicBezTo>
              </a:path>
              <a:path w="1390" h="1067">
                <a:moveTo>
                  <a:pt x="7069" y="8657"/>
                </a:moveTo>
                <a:cubicBezTo>
                  <a:pt x="7050" y="8749"/>
                  <a:pt x="6923" y="9011"/>
                  <a:pt x="7045" y="9054"/>
                </a:cubicBezTo>
                <a:cubicBezTo>
                  <a:pt x="7175" y="9101"/>
                  <a:pt x="7275" y="9056"/>
                  <a:pt x="7392" y="90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31960" y="5045040"/>
            <a:ext cx="2876400" cy="1000080"/>
          </a:xfrm>
          <a:custGeom>
            <a:avLst/>
            <a:gdLst/>
            <a:ahLst/>
            <a:rect l="l" t="t" r="r" b="b"/>
            <a:pathLst>
              <a:path w="7988" h="2779">
                <a:moveTo>
                  <a:pt x="9599" y="14486"/>
                </a:moveTo>
                <a:cubicBezTo>
                  <a:pt x="9636" y="14602"/>
                  <a:pt x="9672" y="14662"/>
                  <a:pt x="9748" y="14759"/>
                </a:cubicBezTo>
                <a:cubicBezTo>
                  <a:pt x="9845" y="14882"/>
                  <a:pt x="9935" y="14995"/>
                  <a:pt x="10046" y="15106"/>
                </a:cubicBezTo>
                <a:cubicBezTo>
                  <a:pt x="10126" y="15186"/>
                  <a:pt x="10211" y="15255"/>
                  <a:pt x="10294" y="15329"/>
                </a:cubicBezTo>
                <a:cubicBezTo>
                  <a:pt x="10402" y="15427"/>
                  <a:pt x="10538" y="15527"/>
                  <a:pt x="10666" y="15602"/>
                </a:cubicBezTo>
                <a:cubicBezTo>
                  <a:pt x="10851" y="15711"/>
                  <a:pt x="10982" y="15828"/>
                  <a:pt x="11137" y="15974"/>
                </a:cubicBezTo>
                <a:cubicBezTo>
                  <a:pt x="11274" y="16103"/>
                  <a:pt x="11389" y="16155"/>
                  <a:pt x="11559" y="16222"/>
                </a:cubicBezTo>
                <a:cubicBezTo>
                  <a:pt x="11678" y="16269"/>
                  <a:pt x="11798" y="16305"/>
                  <a:pt x="11906" y="16371"/>
                </a:cubicBezTo>
                <a:cubicBezTo>
                  <a:pt x="11981" y="16416"/>
                  <a:pt x="12039" y="16456"/>
                  <a:pt x="12105" y="16495"/>
                </a:cubicBezTo>
                <a:cubicBezTo>
                  <a:pt x="12137" y="16514"/>
                  <a:pt x="12210" y="16556"/>
                  <a:pt x="12254" y="16594"/>
                </a:cubicBezTo>
                <a:cubicBezTo>
                  <a:pt x="12304" y="16637"/>
                  <a:pt x="12353" y="16660"/>
                  <a:pt x="12402" y="16694"/>
                </a:cubicBezTo>
                <a:cubicBezTo>
                  <a:pt x="12451" y="16728"/>
                  <a:pt x="12501" y="16749"/>
                  <a:pt x="12551" y="16768"/>
                </a:cubicBezTo>
                <a:cubicBezTo>
                  <a:pt x="12579" y="16778"/>
                  <a:pt x="12623" y="16790"/>
                  <a:pt x="12650" y="16793"/>
                </a:cubicBezTo>
                <a:cubicBezTo>
                  <a:pt x="12699" y="16799"/>
                  <a:pt x="12750" y="16790"/>
                  <a:pt x="12799" y="16793"/>
                </a:cubicBezTo>
              </a:path>
              <a:path w="7988" h="2779">
                <a:moveTo>
                  <a:pt x="8781" y="14015"/>
                </a:moveTo>
                <a:cubicBezTo>
                  <a:pt x="8756" y="14043"/>
                  <a:pt x="8730" y="14080"/>
                  <a:pt x="8682" y="14114"/>
                </a:cubicBezTo>
                <a:cubicBezTo>
                  <a:pt x="8624" y="14156"/>
                  <a:pt x="8580" y="14175"/>
                  <a:pt x="8508" y="14213"/>
                </a:cubicBezTo>
                <a:cubicBezTo>
                  <a:pt x="8426" y="14257"/>
                  <a:pt x="8347" y="14328"/>
                  <a:pt x="8260" y="14362"/>
                </a:cubicBezTo>
                <a:cubicBezTo>
                  <a:pt x="8181" y="14393"/>
                  <a:pt x="8115" y="14400"/>
                  <a:pt x="8037" y="14436"/>
                </a:cubicBezTo>
                <a:cubicBezTo>
                  <a:pt x="7969" y="14467"/>
                  <a:pt x="7882" y="14500"/>
                  <a:pt x="7813" y="14536"/>
                </a:cubicBezTo>
                <a:cubicBezTo>
                  <a:pt x="7743" y="14573"/>
                  <a:pt x="7681" y="14608"/>
                  <a:pt x="7615" y="14635"/>
                </a:cubicBezTo>
                <a:cubicBezTo>
                  <a:pt x="7552" y="14661"/>
                  <a:pt x="7481" y="14683"/>
                  <a:pt x="7417" y="14709"/>
                </a:cubicBezTo>
                <a:cubicBezTo>
                  <a:pt x="7343" y="14739"/>
                  <a:pt x="7252" y="14781"/>
                  <a:pt x="7169" y="14808"/>
                </a:cubicBezTo>
                <a:cubicBezTo>
                  <a:pt x="7056" y="14845"/>
                  <a:pt x="6930" y="14859"/>
                  <a:pt x="6821" y="14908"/>
                </a:cubicBezTo>
                <a:cubicBezTo>
                  <a:pt x="6730" y="14949"/>
                  <a:pt x="6640" y="15023"/>
                  <a:pt x="6548" y="15056"/>
                </a:cubicBezTo>
                <a:cubicBezTo>
                  <a:pt x="6438" y="15096"/>
                  <a:pt x="6339" y="15144"/>
                  <a:pt x="6226" y="15180"/>
                </a:cubicBezTo>
                <a:cubicBezTo>
                  <a:pt x="6124" y="15212"/>
                  <a:pt x="6028" y="15234"/>
                  <a:pt x="5928" y="15255"/>
                </a:cubicBezTo>
                <a:cubicBezTo>
                  <a:pt x="5845" y="15272"/>
                  <a:pt x="5763" y="15283"/>
                  <a:pt x="5680" y="15304"/>
                </a:cubicBezTo>
                <a:cubicBezTo>
                  <a:pt x="5580" y="15329"/>
                  <a:pt x="5480" y="15359"/>
                  <a:pt x="5383" y="15379"/>
                </a:cubicBezTo>
                <a:cubicBezTo>
                  <a:pt x="5326" y="15391"/>
                  <a:pt x="5267" y="15398"/>
                  <a:pt x="5209" y="15404"/>
                </a:cubicBezTo>
                <a:cubicBezTo>
                  <a:pt x="5130" y="15413"/>
                  <a:pt x="5062" y="15415"/>
                  <a:pt x="4986" y="15429"/>
                </a:cubicBezTo>
                <a:cubicBezTo>
                  <a:pt x="4918" y="15441"/>
                  <a:pt x="4906" y="15427"/>
                  <a:pt x="4862" y="15478"/>
                </a:cubicBezTo>
                <a:cubicBezTo>
                  <a:pt x="4822" y="15524"/>
                  <a:pt x="4813" y="15528"/>
                  <a:pt x="4837" y="15627"/>
                </a:cubicBezTo>
                <a:cubicBezTo>
                  <a:pt x="4848" y="15674"/>
                  <a:pt x="4926" y="15729"/>
                  <a:pt x="4936" y="15776"/>
                </a:cubicBezTo>
                <a:cubicBezTo>
                  <a:pt x="4943" y="15808"/>
                  <a:pt x="4932" y="15843"/>
                  <a:pt x="4936" y="15875"/>
                </a:cubicBezTo>
                <a:cubicBezTo>
                  <a:pt x="5002" y="15864"/>
                  <a:pt x="5069" y="15861"/>
                  <a:pt x="5135" y="15850"/>
                </a:cubicBezTo>
                <a:cubicBezTo>
                  <a:pt x="5235" y="15833"/>
                  <a:pt x="5332" y="15792"/>
                  <a:pt x="5432" y="15776"/>
                </a:cubicBezTo>
                <a:cubicBezTo>
                  <a:pt x="5559" y="15756"/>
                  <a:pt x="5677" y="15731"/>
                  <a:pt x="5804" y="15701"/>
                </a:cubicBezTo>
                <a:cubicBezTo>
                  <a:pt x="5894" y="15680"/>
                  <a:pt x="5984" y="15648"/>
                  <a:pt x="6077" y="15627"/>
                </a:cubicBezTo>
                <a:cubicBezTo>
                  <a:pt x="6177" y="15604"/>
                  <a:pt x="6274" y="15591"/>
                  <a:pt x="6375" y="15553"/>
                </a:cubicBezTo>
                <a:cubicBezTo>
                  <a:pt x="6447" y="15526"/>
                  <a:pt x="6529" y="15505"/>
                  <a:pt x="6598" y="15478"/>
                </a:cubicBezTo>
                <a:cubicBezTo>
                  <a:pt x="6704" y="15437"/>
                  <a:pt x="6844" y="15385"/>
                  <a:pt x="6945" y="15329"/>
                </a:cubicBezTo>
                <a:cubicBezTo>
                  <a:pt x="7022" y="15286"/>
                  <a:pt x="7091" y="15247"/>
                  <a:pt x="7169" y="15205"/>
                </a:cubicBezTo>
                <a:cubicBezTo>
                  <a:pt x="7263" y="15154"/>
                  <a:pt x="7350" y="15089"/>
                  <a:pt x="7441" y="15032"/>
                </a:cubicBezTo>
                <a:cubicBezTo>
                  <a:pt x="7515" y="14985"/>
                  <a:pt x="7591" y="14926"/>
                  <a:pt x="7665" y="14883"/>
                </a:cubicBezTo>
                <a:cubicBezTo>
                  <a:pt x="7747" y="14836"/>
                  <a:pt x="7828" y="14801"/>
                  <a:pt x="7913" y="14759"/>
                </a:cubicBezTo>
                <a:cubicBezTo>
                  <a:pt x="7984" y="14723"/>
                  <a:pt x="8044" y="14671"/>
                  <a:pt x="8111" y="14635"/>
                </a:cubicBezTo>
                <a:cubicBezTo>
                  <a:pt x="8186" y="14594"/>
                  <a:pt x="8254" y="14570"/>
                  <a:pt x="8334" y="14536"/>
                </a:cubicBezTo>
                <a:cubicBezTo>
                  <a:pt x="8412" y="14504"/>
                  <a:pt x="8478" y="14470"/>
                  <a:pt x="8558" y="14436"/>
                </a:cubicBezTo>
                <a:cubicBezTo>
                  <a:pt x="8630" y="14405"/>
                  <a:pt x="8714" y="14389"/>
                  <a:pt x="8781" y="14362"/>
                </a:cubicBezTo>
                <a:cubicBezTo>
                  <a:pt x="8789" y="14359"/>
                  <a:pt x="8847" y="14324"/>
                  <a:pt x="8880" y="14312"/>
                </a:cubicBezTo>
                <a:cubicBezTo>
                  <a:pt x="8937" y="14291"/>
                  <a:pt x="8993" y="14259"/>
                  <a:pt x="9054" y="14238"/>
                </a:cubicBezTo>
                <a:cubicBezTo>
                  <a:pt x="9094" y="14218"/>
                  <a:pt x="9100" y="14209"/>
                  <a:pt x="9128" y="14213"/>
                </a:cubicBezTo>
                <a:cubicBezTo>
                  <a:pt x="9116" y="14190"/>
                  <a:pt x="9093" y="14104"/>
                  <a:pt x="9079" y="14089"/>
                </a:cubicBezTo>
                <a:cubicBezTo>
                  <a:pt x="9060" y="14069"/>
                  <a:pt x="9021" y="14015"/>
                  <a:pt x="9004" y="14015"/>
                </a:cubicBezTo>
                <a:cubicBezTo>
                  <a:pt x="8929" y="14015"/>
                  <a:pt x="8868" y="14083"/>
                  <a:pt x="8806" y="14114"/>
                </a:cubicBezTo>
                <a:cubicBezTo>
                  <a:pt x="8767" y="14134"/>
                  <a:pt x="8719" y="14147"/>
                  <a:pt x="8682" y="141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17720" y="4027320"/>
            <a:ext cx="188640" cy="231840"/>
          </a:xfrm>
          <a:custGeom>
            <a:avLst/>
            <a:gdLst/>
            <a:ahLst/>
            <a:rect l="l" t="t" r="r" b="b"/>
            <a:pathLst>
              <a:path w="522" h="646">
                <a:moveTo>
                  <a:pt x="2828" y="11385"/>
                </a:moveTo>
                <a:cubicBezTo>
                  <a:pt x="2850" y="11550"/>
                  <a:pt x="2887" y="11689"/>
                  <a:pt x="2977" y="11832"/>
                </a:cubicBezTo>
                <a:cubicBezTo>
                  <a:pt x="3049" y="11776"/>
                  <a:pt x="3085" y="11669"/>
                  <a:pt x="3225" y="11658"/>
                </a:cubicBezTo>
                <a:cubicBezTo>
                  <a:pt x="3299" y="11677"/>
                  <a:pt x="3306" y="11685"/>
                  <a:pt x="3349" y="11683"/>
                </a:cubicBezTo>
                <a:cubicBezTo>
                  <a:pt x="3340" y="11504"/>
                  <a:pt x="3306" y="11357"/>
                  <a:pt x="3249" y="11187"/>
                </a:cubicBezTo>
                <a:cubicBezTo>
                  <a:pt x="3184" y="11214"/>
                  <a:pt x="2853" y="11326"/>
                  <a:pt x="2853" y="11336"/>
                </a:cubicBezTo>
                <a:cubicBezTo>
                  <a:pt x="2861" y="11361"/>
                  <a:pt x="2869" y="11385"/>
                  <a:pt x="2877" y="114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66920" y="4044960"/>
            <a:ext cx="169920" cy="250920"/>
          </a:xfrm>
          <a:custGeom>
            <a:avLst/>
            <a:gdLst/>
            <a:ahLst/>
            <a:rect l="l" t="t" r="r" b="b"/>
            <a:pathLst>
              <a:path w="472" h="695">
                <a:moveTo>
                  <a:pt x="3795" y="11261"/>
                </a:moveTo>
                <a:cubicBezTo>
                  <a:pt x="3798" y="11366"/>
                  <a:pt x="3761" y="11835"/>
                  <a:pt x="3845" y="11881"/>
                </a:cubicBezTo>
                <a:cubicBezTo>
                  <a:pt x="3870" y="11895"/>
                  <a:pt x="4149" y="11948"/>
                  <a:pt x="4167" y="11931"/>
                </a:cubicBezTo>
                <a:cubicBezTo>
                  <a:pt x="4243" y="11859"/>
                  <a:pt x="4262" y="11682"/>
                  <a:pt x="4266" y="11584"/>
                </a:cubicBezTo>
                <a:cubicBezTo>
                  <a:pt x="4270" y="11504"/>
                  <a:pt x="4242" y="11410"/>
                  <a:pt x="4217" y="11336"/>
                </a:cubicBezTo>
                <a:cubicBezTo>
                  <a:pt x="4192" y="11260"/>
                  <a:pt x="4172" y="11231"/>
                  <a:pt x="4068" y="11237"/>
                </a:cubicBezTo>
                <a:cubicBezTo>
                  <a:pt x="3999" y="11241"/>
                  <a:pt x="3901" y="11262"/>
                  <a:pt x="3845" y="112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04960" y="4037040"/>
            <a:ext cx="911160" cy="320760"/>
          </a:xfrm>
          <a:custGeom>
            <a:avLst/>
            <a:gdLst/>
            <a:ahLst/>
            <a:rect l="l" t="t" r="r" b="b"/>
            <a:pathLst>
              <a:path w="2531" h="894">
                <a:moveTo>
                  <a:pt x="4738" y="11361"/>
                </a:moveTo>
                <a:cubicBezTo>
                  <a:pt x="4766" y="11535"/>
                  <a:pt x="4779" y="11704"/>
                  <a:pt x="4812" y="11881"/>
                </a:cubicBezTo>
                <a:cubicBezTo>
                  <a:pt x="4825" y="11951"/>
                  <a:pt x="4832" y="12036"/>
                  <a:pt x="4887" y="12055"/>
                </a:cubicBezTo>
                <a:cubicBezTo>
                  <a:pt x="4959" y="12079"/>
                  <a:pt x="5032" y="12104"/>
                  <a:pt x="5085" y="12030"/>
                </a:cubicBezTo>
                <a:cubicBezTo>
                  <a:pt x="5103" y="12006"/>
                  <a:pt x="5163" y="11918"/>
                  <a:pt x="5159" y="11906"/>
                </a:cubicBezTo>
                <a:cubicBezTo>
                  <a:pt x="5119" y="11774"/>
                  <a:pt x="5032" y="11682"/>
                  <a:pt x="5011" y="11534"/>
                </a:cubicBezTo>
                <a:cubicBezTo>
                  <a:pt x="4995" y="11420"/>
                  <a:pt x="4979" y="11460"/>
                  <a:pt x="4837" y="11460"/>
                </a:cubicBezTo>
                <a:cubicBezTo>
                  <a:pt x="4812" y="11460"/>
                  <a:pt x="4787" y="11460"/>
                  <a:pt x="4762" y="11460"/>
                </a:cubicBezTo>
              </a:path>
              <a:path w="2531" h="894">
                <a:moveTo>
                  <a:pt x="5432" y="11733"/>
                </a:moveTo>
                <a:cubicBezTo>
                  <a:pt x="5438" y="11776"/>
                  <a:pt x="5438" y="11967"/>
                  <a:pt x="5482" y="11981"/>
                </a:cubicBezTo>
                <a:cubicBezTo>
                  <a:pt x="5579" y="12013"/>
                  <a:pt x="5626" y="12055"/>
                  <a:pt x="5730" y="12055"/>
                </a:cubicBezTo>
                <a:cubicBezTo>
                  <a:pt x="5775" y="12055"/>
                  <a:pt x="5791" y="12068"/>
                  <a:pt x="5804" y="12030"/>
                </a:cubicBezTo>
                <a:cubicBezTo>
                  <a:pt x="5856" y="11876"/>
                  <a:pt x="5841" y="11791"/>
                  <a:pt x="5804" y="11633"/>
                </a:cubicBezTo>
                <a:cubicBezTo>
                  <a:pt x="5787" y="11560"/>
                  <a:pt x="5782" y="11501"/>
                  <a:pt x="5755" y="11435"/>
                </a:cubicBezTo>
                <a:cubicBezTo>
                  <a:pt x="5678" y="11454"/>
                  <a:pt x="5593" y="11463"/>
                  <a:pt x="5507" y="11485"/>
                </a:cubicBezTo>
                <a:cubicBezTo>
                  <a:pt x="5452" y="11499"/>
                  <a:pt x="5396" y="11519"/>
                  <a:pt x="5383" y="11559"/>
                </a:cubicBezTo>
              </a:path>
              <a:path w="2531" h="894">
                <a:moveTo>
                  <a:pt x="6201" y="11559"/>
                </a:moveTo>
                <a:cubicBezTo>
                  <a:pt x="6201" y="11626"/>
                  <a:pt x="6157" y="11938"/>
                  <a:pt x="6226" y="11981"/>
                </a:cubicBezTo>
                <a:cubicBezTo>
                  <a:pt x="6305" y="12030"/>
                  <a:pt x="6415" y="12062"/>
                  <a:pt x="6499" y="12105"/>
                </a:cubicBezTo>
                <a:cubicBezTo>
                  <a:pt x="6539" y="12057"/>
                  <a:pt x="6625" y="11967"/>
                  <a:pt x="6648" y="11931"/>
                </a:cubicBezTo>
                <a:cubicBezTo>
                  <a:pt x="6695" y="11856"/>
                  <a:pt x="6558" y="11623"/>
                  <a:pt x="6548" y="11559"/>
                </a:cubicBezTo>
                <a:cubicBezTo>
                  <a:pt x="6548" y="11468"/>
                  <a:pt x="6548" y="11460"/>
                  <a:pt x="6548" y="11410"/>
                </a:cubicBezTo>
                <a:cubicBezTo>
                  <a:pt x="6486" y="11489"/>
                  <a:pt x="6357" y="11521"/>
                  <a:pt x="6251" y="11559"/>
                </a:cubicBezTo>
              </a:path>
              <a:path w="2531" h="894">
                <a:moveTo>
                  <a:pt x="6871" y="11336"/>
                </a:moveTo>
                <a:cubicBezTo>
                  <a:pt x="6871" y="11512"/>
                  <a:pt x="6864" y="11708"/>
                  <a:pt x="6896" y="11881"/>
                </a:cubicBezTo>
                <a:cubicBezTo>
                  <a:pt x="6904" y="11898"/>
                  <a:pt x="6913" y="11914"/>
                  <a:pt x="6921" y="11931"/>
                </a:cubicBezTo>
                <a:cubicBezTo>
                  <a:pt x="7030" y="11913"/>
                  <a:pt x="7130" y="11906"/>
                  <a:pt x="7243" y="11906"/>
                </a:cubicBezTo>
                <a:cubicBezTo>
                  <a:pt x="7251" y="11906"/>
                  <a:pt x="7260" y="11906"/>
                  <a:pt x="7268" y="11906"/>
                </a:cubicBezTo>
                <a:cubicBezTo>
                  <a:pt x="7256" y="11802"/>
                  <a:pt x="7220" y="11716"/>
                  <a:pt x="7218" y="11609"/>
                </a:cubicBezTo>
                <a:cubicBezTo>
                  <a:pt x="7217" y="11569"/>
                  <a:pt x="7247" y="11215"/>
                  <a:pt x="7193" y="11212"/>
                </a:cubicBezTo>
                <a:cubicBezTo>
                  <a:pt x="7063" y="11205"/>
                  <a:pt x="6918" y="11287"/>
                  <a:pt x="6821" y="11286"/>
                </a:cubicBezTo>
                <a:cubicBezTo>
                  <a:pt x="6829" y="11278"/>
                  <a:pt x="6838" y="11269"/>
                  <a:pt x="6846" y="112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0880" y="4919760"/>
            <a:ext cx="1108080" cy="581040"/>
          </a:xfrm>
          <a:custGeom>
            <a:avLst/>
            <a:gdLst/>
            <a:ahLst/>
            <a:rect l="l" t="t" r="r" b="b"/>
            <a:pathLst>
              <a:path w="3077" h="1614">
                <a:moveTo>
                  <a:pt x="5531" y="14759"/>
                </a:moveTo>
                <a:cubicBezTo>
                  <a:pt x="5481" y="14724"/>
                  <a:pt x="5484" y="14784"/>
                  <a:pt x="5457" y="14833"/>
                </a:cubicBezTo>
                <a:cubicBezTo>
                  <a:pt x="5385" y="14964"/>
                  <a:pt x="5384" y="14989"/>
                  <a:pt x="5432" y="15131"/>
                </a:cubicBezTo>
                <a:cubicBezTo>
                  <a:pt x="5451" y="15189"/>
                  <a:pt x="5500" y="15285"/>
                  <a:pt x="5581" y="15280"/>
                </a:cubicBezTo>
                <a:cubicBezTo>
                  <a:pt x="5688" y="15274"/>
                  <a:pt x="5762" y="15116"/>
                  <a:pt x="5755" y="15032"/>
                </a:cubicBezTo>
                <a:cubicBezTo>
                  <a:pt x="5749" y="14956"/>
                  <a:pt x="5671" y="14843"/>
                  <a:pt x="5606" y="14808"/>
                </a:cubicBezTo>
                <a:cubicBezTo>
                  <a:pt x="5598" y="14808"/>
                  <a:pt x="5589" y="14808"/>
                  <a:pt x="5581" y="14808"/>
                </a:cubicBezTo>
              </a:path>
              <a:path w="3077" h="1614">
                <a:moveTo>
                  <a:pt x="6276" y="14635"/>
                </a:moveTo>
                <a:cubicBezTo>
                  <a:pt x="6144" y="14661"/>
                  <a:pt x="5996" y="14724"/>
                  <a:pt x="5978" y="14883"/>
                </a:cubicBezTo>
                <a:cubicBezTo>
                  <a:pt x="5952" y="15110"/>
                  <a:pt x="6204" y="15183"/>
                  <a:pt x="6325" y="15007"/>
                </a:cubicBezTo>
                <a:cubicBezTo>
                  <a:pt x="6351" y="14905"/>
                  <a:pt x="6356" y="14871"/>
                  <a:pt x="6251" y="14858"/>
                </a:cubicBezTo>
              </a:path>
              <a:path w="3077" h="1614">
                <a:moveTo>
                  <a:pt x="5308" y="14957"/>
                </a:moveTo>
                <a:cubicBezTo>
                  <a:pt x="5367" y="14907"/>
                  <a:pt x="5436" y="14854"/>
                  <a:pt x="5507" y="14808"/>
                </a:cubicBezTo>
                <a:cubicBezTo>
                  <a:pt x="5724" y="14668"/>
                  <a:pt x="5910" y="14680"/>
                  <a:pt x="6152" y="14635"/>
                </a:cubicBezTo>
                <a:cubicBezTo>
                  <a:pt x="6223" y="14622"/>
                  <a:pt x="6289" y="14605"/>
                  <a:pt x="6350" y="14585"/>
                </a:cubicBezTo>
                <a:cubicBezTo>
                  <a:pt x="6404" y="14567"/>
                  <a:pt x="6405" y="14534"/>
                  <a:pt x="6449" y="14486"/>
                </a:cubicBezTo>
                <a:cubicBezTo>
                  <a:pt x="6472" y="14463"/>
                  <a:pt x="6480" y="14459"/>
                  <a:pt x="6474" y="14436"/>
                </a:cubicBezTo>
                <a:cubicBezTo>
                  <a:pt x="6458" y="14420"/>
                  <a:pt x="6376" y="14309"/>
                  <a:pt x="6325" y="14312"/>
                </a:cubicBezTo>
                <a:cubicBezTo>
                  <a:pt x="6233" y="14317"/>
                  <a:pt x="6111" y="14382"/>
                  <a:pt x="6028" y="14412"/>
                </a:cubicBezTo>
                <a:cubicBezTo>
                  <a:pt x="5952" y="14439"/>
                  <a:pt x="5999" y="14453"/>
                  <a:pt x="5928" y="14461"/>
                </a:cubicBezTo>
                <a:cubicBezTo>
                  <a:pt x="5831" y="14472"/>
                  <a:pt x="5824" y="14350"/>
                  <a:pt x="5779" y="14288"/>
                </a:cubicBezTo>
                <a:cubicBezTo>
                  <a:pt x="5741" y="14235"/>
                  <a:pt x="5714" y="14149"/>
                  <a:pt x="5655" y="14114"/>
                </a:cubicBezTo>
                <a:cubicBezTo>
                  <a:pt x="5590" y="14075"/>
                  <a:pt x="5471" y="14093"/>
                  <a:pt x="5432" y="14163"/>
                </a:cubicBezTo>
                <a:cubicBezTo>
                  <a:pt x="5363" y="14287"/>
                  <a:pt x="5439" y="14435"/>
                  <a:pt x="5407" y="14536"/>
                </a:cubicBezTo>
                <a:cubicBezTo>
                  <a:pt x="5384" y="14609"/>
                  <a:pt x="5272" y="14643"/>
                  <a:pt x="5209" y="14684"/>
                </a:cubicBezTo>
                <a:cubicBezTo>
                  <a:pt x="5202" y="14689"/>
                  <a:pt x="5151" y="14737"/>
                  <a:pt x="5135" y="14759"/>
                </a:cubicBezTo>
                <a:cubicBezTo>
                  <a:pt x="5109" y="14796"/>
                  <a:pt x="5037" y="14911"/>
                  <a:pt x="5060" y="14957"/>
                </a:cubicBezTo>
                <a:cubicBezTo>
                  <a:pt x="5099" y="14996"/>
                  <a:pt x="5101" y="15013"/>
                  <a:pt x="5135" y="15007"/>
                </a:cubicBezTo>
              </a:path>
              <a:path w="3077" h="1614">
                <a:moveTo>
                  <a:pt x="6747" y="14337"/>
                </a:moveTo>
                <a:cubicBezTo>
                  <a:pt x="6893" y="14237"/>
                  <a:pt x="7030" y="14159"/>
                  <a:pt x="7193" y="14089"/>
                </a:cubicBezTo>
                <a:cubicBezTo>
                  <a:pt x="7344" y="14025"/>
                  <a:pt x="7548" y="13991"/>
                  <a:pt x="7689" y="13915"/>
                </a:cubicBezTo>
                <a:cubicBezTo>
                  <a:pt x="7759" y="13878"/>
                  <a:pt x="7786" y="13867"/>
                  <a:pt x="7863" y="13841"/>
                </a:cubicBezTo>
                <a:cubicBezTo>
                  <a:pt x="7916" y="13823"/>
                  <a:pt x="7980" y="13819"/>
                  <a:pt x="8037" y="13791"/>
                </a:cubicBezTo>
                <a:cubicBezTo>
                  <a:pt x="8060" y="13780"/>
                  <a:pt x="8092" y="13753"/>
                  <a:pt x="8111" y="13742"/>
                </a:cubicBezTo>
                <a:cubicBezTo>
                  <a:pt x="7994" y="13683"/>
                  <a:pt x="7866" y="13693"/>
                  <a:pt x="7739" y="13667"/>
                </a:cubicBezTo>
                <a:cubicBezTo>
                  <a:pt x="7756" y="13667"/>
                  <a:pt x="7772" y="13667"/>
                  <a:pt x="7789" y="13667"/>
                </a:cubicBezTo>
                <a:cubicBezTo>
                  <a:pt x="7905" y="13667"/>
                  <a:pt x="8020" y="13667"/>
                  <a:pt x="8136" y="13667"/>
                </a:cubicBezTo>
                <a:cubicBezTo>
                  <a:pt x="8114" y="13798"/>
                  <a:pt x="8078" y="13916"/>
                  <a:pt x="8012" y="14039"/>
                </a:cubicBezTo>
                <a:cubicBezTo>
                  <a:pt x="8004" y="14047"/>
                  <a:pt x="7995" y="14056"/>
                  <a:pt x="7987" y="140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7240" y="4197240"/>
            <a:ext cx="901800" cy="463680"/>
          </a:xfrm>
          <a:custGeom>
            <a:avLst/>
            <a:gdLst/>
            <a:ahLst/>
            <a:rect l="l" t="t" r="r" b="b"/>
            <a:pathLst>
              <a:path w="2506" h="1291">
                <a:moveTo>
                  <a:pt x="2158" y="11733"/>
                </a:moveTo>
                <a:cubicBezTo>
                  <a:pt x="2075" y="11898"/>
                  <a:pt x="2034" y="12069"/>
                  <a:pt x="2009" y="12254"/>
                </a:cubicBezTo>
                <a:cubicBezTo>
                  <a:pt x="2009" y="12047"/>
                  <a:pt x="2016" y="11860"/>
                  <a:pt x="2059" y="11658"/>
                </a:cubicBezTo>
                <a:cubicBezTo>
                  <a:pt x="2228" y="11743"/>
                  <a:pt x="2405" y="11870"/>
                  <a:pt x="2431" y="12080"/>
                </a:cubicBezTo>
                <a:cubicBezTo>
                  <a:pt x="2469" y="12391"/>
                  <a:pt x="2065" y="12278"/>
                  <a:pt x="1910" y="12229"/>
                </a:cubicBezTo>
                <a:cubicBezTo>
                  <a:pt x="1995" y="12229"/>
                  <a:pt x="2061" y="12214"/>
                  <a:pt x="2133" y="12179"/>
                </a:cubicBezTo>
              </a:path>
              <a:path w="2506" h="1291">
                <a:moveTo>
                  <a:pt x="2654" y="12080"/>
                </a:moveTo>
                <a:cubicBezTo>
                  <a:pt x="2524" y="12112"/>
                  <a:pt x="2434" y="12169"/>
                  <a:pt x="2332" y="12254"/>
                </a:cubicBezTo>
                <a:cubicBezTo>
                  <a:pt x="2438" y="12315"/>
                  <a:pt x="2630" y="12361"/>
                  <a:pt x="2654" y="12154"/>
                </a:cubicBezTo>
                <a:cubicBezTo>
                  <a:pt x="2646" y="12146"/>
                  <a:pt x="2637" y="12137"/>
                  <a:pt x="2629" y="12129"/>
                </a:cubicBezTo>
              </a:path>
              <a:path w="2506" h="1291">
                <a:moveTo>
                  <a:pt x="2803" y="12229"/>
                </a:moveTo>
                <a:cubicBezTo>
                  <a:pt x="2822" y="12303"/>
                  <a:pt x="2830" y="12310"/>
                  <a:pt x="2828" y="12353"/>
                </a:cubicBezTo>
                <a:cubicBezTo>
                  <a:pt x="2828" y="12253"/>
                  <a:pt x="2828" y="12218"/>
                  <a:pt x="2853" y="12154"/>
                </a:cubicBezTo>
                <a:cubicBezTo>
                  <a:pt x="2993" y="12186"/>
                  <a:pt x="2989" y="12236"/>
                  <a:pt x="3001" y="12378"/>
                </a:cubicBezTo>
                <a:cubicBezTo>
                  <a:pt x="3001" y="12326"/>
                  <a:pt x="3006" y="12143"/>
                  <a:pt x="3125" y="12229"/>
                </a:cubicBezTo>
                <a:cubicBezTo>
                  <a:pt x="3207" y="12288"/>
                  <a:pt x="3225" y="12554"/>
                  <a:pt x="3225" y="12452"/>
                </a:cubicBezTo>
              </a:path>
              <a:path w="2506" h="1291">
                <a:moveTo>
                  <a:pt x="3373" y="12402"/>
                </a:moveTo>
                <a:cubicBezTo>
                  <a:pt x="3373" y="12419"/>
                  <a:pt x="3373" y="12435"/>
                  <a:pt x="3373" y="12452"/>
                </a:cubicBezTo>
              </a:path>
              <a:path w="2506" h="1291">
                <a:moveTo>
                  <a:pt x="3373" y="12452"/>
                </a:moveTo>
                <a:lnTo>
                  <a:pt x="3373" y="12452"/>
                </a:lnTo>
              </a:path>
              <a:path w="2506" h="1291">
                <a:moveTo>
                  <a:pt x="3522" y="12551"/>
                </a:moveTo>
                <a:cubicBezTo>
                  <a:pt x="3493" y="12447"/>
                  <a:pt x="3503" y="12385"/>
                  <a:pt x="3522" y="12278"/>
                </a:cubicBezTo>
                <a:cubicBezTo>
                  <a:pt x="3680" y="12331"/>
                  <a:pt x="3716" y="12451"/>
                  <a:pt x="3746" y="12626"/>
                </a:cubicBezTo>
                <a:cubicBezTo>
                  <a:pt x="3766" y="12747"/>
                  <a:pt x="3766" y="12528"/>
                  <a:pt x="3770" y="12502"/>
                </a:cubicBezTo>
              </a:path>
              <a:path w="2506" h="1291">
                <a:moveTo>
                  <a:pt x="3994" y="12427"/>
                </a:moveTo>
                <a:cubicBezTo>
                  <a:pt x="3890" y="12427"/>
                  <a:pt x="3735" y="12574"/>
                  <a:pt x="3870" y="12700"/>
                </a:cubicBezTo>
                <a:cubicBezTo>
                  <a:pt x="4031" y="12850"/>
                  <a:pt x="4176" y="12652"/>
                  <a:pt x="4068" y="12502"/>
                </a:cubicBezTo>
                <a:cubicBezTo>
                  <a:pt x="4051" y="12494"/>
                  <a:pt x="4035" y="12485"/>
                  <a:pt x="4018" y="12477"/>
                </a:cubicBezTo>
              </a:path>
              <a:path w="2506" h="1291">
                <a:moveTo>
                  <a:pt x="4390" y="12551"/>
                </a:moveTo>
                <a:cubicBezTo>
                  <a:pt x="4374" y="12600"/>
                  <a:pt x="4291" y="12670"/>
                  <a:pt x="4242" y="12725"/>
                </a:cubicBezTo>
                <a:cubicBezTo>
                  <a:pt x="4261" y="12730"/>
                  <a:pt x="4456" y="12786"/>
                  <a:pt x="4415" y="12849"/>
                </a:cubicBezTo>
                <a:cubicBezTo>
                  <a:pt x="4347" y="12917"/>
                  <a:pt x="4330" y="12939"/>
                  <a:pt x="4266" y="129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7880" y="3446640"/>
            <a:ext cx="295200" cy="554040"/>
          </a:xfrm>
          <a:custGeom>
            <a:avLst/>
            <a:gdLst/>
            <a:ahLst/>
            <a:rect l="l" t="t" r="r" b="b"/>
            <a:pathLst>
              <a:path w="820" h="1538">
                <a:moveTo>
                  <a:pt x="2084" y="10096"/>
                </a:moveTo>
                <a:cubicBezTo>
                  <a:pt x="2057" y="10116"/>
                  <a:pt x="2020" y="10130"/>
                  <a:pt x="2009" y="10145"/>
                </a:cubicBezTo>
                <a:cubicBezTo>
                  <a:pt x="2001" y="10162"/>
                  <a:pt x="1992" y="10178"/>
                  <a:pt x="1984" y="10195"/>
                </a:cubicBezTo>
                <a:cubicBezTo>
                  <a:pt x="2102" y="10195"/>
                  <a:pt x="2246" y="10160"/>
                  <a:pt x="2356" y="10170"/>
                </a:cubicBezTo>
                <a:cubicBezTo>
                  <a:pt x="2379" y="10193"/>
                  <a:pt x="2383" y="10201"/>
                  <a:pt x="2406" y="10195"/>
                </a:cubicBezTo>
                <a:cubicBezTo>
                  <a:pt x="2346" y="10180"/>
                  <a:pt x="2316" y="10127"/>
                  <a:pt x="2282" y="10071"/>
                </a:cubicBezTo>
                <a:cubicBezTo>
                  <a:pt x="2243" y="10006"/>
                  <a:pt x="2242" y="9931"/>
                  <a:pt x="2208" y="9872"/>
                </a:cubicBezTo>
                <a:cubicBezTo>
                  <a:pt x="2156" y="9882"/>
                  <a:pt x="2108" y="9899"/>
                  <a:pt x="2059" y="9922"/>
                </a:cubicBezTo>
                <a:cubicBezTo>
                  <a:pt x="2018" y="9942"/>
                  <a:pt x="2012" y="9951"/>
                  <a:pt x="1984" y="9947"/>
                </a:cubicBezTo>
              </a:path>
              <a:path w="820" h="1538">
                <a:moveTo>
                  <a:pt x="1984" y="9947"/>
                </a:moveTo>
                <a:lnTo>
                  <a:pt x="1984" y="9947"/>
                </a:lnTo>
              </a:path>
              <a:path w="820" h="1538">
                <a:moveTo>
                  <a:pt x="1984" y="9947"/>
                </a:moveTo>
                <a:lnTo>
                  <a:pt x="1984" y="9947"/>
                </a:lnTo>
              </a:path>
              <a:path w="820" h="1538">
                <a:moveTo>
                  <a:pt x="1960" y="9872"/>
                </a:moveTo>
                <a:cubicBezTo>
                  <a:pt x="1960" y="9827"/>
                  <a:pt x="1998" y="10084"/>
                  <a:pt x="2009" y="10120"/>
                </a:cubicBezTo>
                <a:cubicBezTo>
                  <a:pt x="2029" y="10161"/>
                  <a:pt x="2038" y="10167"/>
                  <a:pt x="2034" y="10195"/>
                </a:cubicBezTo>
                <a:cubicBezTo>
                  <a:pt x="2020" y="10114"/>
                  <a:pt x="1984" y="10038"/>
                  <a:pt x="1935" y="9971"/>
                </a:cubicBezTo>
                <a:cubicBezTo>
                  <a:pt x="1896" y="9917"/>
                  <a:pt x="1873" y="9899"/>
                  <a:pt x="1910" y="9823"/>
                </a:cubicBezTo>
                <a:cubicBezTo>
                  <a:pt x="1968" y="9703"/>
                  <a:pt x="2012" y="9703"/>
                  <a:pt x="2108" y="9649"/>
                </a:cubicBezTo>
                <a:cubicBezTo>
                  <a:pt x="2168" y="9609"/>
                  <a:pt x="2179" y="9605"/>
                  <a:pt x="2208" y="9575"/>
                </a:cubicBezTo>
                <a:cubicBezTo>
                  <a:pt x="2262" y="9631"/>
                  <a:pt x="2277" y="9825"/>
                  <a:pt x="2307" y="9922"/>
                </a:cubicBezTo>
                <a:cubicBezTo>
                  <a:pt x="2331" y="10000"/>
                  <a:pt x="2366" y="10034"/>
                  <a:pt x="2381" y="10096"/>
                </a:cubicBezTo>
                <a:cubicBezTo>
                  <a:pt x="2272" y="10111"/>
                  <a:pt x="2171" y="10120"/>
                  <a:pt x="2059" y="10120"/>
                </a:cubicBezTo>
                <a:cubicBezTo>
                  <a:pt x="1974" y="10120"/>
                  <a:pt x="2069" y="10115"/>
                  <a:pt x="1984" y="10046"/>
                </a:cubicBezTo>
                <a:cubicBezTo>
                  <a:pt x="1944" y="10026"/>
                  <a:pt x="1928" y="10027"/>
                  <a:pt x="1935" y="9996"/>
                </a:cubicBezTo>
              </a:path>
              <a:path w="820" h="1538">
                <a:moveTo>
                  <a:pt x="2183" y="10418"/>
                </a:moveTo>
                <a:cubicBezTo>
                  <a:pt x="2259" y="10617"/>
                  <a:pt x="2285" y="10821"/>
                  <a:pt x="2381" y="11013"/>
                </a:cubicBezTo>
                <a:cubicBezTo>
                  <a:pt x="2421" y="11073"/>
                  <a:pt x="2424" y="11085"/>
                  <a:pt x="2456" y="11112"/>
                </a:cubicBezTo>
                <a:cubicBezTo>
                  <a:pt x="2518" y="11032"/>
                  <a:pt x="2571" y="10974"/>
                  <a:pt x="2679" y="10964"/>
                </a:cubicBezTo>
                <a:cubicBezTo>
                  <a:pt x="2687" y="10964"/>
                  <a:pt x="2696" y="10964"/>
                  <a:pt x="2704" y="10964"/>
                </a:cubicBezTo>
                <a:cubicBezTo>
                  <a:pt x="2681" y="10872"/>
                  <a:pt x="2627" y="10769"/>
                  <a:pt x="2604" y="10666"/>
                </a:cubicBezTo>
                <a:cubicBezTo>
                  <a:pt x="2584" y="10577"/>
                  <a:pt x="2564" y="10596"/>
                  <a:pt x="2456" y="10592"/>
                </a:cubicBezTo>
                <a:cubicBezTo>
                  <a:pt x="2381" y="10589"/>
                  <a:pt x="2344" y="10601"/>
                  <a:pt x="2282" y="1061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89240" y="3652920"/>
            <a:ext cx="1285920" cy="2571840"/>
          </a:xfrm>
          <a:custGeom>
            <a:avLst/>
            <a:gdLst/>
            <a:ahLst/>
            <a:rect l="l" t="t" r="r" b="b"/>
            <a:pathLst>
              <a:path w="3572" h="7145">
                <a:moveTo>
                  <a:pt x="14585" y="16446"/>
                </a:moveTo>
                <a:cubicBezTo>
                  <a:pt x="14644" y="16585"/>
                  <a:pt x="14699" y="16727"/>
                  <a:pt x="14759" y="16867"/>
                </a:cubicBezTo>
                <a:cubicBezTo>
                  <a:pt x="14799" y="16960"/>
                  <a:pt x="14850" y="17219"/>
                  <a:pt x="14908" y="17289"/>
                </a:cubicBezTo>
                <a:cubicBezTo>
                  <a:pt x="14916" y="17289"/>
                  <a:pt x="14924" y="17289"/>
                  <a:pt x="14932" y="17289"/>
                </a:cubicBezTo>
              </a:path>
              <a:path w="3572" h="7145">
                <a:moveTo>
                  <a:pt x="14734" y="16842"/>
                </a:moveTo>
                <a:cubicBezTo>
                  <a:pt x="14703" y="16880"/>
                  <a:pt x="14693" y="16893"/>
                  <a:pt x="14635" y="16917"/>
                </a:cubicBezTo>
                <a:cubicBezTo>
                  <a:pt x="14530" y="16961"/>
                  <a:pt x="14428" y="17027"/>
                  <a:pt x="14312" y="17041"/>
                </a:cubicBezTo>
                <a:cubicBezTo>
                  <a:pt x="14202" y="17054"/>
                  <a:pt x="14116" y="17034"/>
                  <a:pt x="14015" y="17041"/>
                </a:cubicBezTo>
                <a:cubicBezTo>
                  <a:pt x="13906" y="17048"/>
                  <a:pt x="13774" y="17107"/>
                  <a:pt x="13667" y="17090"/>
                </a:cubicBezTo>
                <a:cubicBezTo>
                  <a:pt x="13597" y="17079"/>
                  <a:pt x="13530" y="17020"/>
                  <a:pt x="13469" y="16991"/>
                </a:cubicBezTo>
                <a:cubicBezTo>
                  <a:pt x="13383" y="16950"/>
                  <a:pt x="13289" y="16901"/>
                  <a:pt x="13196" y="16892"/>
                </a:cubicBezTo>
                <a:cubicBezTo>
                  <a:pt x="13131" y="16885"/>
                  <a:pt x="13085" y="16854"/>
                  <a:pt x="13022" y="16842"/>
                </a:cubicBezTo>
                <a:cubicBezTo>
                  <a:pt x="12964" y="16831"/>
                  <a:pt x="12898" y="16802"/>
                  <a:pt x="12849" y="16793"/>
                </a:cubicBezTo>
                <a:cubicBezTo>
                  <a:pt x="12797" y="16783"/>
                  <a:pt x="12768" y="16793"/>
                  <a:pt x="12725" y="16768"/>
                </a:cubicBezTo>
                <a:cubicBezTo>
                  <a:pt x="12688" y="16747"/>
                  <a:pt x="12665" y="16726"/>
                  <a:pt x="12601" y="16718"/>
                </a:cubicBezTo>
              </a:path>
              <a:path w="3572" h="7145">
                <a:moveTo>
                  <a:pt x="13866" y="15429"/>
                </a:moveTo>
                <a:cubicBezTo>
                  <a:pt x="13806" y="15429"/>
                  <a:pt x="13789" y="15443"/>
                  <a:pt x="13742" y="15453"/>
                </a:cubicBezTo>
                <a:cubicBezTo>
                  <a:pt x="13682" y="15465"/>
                  <a:pt x="13605" y="15453"/>
                  <a:pt x="13543" y="15453"/>
                </a:cubicBezTo>
                <a:cubicBezTo>
                  <a:pt x="13532" y="15419"/>
                  <a:pt x="13536" y="15429"/>
                  <a:pt x="13494" y="15429"/>
                </a:cubicBezTo>
              </a:path>
              <a:path w="3572" h="7145">
                <a:moveTo>
                  <a:pt x="11733" y="10765"/>
                </a:moveTo>
                <a:cubicBezTo>
                  <a:pt x="11693" y="10765"/>
                  <a:pt x="11641" y="10771"/>
                  <a:pt x="11609" y="10790"/>
                </a:cubicBezTo>
                <a:cubicBezTo>
                  <a:pt x="11574" y="10811"/>
                  <a:pt x="11569" y="10811"/>
                  <a:pt x="11559" y="10840"/>
                </a:cubicBezTo>
              </a:path>
              <a:path w="3572" h="7145">
                <a:moveTo>
                  <a:pt x="11559" y="10988"/>
                </a:moveTo>
                <a:cubicBezTo>
                  <a:pt x="11505" y="10988"/>
                  <a:pt x="11479" y="11011"/>
                  <a:pt x="11485" y="11088"/>
                </a:cubicBezTo>
                <a:cubicBezTo>
                  <a:pt x="11496" y="11226"/>
                  <a:pt x="11607" y="11328"/>
                  <a:pt x="11733" y="11361"/>
                </a:cubicBezTo>
                <a:cubicBezTo>
                  <a:pt x="11749" y="11361"/>
                  <a:pt x="11766" y="11361"/>
                  <a:pt x="11782" y="11361"/>
                </a:cubicBezTo>
                <a:cubicBezTo>
                  <a:pt x="11840" y="11230"/>
                  <a:pt x="11855" y="11207"/>
                  <a:pt x="11708" y="11162"/>
                </a:cubicBezTo>
                <a:cubicBezTo>
                  <a:pt x="11634" y="11143"/>
                  <a:pt x="11601" y="11161"/>
                  <a:pt x="11609" y="11112"/>
                </a:cubicBezTo>
              </a:path>
              <a:path w="3572" h="7145">
                <a:moveTo>
                  <a:pt x="11584" y="11088"/>
                </a:moveTo>
                <a:cubicBezTo>
                  <a:pt x="11574" y="11012"/>
                  <a:pt x="11518" y="10893"/>
                  <a:pt x="11534" y="10815"/>
                </a:cubicBezTo>
                <a:cubicBezTo>
                  <a:pt x="11547" y="10755"/>
                  <a:pt x="11584" y="10752"/>
                  <a:pt x="11584" y="10691"/>
                </a:cubicBezTo>
                <a:cubicBezTo>
                  <a:pt x="11584" y="10602"/>
                  <a:pt x="11603" y="10529"/>
                  <a:pt x="11609" y="10443"/>
                </a:cubicBezTo>
                <a:cubicBezTo>
                  <a:pt x="11614" y="10374"/>
                  <a:pt x="11706" y="10393"/>
                  <a:pt x="11757" y="10393"/>
                </a:cubicBezTo>
                <a:cubicBezTo>
                  <a:pt x="11801" y="10393"/>
                  <a:pt x="11931" y="10491"/>
                  <a:pt x="11956" y="10542"/>
                </a:cubicBezTo>
                <a:cubicBezTo>
                  <a:pt x="11984" y="10599"/>
                  <a:pt x="11996" y="10724"/>
                  <a:pt x="11981" y="10790"/>
                </a:cubicBezTo>
                <a:cubicBezTo>
                  <a:pt x="11958" y="10894"/>
                  <a:pt x="11856" y="10966"/>
                  <a:pt x="11832" y="11063"/>
                </a:cubicBezTo>
                <a:cubicBezTo>
                  <a:pt x="11822" y="11101"/>
                  <a:pt x="11826" y="11143"/>
                  <a:pt x="11807" y="11088"/>
                </a:cubicBezTo>
              </a:path>
              <a:path w="3572" h="7145">
                <a:moveTo>
                  <a:pt x="11485" y="10492"/>
                </a:moveTo>
                <a:cubicBezTo>
                  <a:pt x="11451" y="10436"/>
                  <a:pt x="11442" y="10411"/>
                  <a:pt x="11410" y="10368"/>
                </a:cubicBezTo>
              </a:path>
              <a:path w="3572" h="7145">
                <a:moveTo>
                  <a:pt x="11633" y="10319"/>
                </a:moveTo>
                <a:cubicBezTo>
                  <a:pt x="11612" y="10240"/>
                  <a:pt x="11596" y="10233"/>
                  <a:pt x="11633" y="10170"/>
                </a:cubicBezTo>
              </a:path>
              <a:path w="3572" h="7145">
                <a:moveTo>
                  <a:pt x="11757" y="10195"/>
                </a:moveTo>
                <a:cubicBezTo>
                  <a:pt x="11804" y="10148"/>
                  <a:pt x="11816" y="10130"/>
                  <a:pt x="11857" y="10170"/>
                </a:cubicBezTo>
              </a:path>
              <a:path w="3572" h="7145">
                <a:moveTo>
                  <a:pt x="11931" y="10368"/>
                </a:moveTo>
                <a:cubicBezTo>
                  <a:pt x="11964" y="10368"/>
                  <a:pt x="11997" y="10368"/>
                  <a:pt x="12030" y="10368"/>
                </a:cubicBezTo>
              </a:path>
              <a:path w="3572" h="7145">
                <a:moveTo>
                  <a:pt x="12030" y="10368"/>
                </a:moveTo>
                <a:lnTo>
                  <a:pt x="12030" y="10368"/>
                </a:lnTo>
              </a:path>
              <a:path w="3572" h="7145">
                <a:moveTo>
                  <a:pt x="12129" y="10666"/>
                </a:moveTo>
                <a:cubicBezTo>
                  <a:pt x="12170" y="10646"/>
                  <a:pt x="12186" y="10627"/>
                  <a:pt x="12179" y="10666"/>
                </a:cubicBezTo>
              </a:path>
              <a:path w="3572" h="7145">
                <a:moveTo>
                  <a:pt x="12105" y="10914"/>
                </a:moveTo>
                <a:cubicBezTo>
                  <a:pt x="12138" y="10914"/>
                  <a:pt x="12154" y="10914"/>
                  <a:pt x="12179" y="10914"/>
                </a:cubicBezTo>
              </a:path>
              <a:path w="3572" h="7145">
                <a:moveTo>
                  <a:pt x="12055" y="11088"/>
                </a:moveTo>
                <a:cubicBezTo>
                  <a:pt x="12072" y="11088"/>
                  <a:pt x="12088" y="11088"/>
                  <a:pt x="12105" y="11088"/>
                </a:cubicBezTo>
              </a:path>
              <a:path w="3572" h="7145">
                <a:moveTo>
                  <a:pt x="11460" y="10815"/>
                </a:moveTo>
                <a:cubicBezTo>
                  <a:pt x="11423" y="10794"/>
                  <a:pt x="11397" y="10774"/>
                  <a:pt x="11361" y="10765"/>
                </a:cubicBezTo>
              </a:path>
              <a:path w="3572" h="7145">
                <a:moveTo>
                  <a:pt x="11733" y="11485"/>
                </a:moveTo>
                <a:cubicBezTo>
                  <a:pt x="11710" y="11462"/>
                  <a:pt x="11706" y="11454"/>
                  <a:pt x="11683" y="11460"/>
                </a:cubicBezTo>
              </a:path>
              <a:path w="3572" h="7145">
                <a:moveTo>
                  <a:pt x="11658" y="11435"/>
                </a:moveTo>
                <a:cubicBezTo>
                  <a:pt x="11658" y="11620"/>
                  <a:pt x="11653" y="11799"/>
                  <a:pt x="11683" y="11981"/>
                </a:cubicBezTo>
                <a:cubicBezTo>
                  <a:pt x="11698" y="12071"/>
                  <a:pt x="11717" y="12151"/>
                  <a:pt x="11757" y="12229"/>
                </a:cubicBezTo>
                <a:cubicBezTo>
                  <a:pt x="11796" y="12305"/>
                  <a:pt x="11842" y="12376"/>
                  <a:pt x="11881" y="12452"/>
                </a:cubicBezTo>
                <a:cubicBezTo>
                  <a:pt x="11946" y="12579"/>
                  <a:pt x="12026" y="12680"/>
                  <a:pt x="12105" y="12799"/>
                </a:cubicBezTo>
                <a:cubicBezTo>
                  <a:pt x="12256" y="13025"/>
                  <a:pt x="12447" y="13232"/>
                  <a:pt x="12576" y="13469"/>
                </a:cubicBezTo>
                <a:cubicBezTo>
                  <a:pt x="12640" y="13586"/>
                  <a:pt x="12691" y="13737"/>
                  <a:pt x="12774" y="13841"/>
                </a:cubicBezTo>
                <a:cubicBezTo>
                  <a:pt x="12893" y="13989"/>
                  <a:pt x="12988" y="14116"/>
                  <a:pt x="13072" y="14288"/>
                </a:cubicBezTo>
                <a:cubicBezTo>
                  <a:pt x="13117" y="14379"/>
                  <a:pt x="13178" y="14444"/>
                  <a:pt x="13221" y="14536"/>
                </a:cubicBezTo>
                <a:cubicBezTo>
                  <a:pt x="13248" y="14594"/>
                  <a:pt x="13263" y="14651"/>
                  <a:pt x="13295" y="14709"/>
                </a:cubicBezTo>
                <a:cubicBezTo>
                  <a:pt x="13338" y="14787"/>
                  <a:pt x="13358" y="14857"/>
                  <a:pt x="13395" y="14932"/>
                </a:cubicBezTo>
                <a:cubicBezTo>
                  <a:pt x="13420" y="14982"/>
                  <a:pt x="13444" y="15032"/>
                  <a:pt x="13469" y="15081"/>
                </a:cubicBezTo>
                <a:cubicBezTo>
                  <a:pt x="13483" y="15108"/>
                  <a:pt x="13509" y="15151"/>
                  <a:pt x="13519" y="15180"/>
                </a:cubicBezTo>
                <a:cubicBezTo>
                  <a:pt x="13534" y="15222"/>
                  <a:pt x="13527" y="15264"/>
                  <a:pt x="13543" y="15304"/>
                </a:cubicBezTo>
                <a:cubicBezTo>
                  <a:pt x="13561" y="15349"/>
                  <a:pt x="13575" y="15390"/>
                  <a:pt x="13593" y="15429"/>
                </a:cubicBezTo>
                <a:cubicBezTo>
                  <a:pt x="13593" y="15421"/>
                  <a:pt x="13593" y="15412"/>
                  <a:pt x="13593" y="154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02680" y="3456000"/>
            <a:ext cx="277560" cy="322200"/>
          </a:xfrm>
          <a:custGeom>
            <a:avLst/>
            <a:gdLst/>
            <a:ahLst/>
            <a:rect l="l" t="t" r="r" b="b"/>
            <a:pathLst>
              <a:path w="770" h="894">
                <a:moveTo>
                  <a:pt x="20960" y="9996"/>
                </a:moveTo>
                <a:cubicBezTo>
                  <a:pt x="20968" y="9996"/>
                  <a:pt x="20977" y="9996"/>
                  <a:pt x="20985" y="9996"/>
                </a:cubicBezTo>
                <a:cubicBezTo>
                  <a:pt x="20994" y="9898"/>
                  <a:pt x="20891" y="9751"/>
                  <a:pt x="20786" y="9897"/>
                </a:cubicBezTo>
                <a:cubicBezTo>
                  <a:pt x="20654" y="10081"/>
                  <a:pt x="20905" y="10038"/>
                  <a:pt x="20985" y="9947"/>
                </a:cubicBezTo>
                <a:cubicBezTo>
                  <a:pt x="20985" y="9939"/>
                  <a:pt x="20985" y="9930"/>
                  <a:pt x="20985" y="9922"/>
                </a:cubicBezTo>
                <a:cubicBezTo>
                  <a:pt x="20966" y="10077"/>
                  <a:pt x="20946" y="10212"/>
                  <a:pt x="20985" y="10368"/>
                </a:cubicBezTo>
                <a:cubicBezTo>
                  <a:pt x="20985" y="10352"/>
                  <a:pt x="20985" y="10335"/>
                  <a:pt x="20985" y="10319"/>
                </a:cubicBezTo>
              </a:path>
              <a:path w="770" h="894">
                <a:moveTo>
                  <a:pt x="20960" y="9624"/>
                </a:moveTo>
                <a:cubicBezTo>
                  <a:pt x="20587" y="9651"/>
                  <a:pt x="20486" y="9900"/>
                  <a:pt x="20613" y="10294"/>
                </a:cubicBezTo>
                <a:cubicBezTo>
                  <a:pt x="20748" y="10712"/>
                  <a:pt x="21261" y="10428"/>
                  <a:pt x="21332" y="10120"/>
                </a:cubicBezTo>
                <a:cubicBezTo>
                  <a:pt x="21281" y="9916"/>
                  <a:pt x="21261" y="9845"/>
                  <a:pt x="21183" y="97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30760" y="812880"/>
            <a:ext cx="142920" cy="115920"/>
          </a:xfrm>
          <a:custGeom>
            <a:avLst/>
            <a:gdLst/>
            <a:ahLst/>
            <a:rect l="l" t="t" r="r" b="b"/>
            <a:pathLst>
              <a:path w="398" h="324">
                <a:moveTo>
                  <a:pt x="10790" y="2505"/>
                </a:moveTo>
                <a:cubicBezTo>
                  <a:pt x="10822" y="2494"/>
                  <a:pt x="10825" y="2535"/>
                  <a:pt x="10840" y="2505"/>
                </a:cubicBezTo>
                <a:cubicBezTo>
                  <a:pt x="10860" y="2465"/>
                  <a:pt x="10763" y="2366"/>
                  <a:pt x="10840" y="2307"/>
                </a:cubicBezTo>
                <a:cubicBezTo>
                  <a:pt x="10959" y="2215"/>
                  <a:pt x="10962" y="2440"/>
                  <a:pt x="10864" y="2505"/>
                </a:cubicBezTo>
                <a:cubicBezTo>
                  <a:pt x="10746" y="2584"/>
                  <a:pt x="10703" y="2378"/>
                  <a:pt x="10765" y="2307"/>
                </a:cubicBezTo>
                <a:cubicBezTo>
                  <a:pt x="10848" y="2213"/>
                  <a:pt x="11023" y="2400"/>
                  <a:pt x="10889" y="2480"/>
                </a:cubicBezTo>
                <a:cubicBezTo>
                  <a:pt x="10751" y="2562"/>
                  <a:pt x="10658" y="2344"/>
                  <a:pt x="10765" y="2307"/>
                </a:cubicBezTo>
                <a:cubicBezTo>
                  <a:pt x="10878" y="2267"/>
                  <a:pt x="10904" y="2385"/>
                  <a:pt x="10939" y="2456"/>
                </a:cubicBezTo>
                <a:cubicBezTo>
                  <a:pt x="10861" y="2519"/>
                  <a:pt x="10582" y="2571"/>
                  <a:pt x="10666" y="2356"/>
                </a:cubicBezTo>
                <a:cubicBezTo>
                  <a:pt x="10741" y="2164"/>
                  <a:pt x="11004" y="2367"/>
                  <a:pt x="10964" y="2505"/>
                </a:cubicBezTo>
                <a:cubicBezTo>
                  <a:pt x="10904" y="2710"/>
                  <a:pt x="10524" y="2532"/>
                  <a:pt x="10641" y="2356"/>
                </a:cubicBezTo>
                <a:cubicBezTo>
                  <a:pt x="10753" y="2188"/>
                  <a:pt x="11105" y="2265"/>
                  <a:pt x="10988" y="2480"/>
                </a:cubicBezTo>
                <a:cubicBezTo>
                  <a:pt x="10886" y="2667"/>
                  <a:pt x="10592" y="2481"/>
                  <a:pt x="10740" y="2307"/>
                </a:cubicBezTo>
                <a:cubicBezTo>
                  <a:pt x="10844" y="2255"/>
                  <a:pt x="10883" y="2239"/>
                  <a:pt x="10964" y="2282"/>
                </a:cubicBezTo>
                <a:cubicBezTo>
                  <a:pt x="10985" y="2378"/>
                  <a:pt x="10886" y="2682"/>
                  <a:pt x="10765" y="2456"/>
                </a:cubicBezTo>
                <a:cubicBezTo>
                  <a:pt x="10680" y="2297"/>
                  <a:pt x="10933" y="2171"/>
                  <a:pt x="10988" y="2356"/>
                </a:cubicBezTo>
                <a:cubicBezTo>
                  <a:pt x="11045" y="2547"/>
                  <a:pt x="10765" y="2457"/>
                  <a:pt x="10765" y="2332"/>
                </a:cubicBezTo>
                <a:cubicBezTo>
                  <a:pt x="10765" y="2200"/>
                  <a:pt x="10976" y="2316"/>
                  <a:pt x="11013" y="2332"/>
                </a:cubicBezTo>
                <a:cubicBezTo>
                  <a:pt x="11020" y="2441"/>
                  <a:pt x="10954" y="2694"/>
                  <a:pt x="10790" y="2505"/>
                </a:cubicBezTo>
                <a:cubicBezTo>
                  <a:pt x="10646" y="2339"/>
                  <a:pt x="10862" y="2197"/>
                  <a:pt x="10988" y="2356"/>
                </a:cubicBezTo>
                <a:cubicBezTo>
                  <a:pt x="11113" y="2515"/>
                  <a:pt x="10931" y="2634"/>
                  <a:pt x="10815" y="2480"/>
                </a:cubicBezTo>
                <a:cubicBezTo>
                  <a:pt x="10702" y="2329"/>
                  <a:pt x="10961" y="2276"/>
                  <a:pt x="10988" y="2381"/>
                </a:cubicBezTo>
                <a:cubicBezTo>
                  <a:pt x="10980" y="2398"/>
                  <a:pt x="10972" y="2414"/>
                  <a:pt x="10964" y="24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7520" y="85680"/>
            <a:ext cx="132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ear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9760" y="482760"/>
            <a:ext cx="3598560" cy="3000240"/>
          </a:xfrm>
          <a:custGeom>
            <a:avLst/>
            <a:gdLst/>
            <a:ahLst/>
            <a:rect l="l" t="t" r="r" b="b"/>
            <a:pathLst>
              <a:path w="9997" h="8336">
                <a:moveTo>
                  <a:pt x="7987" y="1662"/>
                </a:moveTo>
                <a:cubicBezTo>
                  <a:pt x="7814" y="1969"/>
                  <a:pt x="7682" y="2170"/>
                  <a:pt x="7739" y="2530"/>
                </a:cubicBezTo>
                <a:cubicBezTo>
                  <a:pt x="7787" y="2835"/>
                  <a:pt x="7881" y="3057"/>
                  <a:pt x="8186" y="3175"/>
                </a:cubicBezTo>
                <a:cubicBezTo>
                  <a:pt x="8411" y="3262"/>
                  <a:pt x="8613" y="3151"/>
                  <a:pt x="8756" y="2977"/>
                </a:cubicBezTo>
                <a:cubicBezTo>
                  <a:pt x="8922" y="2774"/>
                  <a:pt x="9006" y="2466"/>
                  <a:pt x="9029" y="2208"/>
                </a:cubicBezTo>
                <a:cubicBezTo>
                  <a:pt x="9049" y="1988"/>
                  <a:pt x="9009" y="1797"/>
                  <a:pt x="8954" y="1588"/>
                </a:cubicBezTo>
                <a:cubicBezTo>
                  <a:pt x="8918" y="1452"/>
                  <a:pt x="8815" y="1339"/>
                  <a:pt x="8657" y="1339"/>
                </a:cubicBezTo>
                <a:cubicBezTo>
                  <a:pt x="8427" y="1339"/>
                  <a:pt x="8349" y="1495"/>
                  <a:pt x="8235" y="1662"/>
                </a:cubicBezTo>
              </a:path>
              <a:path w="9997" h="8336">
                <a:moveTo>
                  <a:pt x="9203" y="1786"/>
                </a:moveTo>
                <a:cubicBezTo>
                  <a:pt x="9291" y="1697"/>
                  <a:pt x="9355" y="1584"/>
                  <a:pt x="9451" y="1488"/>
                </a:cubicBezTo>
                <a:cubicBezTo>
                  <a:pt x="9502" y="1551"/>
                  <a:pt x="9551" y="1662"/>
                  <a:pt x="9649" y="1662"/>
                </a:cubicBezTo>
                <a:cubicBezTo>
                  <a:pt x="9809" y="1662"/>
                  <a:pt x="9851" y="1506"/>
                  <a:pt x="9996" y="1513"/>
                </a:cubicBezTo>
                <a:cubicBezTo>
                  <a:pt x="10100" y="1518"/>
                  <a:pt x="10053" y="1580"/>
                  <a:pt x="10021" y="1662"/>
                </a:cubicBezTo>
              </a:path>
              <a:path w="9997" h="8336">
                <a:moveTo>
                  <a:pt x="9277" y="2257"/>
                </a:moveTo>
                <a:cubicBezTo>
                  <a:pt x="9292" y="2213"/>
                  <a:pt x="9350" y="2236"/>
                  <a:pt x="9401" y="2183"/>
                </a:cubicBezTo>
                <a:cubicBezTo>
                  <a:pt x="9473" y="2108"/>
                  <a:pt x="9520" y="1981"/>
                  <a:pt x="9624" y="2084"/>
                </a:cubicBezTo>
                <a:cubicBezTo>
                  <a:pt x="9683" y="2143"/>
                  <a:pt x="9742" y="2087"/>
                  <a:pt x="9823" y="2059"/>
                </a:cubicBezTo>
                <a:cubicBezTo>
                  <a:pt x="9847" y="2059"/>
                  <a:pt x="9855" y="2059"/>
                  <a:pt x="9847" y="2084"/>
                </a:cubicBezTo>
              </a:path>
              <a:path w="9997" h="8336">
                <a:moveTo>
                  <a:pt x="9252" y="2654"/>
                </a:moveTo>
                <a:cubicBezTo>
                  <a:pt x="9325" y="2639"/>
                  <a:pt x="9337" y="2635"/>
                  <a:pt x="9401" y="2654"/>
                </a:cubicBezTo>
                <a:cubicBezTo>
                  <a:pt x="9448" y="2668"/>
                  <a:pt x="9477" y="2583"/>
                  <a:pt x="9500" y="2555"/>
                </a:cubicBezTo>
                <a:cubicBezTo>
                  <a:pt x="9505" y="2576"/>
                  <a:pt x="9545" y="2628"/>
                  <a:pt x="9550" y="2629"/>
                </a:cubicBezTo>
                <a:cubicBezTo>
                  <a:pt x="9623" y="2629"/>
                  <a:pt x="9647" y="2628"/>
                  <a:pt x="9674" y="2679"/>
                </a:cubicBezTo>
              </a:path>
              <a:path w="9997" h="8336">
                <a:moveTo>
                  <a:pt x="10765" y="1860"/>
                </a:moveTo>
                <a:cubicBezTo>
                  <a:pt x="10898" y="1927"/>
                  <a:pt x="11086" y="1909"/>
                  <a:pt x="11237" y="1885"/>
                </a:cubicBezTo>
                <a:cubicBezTo>
                  <a:pt x="11422" y="1855"/>
                  <a:pt x="11150" y="1706"/>
                  <a:pt x="11088" y="1662"/>
                </a:cubicBezTo>
                <a:cubicBezTo>
                  <a:pt x="11071" y="1654"/>
                  <a:pt x="11055" y="1645"/>
                  <a:pt x="11038" y="1637"/>
                </a:cubicBezTo>
                <a:cubicBezTo>
                  <a:pt x="11117" y="1637"/>
                  <a:pt x="11243" y="1654"/>
                  <a:pt x="11311" y="1687"/>
                </a:cubicBezTo>
                <a:cubicBezTo>
                  <a:pt x="11502" y="1780"/>
                  <a:pt x="11383" y="1938"/>
                  <a:pt x="11286" y="2059"/>
                </a:cubicBezTo>
                <a:cubicBezTo>
                  <a:pt x="11261" y="2084"/>
                  <a:pt x="11237" y="2108"/>
                  <a:pt x="11212" y="2133"/>
                </a:cubicBezTo>
              </a:path>
              <a:path w="9997" h="8336">
                <a:moveTo>
                  <a:pt x="7987" y="3225"/>
                </a:moveTo>
                <a:cubicBezTo>
                  <a:pt x="7981" y="3156"/>
                  <a:pt x="7970" y="3094"/>
                  <a:pt x="7962" y="3026"/>
                </a:cubicBezTo>
                <a:cubicBezTo>
                  <a:pt x="7950" y="3145"/>
                  <a:pt x="7916" y="3254"/>
                  <a:pt x="7888" y="3373"/>
                </a:cubicBezTo>
                <a:cubicBezTo>
                  <a:pt x="7842" y="3568"/>
                  <a:pt x="7786" y="3776"/>
                  <a:pt x="7764" y="3969"/>
                </a:cubicBezTo>
                <a:cubicBezTo>
                  <a:pt x="7756" y="4038"/>
                  <a:pt x="7759" y="4068"/>
                  <a:pt x="7789" y="4118"/>
                </a:cubicBezTo>
                <a:cubicBezTo>
                  <a:pt x="8000" y="4094"/>
                  <a:pt x="8217" y="4036"/>
                  <a:pt x="8434" y="4043"/>
                </a:cubicBezTo>
                <a:cubicBezTo>
                  <a:pt x="8533" y="4046"/>
                  <a:pt x="8625" y="4082"/>
                  <a:pt x="8706" y="4118"/>
                </a:cubicBezTo>
                <a:cubicBezTo>
                  <a:pt x="8722" y="3927"/>
                  <a:pt x="8769" y="3741"/>
                  <a:pt x="8756" y="3547"/>
                </a:cubicBezTo>
                <a:cubicBezTo>
                  <a:pt x="8747" y="3408"/>
                  <a:pt x="8756" y="3289"/>
                  <a:pt x="8756" y="3150"/>
                </a:cubicBezTo>
                <a:cubicBezTo>
                  <a:pt x="8756" y="3103"/>
                  <a:pt x="8743" y="3069"/>
                  <a:pt x="8731" y="3026"/>
                </a:cubicBezTo>
              </a:path>
              <a:path w="9997" h="8336">
                <a:moveTo>
                  <a:pt x="7938" y="3398"/>
                </a:moveTo>
                <a:cubicBezTo>
                  <a:pt x="7880" y="3398"/>
                  <a:pt x="7668" y="3366"/>
                  <a:pt x="7640" y="3423"/>
                </a:cubicBezTo>
                <a:cubicBezTo>
                  <a:pt x="7624" y="3455"/>
                  <a:pt x="7631" y="3518"/>
                  <a:pt x="7615" y="3547"/>
                </a:cubicBezTo>
                <a:cubicBezTo>
                  <a:pt x="7595" y="3583"/>
                  <a:pt x="7568" y="3629"/>
                  <a:pt x="7565" y="3671"/>
                </a:cubicBezTo>
                <a:cubicBezTo>
                  <a:pt x="7560" y="3737"/>
                  <a:pt x="7559" y="3765"/>
                  <a:pt x="7541" y="3820"/>
                </a:cubicBezTo>
                <a:cubicBezTo>
                  <a:pt x="7541" y="3828"/>
                  <a:pt x="7541" y="3837"/>
                  <a:pt x="7541" y="3845"/>
                </a:cubicBezTo>
                <a:cubicBezTo>
                  <a:pt x="7583" y="3845"/>
                  <a:pt x="7578" y="3835"/>
                  <a:pt x="7590" y="3870"/>
                </a:cubicBezTo>
                <a:cubicBezTo>
                  <a:pt x="7650" y="3870"/>
                  <a:pt x="7664" y="3882"/>
                  <a:pt x="7714" y="3894"/>
                </a:cubicBezTo>
              </a:path>
              <a:path w="9997" h="8336">
                <a:moveTo>
                  <a:pt x="7590" y="3870"/>
                </a:moveTo>
                <a:cubicBezTo>
                  <a:pt x="7519" y="3870"/>
                  <a:pt x="7533" y="3916"/>
                  <a:pt x="7466" y="3944"/>
                </a:cubicBezTo>
                <a:cubicBezTo>
                  <a:pt x="7430" y="3959"/>
                  <a:pt x="7454" y="3956"/>
                  <a:pt x="7417" y="3969"/>
                </a:cubicBezTo>
                <a:cubicBezTo>
                  <a:pt x="7457" y="3913"/>
                  <a:pt x="7440" y="3916"/>
                  <a:pt x="7392" y="3944"/>
                </a:cubicBezTo>
                <a:cubicBezTo>
                  <a:pt x="7349" y="3969"/>
                  <a:pt x="7289" y="4013"/>
                  <a:pt x="7243" y="4018"/>
                </a:cubicBezTo>
                <a:cubicBezTo>
                  <a:pt x="7202" y="4022"/>
                  <a:pt x="7155" y="4106"/>
                  <a:pt x="7119" y="4142"/>
                </a:cubicBezTo>
                <a:cubicBezTo>
                  <a:pt x="7084" y="4177"/>
                  <a:pt x="7053" y="4242"/>
                  <a:pt x="7045" y="4291"/>
                </a:cubicBezTo>
                <a:cubicBezTo>
                  <a:pt x="7035" y="4352"/>
                  <a:pt x="7067" y="4370"/>
                  <a:pt x="7094" y="4390"/>
                </a:cubicBezTo>
                <a:cubicBezTo>
                  <a:pt x="7157" y="4437"/>
                  <a:pt x="7206" y="4402"/>
                  <a:pt x="7268" y="4390"/>
                </a:cubicBezTo>
                <a:cubicBezTo>
                  <a:pt x="7349" y="4375"/>
                  <a:pt x="7342" y="4377"/>
                  <a:pt x="7392" y="4316"/>
                </a:cubicBezTo>
                <a:cubicBezTo>
                  <a:pt x="7418" y="4284"/>
                  <a:pt x="7508" y="4240"/>
                  <a:pt x="7516" y="4217"/>
                </a:cubicBezTo>
                <a:cubicBezTo>
                  <a:pt x="7533" y="4165"/>
                  <a:pt x="7518" y="4130"/>
                  <a:pt x="7541" y="4068"/>
                </a:cubicBezTo>
                <a:cubicBezTo>
                  <a:pt x="7556" y="4027"/>
                  <a:pt x="7565" y="4019"/>
                  <a:pt x="7565" y="3969"/>
                </a:cubicBezTo>
                <a:cubicBezTo>
                  <a:pt x="7565" y="3961"/>
                  <a:pt x="7565" y="3952"/>
                  <a:pt x="7565" y="3944"/>
                </a:cubicBezTo>
              </a:path>
              <a:path w="9997" h="8336">
                <a:moveTo>
                  <a:pt x="7144" y="4242"/>
                </a:moveTo>
                <a:cubicBezTo>
                  <a:pt x="7152" y="4191"/>
                  <a:pt x="7157" y="4174"/>
                  <a:pt x="7218" y="4167"/>
                </a:cubicBezTo>
                <a:cubicBezTo>
                  <a:pt x="7273" y="4161"/>
                  <a:pt x="7296" y="4158"/>
                  <a:pt x="7317" y="4217"/>
                </a:cubicBezTo>
                <a:cubicBezTo>
                  <a:pt x="7334" y="4264"/>
                  <a:pt x="7367" y="4314"/>
                  <a:pt x="7317" y="4366"/>
                </a:cubicBezTo>
                <a:cubicBezTo>
                  <a:pt x="7293" y="4366"/>
                  <a:pt x="7284" y="4366"/>
                  <a:pt x="7268" y="4366"/>
                </a:cubicBezTo>
              </a:path>
              <a:path w="9997" h="8336">
                <a:moveTo>
                  <a:pt x="7441" y="3944"/>
                </a:moveTo>
                <a:cubicBezTo>
                  <a:pt x="7452" y="3910"/>
                  <a:pt x="7493" y="3899"/>
                  <a:pt x="7541" y="3894"/>
                </a:cubicBezTo>
                <a:cubicBezTo>
                  <a:pt x="7596" y="3888"/>
                  <a:pt x="7618" y="3885"/>
                  <a:pt x="7640" y="3944"/>
                </a:cubicBezTo>
                <a:cubicBezTo>
                  <a:pt x="7657" y="3990"/>
                  <a:pt x="7644" y="4086"/>
                  <a:pt x="7615" y="4118"/>
                </a:cubicBezTo>
                <a:cubicBezTo>
                  <a:pt x="7576" y="4161"/>
                  <a:pt x="7532" y="4201"/>
                  <a:pt x="7491" y="4242"/>
                </a:cubicBezTo>
              </a:path>
              <a:path w="9997" h="8336">
                <a:moveTo>
                  <a:pt x="2108" y="9674"/>
                </a:moveTo>
                <a:cubicBezTo>
                  <a:pt x="2153" y="9674"/>
                  <a:pt x="2169" y="9659"/>
                  <a:pt x="2208" y="9649"/>
                </a:cubicBezTo>
                <a:cubicBezTo>
                  <a:pt x="2219" y="9615"/>
                  <a:pt x="2221" y="9626"/>
                  <a:pt x="2257" y="9599"/>
                </a:cubicBezTo>
              </a:path>
              <a:path w="9997" h="8336">
                <a:moveTo>
                  <a:pt x="1935" y="9302"/>
                </a:moveTo>
                <a:cubicBezTo>
                  <a:pt x="1964" y="9251"/>
                  <a:pt x="1946" y="9223"/>
                  <a:pt x="1984" y="9178"/>
                </a:cubicBezTo>
                <a:cubicBezTo>
                  <a:pt x="2060" y="9087"/>
                  <a:pt x="2147" y="8986"/>
                  <a:pt x="2232" y="8905"/>
                </a:cubicBezTo>
                <a:cubicBezTo>
                  <a:pt x="2337" y="8804"/>
                  <a:pt x="2456" y="8733"/>
                  <a:pt x="2580" y="8657"/>
                </a:cubicBezTo>
                <a:cubicBezTo>
                  <a:pt x="2621" y="8632"/>
                  <a:pt x="2655" y="8593"/>
                  <a:pt x="2704" y="8582"/>
                </a:cubicBezTo>
                <a:cubicBezTo>
                  <a:pt x="2799" y="8562"/>
                  <a:pt x="2917" y="8587"/>
                  <a:pt x="3001" y="8607"/>
                </a:cubicBezTo>
                <a:cubicBezTo>
                  <a:pt x="3071" y="8624"/>
                  <a:pt x="3134" y="8640"/>
                  <a:pt x="3200" y="8657"/>
                </a:cubicBezTo>
                <a:cubicBezTo>
                  <a:pt x="3260" y="8672"/>
                  <a:pt x="3311" y="8694"/>
                  <a:pt x="3373" y="8706"/>
                </a:cubicBezTo>
                <a:cubicBezTo>
                  <a:pt x="3488" y="8728"/>
                  <a:pt x="3577" y="8743"/>
                  <a:pt x="3696" y="8706"/>
                </a:cubicBezTo>
                <a:cubicBezTo>
                  <a:pt x="3737" y="8694"/>
                  <a:pt x="3758" y="8678"/>
                  <a:pt x="3795" y="8657"/>
                </a:cubicBezTo>
                <a:cubicBezTo>
                  <a:pt x="3872" y="8613"/>
                  <a:pt x="3933" y="8549"/>
                  <a:pt x="3994" y="8483"/>
                </a:cubicBezTo>
                <a:cubicBezTo>
                  <a:pt x="4028" y="8447"/>
                  <a:pt x="4081" y="8380"/>
                  <a:pt x="4093" y="8359"/>
                </a:cubicBezTo>
                <a:cubicBezTo>
                  <a:pt x="4122" y="8310"/>
                  <a:pt x="4155" y="8241"/>
                  <a:pt x="4167" y="8186"/>
                </a:cubicBezTo>
                <a:cubicBezTo>
                  <a:pt x="4185" y="8101"/>
                  <a:pt x="4151" y="8017"/>
                  <a:pt x="4142" y="7938"/>
                </a:cubicBezTo>
                <a:cubicBezTo>
                  <a:pt x="4135" y="7880"/>
                  <a:pt x="4135" y="7794"/>
                  <a:pt x="4118" y="7739"/>
                </a:cubicBezTo>
                <a:cubicBezTo>
                  <a:pt x="4100" y="7683"/>
                  <a:pt x="4060" y="7627"/>
                  <a:pt x="4043" y="7565"/>
                </a:cubicBezTo>
                <a:cubicBezTo>
                  <a:pt x="4018" y="7473"/>
                  <a:pt x="4014" y="7404"/>
                  <a:pt x="4018" y="7317"/>
                </a:cubicBezTo>
                <a:cubicBezTo>
                  <a:pt x="4023" y="7224"/>
                  <a:pt x="4041" y="7149"/>
                  <a:pt x="4093" y="7069"/>
                </a:cubicBezTo>
                <a:cubicBezTo>
                  <a:pt x="4127" y="7017"/>
                  <a:pt x="4165" y="6960"/>
                  <a:pt x="4217" y="6921"/>
                </a:cubicBezTo>
                <a:cubicBezTo>
                  <a:pt x="4279" y="6874"/>
                  <a:pt x="4344" y="6852"/>
                  <a:pt x="4415" y="6821"/>
                </a:cubicBezTo>
                <a:cubicBezTo>
                  <a:pt x="4485" y="6791"/>
                  <a:pt x="4557" y="6787"/>
                  <a:pt x="4638" y="6772"/>
                </a:cubicBezTo>
                <a:cubicBezTo>
                  <a:pt x="4741" y="6753"/>
                  <a:pt x="4834" y="6726"/>
                  <a:pt x="4936" y="6697"/>
                </a:cubicBezTo>
                <a:cubicBezTo>
                  <a:pt x="5163" y="6632"/>
                  <a:pt x="5400" y="6589"/>
                  <a:pt x="5581" y="6424"/>
                </a:cubicBezTo>
                <a:cubicBezTo>
                  <a:pt x="5640" y="6370"/>
                  <a:pt x="5698" y="6299"/>
                  <a:pt x="5730" y="6226"/>
                </a:cubicBezTo>
                <a:cubicBezTo>
                  <a:pt x="5773" y="6127"/>
                  <a:pt x="5780" y="6065"/>
                  <a:pt x="5779" y="5953"/>
                </a:cubicBezTo>
                <a:cubicBezTo>
                  <a:pt x="5777" y="5820"/>
                  <a:pt x="5746" y="5689"/>
                  <a:pt x="5730" y="5556"/>
                </a:cubicBezTo>
                <a:cubicBezTo>
                  <a:pt x="5711" y="5401"/>
                  <a:pt x="5647" y="5109"/>
                  <a:pt x="5730" y="4961"/>
                </a:cubicBezTo>
                <a:cubicBezTo>
                  <a:pt x="5758" y="4910"/>
                  <a:pt x="5810" y="4868"/>
                  <a:pt x="5854" y="4837"/>
                </a:cubicBezTo>
                <a:cubicBezTo>
                  <a:pt x="5905" y="4801"/>
                  <a:pt x="5971" y="4784"/>
                  <a:pt x="6028" y="4762"/>
                </a:cubicBezTo>
                <a:cubicBezTo>
                  <a:pt x="6094" y="4736"/>
                  <a:pt x="6162" y="4733"/>
                  <a:pt x="6226" y="4713"/>
                </a:cubicBezTo>
                <a:cubicBezTo>
                  <a:pt x="6279" y="4697"/>
                  <a:pt x="6330" y="4683"/>
                  <a:pt x="6375" y="4663"/>
                </a:cubicBezTo>
                <a:cubicBezTo>
                  <a:pt x="6416" y="4645"/>
                  <a:pt x="6457" y="4610"/>
                  <a:pt x="6499" y="4589"/>
                </a:cubicBezTo>
                <a:cubicBezTo>
                  <a:pt x="6536" y="4570"/>
                  <a:pt x="6557" y="4568"/>
                  <a:pt x="6598" y="4539"/>
                </a:cubicBezTo>
                <a:cubicBezTo>
                  <a:pt x="6656" y="4499"/>
                  <a:pt x="6719" y="4450"/>
                  <a:pt x="6772" y="4415"/>
                </a:cubicBezTo>
                <a:cubicBezTo>
                  <a:pt x="6804" y="4394"/>
                  <a:pt x="6842" y="4385"/>
                  <a:pt x="6871" y="4366"/>
                </a:cubicBezTo>
                <a:cubicBezTo>
                  <a:pt x="6896" y="4366"/>
                  <a:pt x="6904" y="4366"/>
                  <a:pt x="6896" y="4341"/>
                </a:cubicBezTo>
              </a:path>
              <a:path w="9997" h="8336">
                <a:moveTo>
                  <a:pt x="1538" y="8657"/>
                </a:moveTo>
                <a:cubicBezTo>
                  <a:pt x="1538" y="8649"/>
                  <a:pt x="1538" y="8640"/>
                  <a:pt x="1538" y="8632"/>
                </a:cubicBezTo>
                <a:cubicBezTo>
                  <a:pt x="1538" y="8716"/>
                  <a:pt x="1611" y="8729"/>
                  <a:pt x="1637" y="8781"/>
                </a:cubicBezTo>
                <a:cubicBezTo>
                  <a:pt x="1651" y="8809"/>
                  <a:pt x="1678" y="8893"/>
                  <a:pt x="1687" y="8930"/>
                </a:cubicBezTo>
                <a:cubicBezTo>
                  <a:pt x="1727" y="8943"/>
                  <a:pt x="1697" y="8941"/>
                  <a:pt x="1736" y="8954"/>
                </a:cubicBezTo>
                <a:cubicBezTo>
                  <a:pt x="1748" y="9004"/>
                  <a:pt x="1760" y="9004"/>
                  <a:pt x="1811" y="9004"/>
                </a:cubicBezTo>
              </a:path>
              <a:path w="9997" h="8336">
                <a:moveTo>
                  <a:pt x="1860" y="8756"/>
                </a:moveTo>
                <a:cubicBezTo>
                  <a:pt x="1843" y="8825"/>
                  <a:pt x="1779" y="8876"/>
                  <a:pt x="1761" y="8954"/>
                </a:cubicBezTo>
                <a:cubicBezTo>
                  <a:pt x="1761" y="9006"/>
                  <a:pt x="1762" y="9024"/>
                  <a:pt x="1786" y="9054"/>
                </a:cubicBezTo>
                <a:cubicBezTo>
                  <a:pt x="1953" y="9039"/>
                  <a:pt x="2026" y="8985"/>
                  <a:pt x="2133" y="8855"/>
                </a:cubicBezTo>
                <a:cubicBezTo>
                  <a:pt x="2176" y="8792"/>
                  <a:pt x="2192" y="8780"/>
                  <a:pt x="2183" y="8731"/>
                </a:cubicBezTo>
                <a:cubicBezTo>
                  <a:pt x="2097" y="8702"/>
                  <a:pt x="2060" y="8688"/>
                  <a:pt x="1984" y="8706"/>
                </a:cubicBezTo>
              </a:path>
              <a:path w="9997" h="8336">
                <a:moveTo>
                  <a:pt x="1836" y="8830"/>
                </a:moveTo>
                <a:cubicBezTo>
                  <a:pt x="1871" y="8806"/>
                  <a:pt x="1906" y="8727"/>
                  <a:pt x="1960" y="8682"/>
                </a:cubicBezTo>
                <a:cubicBezTo>
                  <a:pt x="2025" y="8628"/>
                  <a:pt x="2097" y="8557"/>
                  <a:pt x="2158" y="8508"/>
                </a:cubicBezTo>
                <a:cubicBezTo>
                  <a:pt x="2209" y="8467"/>
                  <a:pt x="2292" y="8388"/>
                  <a:pt x="2332" y="8359"/>
                </a:cubicBezTo>
                <a:cubicBezTo>
                  <a:pt x="2380" y="8324"/>
                  <a:pt x="2296" y="8413"/>
                  <a:pt x="2257" y="8458"/>
                </a:cubicBezTo>
                <a:cubicBezTo>
                  <a:pt x="2198" y="8527"/>
                  <a:pt x="2152" y="8603"/>
                  <a:pt x="2108" y="8682"/>
                </a:cubicBezTo>
                <a:cubicBezTo>
                  <a:pt x="2294" y="8731"/>
                  <a:pt x="2363" y="8679"/>
                  <a:pt x="2456" y="8508"/>
                </a:cubicBezTo>
                <a:cubicBezTo>
                  <a:pt x="2464" y="8483"/>
                  <a:pt x="2472" y="8459"/>
                  <a:pt x="2480" y="8434"/>
                </a:cubicBezTo>
                <a:cubicBezTo>
                  <a:pt x="2413" y="8379"/>
                  <a:pt x="2367" y="8384"/>
                  <a:pt x="2282" y="8384"/>
                </a:cubicBezTo>
                <a:cubicBezTo>
                  <a:pt x="2274" y="8384"/>
                  <a:pt x="2265" y="8384"/>
                  <a:pt x="2257" y="8384"/>
                </a:cubicBezTo>
              </a:path>
              <a:path w="9997" h="8336">
                <a:moveTo>
                  <a:pt x="2332" y="8285"/>
                </a:moveTo>
                <a:cubicBezTo>
                  <a:pt x="2405" y="8211"/>
                  <a:pt x="2369" y="8245"/>
                  <a:pt x="2406" y="8186"/>
                </a:cubicBezTo>
                <a:cubicBezTo>
                  <a:pt x="2420" y="8164"/>
                  <a:pt x="2470" y="8163"/>
                  <a:pt x="2505" y="8136"/>
                </a:cubicBezTo>
                <a:cubicBezTo>
                  <a:pt x="2531" y="8116"/>
                  <a:pt x="2507" y="8123"/>
                  <a:pt x="2555" y="8111"/>
                </a:cubicBezTo>
                <a:cubicBezTo>
                  <a:pt x="2475" y="8111"/>
                  <a:pt x="2427" y="8106"/>
                  <a:pt x="2356" y="8136"/>
                </a:cubicBezTo>
                <a:cubicBezTo>
                  <a:pt x="2289" y="8165"/>
                  <a:pt x="2230" y="8183"/>
                  <a:pt x="2183" y="8210"/>
                </a:cubicBezTo>
                <a:cubicBezTo>
                  <a:pt x="2153" y="8227"/>
                  <a:pt x="2122" y="8233"/>
                  <a:pt x="2084" y="8235"/>
                </a:cubicBezTo>
                <a:cubicBezTo>
                  <a:pt x="2047" y="8237"/>
                  <a:pt x="2011" y="8227"/>
                  <a:pt x="1984" y="8210"/>
                </a:cubicBezTo>
                <a:cubicBezTo>
                  <a:pt x="1968" y="8200"/>
                  <a:pt x="1928" y="8175"/>
                  <a:pt x="1910" y="8161"/>
                </a:cubicBezTo>
                <a:cubicBezTo>
                  <a:pt x="1882" y="8138"/>
                  <a:pt x="1852" y="8144"/>
                  <a:pt x="1836" y="8111"/>
                </a:cubicBezTo>
                <a:cubicBezTo>
                  <a:pt x="1816" y="8071"/>
                  <a:pt x="1855" y="8020"/>
                  <a:pt x="1860" y="7987"/>
                </a:cubicBezTo>
                <a:cubicBezTo>
                  <a:pt x="1874" y="7901"/>
                  <a:pt x="1860" y="7802"/>
                  <a:pt x="1860" y="7714"/>
                </a:cubicBezTo>
                <a:cubicBezTo>
                  <a:pt x="1813" y="7781"/>
                  <a:pt x="1763" y="7841"/>
                  <a:pt x="1712" y="7913"/>
                </a:cubicBezTo>
                <a:cubicBezTo>
                  <a:pt x="1690" y="7944"/>
                  <a:pt x="1654" y="8018"/>
                  <a:pt x="1637" y="8037"/>
                </a:cubicBezTo>
                <a:cubicBezTo>
                  <a:pt x="1595" y="8083"/>
                  <a:pt x="1581" y="8104"/>
                  <a:pt x="1538" y="8161"/>
                </a:cubicBezTo>
                <a:cubicBezTo>
                  <a:pt x="1515" y="8192"/>
                  <a:pt x="1516" y="8197"/>
                  <a:pt x="1588" y="8210"/>
                </a:cubicBezTo>
                <a:cubicBezTo>
                  <a:pt x="1623" y="8216"/>
                  <a:pt x="1660" y="8229"/>
                  <a:pt x="1687" y="8235"/>
                </a:cubicBezTo>
                <a:cubicBezTo>
                  <a:pt x="1726" y="8243"/>
                  <a:pt x="1772" y="8256"/>
                  <a:pt x="1786" y="8285"/>
                </a:cubicBezTo>
                <a:cubicBezTo>
                  <a:pt x="1816" y="8345"/>
                  <a:pt x="1744" y="8382"/>
                  <a:pt x="1712" y="8409"/>
                </a:cubicBezTo>
                <a:cubicBezTo>
                  <a:pt x="1675" y="8440"/>
                  <a:pt x="1656" y="8487"/>
                  <a:pt x="1637" y="8508"/>
                </a:cubicBezTo>
                <a:cubicBezTo>
                  <a:pt x="1633" y="8513"/>
                  <a:pt x="1591" y="8556"/>
                  <a:pt x="1588" y="8558"/>
                </a:cubicBezTo>
                <a:cubicBezTo>
                  <a:pt x="1560" y="8576"/>
                  <a:pt x="1520" y="8588"/>
                  <a:pt x="1488" y="8607"/>
                </a:cubicBezTo>
                <a:cubicBezTo>
                  <a:pt x="1415" y="8651"/>
                  <a:pt x="1400" y="8655"/>
                  <a:pt x="1439" y="8731"/>
                </a:cubicBezTo>
                <a:cubicBezTo>
                  <a:pt x="1467" y="8784"/>
                  <a:pt x="1496" y="8813"/>
                  <a:pt x="1538" y="8855"/>
                </a:cubicBezTo>
                <a:cubicBezTo>
                  <a:pt x="1554" y="8871"/>
                  <a:pt x="1565" y="8896"/>
                  <a:pt x="1612" y="8880"/>
                </a:cubicBezTo>
                <a:cubicBezTo>
                  <a:pt x="1653" y="8866"/>
                  <a:pt x="1686" y="8792"/>
                  <a:pt x="1736" y="8756"/>
                </a:cubicBezTo>
                <a:cubicBezTo>
                  <a:pt x="1792" y="8715"/>
                  <a:pt x="1801" y="8728"/>
                  <a:pt x="1860" y="8682"/>
                </a:cubicBezTo>
              </a:path>
              <a:path w="9997" h="8336">
                <a:moveTo>
                  <a:pt x="2480" y="7938"/>
                </a:moveTo>
                <a:cubicBezTo>
                  <a:pt x="2507" y="7863"/>
                  <a:pt x="2551" y="7718"/>
                  <a:pt x="2654" y="7714"/>
                </a:cubicBezTo>
                <a:cubicBezTo>
                  <a:pt x="2707" y="7712"/>
                  <a:pt x="2745" y="7750"/>
                  <a:pt x="2803" y="7739"/>
                </a:cubicBezTo>
                <a:cubicBezTo>
                  <a:pt x="2873" y="7726"/>
                  <a:pt x="2972" y="7578"/>
                  <a:pt x="2977" y="7516"/>
                </a:cubicBezTo>
                <a:cubicBezTo>
                  <a:pt x="2981" y="7461"/>
                  <a:pt x="2909" y="7291"/>
                  <a:pt x="2877" y="7243"/>
                </a:cubicBezTo>
                <a:cubicBezTo>
                  <a:pt x="2836" y="7182"/>
                  <a:pt x="2804" y="7129"/>
                  <a:pt x="2828" y="7045"/>
                </a:cubicBezTo>
                <a:cubicBezTo>
                  <a:pt x="2848" y="6975"/>
                  <a:pt x="2918" y="6912"/>
                  <a:pt x="2952" y="6896"/>
                </a:cubicBezTo>
                <a:cubicBezTo>
                  <a:pt x="2960" y="6896"/>
                  <a:pt x="2969" y="6896"/>
                  <a:pt x="2977" y="6896"/>
                </a:cubicBezTo>
                <a:cubicBezTo>
                  <a:pt x="2877" y="6936"/>
                  <a:pt x="2777" y="6975"/>
                  <a:pt x="2679" y="7020"/>
                </a:cubicBezTo>
                <a:cubicBezTo>
                  <a:pt x="2768" y="6923"/>
                  <a:pt x="2869" y="6840"/>
                  <a:pt x="3001" y="6796"/>
                </a:cubicBezTo>
                <a:cubicBezTo>
                  <a:pt x="3009" y="6796"/>
                  <a:pt x="3018" y="6796"/>
                  <a:pt x="3026" y="6796"/>
                </a:cubicBezTo>
                <a:cubicBezTo>
                  <a:pt x="3040" y="6906"/>
                  <a:pt x="3010" y="7023"/>
                  <a:pt x="3051" y="711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47960" y="527040"/>
            <a:ext cx="430200" cy="571680"/>
          </a:xfrm>
          <a:custGeom>
            <a:avLst/>
            <a:gdLst/>
            <a:ahLst/>
            <a:rect l="l" t="t" r="r" b="b"/>
            <a:pathLst>
              <a:path w="1191" h="1589">
                <a:moveTo>
                  <a:pt x="8632" y="2282"/>
                </a:moveTo>
                <a:cubicBezTo>
                  <a:pt x="8592" y="2275"/>
                  <a:pt x="8531" y="2264"/>
                  <a:pt x="8458" y="2183"/>
                </a:cubicBezTo>
                <a:cubicBezTo>
                  <a:pt x="8345" y="2057"/>
                  <a:pt x="8274" y="1879"/>
                  <a:pt x="8285" y="1712"/>
                </a:cubicBezTo>
                <a:cubicBezTo>
                  <a:pt x="8294" y="1575"/>
                  <a:pt x="8343" y="1538"/>
                  <a:pt x="8434" y="1463"/>
                </a:cubicBezTo>
                <a:cubicBezTo>
                  <a:pt x="8603" y="1520"/>
                  <a:pt x="8640" y="1685"/>
                  <a:pt x="8657" y="1860"/>
                </a:cubicBezTo>
                <a:cubicBezTo>
                  <a:pt x="8674" y="2039"/>
                  <a:pt x="8622" y="2162"/>
                  <a:pt x="8533" y="2307"/>
                </a:cubicBezTo>
                <a:cubicBezTo>
                  <a:pt x="8508" y="2347"/>
                  <a:pt x="8453" y="2428"/>
                  <a:pt x="8434" y="2505"/>
                </a:cubicBezTo>
                <a:cubicBezTo>
                  <a:pt x="8374" y="2740"/>
                  <a:pt x="8413" y="2871"/>
                  <a:pt x="8558" y="3051"/>
                </a:cubicBezTo>
                <a:cubicBezTo>
                  <a:pt x="8763" y="3000"/>
                  <a:pt x="8842" y="2864"/>
                  <a:pt x="8806" y="2629"/>
                </a:cubicBezTo>
                <a:cubicBezTo>
                  <a:pt x="8785" y="2495"/>
                  <a:pt x="8690" y="2449"/>
                  <a:pt x="8607" y="2381"/>
                </a:cubicBezTo>
                <a:cubicBezTo>
                  <a:pt x="8583" y="2362"/>
                  <a:pt x="8589" y="2341"/>
                  <a:pt x="8607" y="2307"/>
                </a:cubicBezTo>
                <a:cubicBezTo>
                  <a:pt x="8659" y="2209"/>
                  <a:pt x="8715" y="2080"/>
                  <a:pt x="8806" y="2009"/>
                </a:cubicBezTo>
                <a:cubicBezTo>
                  <a:pt x="8888" y="1945"/>
                  <a:pt x="8994" y="1870"/>
                  <a:pt x="9079" y="1836"/>
                </a:cubicBezTo>
                <a:cubicBezTo>
                  <a:pt x="9106" y="2031"/>
                  <a:pt x="9041" y="2092"/>
                  <a:pt x="8905" y="2232"/>
                </a:cubicBezTo>
                <a:cubicBezTo>
                  <a:pt x="8811" y="2329"/>
                  <a:pt x="8760" y="2332"/>
                  <a:pt x="8632" y="2332"/>
                </a:cubicBezTo>
              </a:path>
              <a:path w="1191" h="1589">
                <a:moveTo>
                  <a:pt x="8632" y="2332"/>
                </a:moveTo>
                <a:cubicBezTo>
                  <a:pt x="8610" y="2243"/>
                  <a:pt x="8462" y="2246"/>
                  <a:pt x="8384" y="2232"/>
                </a:cubicBezTo>
                <a:cubicBezTo>
                  <a:pt x="8176" y="2194"/>
                  <a:pt x="8055" y="2264"/>
                  <a:pt x="7913" y="2406"/>
                </a:cubicBezTo>
                <a:cubicBezTo>
                  <a:pt x="8027" y="2537"/>
                  <a:pt x="8295" y="2542"/>
                  <a:pt x="8483" y="2456"/>
                </a:cubicBezTo>
                <a:cubicBezTo>
                  <a:pt x="8587" y="2409"/>
                  <a:pt x="8600" y="2353"/>
                  <a:pt x="8657" y="22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89240" y="1527120"/>
            <a:ext cx="277920" cy="303120"/>
          </a:xfrm>
          <a:custGeom>
            <a:avLst/>
            <a:gdLst/>
            <a:ahLst/>
            <a:rect l="l" t="t" r="r" b="b"/>
            <a:pathLst>
              <a:path w="769" h="844">
                <a:moveTo>
                  <a:pt x="11782" y="4514"/>
                </a:moveTo>
                <a:cubicBezTo>
                  <a:pt x="11782" y="4450"/>
                  <a:pt x="11761" y="4452"/>
                  <a:pt x="11683" y="4465"/>
                </a:cubicBezTo>
                <a:cubicBezTo>
                  <a:pt x="11654" y="4470"/>
                  <a:pt x="11478" y="4608"/>
                  <a:pt x="11609" y="4614"/>
                </a:cubicBezTo>
                <a:cubicBezTo>
                  <a:pt x="11715" y="4587"/>
                  <a:pt x="11752" y="4573"/>
                  <a:pt x="11782" y="4490"/>
                </a:cubicBezTo>
                <a:cubicBezTo>
                  <a:pt x="11782" y="4482"/>
                  <a:pt x="11782" y="4473"/>
                  <a:pt x="11782" y="4465"/>
                </a:cubicBezTo>
                <a:cubicBezTo>
                  <a:pt x="11782" y="4589"/>
                  <a:pt x="11831" y="4691"/>
                  <a:pt x="11857" y="4812"/>
                </a:cubicBezTo>
                <a:cubicBezTo>
                  <a:pt x="11867" y="4857"/>
                  <a:pt x="11831" y="4778"/>
                  <a:pt x="11807" y="4738"/>
                </a:cubicBezTo>
              </a:path>
              <a:path w="769" h="844">
                <a:moveTo>
                  <a:pt x="11658" y="4514"/>
                </a:moveTo>
                <a:cubicBezTo>
                  <a:pt x="11701" y="4514"/>
                  <a:pt x="11683" y="4550"/>
                  <a:pt x="11683" y="4589"/>
                </a:cubicBezTo>
              </a:path>
              <a:path w="769" h="844">
                <a:moveTo>
                  <a:pt x="11708" y="4614"/>
                </a:moveTo>
                <a:cubicBezTo>
                  <a:pt x="11738" y="4614"/>
                  <a:pt x="11658" y="4603"/>
                  <a:pt x="11633" y="4688"/>
                </a:cubicBezTo>
                <a:cubicBezTo>
                  <a:pt x="11612" y="4758"/>
                  <a:pt x="11676" y="4966"/>
                  <a:pt x="11782" y="4936"/>
                </a:cubicBezTo>
                <a:cubicBezTo>
                  <a:pt x="11881" y="4907"/>
                  <a:pt x="11960" y="4766"/>
                  <a:pt x="11931" y="4713"/>
                </a:cubicBezTo>
                <a:cubicBezTo>
                  <a:pt x="11895" y="4647"/>
                  <a:pt x="11872" y="4626"/>
                  <a:pt x="11807" y="4589"/>
                </a:cubicBezTo>
              </a:path>
              <a:path w="769" h="844">
                <a:moveTo>
                  <a:pt x="11609" y="4291"/>
                </a:moveTo>
                <a:cubicBezTo>
                  <a:pt x="11451" y="4344"/>
                  <a:pt x="11350" y="4514"/>
                  <a:pt x="11361" y="4688"/>
                </a:cubicBezTo>
                <a:cubicBezTo>
                  <a:pt x="11380" y="5002"/>
                  <a:pt x="11838" y="5281"/>
                  <a:pt x="12080" y="4986"/>
                </a:cubicBezTo>
                <a:cubicBezTo>
                  <a:pt x="12226" y="4808"/>
                  <a:pt x="12120" y="4341"/>
                  <a:pt x="11906" y="4242"/>
                </a:cubicBezTo>
                <a:cubicBezTo>
                  <a:pt x="11865" y="4242"/>
                  <a:pt x="11823" y="4242"/>
                  <a:pt x="11782" y="424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24360" y="652320"/>
            <a:ext cx="2697480" cy="2616480"/>
          </a:xfrm>
          <a:custGeom>
            <a:avLst/>
            <a:gdLst/>
            <a:ahLst/>
            <a:rect l="l" t="t" r="r" b="b"/>
            <a:pathLst>
              <a:path w="7492" h="7269">
                <a:moveTo>
                  <a:pt x="22151" y="5804"/>
                </a:moveTo>
                <a:cubicBezTo>
                  <a:pt x="22151" y="5697"/>
                  <a:pt x="22154" y="5585"/>
                  <a:pt x="22175" y="5482"/>
                </a:cubicBezTo>
                <a:cubicBezTo>
                  <a:pt x="22202" y="5349"/>
                  <a:pt x="22239" y="5221"/>
                  <a:pt x="22250" y="5085"/>
                </a:cubicBezTo>
                <a:cubicBezTo>
                  <a:pt x="22262" y="4935"/>
                  <a:pt x="22259" y="4785"/>
                  <a:pt x="22275" y="4638"/>
                </a:cubicBezTo>
                <a:cubicBezTo>
                  <a:pt x="22285" y="4547"/>
                  <a:pt x="22258" y="4472"/>
                  <a:pt x="22250" y="4390"/>
                </a:cubicBezTo>
                <a:cubicBezTo>
                  <a:pt x="22225" y="4142"/>
                  <a:pt x="22275" y="3886"/>
                  <a:pt x="22225" y="3646"/>
                </a:cubicBezTo>
                <a:cubicBezTo>
                  <a:pt x="22211" y="3578"/>
                  <a:pt x="22192" y="3515"/>
                  <a:pt x="22175" y="3448"/>
                </a:cubicBezTo>
                <a:cubicBezTo>
                  <a:pt x="22158" y="3380"/>
                  <a:pt x="22149" y="3289"/>
                  <a:pt x="22126" y="3225"/>
                </a:cubicBezTo>
                <a:cubicBezTo>
                  <a:pt x="22109" y="3178"/>
                  <a:pt x="22075" y="3097"/>
                  <a:pt x="22051" y="3051"/>
                </a:cubicBezTo>
                <a:cubicBezTo>
                  <a:pt x="22023" y="2997"/>
                  <a:pt x="21990" y="2949"/>
                  <a:pt x="21952" y="2902"/>
                </a:cubicBezTo>
                <a:cubicBezTo>
                  <a:pt x="21921" y="2864"/>
                  <a:pt x="21852" y="2820"/>
                  <a:pt x="21803" y="2803"/>
                </a:cubicBezTo>
                <a:cubicBezTo>
                  <a:pt x="21734" y="2779"/>
                  <a:pt x="21679" y="2778"/>
                  <a:pt x="21605" y="2778"/>
                </a:cubicBezTo>
                <a:cubicBezTo>
                  <a:pt x="21506" y="2778"/>
                  <a:pt x="21424" y="2777"/>
                  <a:pt x="21332" y="2803"/>
                </a:cubicBezTo>
                <a:cubicBezTo>
                  <a:pt x="21270" y="2820"/>
                  <a:pt x="21182" y="2856"/>
                  <a:pt x="21134" y="2902"/>
                </a:cubicBezTo>
                <a:cubicBezTo>
                  <a:pt x="21118" y="2918"/>
                  <a:pt x="21071" y="3000"/>
                  <a:pt x="21059" y="3026"/>
                </a:cubicBezTo>
                <a:cubicBezTo>
                  <a:pt x="21035" y="3080"/>
                  <a:pt x="21008" y="3143"/>
                  <a:pt x="21010" y="3200"/>
                </a:cubicBezTo>
                <a:cubicBezTo>
                  <a:pt x="21011" y="3232"/>
                  <a:pt x="21034" y="3248"/>
                  <a:pt x="21034" y="3249"/>
                </a:cubicBezTo>
              </a:path>
              <a:path w="7492" h="7269">
                <a:moveTo>
                  <a:pt x="22027" y="3076"/>
                </a:moveTo>
                <a:cubicBezTo>
                  <a:pt x="21904" y="3021"/>
                  <a:pt x="21854" y="3010"/>
                  <a:pt x="21729" y="3076"/>
                </a:cubicBezTo>
                <a:cubicBezTo>
                  <a:pt x="21612" y="3138"/>
                  <a:pt x="21564" y="3236"/>
                  <a:pt x="21605" y="3373"/>
                </a:cubicBezTo>
                <a:cubicBezTo>
                  <a:pt x="21655" y="3540"/>
                  <a:pt x="21850" y="3519"/>
                  <a:pt x="21977" y="3497"/>
                </a:cubicBezTo>
                <a:cubicBezTo>
                  <a:pt x="22118" y="3473"/>
                  <a:pt x="22200" y="3366"/>
                  <a:pt x="22225" y="3225"/>
                </a:cubicBezTo>
                <a:cubicBezTo>
                  <a:pt x="22245" y="3111"/>
                  <a:pt x="22146" y="3011"/>
                  <a:pt x="22051" y="2977"/>
                </a:cubicBezTo>
                <a:cubicBezTo>
                  <a:pt x="21967" y="2947"/>
                  <a:pt x="21827" y="2928"/>
                  <a:pt x="21754" y="3001"/>
                </a:cubicBezTo>
                <a:cubicBezTo>
                  <a:pt x="21754" y="3009"/>
                  <a:pt x="21754" y="3018"/>
                  <a:pt x="21754" y="3026"/>
                </a:cubicBezTo>
              </a:path>
              <a:path w="7492" h="7269">
                <a:moveTo>
                  <a:pt x="20886" y="3249"/>
                </a:moveTo>
                <a:cubicBezTo>
                  <a:pt x="20878" y="3249"/>
                  <a:pt x="20869" y="3249"/>
                  <a:pt x="20861" y="3249"/>
                </a:cubicBezTo>
                <a:cubicBezTo>
                  <a:pt x="20952" y="3249"/>
                  <a:pt x="21043" y="3249"/>
                  <a:pt x="21134" y="3249"/>
                </a:cubicBezTo>
                <a:cubicBezTo>
                  <a:pt x="21146" y="3287"/>
                  <a:pt x="21163" y="3274"/>
                  <a:pt x="21208" y="3274"/>
                </a:cubicBezTo>
              </a:path>
              <a:path w="7492" h="7269">
                <a:moveTo>
                  <a:pt x="21208" y="3274"/>
                </a:moveTo>
                <a:lnTo>
                  <a:pt x="21208" y="3274"/>
                </a:lnTo>
              </a:path>
              <a:path w="7492" h="7269">
                <a:moveTo>
                  <a:pt x="21208" y="3274"/>
                </a:moveTo>
                <a:lnTo>
                  <a:pt x="21208" y="3274"/>
                </a:lnTo>
              </a:path>
              <a:path w="7492" h="7269">
                <a:moveTo>
                  <a:pt x="21208" y="3299"/>
                </a:moveTo>
                <a:cubicBezTo>
                  <a:pt x="21247" y="3309"/>
                  <a:pt x="21263" y="3324"/>
                  <a:pt x="21307" y="3324"/>
                </a:cubicBezTo>
              </a:path>
              <a:path w="7492" h="7269">
                <a:moveTo>
                  <a:pt x="20886" y="3324"/>
                </a:moveTo>
                <a:cubicBezTo>
                  <a:pt x="20846" y="3311"/>
                  <a:pt x="20876" y="3312"/>
                  <a:pt x="20836" y="3299"/>
                </a:cubicBezTo>
                <a:cubicBezTo>
                  <a:pt x="20928" y="3299"/>
                  <a:pt x="20991" y="3293"/>
                  <a:pt x="21084" y="3299"/>
                </a:cubicBezTo>
                <a:cubicBezTo>
                  <a:pt x="21164" y="3304"/>
                  <a:pt x="21231" y="3320"/>
                  <a:pt x="21307" y="3324"/>
                </a:cubicBezTo>
                <a:cubicBezTo>
                  <a:pt x="21371" y="3328"/>
                  <a:pt x="21415" y="3349"/>
                  <a:pt x="21481" y="3349"/>
                </a:cubicBezTo>
                <a:cubicBezTo>
                  <a:pt x="21506" y="3349"/>
                  <a:pt x="21514" y="3349"/>
                  <a:pt x="21481" y="3349"/>
                </a:cubicBezTo>
                <a:cubicBezTo>
                  <a:pt x="21414" y="3377"/>
                  <a:pt x="21314" y="3395"/>
                  <a:pt x="21233" y="3398"/>
                </a:cubicBezTo>
                <a:cubicBezTo>
                  <a:pt x="21148" y="3402"/>
                  <a:pt x="21151" y="3423"/>
                  <a:pt x="21059" y="3423"/>
                </a:cubicBezTo>
                <a:cubicBezTo>
                  <a:pt x="21003" y="3423"/>
                  <a:pt x="20966" y="3448"/>
                  <a:pt x="20910" y="3448"/>
                </a:cubicBezTo>
                <a:cubicBezTo>
                  <a:pt x="20851" y="3448"/>
                  <a:pt x="20758" y="3429"/>
                  <a:pt x="20737" y="3473"/>
                </a:cubicBezTo>
                <a:cubicBezTo>
                  <a:pt x="20709" y="3533"/>
                  <a:pt x="20699" y="3547"/>
                  <a:pt x="20638" y="3547"/>
                </a:cubicBezTo>
                <a:cubicBezTo>
                  <a:pt x="20626" y="3478"/>
                  <a:pt x="20613" y="3421"/>
                  <a:pt x="20613" y="3349"/>
                </a:cubicBezTo>
                <a:cubicBezTo>
                  <a:pt x="20613" y="3295"/>
                  <a:pt x="20625" y="3266"/>
                  <a:pt x="20662" y="3225"/>
                </a:cubicBezTo>
                <a:cubicBezTo>
                  <a:pt x="20698" y="3185"/>
                  <a:pt x="20731" y="3156"/>
                  <a:pt x="20786" y="3150"/>
                </a:cubicBezTo>
                <a:cubicBezTo>
                  <a:pt x="20811" y="3150"/>
                  <a:pt x="20819" y="3150"/>
                  <a:pt x="20836" y="3150"/>
                </a:cubicBezTo>
                <a:cubicBezTo>
                  <a:pt x="20836" y="3217"/>
                  <a:pt x="20827" y="3267"/>
                  <a:pt x="20811" y="3299"/>
                </a:cubicBezTo>
                <a:cubicBezTo>
                  <a:pt x="20811" y="3307"/>
                  <a:pt x="20811" y="3316"/>
                  <a:pt x="20811" y="3324"/>
                </a:cubicBezTo>
              </a:path>
              <a:path w="7492" h="7269">
                <a:moveTo>
                  <a:pt x="20910" y="3324"/>
                </a:moveTo>
                <a:cubicBezTo>
                  <a:pt x="20961" y="3324"/>
                  <a:pt x="20994" y="3330"/>
                  <a:pt x="21034" y="3349"/>
                </a:cubicBezTo>
              </a:path>
              <a:path w="7492" h="7269">
                <a:moveTo>
                  <a:pt x="20216" y="2927"/>
                </a:moveTo>
                <a:cubicBezTo>
                  <a:pt x="20141" y="2940"/>
                  <a:pt x="20167" y="2959"/>
                  <a:pt x="20117" y="3026"/>
                </a:cubicBezTo>
                <a:cubicBezTo>
                  <a:pt x="20070" y="3089"/>
                  <a:pt x="20023" y="3124"/>
                  <a:pt x="20017" y="3200"/>
                </a:cubicBezTo>
                <a:cubicBezTo>
                  <a:pt x="20013" y="3245"/>
                  <a:pt x="19993" y="3277"/>
                  <a:pt x="19993" y="3324"/>
                </a:cubicBezTo>
                <a:cubicBezTo>
                  <a:pt x="19993" y="3369"/>
                  <a:pt x="20025" y="3408"/>
                  <a:pt x="20067" y="3423"/>
                </a:cubicBezTo>
                <a:cubicBezTo>
                  <a:pt x="20123" y="3443"/>
                  <a:pt x="20178" y="3409"/>
                  <a:pt x="20216" y="3373"/>
                </a:cubicBezTo>
                <a:cubicBezTo>
                  <a:pt x="20276" y="3317"/>
                  <a:pt x="20312" y="3257"/>
                  <a:pt x="20315" y="3175"/>
                </a:cubicBezTo>
                <a:cubicBezTo>
                  <a:pt x="20319" y="3058"/>
                  <a:pt x="20310" y="3003"/>
                  <a:pt x="20265" y="2902"/>
                </a:cubicBezTo>
                <a:cubicBezTo>
                  <a:pt x="20257" y="2886"/>
                  <a:pt x="20249" y="2869"/>
                  <a:pt x="20241" y="2853"/>
                </a:cubicBezTo>
              </a:path>
              <a:path w="7492" h="7269">
                <a:moveTo>
                  <a:pt x="20141" y="3001"/>
                </a:moveTo>
                <a:cubicBezTo>
                  <a:pt x="20067" y="2965"/>
                  <a:pt x="19993" y="2935"/>
                  <a:pt x="19918" y="2902"/>
                </a:cubicBezTo>
                <a:cubicBezTo>
                  <a:pt x="19820" y="2860"/>
                  <a:pt x="19723" y="2834"/>
                  <a:pt x="19621" y="2803"/>
                </a:cubicBezTo>
                <a:cubicBezTo>
                  <a:pt x="19529" y="2775"/>
                  <a:pt x="19434" y="2777"/>
                  <a:pt x="19348" y="2729"/>
                </a:cubicBezTo>
                <a:cubicBezTo>
                  <a:pt x="19294" y="2699"/>
                  <a:pt x="19242" y="2663"/>
                  <a:pt x="19174" y="2679"/>
                </a:cubicBezTo>
                <a:cubicBezTo>
                  <a:pt x="19124" y="2691"/>
                  <a:pt x="19115" y="2772"/>
                  <a:pt x="19100" y="2828"/>
                </a:cubicBezTo>
                <a:cubicBezTo>
                  <a:pt x="19068" y="2946"/>
                  <a:pt x="19090" y="2941"/>
                  <a:pt x="19025" y="3026"/>
                </a:cubicBezTo>
                <a:cubicBezTo>
                  <a:pt x="19050" y="3042"/>
                  <a:pt x="19115" y="3092"/>
                  <a:pt x="19174" y="3101"/>
                </a:cubicBezTo>
                <a:cubicBezTo>
                  <a:pt x="19344" y="3127"/>
                  <a:pt x="19435" y="3158"/>
                  <a:pt x="19596" y="3225"/>
                </a:cubicBezTo>
                <a:cubicBezTo>
                  <a:pt x="19673" y="3257"/>
                  <a:pt x="19710" y="3259"/>
                  <a:pt x="19769" y="3274"/>
                </a:cubicBezTo>
                <a:cubicBezTo>
                  <a:pt x="19835" y="3291"/>
                  <a:pt x="19877" y="3319"/>
                  <a:pt x="19943" y="3324"/>
                </a:cubicBezTo>
                <a:cubicBezTo>
                  <a:pt x="19951" y="3324"/>
                  <a:pt x="19960" y="3324"/>
                  <a:pt x="19968" y="3324"/>
                </a:cubicBezTo>
              </a:path>
              <a:path w="7492" h="7269">
                <a:moveTo>
                  <a:pt x="20067" y="2853"/>
                </a:moveTo>
                <a:cubicBezTo>
                  <a:pt x="20002" y="2853"/>
                  <a:pt x="19927" y="2841"/>
                  <a:pt x="19869" y="2877"/>
                </a:cubicBezTo>
                <a:cubicBezTo>
                  <a:pt x="19746" y="2953"/>
                  <a:pt x="19662" y="3117"/>
                  <a:pt x="19621" y="3249"/>
                </a:cubicBezTo>
                <a:cubicBezTo>
                  <a:pt x="19565" y="3429"/>
                  <a:pt x="19568" y="3416"/>
                  <a:pt x="19695" y="3448"/>
                </a:cubicBezTo>
                <a:cubicBezTo>
                  <a:pt x="19825" y="3305"/>
                  <a:pt x="19857" y="3130"/>
                  <a:pt x="19869" y="2927"/>
                </a:cubicBezTo>
                <a:cubicBezTo>
                  <a:pt x="19871" y="2902"/>
                  <a:pt x="19901" y="2563"/>
                  <a:pt x="19745" y="2604"/>
                </a:cubicBezTo>
                <a:cubicBezTo>
                  <a:pt x="19590" y="2645"/>
                  <a:pt x="19535" y="2846"/>
                  <a:pt x="19521" y="2977"/>
                </a:cubicBezTo>
                <a:cubicBezTo>
                  <a:pt x="19521" y="3018"/>
                  <a:pt x="19521" y="3060"/>
                  <a:pt x="19521" y="3101"/>
                </a:cubicBezTo>
                <a:cubicBezTo>
                  <a:pt x="19546" y="3150"/>
                  <a:pt x="19555" y="3167"/>
                  <a:pt x="19571" y="3200"/>
                </a:cubicBezTo>
                <a:cubicBezTo>
                  <a:pt x="19725" y="3098"/>
                  <a:pt x="19751" y="2961"/>
                  <a:pt x="19769" y="2778"/>
                </a:cubicBezTo>
                <a:cubicBezTo>
                  <a:pt x="19780" y="2669"/>
                  <a:pt x="19745" y="2524"/>
                  <a:pt x="19596" y="2604"/>
                </a:cubicBezTo>
                <a:cubicBezTo>
                  <a:pt x="19427" y="2695"/>
                  <a:pt x="19181" y="2906"/>
                  <a:pt x="19199" y="3125"/>
                </a:cubicBezTo>
                <a:cubicBezTo>
                  <a:pt x="19215" y="3166"/>
                  <a:pt x="19232" y="3208"/>
                  <a:pt x="19248" y="3249"/>
                </a:cubicBezTo>
                <a:cubicBezTo>
                  <a:pt x="19388" y="3319"/>
                  <a:pt x="19440" y="3204"/>
                  <a:pt x="19496" y="3076"/>
                </a:cubicBezTo>
                <a:cubicBezTo>
                  <a:pt x="19560" y="2930"/>
                  <a:pt x="19547" y="2850"/>
                  <a:pt x="19521" y="2704"/>
                </a:cubicBezTo>
                <a:cubicBezTo>
                  <a:pt x="19423" y="2566"/>
                  <a:pt x="19307" y="2716"/>
                  <a:pt x="19224" y="2828"/>
                </a:cubicBezTo>
                <a:cubicBezTo>
                  <a:pt x="19093" y="3005"/>
                  <a:pt x="19111" y="3047"/>
                  <a:pt x="19174" y="3225"/>
                </a:cubicBezTo>
                <a:cubicBezTo>
                  <a:pt x="19326" y="3288"/>
                  <a:pt x="19413" y="3127"/>
                  <a:pt x="19447" y="2977"/>
                </a:cubicBezTo>
                <a:cubicBezTo>
                  <a:pt x="19475" y="2855"/>
                  <a:pt x="19425" y="2721"/>
                  <a:pt x="19397" y="2604"/>
                </a:cubicBezTo>
                <a:cubicBezTo>
                  <a:pt x="19293" y="2544"/>
                  <a:pt x="19205" y="2634"/>
                  <a:pt x="19149" y="2729"/>
                </a:cubicBezTo>
                <a:cubicBezTo>
                  <a:pt x="19064" y="2873"/>
                  <a:pt x="19081" y="3041"/>
                  <a:pt x="19075" y="3200"/>
                </a:cubicBezTo>
                <a:cubicBezTo>
                  <a:pt x="19144" y="3278"/>
                  <a:pt x="19202" y="3319"/>
                  <a:pt x="19224" y="3150"/>
                </a:cubicBezTo>
                <a:cubicBezTo>
                  <a:pt x="19226" y="3132"/>
                  <a:pt x="19161" y="3032"/>
                  <a:pt x="19149" y="3026"/>
                </a:cubicBezTo>
                <a:cubicBezTo>
                  <a:pt x="19098" y="3026"/>
                  <a:pt x="19080" y="3028"/>
                  <a:pt x="19075" y="3076"/>
                </a:cubicBezTo>
              </a:path>
              <a:path w="7492" h="7269">
                <a:moveTo>
                  <a:pt x="20141" y="3026"/>
                </a:moveTo>
                <a:cubicBezTo>
                  <a:pt x="20117" y="3087"/>
                  <a:pt x="20059" y="3166"/>
                  <a:pt x="20017" y="3225"/>
                </a:cubicBezTo>
                <a:cubicBezTo>
                  <a:pt x="19973" y="3287"/>
                  <a:pt x="20023" y="3357"/>
                  <a:pt x="19993" y="3423"/>
                </a:cubicBezTo>
                <a:cubicBezTo>
                  <a:pt x="19953" y="3511"/>
                  <a:pt x="19867" y="3547"/>
                  <a:pt x="19794" y="3597"/>
                </a:cubicBezTo>
                <a:cubicBezTo>
                  <a:pt x="19762" y="3619"/>
                  <a:pt x="19734" y="3642"/>
                  <a:pt x="19695" y="3646"/>
                </a:cubicBezTo>
                <a:cubicBezTo>
                  <a:pt x="19687" y="3646"/>
                  <a:pt x="19678" y="3646"/>
                  <a:pt x="19670" y="3646"/>
                </a:cubicBezTo>
              </a:path>
              <a:path w="7492" h="7269">
                <a:moveTo>
                  <a:pt x="20365" y="3249"/>
                </a:moveTo>
                <a:cubicBezTo>
                  <a:pt x="20348" y="3200"/>
                  <a:pt x="20302" y="3196"/>
                  <a:pt x="20241" y="3225"/>
                </a:cubicBezTo>
                <a:cubicBezTo>
                  <a:pt x="20111" y="3287"/>
                  <a:pt x="20182" y="3296"/>
                  <a:pt x="20265" y="3324"/>
                </a:cubicBezTo>
                <a:cubicBezTo>
                  <a:pt x="20258" y="3294"/>
                  <a:pt x="20248" y="3279"/>
                  <a:pt x="20241" y="3249"/>
                </a:cubicBezTo>
                <a:cubicBezTo>
                  <a:pt x="20302" y="3249"/>
                  <a:pt x="20340" y="3268"/>
                  <a:pt x="20389" y="3274"/>
                </a:cubicBezTo>
                <a:cubicBezTo>
                  <a:pt x="20441" y="3280"/>
                  <a:pt x="20460" y="3252"/>
                  <a:pt x="20513" y="3249"/>
                </a:cubicBezTo>
                <a:cubicBezTo>
                  <a:pt x="20546" y="3247"/>
                  <a:pt x="20580" y="3249"/>
                  <a:pt x="20613" y="3249"/>
                </a:cubicBezTo>
                <a:cubicBezTo>
                  <a:pt x="20599" y="3291"/>
                  <a:pt x="20512" y="3306"/>
                  <a:pt x="20489" y="3349"/>
                </a:cubicBezTo>
                <a:cubicBezTo>
                  <a:pt x="20463" y="3398"/>
                  <a:pt x="20505" y="3423"/>
                  <a:pt x="20513" y="3448"/>
                </a:cubicBezTo>
              </a:path>
              <a:path w="7492" h="7269">
                <a:moveTo>
                  <a:pt x="19100" y="3101"/>
                </a:moveTo>
                <a:cubicBezTo>
                  <a:pt x="19031" y="3049"/>
                  <a:pt x="18936" y="3056"/>
                  <a:pt x="18852" y="3026"/>
                </a:cubicBezTo>
                <a:cubicBezTo>
                  <a:pt x="18660" y="2957"/>
                  <a:pt x="18493" y="2812"/>
                  <a:pt x="18281" y="2828"/>
                </a:cubicBezTo>
                <a:cubicBezTo>
                  <a:pt x="18207" y="2847"/>
                  <a:pt x="18200" y="2855"/>
                  <a:pt x="18157" y="2853"/>
                </a:cubicBezTo>
              </a:path>
              <a:path w="7492" h="7269">
                <a:moveTo>
                  <a:pt x="18157" y="2480"/>
                </a:moveTo>
                <a:cubicBezTo>
                  <a:pt x="18157" y="2610"/>
                  <a:pt x="18065" y="2773"/>
                  <a:pt x="18033" y="2902"/>
                </a:cubicBezTo>
                <a:cubicBezTo>
                  <a:pt x="18025" y="2943"/>
                  <a:pt x="18016" y="2985"/>
                  <a:pt x="18008" y="3026"/>
                </a:cubicBezTo>
              </a:path>
              <a:path w="7492" h="7269">
                <a:moveTo>
                  <a:pt x="17909" y="2059"/>
                </a:moveTo>
                <a:cubicBezTo>
                  <a:pt x="17890" y="2192"/>
                  <a:pt x="17785" y="2348"/>
                  <a:pt x="17735" y="2480"/>
                </a:cubicBezTo>
                <a:cubicBezTo>
                  <a:pt x="17641" y="2730"/>
                  <a:pt x="17574" y="2983"/>
                  <a:pt x="17462" y="3225"/>
                </a:cubicBezTo>
              </a:path>
              <a:path w="7492" h="7269">
                <a:moveTo>
                  <a:pt x="17587" y="2604"/>
                </a:moveTo>
                <a:cubicBezTo>
                  <a:pt x="17392" y="2648"/>
                  <a:pt x="17233" y="2648"/>
                  <a:pt x="17041" y="2629"/>
                </a:cubicBezTo>
                <a:cubicBezTo>
                  <a:pt x="17016" y="2629"/>
                  <a:pt x="16991" y="2629"/>
                  <a:pt x="16966" y="2629"/>
                </a:cubicBezTo>
              </a:path>
              <a:path w="7492" h="7269">
                <a:moveTo>
                  <a:pt x="19695" y="3721"/>
                </a:moveTo>
                <a:cubicBezTo>
                  <a:pt x="19670" y="3721"/>
                  <a:pt x="19662" y="3721"/>
                  <a:pt x="19645" y="3721"/>
                </a:cubicBezTo>
                <a:cubicBezTo>
                  <a:pt x="19627" y="3745"/>
                  <a:pt x="19612" y="3779"/>
                  <a:pt x="19596" y="3820"/>
                </a:cubicBezTo>
                <a:cubicBezTo>
                  <a:pt x="19581" y="3838"/>
                  <a:pt x="19551" y="3886"/>
                  <a:pt x="19521" y="3919"/>
                </a:cubicBezTo>
                <a:cubicBezTo>
                  <a:pt x="19488" y="3956"/>
                  <a:pt x="19483" y="3968"/>
                  <a:pt x="19447" y="3994"/>
                </a:cubicBezTo>
                <a:cubicBezTo>
                  <a:pt x="19432" y="4014"/>
                  <a:pt x="19437" y="4023"/>
                  <a:pt x="19422" y="4043"/>
                </a:cubicBezTo>
                <a:cubicBezTo>
                  <a:pt x="19401" y="4059"/>
                  <a:pt x="19393" y="4053"/>
                  <a:pt x="19372" y="4068"/>
                </a:cubicBezTo>
                <a:cubicBezTo>
                  <a:pt x="19346" y="4114"/>
                  <a:pt x="19337" y="4146"/>
                  <a:pt x="19273" y="4167"/>
                </a:cubicBezTo>
                <a:cubicBezTo>
                  <a:pt x="19265" y="4167"/>
                  <a:pt x="19256" y="4167"/>
                  <a:pt x="19248" y="4167"/>
                </a:cubicBezTo>
                <a:cubicBezTo>
                  <a:pt x="19233" y="4183"/>
                  <a:pt x="19209" y="4220"/>
                  <a:pt x="19174" y="4242"/>
                </a:cubicBezTo>
                <a:cubicBezTo>
                  <a:pt x="19145" y="4260"/>
                  <a:pt x="19111" y="4261"/>
                  <a:pt x="19075" y="4266"/>
                </a:cubicBezTo>
                <a:cubicBezTo>
                  <a:pt x="19056" y="4281"/>
                  <a:pt x="19010" y="4296"/>
                  <a:pt x="18976" y="4316"/>
                </a:cubicBezTo>
                <a:cubicBezTo>
                  <a:pt x="18939" y="4339"/>
                  <a:pt x="18895" y="4359"/>
                  <a:pt x="18852" y="4366"/>
                </a:cubicBezTo>
                <a:cubicBezTo>
                  <a:pt x="18811" y="4373"/>
                  <a:pt x="18767" y="4384"/>
                  <a:pt x="18728" y="4390"/>
                </a:cubicBezTo>
                <a:cubicBezTo>
                  <a:pt x="18676" y="4398"/>
                  <a:pt x="18632" y="4412"/>
                  <a:pt x="18579" y="4415"/>
                </a:cubicBezTo>
                <a:cubicBezTo>
                  <a:pt x="18512" y="4419"/>
                  <a:pt x="18466" y="4430"/>
                  <a:pt x="18405" y="4440"/>
                </a:cubicBezTo>
                <a:cubicBezTo>
                  <a:pt x="18376" y="4445"/>
                  <a:pt x="18337" y="4440"/>
                  <a:pt x="18306" y="4440"/>
                </a:cubicBezTo>
              </a:path>
              <a:path w="7492" h="7269">
                <a:moveTo>
                  <a:pt x="18256" y="4093"/>
                </a:moveTo>
                <a:cubicBezTo>
                  <a:pt x="18287" y="3999"/>
                  <a:pt x="18305" y="4171"/>
                  <a:pt x="18306" y="4192"/>
                </a:cubicBezTo>
                <a:cubicBezTo>
                  <a:pt x="18309" y="4269"/>
                  <a:pt x="18317" y="4363"/>
                  <a:pt x="18331" y="4440"/>
                </a:cubicBezTo>
                <a:cubicBezTo>
                  <a:pt x="18345" y="4513"/>
                  <a:pt x="18355" y="4563"/>
                  <a:pt x="18355" y="4638"/>
                </a:cubicBezTo>
                <a:cubicBezTo>
                  <a:pt x="18355" y="4688"/>
                  <a:pt x="18355" y="4737"/>
                  <a:pt x="18355" y="4787"/>
                </a:cubicBezTo>
                <a:cubicBezTo>
                  <a:pt x="18281" y="4787"/>
                  <a:pt x="18229" y="4772"/>
                  <a:pt x="18157" y="4762"/>
                </a:cubicBezTo>
                <a:cubicBezTo>
                  <a:pt x="18063" y="4749"/>
                  <a:pt x="18030" y="4749"/>
                  <a:pt x="17934" y="4762"/>
                </a:cubicBezTo>
                <a:cubicBezTo>
                  <a:pt x="17847" y="4774"/>
                  <a:pt x="17770" y="4767"/>
                  <a:pt x="17686" y="4787"/>
                </a:cubicBezTo>
                <a:cubicBezTo>
                  <a:pt x="17637" y="4798"/>
                  <a:pt x="17607" y="4819"/>
                  <a:pt x="17562" y="4837"/>
                </a:cubicBezTo>
                <a:cubicBezTo>
                  <a:pt x="17537" y="4837"/>
                  <a:pt x="17529" y="4837"/>
                  <a:pt x="17512" y="4837"/>
                </a:cubicBezTo>
                <a:cubicBezTo>
                  <a:pt x="17512" y="4709"/>
                  <a:pt x="17526" y="4590"/>
                  <a:pt x="17537" y="4465"/>
                </a:cubicBezTo>
                <a:cubicBezTo>
                  <a:pt x="17547" y="4350"/>
                  <a:pt x="17587" y="4285"/>
                  <a:pt x="17587" y="4167"/>
                </a:cubicBezTo>
                <a:cubicBezTo>
                  <a:pt x="17587" y="4141"/>
                  <a:pt x="17727" y="4078"/>
                  <a:pt x="17760" y="4068"/>
                </a:cubicBezTo>
                <a:cubicBezTo>
                  <a:pt x="17871" y="4033"/>
                  <a:pt x="18289" y="4027"/>
                  <a:pt x="18355" y="4093"/>
                </a:cubicBezTo>
              </a:path>
              <a:path w="7492" h="7269">
                <a:moveTo>
                  <a:pt x="17835" y="4167"/>
                </a:moveTo>
                <a:cubicBezTo>
                  <a:pt x="17824" y="4124"/>
                  <a:pt x="17772" y="4089"/>
                  <a:pt x="17760" y="4068"/>
                </a:cubicBezTo>
                <a:cubicBezTo>
                  <a:pt x="17739" y="4032"/>
                  <a:pt x="17721" y="3950"/>
                  <a:pt x="17686" y="3919"/>
                </a:cubicBezTo>
                <a:cubicBezTo>
                  <a:pt x="17672" y="3907"/>
                  <a:pt x="17619" y="3849"/>
                  <a:pt x="17611" y="3845"/>
                </a:cubicBezTo>
                <a:cubicBezTo>
                  <a:pt x="17573" y="3825"/>
                  <a:pt x="17604" y="3809"/>
                  <a:pt x="17562" y="3795"/>
                </a:cubicBezTo>
                <a:cubicBezTo>
                  <a:pt x="17624" y="3795"/>
                  <a:pt x="17670" y="3774"/>
                  <a:pt x="17735" y="3770"/>
                </a:cubicBezTo>
                <a:cubicBezTo>
                  <a:pt x="17775" y="3767"/>
                  <a:pt x="17755" y="3746"/>
                  <a:pt x="17810" y="3746"/>
                </a:cubicBezTo>
                <a:cubicBezTo>
                  <a:pt x="17810" y="3793"/>
                  <a:pt x="17827" y="3809"/>
                  <a:pt x="17835" y="3845"/>
                </a:cubicBezTo>
                <a:cubicBezTo>
                  <a:pt x="17845" y="3890"/>
                  <a:pt x="17881" y="3980"/>
                  <a:pt x="17884" y="3994"/>
                </a:cubicBezTo>
                <a:cubicBezTo>
                  <a:pt x="17887" y="4006"/>
                  <a:pt x="17899" y="4110"/>
                  <a:pt x="17909" y="4118"/>
                </a:cubicBezTo>
                <a:cubicBezTo>
                  <a:pt x="17933" y="4138"/>
                  <a:pt x="17927" y="4156"/>
                  <a:pt x="17959" y="4167"/>
                </a:cubicBezTo>
                <a:cubicBezTo>
                  <a:pt x="17944" y="4213"/>
                  <a:pt x="17914" y="4226"/>
                  <a:pt x="17859" y="4242"/>
                </a:cubicBezTo>
              </a:path>
              <a:path w="7492" h="7269">
                <a:moveTo>
                  <a:pt x="17686" y="4440"/>
                </a:moveTo>
                <a:cubicBezTo>
                  <a:pt x="17640" y="4440"/>
                  <a:pt x="17557" y="4437"/>
                  <a:pt x="17562" y="4514"/>
                </a:cubicBezTo>
                <a:cubicBezTo>
                  <a:pt x="17589" y="4568"/>
                  <a:pt x="17601" y="4588"/>
                  <a:pt x="17636" y="4614"/>
                </a:cubicBezTo>
                <a:cubicBezTo>
                  <a:pt x="17671" y="4579"/>
                  <a:pt x="17764" y="4503"/>
                  <a:pt x="17711" y="4440"/>
                </a:cubicBezTo>
                <a:cubicBezTo>
                  <a:pt x="17703" y="4440"/>
                  <a:pt x="17694" y="4440"/>
                  <a:pt x="17686" y="4440"/>
                </a:cubicBezTo>
              </a:path>
              <a:path w="7492" h="7269">
                <a:moveTo>
                  <a:pt x="17884" y="4539"/>
                </a:moveTo>
                <a:cubicBezTo>
                  <a:pt x="17884" y="4564"/>
                  <a:pt x="17884" y="4589"/>
                  <a:pt x="17884" y="4614"/>
                </a:cubicBezTo>
                <a:cubicBezTo>
                  <a:pt x="17884" y="4671"/>
                  <a:pt x="17899" y="4493"/>
                  <a:pt x="17909" y="4465"/>
                </a:cubicBezTo>
                <a:cubicBezTo>
                  <a:pt x="17934" y="4415"/>
                  <a:pt x="17942" y="4399"/>
                  <a:pt x="17983" y="4390"/>
                </a:cubicBezTo>
                <a:cubicBezTo>
                  <a:pt x="18072" y="4434"/>
                  <a:pt x="18099" y="4502"/>
                  <a:pt x="18107" y="4614"/>
                </a:cubicBezTo>
                <a:cubicBezTo>
                  <a:pt x="18107" y="4622"/>
                  <a:pt x="18107" y="4630"/>
                  <a:pt x="18107" y="4638"/>
                </a:cubicBezTo>
              </a:path>
              <a:path w="7492" h="7269">
                <a:moveTo>
                  <a:pt x="16396" y="2604"/>
                </a:moveTo>
                <a:cubicBezTo>
                  <a:pt x="16359" y="2609"/>
                  <a:pt x="16282" y="2614"/>
                  <a:pt x="16247" y="2629"/>
                </a:cubicBezTo>
                <a:cubicBezTo>
                  <a:pt x="16221" y="2640"/>
                  <a:pt x="16196" y="2661"/>
                  <a:pt x="16173" y="2679"/>
                </a:cubicBezTo>
              </a:path>
              <a:path w="7492" h="7269">
                <a:moveTo>
                  <a:pt x="16818" y="2604"/>
                </a:moveTo>
                <a:cubicBezTo>
                  <a:pt x="16749" y="2590"/>
                  <a:pt x="16690" y="2580"/>
                  <a:pt x="16619" y="2580"/>
                </a:cubicBezTo>
                <a:cubicBezTo>
                  <a:pt x="16558" y="2580"/>
                  <a:pt x="16518" y="2596"/>
                  <a:pt x="16470" y="2604"/>
                </a:cubicBezTo>
                <a:cubicBezTo>
                  <a:pt x="16402" y="2615"/>
                  <a:pt x="16395" y="2598"/>
                  <a:pt x="16346" y="2654"/>
                </a:cubicBezTo>
                <a:cubicBezTo>
                  <a:pt x="16297" y="2710"/>
                  <a:pt x="16318" y="2699"/>
                  <a:pt x="16297" y="2753"/>
                </a:cubicBezTo>
                <a:cubicBezTo>
                  <a:pt x="16267" y="2831"/>
                  <a:pt x="16263" y="2874"/>
                  <a:pt x="16297" y="2952"/>
                </a:cubicBezTo>
                <a:cubicBezTo>
                  <a:pt x="16332" y="3032"/>
                  <a:pt x="16347" y="3103"/>
                  <a:pt x="16396" y="3175"/>
                </a:cubicBezTo>
                <a:cubicBezTo>
                  <a:pt x="16449" y="3254"/>
                  <a:pt x="16512" y="3288"/>
                  <a:pt x="16570" y="3349"/>
                </a:cubicBezTo>
                <a:cubicBezTo>
                  <a:pt x="16633" y="3416"/>
                  <a:pt x="16707" y="3424"/>
                  <a:pt x="16768" y="3497"/>
                </a:cubicBezTo>
                <a:cubicBezTo>
                  <a:pt x="16818" y="3556"/>
                  <a:pt x="16876" y="3629"/>
                  <a:pt x="16917" y="3696"/>
                </a:cubicBezTo>
                <a:cubicBezTo>
                  <a:pt x="16943" y="3737"/>
                  <a:pt x="16948" y="3781"/>
                  <a:pt x="16966" y="3820"/>
                </a:cubicBezTo>
                <a:cubicBezTo>
                  <a:pt x="16990" y="3871"/>
                  <a:pt x="17012" y="3922"/>
                  <a:pt x="17041" y="3969"/>
                </a:cubicBezTo>
                <a:cubicBezTo>
                  <a:pt x="17075" y="4025"/>
                  <a:pt x="17097" y="4070"/>
                  <a:pt x="17140" y="4118"/>
                </a:cubicBezTo>
                <a:cubicBezTo>
                  <a:pt x="17194" y="4178"/>
                  <a:pt x="17255" y="4215"/>
                  <a:pt x="17314" y="4266"/>
                </a:cubicBezTo>
                <a:cubicBezTo>
                  <a:pt x="17362" y="4307"/>
                  <a:pt x="17393" y="4323"/>
                  <a:pt x="17438" y="4366"/>
                </a:cubicBezTo>
                <a:cubicBezTo>
                  <a:pt x="17481" y="4407"/>
                  <a:pt x="17485" y="4402"/>
                  <a:pt x="17537" y="4415"/>
                </a:cubicBezTo>
              </a:path>
              <a:path w="7492" h="7269">
                <a:moveTo>
                  <a:pt x="16644" y="2654"/>
                </a:moveTo>
                <a:cubicBezTo>
                  <a:pt x="16778" y="2615"/>
                  <a:pt x="16820" y="2610"/>
                  <a:pt x="16942" y="2654"/>
                </a:cubicBezTo>
                <a:cubicBezTo>
                  <a:pt x="17005" y="2677"/>
                  <a:pt x="17082" y="2698"/>
                  <a:pt x="17140" y="2704"/>
                </a:cubicBezTo>
                <a:cubicBezTo>
                  <a:pt x="17185" y="2709"/>
                  <a:pt x="17223" y="2723"/>
                  <a:pt x="17264" y="2729"/>
                </a:cubicBezTo>
                <a:cubicBezTo>
                  <a:pt x="17334" y="2739"/>
                  <a:pt x="17401" y="2762"/>
                  <a:pt x="17438" y="2778"/>
                </a:cubicBezTo>
                <a:cubicBezTo>
                  <a:pt x="17462" y="2778"/>
                  <a:pt x="17471" y="2778"/>
                  <a:pt x="17487" y="2778"/>
                </a:cubicBezTo>
              </a:path>
              <a:path w="7492" h="7269">
                <a:moveTo>
                  <a:pt x="17438" y="2704"/>
                </a:moveTo>
                <a:cubicBezTo>
                  <a:pt x="17468" y="2689"/>
                  <a:pt x="17530" y="2654"/>
                  <a:pt x="17487" y="2654"/>
                </a:cubicBezTo>
                <a:cubicBezTo>
                  <a:pt x="17446" y="2654"/>
                  <a:pt x="17421" y="2654"/>
                  <a:pt x="17388" y="2654"/>
                </a:cubicBezTo>
                <a:cubicBezTo>
                  <a:pt x="17380" y="2654"/>
                  <a:pt x="17371" y="2654"/>
                  <a:pt x="17363" y="2654"/>
                </a:cubicBezTo>
                <a:cubicBezTo>
                  <a:pt x="17370" y="2654"/>
                  <a:pt x="17633" y="2679"/>
                  <a:pt x="17487" y="2679"/>
                </a:cubicBezTo>
              </a:path>
              <a:path w="7492" h="7269">
                <a:moveTo>
                  <a:pt x="22473" y="8880"/>
                </a:moveTo>
                <a:cubicBezTo>
                  <a:pt x="22453" y="8819"/>
                  <a:pt x="22336" y="8840"/>
                  <a:pt x="22299" y="8905"/>
                </a:cubicBezTo>
                <a:cubicBezTo>
                  <a:pt x="22151" y="9164"/>
                  <a:pt x="22680" y="9023"/>
                  <a:pt x="22746" y="9004"/>
                </a:cubicBezTo>
              </a:path>
              <a:path w="7492" h="7269">
                <a:moveTo>
                  <a:pt x="22771" y="8830"/>
                </a:moveTo>
                <a:cubicBezTo>
                  <a:pt x="22727" y="8903"/>
                  <a:pt x="22749" y="8914"/>
                  <a:pt x="22820" y="8954"/>
                </a:cubicBezTo>
                <a:cubicBezTo>
                  <a:pt x="22848" y="8905"/>
                  <a:pt x="22878" y="8856"/>
                  <a:pt x="22895" y="8806"/>
                </a:cubicBezTo>
                <a:cubicBezTo>
                  <a:pt x="22993" y="8845"/>
                  <a:pt x="23001" y="8860"/>
                  <a:pt x="23118" y="8830"/>
                </a:cubicBezTo>
              </a:path>
              <a:path w="7492" h="7269">
                <a:moveTo>
                  <a:pt x="23242" y="8756"/>
                </a:moveTo>
                <a:cubicBezTo>
                  <a:pt x="23259" y="8773"/>
                  <a:pt x="23275" y="8789"/>
                  <a:pt x="23292" y="8806"/>
                </a:cubicBezTo>
                <a:cubicBezTo>
                  <a:pt x="23259" y="8673"/>
                  <a:pt x="23181" y="8550"/>
                  <a:pt x="23316" y="8483"/>
                </a:cubicBezTo>
                <a:cubicBezTo>
                  <a:pt x="23341" y="8475"/>
                  <a:pt x="23366" y="8466"/>
                  <a:pt x="23391" y="8458"/>
                </a:cubicBezTo>
              </a:path>
              <a:path w="7492" h="7269">
                <a:moveTo>
                  <a:pt x="16371" y="5135"/>
                </a:moveTo>
                <a:cubicBezTo>
                  <a:pt x="16371" y="5082"/>
                  <a:pt x="16398" y="4990"/>
                  <a:pt x="16297" y="5011"/>
                </a:cubicBezTo>
                <a:cubicBezTo>
                  <a:pt x="16209" y="5054"/>
                  <a:pt x="16186" y="5060"/>
                  <a:pt x="16148" y="5110"/>
                </a:cubicBezTo>
                <a:cubicBezTo>
                  <a:pt x="16148" y="5154"/>
                  <a:pt x="16145" y="5168"/>
                  <a:pt x="16173" y="5184"/>
                </a:cubicBezTo>
                <a:cubicBezTo>
                  <a:pt x="16245" y="5148"/>
                  <a:pt x="16333" y="4955"/>
                  <a:pt x="16346" y="5035"/>
                </a:cubicBezTo>
                <a:cubicBezTo>
                  <a:pt x="16368" y="5167"/>
                  <a:pt x="16371" y="5297"/>
                  <a:pt x="16371" y="5432"/>
                </a:cubicBezTo>
                <a:cubicBezTo>
                  <a:pt x="16371" y="5365"/>
                  <a:pt x="16364" y="5316"/>
                  <a:pt x="16346" y="5259"/>
                </a:cubicBezTo>
              </a:path>
              <a:path w="7492" h="7269">
                <a:moveTo>
                  <a:pt x="16272" y="4762"/>
                </a:moveTo>
                <a:cubicBezTo>
                  <a:pt x="16046" y="4749"/>
                  <a:pt x="15903" y="4874"/>
                  <a:pt x="15900" y="5135"/>
                </a:cubicBezTo>
                <a:cubicBezTo>
                  <a:pt x="15896" y="5487"/>
                  <a:pt x="16162" y="5721"/>
                  <a:pt x="16446" y="5432"/>
                </a:cubicBezTo>
                <a:cubicBezTo>
                  <a:pt x="16650" y="5224"/>
                  <a:pt x="16540" y="5058"/>
                  <a:pt x="16371" y="4911"/>
                </a:cubicBezTo>
              </a:path>
              <a:path w="7492" h="7269">
                <a:moveTo>
                  <a:pt x="21605" y="2183"/>
                </a:moveTo>
                <a:cubicBezTo>
                  <a:pt x="21632" y="2298"/>
                  <a:pt x="21642" y="2643"/>
                  <a:pt x="21679" y="2530"/>
                </a:cubicBezTo>
                <a:cubicBezTo>
                  <a:pt x="21679" y="2513"/>
                  <a:pt x="21679" y="2497"/>
                  <a:pt x="21679" y="2480"/>
                </a:cubicBezTo>
              </a:path>
              <a:path w="7492" h="7269">
                <a:moveTo>
                  <a:pt x="21977" y="2009"/>
                </a:moveTo>
                <a:cubicBezTo>
                  <a:pt x="21902" y="2093"/>
                  <a:pt x="21798" y="2209"/>
                  <a:pt x="21878" y="2332"/>
                </a:cubicBezTo>
                <a:cubicBezTo>
                  <a:pt x="21948" y="2378"/>
                  <a:pt x="21968" y="2395"/>
                  <a:pt x="22027" y="2381"/>
                </a:cubicBezTo>
                <a:cubicBezTo>
                  <a:pt x="22071" y="2326"/>
                  <a:pt x="22150" y="2160"/>
                  <a:pt x="22002" y="2108"/>
                </a:cubicBezTo>
                <a:cubicBezTo>
                  <a:pt x="21977" y="2108"/>
                  <a:pt x="21952" y="2108"/>
                  <a:pt x="21927" y="2108"/>
                </a:cubicBezTo>
              </a:path>
              <a:path w="7492" h="7269">
                <a:moveTo>
                  <a:pt x="21828" y="1811"/>
                </a:moveTo>
                <a:cubicBezTo>
                  <a:pt x="21554" y="1880"/>
                  <a:pt x="21287" y="1993"/>
                  <a:pt x="21382" y="2356"/>
                </a:cubicBezTo>
                <a:cubicBezTo>
                  <a:pt x="21493" y="2778"/>
                  <a:pt x="21988" y="2730"/>
                  <a:pt x="22250" y="2480"/>
                </a:cubicBezTo>
                <a:cubicBezTo>
                  <a:pt x="22604" y="2143"/>
                  <a:pt x="22047" y="1914"/>
                  <a:pt x="21828" y="18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60920" y="3251160"/>
            <a:ext cx="287280" cy="276120"/>
          </a:xfrm>
          <a:custGeom>
            <a:avLst/>
            <a:gdLst/>
            <a:ahLst/>
            <a:rect l="l" t="t" r="r" b="b"/>
            <a:pathLst>
              <a:path w="795" h="770">
                <a:moveTo>
                  <a:pt x="13320" y="9351"/>
                </a:moveTo>
                <a:cubicBezTo>
                  <a:pt x="13299" y="9457"/>
                  <a:pt x="13298" y="9539"/>
                  <a:pt x="13320" y="9649"/>
                </a:cubicBezTo>
                <a:cubicBezTo>
                  <a:pt x="13401" y="9587"/>
                  <a:pt x="13480" y="9486"/>
                  <a:pt x="13568" y="9451"/>
                </a:cubicBezTo>
              </a:path>
              <a:path w="795" h="770">
                <a:moveTo>
                  <a:pt x="13419" y="9178"/>
                </a:moveTo>
                <a:cubicBezTo>
                  <a:pt x="13431" y="9392"/>
                  <a:pt x="13632" y="9993"/>
                  <a:pt x="13543" y="9798"/>
                </a:cubicBezTo>
                <a:cubicBezTo>
                  <a:pt x="13527" y="9765"/>
                  <a:pt x="13510" y="9732"/>
                  <a:pt x="13494" y="9699"/>
                </a:cubicBezTo>
              </a:path>
              <a:path w="795" h="770">
                <a:moveTo>
                  <a:pt x="13295" y="9029"/>
                </a:moveTo>
                <a:cubicBezTo>
                  <a:pt x="13031" y="9152"/>
                  <a:pt x="12714" y="9354"/>
                  <a:pt x="13122" y="9624"/>
                </a:cubicBezTo>
                <a:cubicBezTo>
                  <a:pt x="13350" y="9775"/>
                  <a:pt x="13891" y="9635"/>
                  <a:pt x="13742" y="9277"/>
                </a:cubicBezTo>
                <a:cubicBezTo>
                  <a:pt x="13701" y="9244"/>
                  <a:pt x="13659" y="9211"/>
                  <a:pt x="13618" y="917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52880" y="1374840"/>
            <a:ext cx="241200" cy="277920"/>
          </a:xfrm>
          <a:custGeom>
            <a:avLst/>
            <a:gdLst/>
            <a:ahLst/>
            <a:rect l="l" t="t" r="r" b="b"/>
            <a:pathLst>
              <a:path w="671" h="770">
                <a:moveTo>
                  <a:pt x="9054" y="4018"/>
                </a:moveTo>
                <a:cubicBezTo>
                  <a:pt x="9046" y="4026"/>
                  <a:pt x="9037" y="4035"/>
                  <a:pt x="9029" y="4043"/>
                </a:cubicBezTo>
                <a:cubicBezTo>
                  <a:pt x="9081" y="4043"/>
                  <a:pt x="9111" y="4031"/>
                  <a:pt x="9153" y="4018"/>
                </a:cubicBezTo>
                <a:cubicBezTo>
                  <a:pt x="9193" y="4006"/>
                  <a:pt x="9198" y="4223"/>
                  <a:pt x="9203" y="4266"/>
                </a:cubicBezTo>
                <a:cubicBezTo>
                  <a:pt x="9203" y="4283"/>
                  <a:pt x="9203" y="4299"/>
                  <a:pt x="9203" y="4316"/>
                </a:cubicBezTo>
              </a:path>
              <a:path w="671" h="770">
                <a:moveTo>
                  <a:pt x="9004" y="3845"/>
                </a:moveTo>
                <a:cubicBezTo>
                  <a:pt x="8925" y="3765"/>
                  <a:pt x="8771" y="3942"/>
                  <a:pt x="8756" y="4043"/>
                </a:cubicBezTo>
                <a:cubicBezTo>
                  <a:pt x="8722" y="4274"/>
                  <a:pt x="9040" y="4720"/>
                  <a:pt x="9302" y="4564"/>
                </a:cubicBezTo>
                <a:cubicBezTo>
                  <a:pt x="9458" y="4471"/>
                  <a:pt x="9464" y="4202"/>
                  <a:pt x="9376" y="4068"/>
                </a:cubicBezTo>
                <a:cubicBezTo>
                  <a:pt x="9306" y="3961"/>
                  <a:pt x="9221" y="3905"/>
                  <a:pt x="9103" y="389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97880" y="1017720"/>
            <a:ext cx="249120" cy="1287360"/>
          </a:xfrm>
          <a:custGeom>
            <a:avLst/>
            <a:gdLst/>
            <a:ahLst/>
            <a:rect l="l" t="t" r="r" b="b"/>
            <a:pathLst>
              <a:path w="695" h="3573">
                <a:moveTo>
                  <a:pt x="21729" y="2952"/>
                </a:moveTo>
                <a:cubicBezTo>
                  <a:pt x="21729" y="2927"/>
                  <a:pt x="21729" y="2902"/>
                  <a:pt x="21729" y="2877"/>
                </a:cubicBezTo>
                <a:cubicBezTo>
                  <a:pt x="21706" y="2977"/>
                  <a:pt x="21715" y="3069"/>
                  <a:pt x="21704" y="3175"/>
                </a:cubicBezTo>
                <a:cubicBezTo>
                  <a:pt x="21687" y="3340"/>
                  <a:pt x="21677" y="3508"/>
                  <a:pt x="21654" y="3671"/>
                </a:cubicBezTo>
                <a:cubicBezTo>
                  <a:pt x="21633" y="3821"/>
                  <a:pt x="21593" y="3969"/>
                  <a:pt x="21580" y="4118"/>
                </a:cubicBezTo>
                <a:cubicBezTo>
                  <a:pt x="21568" y="4267"/>
                  <a:pt x="21574" y="4416"/>
                  <a:pt x="21555" y="4564"/>
                </a:cubicBezTo>
                <a:cubicBezTo>
                  <a:pt x="21533" y="4738"/>
                  <a:pt x="21551" y="4912"/>
                  <a:pt x="21530" y="5085"/>
                </a:cubicBezTo>
                <a:cubicBezTo>
                  <a:pt x="21511" y="5240"/>
                  <a:pt x="21486" y="5399"/>
                  <a:pt x="21481" y="5556"/>
                </a:cubicBezTo>
                <a:cubicBezTo>
                  <a:pt x="21477" y="5691"/>
                  <a:pt x="21440" y="5818"/>
                  <a:pt x="21431" y="5953"/>
                </a:cubicBezTo>
                <a:cubicBezTo>
                  <a:pt x="21422" y="6087"/>
                  <a:pt x="21397" y="6222"/>
                  <a:pt x="21382" y="6350"/>
                </a:cubicBezTo>
                <a:cubicBezTo>
                  <a:pt x="21382" y="6375"/>
                  <a:pt x="21382" y="6383"/>
                  <a:pt x="21382" y="6400"/>
                </a:cubicBezTo>
                <a:cubicBezTo>
                  <a:pt x="21514" y="6400"/>
                  <a:pt x="21647" y="6400"/>
                  <a:pt x="21779" y="6400"/>
                </a:cubicBezTo>
                <a:cubicBezTo>
                  <a:pt x="21803" y="6242"/>
                  <a:pt x="21814" y="6051"/>
                  <a:pt x="21828" y="5879"/>
                </a:cubicBezTo>
                <a:cubicBezTo>
                  <a:pt x="21850" y="5615"/>
                  <a:pt x="21888" y="5349"/>
                  <a:pt x="21903" y="5085"/>
                </a:cubicBezTo>
                <a:cubicBezTo>
                  <a:pt x="21916" y="4857"/>
                  <a:pt x="21940" y="4642"/>
                  <a:pt x="21977" y="4415"/>
                </a:cubicBezTo>
                <a:cubicBezTo>
                  <a:pt x="22007" y="4235"/>
                  <a:pt x="22024" y="4052"/>
                  <a:pt x="22027" y="3870"/>
                </a:cubicBezTo>
                <a:cubicBezTo>
                  <a:pt x="22030" y="3696"/>
                  <a:pt x="22023" y="3520"/>
                  <a:pt x="22051" y="3349"/>
                </a:cubicBezTo>
                <a:cubicBezTo>
                  <a:pt x="22068" y="3245"/>
                  <a:pt x="22076" y="3157"/>
                  <a:pt x="22076" y="3051"/>
                </a:cubicBezTo>
                <a:cubicBezTo>
                  <a:pt x="22076" y="2980"/>
                  <a:pt x="22090" y="2954"/>
                  <a:pt x="22051" y="2927"/>
                </a:cubicBezTo>
                <a:cubicBezTo>
                  <a:pt x="21990" y="2886"/>
                  <a:pt x="21835" y="2831"/>
                  <a:pt x="21754" y="2853"/>
                </a:cubicBezTo>
                <a:cubicBezTo>
                  <a:pt x="21712" y="2811"/>
                  <a:pt x="21688" y="2820"/>
                  <a:pt x="21654" y="29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81080" y="1839960"/>
            <a:ext cx="339840" cy="339840"/>
          </a:xfrm>
          <a:custGeom>
            <a:avLst/>
            <a:gdLst/>
            <a:ahLst/>
            <a:rect l="l" t="t" r="r" b="b"/>
            <a:pathLst>
              <a:path w="944" h="943">
                <a:moveTo>
                  <a:pt x="3398" y="5308"/>
                </a:moveTo>
                <a:cubicBezTo>
                  <a:pt x="3398" y="5151"/>
                  <a:pt x="3446" y="5550"/>
                  <a:pt x="3448" y="5556"/>
                </a:cubicBezTo>
                <a:cubicBezTo>
                  <a:pt x="3522" y="5743"/>
                  <a:pt x="3691" y="5825"/>
                  <a:pt x="3820" y="5631"/>
                </a:cubicBezTo>
                <a:cubicBezTo>
                  <a:pt x="3853" y="5581"/>
                  <a:pt x="3754" y="5515"/>
                  <a:pt x="3721" y="5507"/>
                </a:cubicBezTo>
                <a:cubicBezTo>
                  <a:pt x="3704" y="5507"/>
                  <a:pt x="3688" y="5507"/>
                  <a:pt x="3671" y="5507"/>
                </a:cubicBezTo>
                <a:cubicBezTo>
                  <a:pt x="3669" y="5527"/>
                  <a:pt x="3665" y="5861"/>
                  <a:pt x="3696" y="5705"/>
                </a:cubicBezTo>
              </a:path>
              <a:path w="944" h="943">
                <a:moveTo>
                  <a:pt x="3249" y="5110"/>
                </a:moveTo>
                <a:cubicBezTo>
                  <a:pt x="2963" y="5181"/>
                  <a:pt x="2956" y="5410"/>
                  <a:pt x="3101" y="5680"/>
                </a:cubicBezTo>
                <a:cubicBezTo>
                  <a:pt x="3357" y="6158"/>
                  <a:pt x="3840" y="6159"/>
                  <a:pt x="3944" y="5581"/>
                </a:cubicBezTo>
                <a:cubicBezTo>
                  <a:pt x="4023" y="5143"/>
                  <a:pt x="3686" y="5111"/>
                  <a:pt x="3373" y="51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30200" y="3510000"/>
            <a:ext cx="1054080" cy="1517760"/>
          </a:xfrm>
          <a:custGeom>
            <a:avLst/>
            <a:gdLst/>
            <a:ahLst/>
            <a:rect l="l" t="t" r="r" b="b"/>
            <a:pathLst>
              <a:path w="2928" h="4218">
                <a:moveTo>
                  <a:pt x="4242" y="10244"/>
                </a:moveTo>
                <a:lnTo>
                  <a:pt x="4242" y="10244"/>
                </a:lnTo>
              </a:path>
              <a:path w="2928" h="4218">
                <a:moveTo>
                  <a:pt x="4142" y="10220"/>
                </a:moveTo>
                <a:cubicBezTo>
                  <a:pt x="4105" y="10229"/>
                  <a:pt x="4080" y="10248"/>
                  <a:pt x="4043" y="10269"/>
                </a:cubicBezTo>
                <a:cubicBezTo>
                  <a:pt x="4156" y="10312"/>
                  <a:pt x="4216" y="10295"/>
                  <a:pt x="4291" y="10195"/>
                </a:cubicBezTo>
                <a:cubicBezTo>
                  <a:pt x="4315" y="10147"/>
                  <a:pt x="4323" y="10133"/>
                  <a:pt x="4316" y="10096"/>
                </a:cubicBezTo>
                <a:cubicBezTo>
                  <a:pt x="4225" y="10096"/>
                  <a:pt x="4098" y="10108"/>
                  <a:pt x="4043" y="10195"/>
                </a:cubicBezTo>
                <a:cubicBezTo>
                  <a:pt x="3935" y="10366"/>
                  <a:pt x="4287" y="10271"/>
                  <a:pt x="4341" y="10220"/>
                </a:cubicBezTo>
                <a:cubicBezTo>
                  <a:pt x="4395" y="10147"/>
                  <a:pt x="4420" y="10147"/>
                  <a:pt x="4415" y="10096"/>
                </a:cubicBezTo>
                <a:cubicBezTo>
                  <a:pt x="4266" y="10036"/>
                  <a:pt x="4227" y="10036"/>
                  <a:pt x="4118" y="10145"/>
                </a:cubicBezTo>
                <a:cubicBezTo>
                  <a:pt x="4085" y="10178"/>
                  <a:pt x="4085" y="10195"/>
                  <a:pt x="4142" y="10220"/>
                </a:cubicBezTo>
              </a:path>
              <a:path w="2928" h="4218">
                <a:moveTo>
                  <a:pt x="4192" y="11410"/>
                </a:moveTo>
                <a:cubicBezTo>
                  <a:pt x="4134" y="11504"/>
                  <a:pt x="4004" y="11682"/>
                  <a:pt x="4217" y="11708"/>
                </a:cubicBezTo>
                <a:cubicBezTo>
                  <a:pt x="4325" y="11721"/>
                  <a:pt x="4368" y="11630"/>
                  <a:pt x="4415" y="11559"/>
                </a:cubicBezTo>
                <a:cubicBezTo>
                  <a:pt x="4357" y="11456"/>
                  <a:pt x="4275" y="11479"/>
                  <a:pt x="4192" y="11584"/>
                </a:cubicBezTo>
                <a:cubicBezTo>
                  <a:pt x="4168" y="11632"/>
                  <a:pt x="4159" y="11646"/>
                  <a:pt x="4167" y="11683"/>
                </a:cubicBezTo>
                <a:cubicBezTo>
                  <a:pt x="4283" y="11702"/>
                  <a:pt x="4323" y="11711"/>
                  <a:pt x="4366" y="11584"/>
                </a:cubicBezTo>
                <a:cubicBezTo>
                  <a:pt x="4315" y="11569"/>
                  <a:pt x="4209" y="11557"/>
                  <a:pt x="4192" y="11633"/>
                </a:cubicBezTo>
                <a:cubicBezTo>
                  <a:pt x="4192" y="11666"/>
                  <a:pt x="4200" y="11675"/>
                  <a:pt x="4242" y="11658"/>
                </a:cubicBezTo>
              </a:path>
              <a:path w="2928" h="4218">
                <a:moveTo>
                  <a:pt x="4341" y="10120"/>
                </a:moveTo>
                <a:cubicBezTo>
                  <a:pt x="4382" y="10134"/>
                  <a:pt x="4372" y="10139"/>
                  <a:pt x="4415" y="10145"/>
                </a:cubicBezTo>
                <a:cubicBezTo>
                  <a:pt x="4500" y="10156"/>
                  <a:pt x="4583" y="10143"/>
                  <a:pt x="4663" y="10170"/>
                </a:cubicBezTo>
                <a:cubicBezTo>
                  <a:pt x="4721" y="10189"/>
                  <a:pt x="4781" y="10202"/>
                  <a:pt x="4837" y="10220"/>
                </a:cubicBezTo>
                <a:cubicBezTo>
                  <a:pt x="4904" y="10242"/>
                  <a:pt x="4968" y="10251"/>
                  <a:pt x="5035" y="10269"/>
                </a:cubicBezTo>
                <a:cubicBezTo>
                  <a:pt x="5069" y="10278"/>
                  <a:pt x="5119" y="10283"/>
                  <a:pt x="5159" y="10294"/>
                </a:cubicBezTo>
                <a:cubicBezTo>
                  <a:pt x="5207" y="10308"/>
                  <a:pt x="5243" y="10325"/>
                  <a:pt x="5283" y="10344"/>
                </a:cubicBezTo>
                <a:cubicBezTo>
                  <a:pt x="5319" y="10361"/>
                  <a:pt x="5348" y="10371"/>
                  <a:pt x="5383" y="10393"/>
                </a:cubicBezTo>
                <a:cubicBezTo>
                  <a:pt x="5412" y="10411"/>
                  <a:pt x="5490" y="10449"/>
                  <a:pt x="5507" y="10468"/>
                </a:cubicBezTo>
                <a:cubicBezTo>
                  <a:pt x="5541" y="10504"/>
                  <a:pt x="5576" y="10537"/>
                  <a:pt x="5606" y="10567"/>
                </a:cubicBezTo>
                <a:cubicBezTo>
                  <a:pt x="5640" y="10601"/>
                  <a:pt x="5651" y="10640"/>
                  <a:pt x="5680" y="10691"/>
                </a:cubicBezTo>
                <a:cubicBezTo>
                  <a:pt x="5701" y="10729"/>
                  <a:pt x="5703" y="10766"/>
                  <a:pt x="5705" y="10815"/>
                </a:cubicBezTo>
                <a:cubicBezTo>
                  <a:pt x="5708" y="10886"/>
                  <a:pt x="5691" y="10904"/>
                  <a:pt x="5655" y="10964"/>
                </a:cubicBezTo>
                <a:cubicBezTo>
                  <a:pt x="5619" y="11023"/>
                  <a:pt x="5568" y="11065"/>
                  <a:pt x="5531" y="11112"/>
                </a:cubicBezTo>
                <a:cubicBezTo>
                  <a:pt x="5491" y="11162"/>
                  <a:pt x="5418" y="11179"/>
                  <a:pt x="5383" y="11237"/>
                </a:cubicBezTo>
                <a:cubicBezTo>
                  <a:pt x="5335" y="11317"/>
                  <a:pt x="5333" y="11323"/>
                  <a:pt x="5234" y="11361"/>
                </a:cubicBezTo>
                <a:cubicBezTo>
                  <a:pt x="5165" y="11388"/>
                  <a:pt x="5103" y="11456"/>
                  <a:pt x="5035" y="11485"/>
                </a:cubicBezTo>
                <a:cubicBezTo>
                  <a:pt x="4987" y="11505"/>
                  <a:pt x="4936" y="11493"/>
                  <a:pt x="4887" y="11509"/>
                </a:cubicBezTo>
                <a:cubicBezTo>
                  <a:pt x="4829" y="11528"/>
                  <a:pt x="4768" y="11538"/>
                  <a:pt x="4713" y="11559"/>
                </a:cubicBezTo>
                <a:cubicBezTo>
                  <a:pt x="4649" y="11584"/>
                  <a:pt x="4599" y="11590"/>
                  <a:pt x="4539" y="11609"/>
                </a:cubicBezTo>
                <a:cubicBezTo>
                  <a:pt x="4491" y="11624"/>
                  <a:pt x="4460" y="11649"/>
                  <a:pt x="4415" y="11658"/>
                </a:cubicBezTo>
                <a:cubicBezTo>
                  <a:pt x="4376" y="11666"/>
                  <a:pt x="4377" y="11669"/>
                  <a:pt x="4341" y="11683"/>
                </a:cubicBezTo>
              </a:path>
              <a:path w="2928" h="4218">
                <a:moveTo>
                  <a:pt x="5631" y="10815"/>
                </a:moveTo>
                <a:cubicBezTo>
                  <a:pt x="5631" y="10807"/>
                  <a:pt x="5631" y="10798"/>
                  <a:pt x="5631" y="10790"/>
                </a:cubicBezTo>
                <a:cubicBezTo>
                  <a:pt x="5588" y="10790"/>
                  <a:pt x="5534" y="10776"/>
                  <a:pt x="5507" y="10815"/>
                </a:cubicBezTo>
                <a:cubicBezTo>
                  <a:pt x="5468" y="10871"/>
                  <a:pt x="5476" y="10890"/>
                  <a:pt x="5507" y="10914"/>
                </a:cubicBezTo>
                <a:cubicBezTo>
                  <a:pt x="5545" y="10943"/>
                  <a:pt x="5558" y="10939"/>
                  <a:pt x="5606" y="10939"/>
                </a:cubicBezTo>
                <a:cubicBezTo>
                  <a:pt x="5656" y="10939"/>
                  <a:pt x="5665" y="10899"/>
                  <a:pt x="5680" y="10864"/>
                </a:cubicBezTo>
                <a:cubicBezTo>
                  <a:pt x="5708" y="10800"/>
                  <a:pt x="5720" y="10772"/>
                  <a:pt x="5655" y="10740"/>
                </a:cubicBezTo>
                <a:cubicBezTo>
                  <a:pt x="5612" y="10719"/>
                  <a:pt x="5600" y="10715"/>
                  <a:pt x="5581" y="10691"/>
                </a:cubicBezTo>
                <a:cubicBezTo>
                  <a:pt x="5515" y="10707"/>
                  <a:pt x="5499" y="10774"/>
                  <a:pt x="5482" y="10840"/>
                </a:cubicBezTo>
                <a:cubicBezTo>
                  <a:pt x="5472" y="10881"/>
                  <a:pt x="5498" y="10904"/>
                  <a:pt x="5507" y="10939"/>
                </a:cubicBezTo>
                <a:cubicBezTo>
                  <a:pt x="5560" y="10962"/>
                  <a:pt x="5617" y="10983"/>
                  <a:pt x="5655" y="10914"/>
                </a:cubicBezTo>
                <a:cubicBezTo>
                  <a:pt x="5671" y="10885"/>
                  <a:pt x="5703" y="10802"/>
                  <a:pt x="5680" y="10765"/>
                </a:cubicBezTo>
                <a:cubicBezTo>
                  <a:pt x="5676" y="10758"/>
                  <a:pt x="5559" y="10716"/>
                  <a:pt x="5556" y="10716"/>
                </a:cubicBezTo>
                <a:cubicBezTo>
                  <a:pt x="5484" y="10725"/>
                  <a:pt x="5402" y="10818"/>
                  <a:pt x="5407" y="10889"/>
                </a:cubicBezTo>
                <a:cubicBezTo>
                  <a:pt x="5414" y="10986"/>
                  <a:pt x="5557" y="10971"/>
                  <a:pt x="5606" y="10964"/>
                </a:cubicBezTo>
                <a:cubicBezTo>
                  <a:pt x="5655" y="10957"/>
                  <a:pt x="5716" y="10886"/>
                  <a:pt x="5730" y="10840"/>
                </a:cubicBezTo>
                <a:cubicBezTo>
                  <a:pt x="5754" y="10764"/>
                  <a:pt x="5690" y="10730"/>
                  <a:pt x="5631" y="10716"/>
                </a:cubicBezTo>
                <a:cubicBezTo>
                  <a:pt x="5606" y="10716"/>
                  <a:pt x="5598" y="10716"/>
                  <a:pt x="5581" y="10716"/>
                </a:cubicBezTo>
              </a:path>
              <a:path w="2928" h="4218">
                <a:moveTo>
                  <a:pt x="5507" y="10914"/>
                </a:moveTo>
                <a:cubicBezTo>
                  <a:pt x="5507" y="10981"/>
                  <a:pt x="5526" y="10832"/>
                  <a:pt x="5531" y="10765"/>
                </a:cubicBezTo>
                <a:cubicBezTo>
                  <a:pt x="5543" y="10618"/>
                  <a:pt x="5531" y="10467"/>
                  <a:pt x="5531" y="10319"/>
                </a:cubicBezTo>
                <a:cubicBezTo>
                  <a:pt x="5607" y="10332"/>
                  <a:pt x="5676" y="10368"/>
                  <a:pt x="5755" y="10368"/>
                </a:cubicBezTo>
                <a:cubicBezTo>
                  <a:pt x="5780" y="10368"/>
                  <a:pt x="5804" y="10368"/>
                  <a:pt x="5829" y="10368"/>
                </a:cubicBezTo>
                <a:cubicBezTo>
                  <a:pt x="5799" y="10459"/>
                  <a:pt x="5760" y="10513"/>
                  <a:pt x="5755" y="10616"/>
                </a:cubicBezTo>
                <a:cubicBezTo>
                  <a:pt x="5752" y="10694"/>
                  <a:pt x="5730" y="10760"/>
                  <a:pt x="5730" y="10840"/>
                </a:cubicBezTo>
                <a:cubicBezTo>
                  <a:pt x="5730" y="10883"/>
                  <a:pt x="5750" y="10936"/>
                  <a:pt x="5705" y="10939"/>
                </a:cubicBezTo>
                <a:cubicBezTo>
                  <a:pt x="5596" y="10947"/>
                  <a:pt x="5653" y="10932"/>
                  <a:pt x="5680" y="10864"/>
                </a:cubicBezTo>
              </a:path>
              <a:path w="2928" h="4218">
                <a:moveTo>
                  <a:pt x="5705" y="10319"/>
                </a:moveTo>
                <a:cubicBezTo>
                  <a:pt x="5705" y="10202"/>
                  <a:pt x="5847" y="10044"/>
                  <a:pt x="5928" y="9971"/>
                </a:cubicBezTo>
                <a:cubicBezTo>
                  <a:pt x="6025" y="9884"/>
                  <a:pt x="6181" y="9788"/>
                  <a:pt x="6300" y="9748"/>
                </a:cubicBezTo>
                <a:cubicBezTo>
                  <a:pt x="6308" y="9748"/>
                  <a:pt x="6317" y="9748"/>
                  <a:pt x="6325" y="9748"/>
                </a:cubicBezTo>
              </a:path>
              <a:path w="2928" h="4218">
                <a:moveTo>
                  <a:pt x="5358" y="10840"/>
                </a:moveTo>
                <a:cubicBezTo>
                  <a:pt x="5193" y="10872"/>
                  <a:pt x="5037" y="10899"/>
                  <a:pt x="4862" y="10889"/>
                </a:cubicBezTo>
                <a:cubicBezTo>
                  <a:pt x="4763" y="10883"/>
                  <a:pt x="4685" y="10864"/>
                  <a:pt x="4589" y="10864"/>
                </a:cubicBezTo>
                <a:cubicBezTo>
                  <a:pt x="4526" y="10864"/>
                  <a:pt x="4697" y="10908"/>
                  <a:pt x="4713" y="10914"/>
                </a:cubicBezTo>
                <a:cubicBezTo>
                  <a:pt x="4806" y="10952"/>
                  <a:pt x="4824" y="10945"/>
                  <a:pt x="4862" y="10988"/>
                </a:cubicBezTo>
                <a:cubicBezTo>
                  <a:pt x="4750" y="10967"/>
                  <a:pt x="4676" y="10909"/>
                  <a:pt x="4589" y="10840"/>
                </a:cubicBezTo>
                <a:cubicBezTo>
                  <a:pt x="4559" y="10780"/>
                  <a:pt x="4810" y="10712"/>
                  <a:pt x="4887" y="10691"/>
                </a:cubicBezTo>
                <a:cubicBezTo>
                  <a:pt x="4981" y="10672"/>
                  <a:pt x="5001" y="10686"/>
                  <a:pt x="5035" y="10641"/>
                </a:cubicBezTo>
              </a:path>
              <a:path w="2928" h="4218">
                <a:moveTo>
                  <a:pt x="3696" y="12378"/>
                </a:moveTo>
                <a:cubicBezTo>
                  <a:pt x="3740" y="12529"/>
                  <a:pt x="3746" y="12566"/>
                  <a:pt x="3795" y="12650"/>
                </a:cubicBezTo>
                <a:cubicBezTo>
                  <a:pt x="3739" y="12506"/>
                  <a:pt x="3641" y="12317"/>
                  <a:pt x="3746" y="12179"/>
                </a:cubicBezTo>
                <a:cubicBezTo>
                  <a:pt x="3771" y="12162"/>
                  <a:pt x="3795" y="12146"/>
                  <a:pt x="3820" y="12129"/>
                </a:cubicBezTo>
              </a:path>
              <a:path w="2928" h="4218">
                <a:moveTo>
                  <a:pt x="4118" y="12378"/>
                </a:moveTo>
                <a:cubicBezTo>
                  <a:pt x="4143" y="12436"/>
                  <a:pt x="4166" y="12494"/>
                  <a:pt x="4192" y="12551"/>
                </a:cubicBezTo>
                <a:cubicBezTo>
                  <a:pt x="4292" y="12492"/>
                  <a:pt x="4286" y="12392"/>
                  <a:pt x="4291" y="12278"/>
                </a:cubicBezTo>
                <a:cubicBezTo>
                  <a:pt x="4291" y="12270"/>
                  <a:pt x="4291" y="12262"/>
                  <a:pt x="4291" y="12254"/>
                </a:cubicBezTo>
                <a:cubicBezTo>
                  <a:pt x="4301" y="12284"/>
                  <a:pt x="4408" y="12488"/>
                  <a:pt x="4465" y="12452"/>
                </a:cubicBezTo>
                <a:cubicBezTo>
                  <a:pt x="4473" y="12427"/>
                  <a:pt x="4482" y="12403"/>
                  <a:pt x="4490" y="12378"/>
                </a:cubicBezTo>
              </a:path>
              <a:path w="2928" h="4218">
                <a:moveTo>
                  <a:pt x="4440" y="11981"/>
                </a:moveTo>
                <a:cubicBezTo>
                  <a:pt x="4486" y="12078"/>
                  <a:pt x="4533" y="12190"/>
                  <a:pt x="4589" y="12278"/>
                </a:cubicBezTo>
                <a:cubicBezTo>
                  <a:pt x="4600" y="12260"/>
                  <a:pt x="4728" y="12132"/>
                  <a:pt x="4762" y="12229"/>
                </a:cubicBezTo>
                <a:cubicBezTo>
                  <a:pt x="4825" y="12413"/>
                  <a:pt x="4622" y="12483"/>
                  <a:pt x="4564" y="12278"/>
                </a:cubicBezTo>
              </a:path>
              <a:path w="2928" h="4218">
                <a:moveTo>
                  <a:pt x="4812" y="11956"/>
                </a:moveTo>
                <a:cubicBezTo>
                  <a:pt x="4852" y="12080"/>
                  <a:pt x="4865" y="12153"/>
                  <a:pt x="4936" y="12254"/>
                </a:cubicBezTo>
                <a:cubicBezTo>
                  <a:pt x="4939" y="12226"/>
                  <a:pt x="4981" y="12001"/>
                  <a:pt x="5060" y="12080"/>
                </a:cubicBezTo>
                <a:cubicBezTo>
                  <a:pt x="5161" y="12181"/>
                  <a:pt x="5017" y="12292"/>
                  <a:pt x="4961" y="12353"/>
                </a:cubicBezTo>
                <a:cubicBezTo>
                  <a:pt x="5023" y="12271"/>
                  <a:pt x="5136" y="12192"/>
                  <a:pt x="5184" y="12105"/>
                </a:cubicBezTo>
                <a:cubicBezTo>
                  <a:pt x="5184" y="12062"/>
                  <a:pt x="5167" y="12048"/>
                  <a:pt x="5110" y="12055"/>
                </a:cubicBezTo>
                <a:cubicBezTo>
                  <a:pt x="5142" y="12131"/>
                  <a:pt x="5186" y="12138"/>
                  <a:pt x="5283" y="12154"/>
                </a:cubicBezTo>
                <a:cubicBezTo>
                  <a:pt x="5295" y="12094"/>
                  <a:pt x="5203" y="12005"/>
                  <a:pt x="5234" y="11906"/>
                </a:cubicBezTo>
                <a:cubicBezTo>
                  <a:pt x="5261" y="11820"/>
                  <a:pt x="5344" y="11803"/>
                  <a:pt x="5407" y="11757"/>
                </a:cubicBezTo>
              </a:path>
              <a:path w="2928" h="4218">
                <a:moveTo>
                  <a:pt x="4068" y="12948"/>
                </a:moveTo>
                <a:cubicBezTo>
                  <a:pt x="4126" y="13045"/>
                  <a:pt x="4193" y="13134"/>
                  <a:pt x="4266" y="13221"/>
                </a:cubicBezTo>
                <a:cubicBezTo>
                  <a:pt x="4280" y="13078"/>
                  <a:pt x="4301" y="13021"/>
                  <a:pt x="4415" y="12948"/>
                </a:cubicBezTo>
                <a:cubicBezTo>
                  <a:pt x="4455" y="13021"/>
                  <a:pt x="4469" y="13427"/>
                  <a:pt x="4266" y="13271"/>
                </a:cubicBezTo>
                <a:cubicBezTo>
                  <a:pt x="4245" y="13182"/>
                  <a:pt x="4229" y="13156"/>
                  <a:pt x="4291" y="13122"/>
                </a:cubicBezTo>
              </a:path>
              <a:path w="2928" h="4218">
                <a:moveTo>
                  <a:pt x="4738" y="12849"/>
                </a:moveTo>
                <a:cubicBezTo>
                  <a:pt x="4668" y="12860"/>
                  <a:pt x="4449" y="12924"/>
                  <a:pt x="4564" y="13047"/>
                </a:cubicBezTo>
                <a:cubicBezTo>
                  <a:pt x="4684" y="13175"/>
                  <a:pt x="4733" y="13008"/>
                  <a:pt x="4738" y="12923"/>
                </a:cubicBezTo>
                <a:cubicBezTo>
                  <a:pt x="4738" y="12915"/>
                  <a:pt x="4738" y="12906"/>
                  <a:pt x="4738" y="12898"/>
                </a:cubicBezTo>
                <a:cubicBezTo>
                  <a:pt x="4749" y="12902"/>
                  <a:pt x="4900" y="13008"/>
                  <a:pt x="4911" y="12973"/>
                </a:cubicBezTo>
                <a:cubicBezTo>
                  <a:pt x="4911" y="12940"/>
                  <a:pt x="4911" y="12907"/>
                  <a:pt x="4911" y="12874"/>
                </a:cubicBezTo>
              </a:path>
              <a:path w="2928" h="4218">
                <a:moveTo>
                  <a:pt x="4986" y="12874"/>
                </a:moveTo>
                <a:cubicBezTo>
                  <a:pt x="4994" y="12882"/>
                  <a:pt x="5003" y="12890"/>
                  <a:pt x="5011" y="12898"/>
                </a:cubicBezTo>
                <a:cubicBezTo>
                  <a:pt x="5005" y="12858"/>
                  <a:pt x="4946" y="12684"/>
                  <a:pt x="5060" y="12725"/>
                </a:cubicBezTo>
                <a:cubicBezTo>
                  <a:pt x="5232" y="12787"/>
                  <a:pt x="5151" y="12896"/>
                  <a:pt x="5308" y="12725"/>
                </a:cubicBezTo>
              </a:path>
              <a:path w="2928" h="4218">
                <a:moveTo>
                  <a:pt x="5283" y="12576"/>
                </a:moveTo>
                <a:cubicBezTo>
                  <a:pt x="5224" y="12627"/>
                  <a:pt x="5136" y="12765"/>
                  <a:pt x="5259" y="12824"/>
                </a:cubicBezTo>
                <a:cubicBezTo>
                  <a:pt x="5453" y="12917"/>
                  <a:pt x="5294" y="12464"/>
                  <a:pt x="5283" y="12427"/>
                </a:cubicBezTo>
                <a:cubicBezTo>
                  <a:pt x="5247" y="12354"/>
                  <a:pt x="5230" y="12292"/>
                  <a:pt x="5234" y="12353"/>
                </a:cubicBezTo>
                <a:cubicBezTo>
                  <a:pt x="5302" y="12505"/>
                  <a:pt x="5362" y="12641"/>
                  <a:pt x="5407" y="12799"/>
                </a:cubicBezTo>
              </a:path>
              <a:path w="2928" h="4218">
                <a:moveTo>
                  <a:pt x="4291" y="13643"/>
                </a:moveTo>
                <a:cubicBezTo>
                  <a:pt x="4228" y="13706"/>
                  <a:pt x="4211" y="13716"/>
                  <a:pt x="4192" y="13767"/>
                </a:cubicBezTo>
                <a:cubicBezTo>
                  <a:pt x="4280" y="13767"/>
                  <a:pt x="4364" y="13764"/>
                  <a:pt x="4440" y="13791"/>
                </a:cubicBezTo>
                <a:cubicBezTo>
                  <a:pt x="4412" y="13922"/>
                  <a:pt x="4361" y="14016"/>
                  <a:pt x="4266" y="13891"/>
                </a:cubicBezTo>
              </a:path>
              <a:path w="2928" h="4218">
                <a:moveTo>
                  <a:pt x="4589" y="13271"/>
                </a:moveTo>
                <a:cubicBezTo>
                  <a:pt x="4606" y="13466"/>
                  <a:pt x="4624" y="13684"/>
                  <a:pt x="4762" y="13841"/>
                </a:cubicBezTo>
                <a:cubicBezTo>
                  <a:pt x="4770" y="13841"/>
                  <a:pt x="4779" y="13841"/>
                  <a:pt x="4787" y="13841"/>
                </a:cubicBezTo>
              </a:path>
              <a:path w="2928" h="4218">
                <a:moveTo>
                  <a:pt x="4862" y="13618"/>
                </a:moveTo>
                <a:cubicBezTo>
                  <a:pt x="4909" y="13594"/>
                  <a:pt x="4979" y="13555"/>
                  <a:pt x="4986" y="13494"/>
                </a:cubicBezTo>
                <a:cubicBezTo>
                  <a:pt x="4991" y="13451"/>
                  <a:pt x="4998" y="13484"/>
                  <a:pt x="5011" y="13444"/>
                </a:cubicBezTo>
              </a:path>
              <a:path w="2928" h="4218">
                <a:moveTo>
                  <a:pt x="4837" y="13295"/>
                </a:moveTo>
                <a:cubicBezTo>
                  <a:pt x="4837" y="13303"/>
                  <a:pt x="4837" y="13312"/>
                  <a:pt x="4837" y="13320"/>
                </a:cubicBezTo>
              </a:path>
              <a:path w="2928" h="4218">
                <a:moveTo>
                  <a:pt x="5110" y="13618"/>
                </a:moveTo>
                <a:cubicBezTo>
                  <a:pt x="5149" y="13677"/>
                  <a:pt x="5178" y="13715"/>
                  <a:pt x="5135" y="13667"/>
                </a:cubicBezTo>
                <a:cubicBezTo>
                  <a:pt x="5120" y="13516"/>
                  <a:pt x="5081" y="13425"/>
                  <a:pt x="5159" y="13320"/>
                </a:cubicBezTo>
                <a:cubicBezTo>
                  <a:pt x="5238" y="13406"/>
                  <a:pt x="5323" y="13571"/>
                  <a:pt x="5358" y="13519"/>
                </a:cubicBezTo>
              </a:path>
              <a:path w="2928" h="4218">
                <a:moveTo>
                  <a:pt x="5432" y="13246"/>
                </a:moveTo>
                <a:cubicBezTo>
                  <a:pt x="5340" y="13292"/>
                  <a:pt x="5370" y="13403"/>
                  <a:pt x="5383" y="13494"/>
                </a:cubicBezTo>
                <a:cubicBezTo>
                  <a:pt x="5503" y="13482"/>
                  <a:pt x="5519" y="13391"/>
                  <a:pt x="5482" y="13246"/>
                </a:cubicBezTo>
                <a:cubicBezTo>
                  <a:pt x="5482" y="13254"/>
                  <a:pt x="5482" y="13263"/>
                  <a:pt x="5482" y="13271"/>
                </a:cubicBezTo>
                <a:cubicBezTo>
                  <a:pt x="5549" y="13432"/>
                  <a:pt x="5647" y="13636"/>
                  <a:pt x="5606" y="13816"/>
                </a:cubicBezTo>
                <a:cubicBezTo>
                  <a:pt x="5581" y="13866"/>
                  <a:pt x="5556" y="13915"/>
                  <a:pt x="5531" y="13965"/>
                </a:cubicBezTo>
              </a:path>
              <a:path w="2928" h="4218">
                <a:moveTo>
                  <a:pt x="4887" y="13568"/>
                </a:moveTo>
                <a:cubicBezTo>
                  <a:pt x="4910" y="13618"/>
                  <a:pt x="4983" y="13847"/>
                  <a:pt x="5011" y="13791"/>
                </a:cubicBezTo>
              </a:path>
              <a:path w="2928" h="4218">
                <a:moveTo>
                  <a:pt x="5978" y="12948"/>
                </a:moveTo>
                <a:cubicBezTo>
                  <a:pt x="5892" y="12998"/>
                  <a:pt x="5858" y="13032"/>
                  <a:pt x="5804" y="13122"/>
                </a:cubicBezTo>
                <a:cubicBezTo>
                  <a:pt x="5824" y="13125"/>
                  <a:pt x="5994" y="13139"/>
                  <a:pt x="5953" y="13196"/>
                </a:cubicBezTo>
                <a:cubicBezTo>
                  <a:pt x="5811" y="13391"/>
                  <a:pt x="5773" y="13146"/>
                  <a:pt x="5730" y="13047"/>
                </a:cubicBezTo>
              </a:path>
              <a:path w="2928" h="4218">
                <a:moveTo>
                  <a:pt x="5904" y="12750"/>
                </a:moveTo>
                <a:cubicBezTo>
                  <a:pt x="6005" y="12876"/>
                  <a:pt x="6050" y="13010"/>
                  <a:pt x="6127" y="13146"/>
                </a:cubicBezTo>
                <a:cubicBezTo>
                  <a:pt x="6127" y="13078"/>
                  <a:pt x="6131" y="13035"/>
                  <a:pt x="6152" y="12973"/>
                </a:cubicBezTo>
                <a:cubicBezTo>
                  <a:pt x="6214" y="12998"/>
                  <a:pt x="6234" y="13045"/>
                  <a:pt x="6276" y="13097"/>
                </a:cubicBezTo>
              </a:path>
              <a:path w="2928" h="4218">
                <a:moveTo>
                  <a:pt x="6350" y="12898"/>
                </a:moveTo>
                <a:cubicBezTo>
                  <a:pt x="6311" y="12984"/>
                  <a:pt x="6291" y="12994"/>
                  <a:pt x="6300" y="13072"/>
                </a:cubicBezTo>
                <a:cubicBezTo>
                  <a:pt x="6378" y="13046"/>
                  <a:pt x="6406" y="13036"/>
                  <a:pt x="6449" y="12998"/>
                </a:cubicBezTo>
              </a:path>
              <a:path w="2928" h="4218">
                <a:moveTo>
                  <a:pt x="6598" y="12973"/>
                </a:moveTo>
                <a:cubicBezTo>
                  <a:pt x="6512" y="12916"/>
                  <a:pt x="6467" y="12850"/>
                  <a:pt x="6524" y="12774"/>
                </a:cubicBezTo>
              </a:path>
              <a:path w="2928" h="4218">
                <a:moveTo>
                  <a:pt x="6300" y="12452"/>
                </a:moveTo>
                <a:cubicBezTo>
                  <a:pt x="6327" y="12611"/>
                  <a:pt x="6418" y="12785"/>
                  <a:pt x="6499" y="12923"/>
                </a:cubicBezTo>
                <a:cubicBezTo>
                  <a:pt x="6524" y="12956"/>
                  <a:pt x="6548" y="12989"/>
                  <a:pt x="6573" y="13022"/>
                </a:cubicBezTo>
                <a:cubicBezTo>
                  <a:pt x="6480" y="12985"/>
                  <a:pt x="6380" y="12915"/>
                  <a:pt x="6276" y="12874"/>
                </a:cubicBezTo>
                <a:cubicBezTo>
                  <a:pt x="6378" y="12874"/>
                  <a:pt x="6481" y="12814"/>
                  <a:pt x="6573" y="12774"/>
                </a:cubicBezTo>
                <a:cubicBezTo>
                  <a:pt x="6590" y="12766"/>
                  <a:pt x="6606" y="12758"/>
                  <a:pt x="6623" y="1275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0240" y="2867040"/>
            <a:ext cx="376560" cy="330120"/>
          </a:xfrm>
          <a:custGeom>
            <a:avLst/>
            <a:gdLst/>
            <a:ahLst/>
            <a:rect l="l" t="t" r="r" b="b"/>
            <a:pathLst>
              <a:path w="1043" h="919">
                <a:moveTo>
                  <a:pt x="5085" y="8210"/>
                </a:moveTo>
                <a:cubicBezTo>
                  <a:pt x="5170" y="8380"/>
                  <a:pt x="5172" y="8618"/>
                  <a:pt x="5358" y="8731"/>
                </a:cubicBezTo>
                <a:cubicBezTo>
                  <a:pt x="5391" y="8731"/>
                  <a:pt x="5424" y="8731"/>
                  <a:pt x="5457" y="8731"/>
                </a:cubicBezTo>
                <a:cubicBezTo>
                  <a:pt x="5549" y="8474"/>
                  <a:pt x="5522" y="8309"/>
                  <a:pt x="5457" y="8037"/>
                </a:cubicBezTo>
              </a:path>
              <a:path w="1043" h="919">
                <a:moveTo>
                  <a:pt x="5978" y="8607"/>
                </a:moveTo>
                <a:cubicBezTo>
                  <a:pt x="6049" y="8725"/>
                  <a:pt x="6069" y="8761"/>
                  <a:pt x="6127" y="8830"/>
                </a:cubicBezTo>
                <a:cubicBezTo>
                  <a:pt x="6127" y="9011"/>
                  <a:pt x="5982" y="8606"/>
                  <a:pt x="5928" y="8434"/>
                </a:cubicBezTo>
                <a:cubicBezTo>
                  <a:pt x="5852" y="8192"/>
                  <a:pt x="5866" y="8131"/>
                  <a:pt x="6003" y="7962"/>
                </a:cubicBezTo>
                <a:cubicBezTo>
                  <a:pt x="6075" y="8042"/>
                  <a:pt x="6191" y="8284"/>
                  <a:pt x="6003" y="8359"/>
                </a:cubicBezTo>
                <a:cubicBezTo>
                  <a:pt x="5897" y="8332"/>
                  <a:pt x="5859" y="8318"/>
                  <a:pt x="5829" y="82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9200" y="1776240"/>
            <a:ext cx="839880" cy="1009800"/>
          </a:xfrm>
          <a:custGeom>
            <a:avLst/>
            <a:gdLst/>
            <a:ahLst/>
            <a:rect l="l" t="t" r="r" b="b"/>
            <a:pathLst>
              <a:path w="2333" h="2804">
                <a:moveTo>
                  <a:pt x="6796" y="7367"/>
                </a:moveTo>
                <a:cubicBezTo>
                  <a:pt x="6849" y="7504"/>
                  <a:pt x="6881" y="7620"/>
                  <a:pt x="6970" y="7739"/>
                </a:cubicBezTo>
              </a:path>
              <a:path w="2333" h="2804">
                <a:moveTo>
                  <a:pt x="6722" y="7739"/>
                </a:moveTo>
                <a:cubicBezTo>
                  <a:pt x="6795" y="7617"/>
                  <a:pt x="6897" y="7493"/>
                  <a:pt x="7020" y="7417"/>
                </a:cubicBezTo>
                <a:cubicBezTo>
                  <a:pt x="7045" y="7409"/>
                  <a:pt x="7069" y="7400"/>
                  <a:pt x="7094" y="7392"/>
                </a:cubicBezTo>
              </a:path>
              <a:path w="2333" h="2804">
                <a:moveTo>
                  <a:pt x="7193" y="7045"/>
                </a:moveTo>
                <a:cubicBezTo>
                  <a:pt x="7076" y="7221"/>
                  <a:pt x="7073" y="7201"/>
                  <a:pt x="7169" y="7392"/>
                </a:cubicBezTo>
                <a:cubicBezTo>
                  <a:pt x="7418" y="7257"/>
                  <a:pt x="7212" y="6919"/>
                  <a:pt x="7094" y="6672"/>
                </a:cubicBezTo>
                <a:cubicBezTo>
                  <a:pt x="7069" y="6631"/>
                  <a:pt x="7045" y="6589"/>
                  <a:pt x="7020" y="6548"/>
                </a:cubicBezTo>
                <a:cubicBezTo>
                  <a:pt x="6985" y="6620"/>
                  <a:pt x="7228" y="6903"/>
                  <a:pt x="7367" y="6995"/>
                </a:cubicBezTo>
                <a:cubicBezTo>
                  <a:pt x="7400" y="7003"/>
                  <a:pt x="7433" y="7012"/>
                  <a:pt x="7466" y="7020"/>
                </a:cubicBezTo>
              </a:path>
              <a:path w="2333" h="2804">
                <a:moveTo>
                  <a:pt x="7441" y="6623"/>
                </a:moveTo>
                <a:cubicBezTo>
                  <a:pt x="7397" y="6707"/>
                  <a:pt x="7307" y="7092"/>
                  <a:pt x="7565" y="6970"/>
                </a:cubicBezTo>
                <a:cubicBezTo>
                  <a:pt x="7642" y="6934"/>
                  <a:pt x="7572" y="6697"/>
                  <a:pt x="7565" y="6648"/>
                </a:cubicBezTo>
                <a:cubicBezTo>
                  <a:pt x="7557" y="6631"/>
                  <a:pt x="7549" y="6615"/>
                  <a:pt x="7541" y="6598"/>
                </a:cubicBezTo>
                <a:cubicBezTo>
                  <a:pt x="7625" y="6641"/>
                  <a:pt x="7649" y="6732"/>
                  <a:pt x="7764" y="6772"/>
                </a:cubicBezTo>
                <a:cubicBezTo>
                  <a:pt x="7845" y="6800"/>
                  <a:pt x="7811" y="6566"/>
                  <a:pt x="7813" y="6524"/>
                </a:cubicBezTo>
                <a:cubicBezTo>
                  <a:pt x="7858" y="6542"/>
                  <a:pt x="7935" y="6627"/>
                  <a:pt x="7962" y="6548"/>
                </a:cubicBezTo>
                <a:cubicBezTo>
                  <a:pt x="7987" y="6449"/>
                  <a:pt x="7995" y="6416"/>
                  <a:pt x="7962" y="6350"/>
                </a:cubicBezTo>
              </a:path>
              <a:path w="2333" h="2804">
                <a:moveTo>
                  <a:pt x="8086" y="6449"/>
                </a:moveTo>
                <a:cubicBezTo>
                  <a:pt x="8094" y="6466"/>
                  <a:pt x="8103" y="6482"/>
                  <a:pt x="8111" y="6499"/>
                </a:cubicBezTo>
                <a:cubicBezTo>
                  <a:pt x="8098" y="6348"/>
                  <a:pt x="8086" y="6205"/>
                  <a:pt x="8086" y="6052"/>
                </a:cubicBezTo>
                <a:cubicBezTo>
                  <a:pt x="8211" y="6107"/>
                  <a:pt x="8360" y="6461"/>
                  <a:pt x="8359" y="6325"/>
                </a:cubicBezTo>
                <a:cubicBezTo>
                  <a:pt x="8351" y="6292"/>
                  <a:pt x="8342" y="6259"/>
                  <a:pt x="8334" y="6226"/>
                </a:cubicBezTo>
              </a:path>
              <a:path w="2333" h="2804">
                <a:moveTo>
                  <a:pt x="8260" y="5581"/>
                </a:moveTo>
                <a:cubicBezTo>
                  <a:pt x="8366" y="5794"/>
                  <a:pt x="8383" y="5845"/>
                  <a:pt x="8483" y="5953"/>
                </a:cubicBezTo>
                <a:cubicBezTo>
                  <a:pt x="8483" y="5804"/>
                  <a:pt x="8483" y="5656"/>
                  <a:pt x="8483" y="5507"/>
                </a:cubicBezTo>
                <a:cubicBezTo>
                  <a:pt x="8599" y="5571"/>
                  <a:pt x="8659" y="5720"/>
                  <a:pt x="8731" y="5854"/>
                </a:cubicBezTo>
              </a:path>
              <a:path w="2333" h="2804">
                <a:moveTo>
                  <a:pt x="8781" y="5631"/>
                </a:moveTo>
                <a:lnTo>
                  <a:pt x="8781" y="5631"/>
                </a:lnTo>
                <a:lnTo>
                  <a:pt x="8781" y="5631"/>
                </a:lnTo>
              </a:path>
              <a:path w="2333" h="2804">
                <a:moveTo>
                  <a:pt x="8781" y="5631"/>
                </a:moveTo>
                <a:lnTo>
                  <a:pt x="8781" y="5631"/>
                </a:lnTo>
              </a:path>
              <a:path w="2333" h="2804">
                <a:moveTo>
                  <a:pt x="8533" y="5259"/>
                </a:moveTo>
                <a:cubicBezTo>
                  <a:pt x="8549" y="5251"/>
                  <a:pt x="8566" y="5242"/>
                  <a:pt x="8582" y="5234"/>
                </a:cubicBezTo>
              </a:path>
              <a:path w="2333" h="2804">
                <a:moveTo>
                  <a:pt x="8657" y="4936"/>
                </a:moveTo>
                <a:cubicBezTo>
                  <a:pt x="8726" y="5079"/>
                  <a:pt x="8876" y="5447"/>
                  <a:pt x="8905" y="5432"/>
                </a:cubicBezTo>
              </a:path>
              <a:path w="2333" h="2804">
                <a:moveTo>
                  <a:pt x="8830" y="4986"/>
                </a:moveTo>
                <a:cubicBezTo>
                  <a:pt x="8913" y="5117"/>
                  <a:pt x="8985" y="5244"/>
                  <a:pt x="9054" y="538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15080" y="3251160"/>
            <a:ext cx="88920" cy="150840"/>
          </a:xfrm>
          <a:custGeom>
            <a:avLst/>
            <a:gdLst/>
            <a:ahLst/>
            <a:rect l="l" t="t" r="r" b="b"/>
            <a:pathLst>
              <a:path w="249" h="423">
                <a:moveTo>
                  <a:pt x="18703" y="9103"/>
                </a:moveTo>
                <a:cubicBezTo>
                  <a:pt x="18672" y="9093"/>
                  <a:pt x="18648" y="9049"/>
                  <a:pt x="18678" y="9103"/>
                </a:cubicBezTo>
                <a:cubicBezTo>
                  <a:pt x="18743" y="9223"/>
                  <a:pt x="18819" y="9318"/>
                  <a:pt x="18852" y="9451"/>
                </a:cubicBezTo>
                <a:cubicBezTo>
                  <a:pt x="18801" y="9308"/>
                  <a:pt x="18757" y="9156"/>
                  <a:pt x="18678" y="9029"/>
                </a:cubicBezTo>
                <a:cubicBezTo>
                  <a:pt x="18782" y="9112"/>
                  <a:pt x="18810" y="9298"/>
                  <a:pt x="18876" y="9426"/>
                </a:cubicBezTo>
                <a:cubicBezTo>
                  <a:pt x="18911" y="9461"/>
                  <a:pt x="18915" y="9456"/>
                  <a:pt x="18876" y="937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86760" y="2687760"/>
            <a:ext cx="223560" cy="277560"/>
          </a:xfrm>
          <a:custGeom>
            <a:avLst/>
            <a:gdLst/>
            <a:ahLst/>
            <a:rect l="l" t="t" r="r" b="b"/>
            <a:pathLst>
              <a:path w="621" h="770">
                <a:moveTo>
                  <a:pt x="20563" y="7665"/>
                </a:moveTo>
                <a:cubicBezTo>
                  <a:pt x="20581" y="7774"/>
                  <a:pt x="20588" y="7908"/>
                  <a:pt x="20613" y="8012"/>
                </a:cubicBezTo>
                <a:cubicBezTo>
                  <a:pt x="20621" y="8020"/>
                  <a:pt x="20630" y="8029"/>
                  <a:pt x="20638" y="8037"/>
                </a:cubicBezTo>
              </a:path>
              <a:path w="621" h="770">
                <a:moveTo>
                  <a:pt x="20538" y="7466"/>
                </a:moveTo>
                <a:cubicBezTo>
                  <a:pt x="20346" y="7636"/>
                  <a:pt x="20164" y="7806"/>
                  <a:pt x="20290" y="8086"/>
                </a:cubicBezTo>
                <a:cubicBezTo>
                  <a:pt x="20434" y="8405"/>
                  <a:pt x="20792" y="8180"/>
                  <a:pt x="20861" y="7938"/>
                </a:cubicBezTo>
                <a:cubicBezTo>
                  <a:pt x="20914" y="7753"/>
                  <a:pt x="20774" y="7670"/>
                  <a:pt x="20662" y="75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39040" y="2000160"/>
            <a:ext cx="865080" cy="420840"/>
          </a:xfrm>
          <a:custGeom>
            <a:avLst/>
            <a:gdLst/>
            <a:ahLst/>
            <a:rect l="l" t="t" r="r" b="b"/>
            <a:pathLst>
              <a:path w="2407" h="1167">
                <a:moveTo>
                  <a:pt x="21456" y="6449"/>
                </a:moveTo>
                <a:cubicBezTo>
                  <a:pt x="21488" y="6433"/>
                  <a:pt x="21400" y="6376"/>
                  <a:pt x="21357" y="6375"/>
                </a:cubicBezTo>
                <a:cubicBezTo>
                  <a:pt x="21191" y="6371"/>
                  <a:pt x="21009" y="6528"/>
                  <a:pt x="20910" y="6648"/>
                </a:cubicBezTo>
                <a:cubicBezTo>
                  <a:pt x="20873" y="6693"/>
                  <a:pt x="20835" y="6718"/>
                  <a:pt x="20910" y="6672"/>
                </a:cubicBezTo>
              </a:path>
              <a:path w="2407" h="1167">
                <a:moveTo>
                  <a:pt x="21927" y="6325"/>
                </a:moveTo>
                <a:cubicBezTo>
                  <a:pt x="22076" y="6371"/>
                  <a:pt x="22162" y="6390"/>
                  <a:pt x="22225" y="6548"/>
                </a:cubicBezTo>
                <a:cubicBezTo>
                  <a:pt x="22229" y="6559"/>
                  <a:pt x="22290" y="6733"/>
                  <a:pt x="22225" y="6722"/>
                </a:cubicBezTo>
                <a:cubicBezTo>
                  <a:pt x="22192" y="6714"/>
                  <a:pt x="22159" y="6705"/>
                  <a:pt x="22126" y="6697"/>
                </a:cubicBezTo>
              </a:path>
              <a:path w="2407" h="1167">
                <a:moveTo>
                  <a:pt x="20662" y="6623"/>
                </a:moveTo>
                <a:cubicBezTo>
                  <a:pt x="21039" y="6606"/>
                  <a:pt x="21377" y="6588"/>
                  <a:pt x="21754" y="6623"/>
                </a:cubicBezTo>
                <a:cubicBezTo>
                  <a:pt x="21755" y="6623"/>
                  <a:pt x="22246" y="6701"/>
                  <a:pt x="22250" y="6672"/>
                </a:cubicBezTo>
                <a:cubicBezTo>
                  <a:pt x="22242" y="6664"/>
                  <a:pt x="22233" y="6656"/>
                  <a:pt x="22225" y="6648"/>
                </a:cubicBezTo>
              </a:path>
              <a:path w="2407" h="1167">
                <a:moveTo>
                  <a:pt x="22101" y="5680"/>
                </a:moveTo>
                <a:cubicBezTo>
                  <a:pt x="22169" y="5596"/>
                  <a:pt x="22139" y="5637"/>
                  <a:pt x="22126" y="5705"/>
                </a:cubicBezTo>
                <a:cubicBezTo>
                  <a:pt x="22094" y="5874"/>
                  <a:pt x="22043" y="6037"/>
                  <a:pt x="22002" y="6201"/>
                </a:cubicBezTo>
                <a:cubicBezTo>
                  <a:pt x="22002" y="6209"/>
                  <a:pt x="22002" y="6218"/>
                  <a:pt x="22002" y="6226"/>
                </a:cubicBezTo>
                <a:cubicBezTo>
                  <a:pt x="22114" y="6278"/>
                  <a:pt x="22181" y="6276"/>
                  <a:pt x="22324" y="6276"/>
                </a:cubicBezTo>
                <a:cubicBezTo>
                  <a:pt x="22477" y="6276"/>
                  <a:pt x="22626" y="6280"/>
                  <a:pt x="22771" y="6300"/>
                </a:cubicBezTo>
                <a:cubicBezTo>
                  <a:pt x="22822" y="6307"/>
                  <a:pt x="22845" y="6318"/>
                  <a:pt x="22895" y="6325"/>
                </a:cubicBezTo>
                <a:cubicBezTo>
                  <a:pt x="22895" y="6107"/>
                  <a:pt x="22904" y="5896"/>
                  <a:pt x="22920" y="5680"/>
                </a:cubicBezTo>
                <a:cubicBezTo>
                  <a:pt x="22920" y="5622"/>
                  <a:pt x="22920" y="5614"/>
                  <a:pt x="22920" y="5581"/>
                </a:cubicBezTo>
                <a:cubicBezTo>
                  <a:pt x="22766" y="5562"/>
                  <a:pt x="22583" y="5563"/>
                  <a:pt x="22423" y="5581"/>
                </a:cubicBezTo>
                <a:cubicBezTo>
                  <a:pt x="22336" y="5591"/>
                  <a:pt x="22281" y="5612"/>
                  <a:pt x="22225" y="5606"/>
                </a:cubicBezTo>
                <a:cubicBezTo>
                  <a:pt x="22167" y="5606"/>
                  <a:pt x="22159" y="5606"/>
                  <a:pt x="22126" y="5606"/>
                </a:cubicBezTo>
              </a:path>
              <a:path w="2407" h="1167">
                <a:moveTo>
                  <a:pt x="22299" y="5879"/>
                </a:moveTo>
                <a:cubicBezTo>
                  <a:pt x="22299" y="5957"/>
                  <a:pt x="22263" y="6114"/>
                  <a:pt x="22324" y="6176"/>
                </a:cubicBezTo>
                <a:cubicBezTo>
                  <a:pt x="22363" y="6216"/>
                  <a:pt x="22285" y="6083"/>
                  <a:pt x="22275" y="6028"/>
                </a:cubicBezTo>
                <a:cubicBezTo>
                  <a:pt x="22263" y="5961"/>
                  <a:pt x="22270" y="5912"/>
                  <a:pt x="22275" y="5854"/>
                </a:cubicBezTo>
                <a:cubicBezTo>
                  <a:pt x="22277" y="5828"/>
                  <a:pt x="22292" y="5650"/>
                  <a:pt x="22374" y="5705"/>
                </a:cubicBezTo>
                <a:cubicBezTo>
                  <a:pt x="22468" y="5768"/>
                  <a:pt x="22370" y="5915"/>
                  <a:pt x="22349" y="5978"/>
                </a:cubicBezTo>
                <a:cubicBezTo>
                  <a:pt x="22379" y="5918"/>
                  <a:pt x="22399" y="5935"/>
                  <a:pt x="22473" y="5928"/>
                </a:cubicBezTo>
                <a:cubicBezTo>
                  <a:pt x="22459" y="6067"/>
                  <a:pt x="22437" y="6202"/>
                  <a:pt x="22275" y="6226"/>
                </a:cubicBezTo>
                <a:cubicBezTo>
                  <a:pt x="22234" y="6185"/>
                  <a:pt x="22231" y="6155"/>
                  <a:pt x="22275" y="6102"/>
                </a:cubicBezTo>
              </a:path>
              <a:path w="2407" h="1167">
                <a:moveTo>
                  <a:pt x="22572" y="5978"/>
                </a:moveTo>
                <a:cubicBezTo>
                  <a:pt x="22635" y="5928"/>
                  <a:pt x="22701" y="5905"/>
                  <a:pt x="22647" y="5829"/>
                </a:cubicBezTo>
                <a:cubicBezTo>
                  <a:pt x="22594" y="5862"/>
                  <a:pt x="22444" y="5973"/>
                  <a:pt x="22547" y="6052"/>
                </a:cubicBezTo>
                <a:cubicBezTo>
                  <a:pt x="22580" y="6060"/>
                  <a:pt x="22614" y="6069"/>
                  <a:pt x="22647" y="6077"/>
                </a:cubicBezTo>
              </a:path>
              <a:path w="2407" h="1167">
                <a:moveTo>
                  <a:pt x="22721" y="5928"/>
                </a:moveTo>
                <a:cubicBezTo>
                  <a:pt x="22696" y="5978"/>
                  <a:pt x="22688" y="5995"/>
                  <a:pt x="22721" y="6028"/>
                </a:cubicBezTo>
                <a:cubicBezTo>
                  <a:pt x="22847" y="5977"/>
                  <a:pt x="22800" y="5997"/>
                  <a:pt x="22820" y="5879"/>
                </a:cubicBezTo>
                <a:cubicBezTo>
                  <a:pt x="22838" y="5771"/>
                  <a:pt x="22822" y="5754"/>
                  <a:pt x="22895" y="5730"/>
                </a:cubicBezTo>
              </a:path>
              <a:path w="2407" h="1167">
                <a:moveTo>
                  <a:pt x="22994" y="5680"/>
                </a:moveTo>
                <a:cubicBezTo>
                  <a:pt x="22921" y="5771"/>
                  <a:pt x="22960" y="5769"/>
                  <a:pt x="23044" y="5854"/>
                </a:cubicBezTo>
                <a:cubicBezTo>
                  <a:pt x="23110" y="5920"/>
                  <a:pt x="23070" y="6060"/>
                  <a:pt x="22969" y="6052"/>
                </a:cubicBezTo>
                <a:cubicBezTo>
                  <a:pt x="22944" y="6044"/>
                  <a:pt x="22920" y="6036"/>
                  <a:pt x="22895" y="60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5320" y="2598840"/>
            <a:ext cx="8089920" cy="2027160"/>
          </a:xfrm>
          <a:custGeom>
            <a:avLst/>
            <a:gdLst/>
            <a:ahLst/>
            <a:rect l="l" t="t" r="r" b="b"/>
            <a:pathLst>
              <a:path w="22474" h="5632">
                <a:moveTo>
                  <a:pt x="2133" y="9624"/>
                </a:moveTo>
                <a:cubicBezTo>
                  <a:pt x="2225" y="9690"/>
                  <a:pt x="2316" y="9815"/>
                  <a:pt x="2381" y="9922"/>
                </a:cubicBezTo>
                <a:cubicBezTo>
                  <a:pt x="2389" y="9938"/>
                  <a:pt x="2398" y="9955"/>
                  <a:pt x="2406" y="9971"/>
                </a:cubicBezTo>
              </a:path>
              <a:path w="22474" h="5632">
                <a:moveTo>
                  <a:pt x="1885" y="9872"/>
                </a:moveTo>
                <a:cubicBezTo>
                  <a:pt x="1940" y="9811"/>
                  <a:pt x="2310" y="9341"/>
                  <a:pt x="2356" y="9351"/>
                </a:cubicBezTo>
                <a:cubicBezTo>
                  <a:pt x="2364" y="9384"/>
                  <a:pt x="2373" y="9418"/>
                  <a:pt x="2381" y="9451"/>
                </a:cubicBezTo>
              </a:path>
              <a:path w="22474" h="5632">
                <a:moveTo>
                  <a:pt x="2704" y="9823"/>
                </a:moveTo>
                <a:cubicBezTo>
                  <a:pt x="2720" y="9839"/>
                  <a:pt x="2737" y="9856"/>
                  <a:pt x="2753" y="9872"/>
                </a:cubicBezTo>
                <a:cubicBezTo>
                  <a:pt x="2629" y="9822"/>
                  <a:pt x="2564" y="9678"/>
                  <a:pt x="2530" y="9550"/>
                </a:cubicBezTo>
                <a:cubicBezTo>
                  <a:pt x="2502" y="9443"/>
                  <a:pt x="2581" y="9434"/>
                  <a:pt x="2654" y="9401"/>
                </a:cubicBezTo>
              </a:path>
              <a:path w="22474" h="5632">
                <a:moveTo>
                  <a:pt x="2877" y="9426"/>
                </a:moveTo>
                <a:cubicBezTo>
                  <a:pt x="2768" y="9426"/>
                  <a:pt x="2788" y="9476"/>
                  <a:pt x="2778" y="9575"/>
                </a:cubicBezTo>
                <a:cubicBezTo>
                  <a:pt x="2936" y="9644"/>
                  <a:pt x="2920" y="9517"/>
                  <a:pt x="2902" y="9376"/>
                </a:cubicBezTo>
                <a:cubicBezTo>
                  <a:pt x="2911" y="9402"/>
                  <a:pt x="2998" y="9516"/>
                  <a:pt x="3051" y="9475"/>
                </a:cubicBezTo>
                <a:cubicBezTo>
                  <a:pt x="3051" y="9459"/>
                  <a:pt x="3051" y="9442"/>
                  <a:pt x="3051" y="9426"/>
                </a:cubicBezTo>
              </a:path>
              <a:path w="22474" h="5632">
                <a:moveTo>
                  <a:pt x="3200" y="9376"/>
                </a:moveTo>
                <a:cubicBezTo>
                  <a:pt x="3208" y="9384"/>
                  <a:pt x="3217" y="9393"/>
                  <a:pt x="3225" y="9401"/>
                </a:cubicBezTo>
              </a:path>
              <a:path w="22474" h="5632">
                <a:moveTo>
                  <a:pt x="3373" y="9302"/>
                </a:moveTo>
                <a:cubicBezTo>
                  <a:pt x="3459" y="9360"/>
                  <a:pt x="3310" y="9149"/>
                  <a:pt x="3299" y="9128"/>
                </a:cubicBezTo>
                <a:cubicBezTo>
                  <a:pt x="3291" y="9112"/>
                  <a:pt x="3282" y="9095"/>
                  <a:pt x="3274" y="9079"/>
                </a:cubicBezTo>
                <a:cubicBezTo>
                  <a:pt x="3459" y="9050"/>
                  <a:pt x="3485" y="9115"/>
                  <a:pt x="3572" y="9277"/>
                </a:cubicBezTo>
                <a:cubicBezTo>
                  <a:pt x="3592" y="9317"/>
                  <a:pt x="3601" y="9324"/>
                  <a:pt x="3597" y="9351"/>
                </a:cubicBezTo>
              </a:path>
              <a:path w="22474" h="5632">
                <a:moveTo>
                  <a:pt x="2977" y="9153"/>
                </a:moveTo>
                <a:cubicBezTo>
                  <a:pt x="2985" y="9153"/>
                  <a:pt x="2993" y="9153"/>
                  <a:pt x="3001" y="9153"/>
                </a:cubicBezTo>
              </a:path>
              <a:path w="22474" h="5632">
                <a:moveTo>
                  <a:pt x="2133" y="9128"/>
                </a:moveTo>
                <a:cubicBezTo>
                  <a:pt x="2126" y="9129"/>
                  <a:pt x="2059" y="9107"/>
                  <a:pt x="2034" y="9128"/>
                </a:cubicBezTo>
                <a:cubicBezTo>
                  <a:pt x="2023" y="9138"/>
                  <a:pt x="1971" y="9189"/>
                  <a:pt x="1960" y="9203"/>
                </a:cubicBezTo>
                <a:cubicBezTo>
                  <a:pt x="1932" y="9237"/>
                  <a:pt x="1876" y="9312"/>
                  <a:pt x="1860" y="9351"/>
                </a:cubicBezTo>
                <a:cubicBezTo>
                  <a:pt x="1831" y="9422"/>
                  <a:pt x="1809" y="9500"/>
                  <a:pt x="1786" y="9575"/>
                </a:cubicBezTo>
                <a:cubicBezTo>
                  <a:pt x="1762" y="9653"/>
                  <a:pt x="1739" y="9714"/>
                  <a:pt x="1736" y="9798"/>
                </a:cubicBezTo>
                <a:cubicBezTo>
                  <a:pt x="1732" y="9908"/>
                  <a:pt x="1714" y="10045"/>
                  <a:pt x="1761" y="10145"/>
                </a:cubicBezTo>
                <a:cubicBezTo>
                  <a:pt x="1798" y="10224"/>
                  <a:pt x="1849" y="10332"/>
                  <a:pt x="1910" y="10393"/>
                </a:cubicBezTo>
                <a:cubicBezTo>
                  <a:pt x="1995" y="10478"/>
                  <a:pt x="2103" y="10537"/>
                  <a:pt x="2208" y="10592"/>
                </a:cubicBezTo>
                <a:cubicBezTo>
                  <a:pt x="2326" y="10654"/>
                  <a:pt x="2432" y="10663"/>
                  <a:pt x="2555" y="10691"/>
                </a:cubicBezTo>
                <a:cubicBezTo>
                  <a:pt x="2697" y="10723"/>
                  <a:pt x="2834" y="10761"/>
                  <a:pt x="2977" y="10790"/>
                </a:cubicBezTo>
                <a:cubicBezTo>
                  <a:pt x="3093" y="10813"/>
                  <a:pt x="3208" y="10851"/>
                  <a:pt x="3324" y="10864"/>
                </a:cubicBezTo>
                <a:cubicBezTo>
                  <a:pt x="3529" y="10888"/>
                  <a:pt x="3747" y="10856"/>
                  <a:pt x="3944" y="10840"/>
                </a:cubicBezTo>
                <a:cubicBezTo>
                  <a:pt x="4028" y="10833"/>
                  <a:pt x="4114" y="10823"/>
                  <a:pt x="4192" y="10815"/>
                </a:cubicBezTo>
                <a:cubicBezTo>
                  <a:pt x="4258" y="10809"/>
                  <a:pt x="4367" y="10906"/>
                  <a:pt x="4366" y="10840"/>
                </a:cubicBezTo>
                <a:cubicBezTo>
                  <a:pt x="4365" y="10805"/>
                  <a:pt x="4349" y="10825"/>
                  <a:pt x="4316" y="10815"/>
                </a:cubicBezTo>
              </a:path>
              <a:path w="22474" h="5632">
                <a:moveTo>
                  <a:pt x="6672" y="9525"/>
                </a:moveTo>
                <a:cubicBezTo>
                  <a:pt x="6664" y="9525"/>
                  <a:pt x="6656" y="9525"/>
                  <a:pt x="6648" y="9525"/>
                </a:cubicBezTo>
              </a:path>
              <a:path w="22474" h="5632">
                <a:moveTo>
                  <a:pt x="6226" y="9773"/>
                </a:moveTo>
                <a:cubicBezTo>
                  <a:pt x="6287" y="9701"/>
                  <a:pt x="6314" y="9663"/>
                  <a:pt x="6400" y="9624"/>
                </a:cubicBezTo>
                <a:cubicBezTo>
                  <a:pt x="6503" y="9578"/>
                  <a:pt x="6679" y="9617"/>
                  <a:pt x="6772" y="9674"/>
                </a:cubicBezTo>
                <a:cubicBezTo>
                  <a:pt x="6868" y="9733"/>
                  <a:pt x="6950" y="9805"/>
                  <a:pt x="7045" y="9872"/>
                </a:cubicBezTo>
                <a:cubicBezTo>
                  <a:pt x="7163" y="9955"/>
                  <a:pt x="7237" y="9908"/>
                  <a:pt x="7367" y="9872"/>
                </a:cubicBezTo>
                <a:cubicBezTo>
                  <a:pt x="7430" y="9855"/>
                  <a:pt x="7509" y="9812"/>
                  <a:pt x="7565" y="9798"/>
                </a:cubicBezTo>
                <a:cubicBezTo>
                  <a:pt x="7632" y="9781"/>
                  <a:pt x="7598" y="9798"/>
                  <a:pt x="7640" y="9773"/>
                </a:cubicBezTo>
              </a:path>
              <a:path w="22474" h="5632">
                <a:moveTo>
                  <a:pt x="7739" y="9575"/>
                </a:moveTo>
                <a:cubicBezTo>
                  <a:pt x="7710" y="9716"/>
                  <a:pt x="7700" y="9880"/>
                  <a:pt x="7665" y="10021"/>
                </a:cubicBezTo>
                <a:cubicBezTo>
                  <a:pt x="7625" y="10119"/>
                  <a:pt x="7609" y="10133"/>
                  <a:pt x="7615" y="10195"/>
                </a:cubicBezTo>
                <a:cubicBezTo>
                  <a:pt x="7759" y="10195"/>
                  <a:pt x="7774" y="10229"/>
                  <a:pt x="7888" y="10294"/>
                </a:cubicBezTo>
                <a:cubicBezTo>
                  <a:pt x="7901" y="10301"/>
                  <a:pt x="7946" y="10294"/>
                  <a:pt x="7962" y="10294"/>
                </a:cubicBezTo>
                <a:cubicBezTo>
                  <a:pt x="8032" y="10169"/>
                  <a:pt x="8042" y="10087"/>
                  <a:pt x="8062" y="9947"/>
                </a:cubicBezTo>
                <a:cubicBezTo>
                  <a:pt x="8077" y="9843"/>
                  <a:pt x="8086" y="9753"/>
                  <a:pt x="8086" y="9649"/>
                </a:cubicBezTo>
                <a:cubicBezTo>
                  <a:pt x="8086" y="9596"/>
                  <a:pt x="7898" y="9580"/>
                  <a:pt x="7863" y="9575"/>
                </a:cubicBezTo>
                <a:cubicBezTo>
                  <a:pt x="7805" y="9567"/>
                  <a:pt x="7802" y="9549"/>
                  <a:pt x="7789" y="9575"/>
                </a:cubicBezTo>
              </a:path>
              <a:path w="22474" h="5632">
                <a:moveTo>
                  <a:pt x="7590" y="9847"/>
                </a:moveTo>
                <a:cubicBezTo>
                  <a:pt x="7627" y="9827"/>
                  <a:pt x="7653" y="9807"/>
                  <a:pt x="7689" y="9798"/>
                </a:cubicBezTo>
                <a:cubicBezTo>
                  <a:pt x="7640" y="9836"/>
                  <a:pt x="7632" y="9824"/>
                  <a:pt x="7640" y="9847"/>
                </a:cubicBezTo>
                <a:cubicBezTo>
                  <a:pt x="7640" y="9855"/>
                  <a:pt x="7640" y="9864"/>
                  <a:pt x="7640" y="9872"/>
                </a:cubicBezTo>
              </a:path>
              <a:path w="22474" h="5632">
                <a:moveTo>
                  <a:pt x="7838" y="10418"/>
                </a:moveTo>
                <a:cubicBezTo>
                  <a:pt x="7921" y="10418"/>
                  <a:pt x="7954" y="10411"/>
                  <a:pt x="8037" y="10418"/>
                </a:cubicBezTo>
                <a:cubicBezTo>
                  <a:pt x="8413" y="10450"/>
                  <a:pt x="8806" y="10438"/>
                  <a:pt x="9178" y="10492"/>
                </a:cubicBezTo>
                <a:cubicBezTo>
                  <a:pt x="9525" y="10542"/>
                  <a:pt x="9850" y="10695"/>
                  <a:pt x="10195" y="10765"/>
                </a:cubicBezTo>
                <a:cubicBezTo>
                  <a:pt x="10369" y="10800"/>
                  <a:pt x="10542" y="10812"/>
                  <a:pt x="10716" y="10840"/>
                </a:cubicBezTo>
                <a:cubicBezTo>
                  <a:pt x="11057" y="10895"/>
                  <a:pt x="11416" y="10986"/>
                  <a:pt x="11757" y="11013"/>
                </a:cubicBezTo>
                <a:cubicBezTo>
                  <a:pt x="11892" y="11024"/>
                  <a:pt x="12003" y="11036"/>
                  <a:pt x="12129" y="11063"/>
                </a:cubicBezTo>
                <a:cubicBezTo>
                  <a:pt x="12178" y="11074"/>
                  <a:pt x="12205" y="11079"/>
                  <a:pt x="12254" y="11088"/>
                </a:cubicBezTo>
                <a:cubicBezTo>
                  <a:pt x="12262" y="11088"/>
                  <a:pt x="12270" y="11088"/>
                  <a:pt x="12278" y="11088"/>
                </a:cubicBezTo>
                <a:cubicBezTo>
                  <a:pt x="12242" y="11251"/>
                  <a:pt x="12199" y="11414"/>
                  <a:pt x="12179" y="11584"/>
                </a:cubicBezTo>
                <a:cubicBezTo>
                  <a:pt x="12145" y="11872"/>
                  <a:pt x="12406" y="12539"/>
                  <a:pt x="12129" y="12452"/>
                </a:cubicBezTo>
                <a:cubicBezTo>
                  <a:pt x="11995" y="12452"/>
                  <a:pt x="11918" y="12367"/>
                  <a:pt x="11881" y="12179"/>
                </a:cubicBezTo>
              </a:path>
              <a:path w="22474" h="5632">
                <a:moveTo>
                  <a:pt x="8111" y="10567"/>
                </a:moveTo>
                <a:cubicBezTo>
                  <a:pt x="7969" y="10896"/>
                  <a:pt x="7915" y="11255"/>
                  <a:pt x="7863" y="11609"/>
                </a:cubicBezTo>
                <a:cubicBezTo>
                  <a:pt x="7838" y="11778"/>
                  <a:pt x="7879" y="11864"/>
                  <a:pt x="7789" y="11956"/>
                </a:cubicBezTo>
                <a:cubicBezTo>
                  <a:pt x="7674" y="11804"/>
                  <a:pt x="7644" y="11705"/>
                  <a:pt x="7689" y="11534"/>
                </a:cubicBezTo>
              </a:path>
              <a:path w="22474" h="5632">
                <a:moveTo>
                  <a:pt x="7541" y="10046"/>
                </a:moveTo>
                <a:cubicBezTo>
                  <a:pt x="7476" y="10087"/>
                  <a:pt x="7408" y="10127"/>
                  <a:pt x="7342" y="10170"/>
                </a:cubicBezTo>
                <a:cubicBezTo>
                  <a:pt x="7296" y="10200"/>
                  <a:pt x="7205" y="10230"/>
                  <a:pt x="7169" y="10269"/>
                </a:cubicBezTo>
                <a:cubicBezTo>
                  <a:pt x="7097" y="10348"/>
                  <a:pt x="7069" y="10449"/>
                  <a:pt x="7045" y="10542"/>
                </a:cubicBezTo>
                <a:cubicBezTo>
                  <a:pt x="7014" y="10662"/>
                  <a:pt x="6991" y="10770"/>
                  <a:pt x="6970" y="10889"/>
                </a:cubicBezTo>
                <a:cubicBezTo>
                  <a:pt x="6950" y="11007"/>
                  <a:pt x="6903" y="11122"/>
                  <a:pt x="6871" y="11237"/>
                </a:cubicBezTo>
                <a:cubicBezTo>
                  <a:pt x="6833" y="11375"/>
                  <a:pt x="6847" y="11520"/>
                  <a:pt x="6821" y="11658"/>
                </a:cubicBezTo>
                <a:cubicBezTo>
                  <a:pt x="6796" y="11791"/>
                  <a:pt x="6760" y="11919"/>
                  <a:pt x="6747" y="12055"/>
                </a:cubicBezTo>
                <a:cubicBezTo>
                  <a:pt x="6734" y="12189"/>
                  <a:pt x="6722" y="12315"/>
                  <a:pt x="6722" y="12452"/>
                </a:cubicBezTo>
                <a:cubicBezTo>
                  <a:pt x="6722" y="12563"/>
                  <a:pt x="6697" y="12661"/>
                  <a:pt x="6697" y="12774"/>
                </a:cubicBezTo>
                <a:cubicBezTo>
                  <a:pt x="6697" y="12791"/>
                  <a:pt x="6697" y="12807"/>
                  <a:pt x="6697" y="12824"/>
                </a:cubicBezTo>
                <a:cubicBezTo>
                  <a:pt x="6660" y="12759"/>
                  <a:pt x="6640" y="12761"/>
                  <a:pt x="6598" y="12700"/>
                </a:cubicBezTo>
                <a:cubicBezTo>
                  <a:pt x="6554" y="12635"/>
                  <a:pt x="6543" y="12621"/>
                  <a:pt x="6524" y="12576"/>
                </a:cubicBezTo>
                <a:cubicBezTo>
                  <a:pt x="6572" y="12636"/>
                  <a:pt x="6587" y="12657"/>
                  <a:pt x="6623" y="12725"/>
                </a:cubicBezTo>
                <a:cubicBezTo>
                  <a:pt x="6661" y="12798"/>
                  <a:pt x="6711" y="12886"/>
                  <a:pt x="6821" y="12849"/>
                </a:cubicBezTo>
                <a:cubicBezTo>
                  <a:pt x="6895" y="12824"/>
                  <a:pt x="6961" y="12746"/>
                  <a:pt x="7020" y="12700"/>
                </a:cubicBezTo>
              </a:path>
              <a:path w="22474" h="5632">
                <a:moveTo>
                  <a:pt x="5730" y="10492"/>
                </a:moveTo>
                <a:cubicBezTo>
                  <a:pt x="5570" y="10415"/>
                  <a:pt x="5935" y="10253"/>
                  <a:pt x="6102" y="10195"/>
                </a:cubicBezTo>
                <a:cubicBezTo>
                  <a:pt x="6259" y="10141"/>
                  <a:pt x="6279" y="10175"/>
                  <a:pt x="6400" y="10195"/>
                </a:cubicBezTo>
              </a:path>
              <a:path w="22474" h="5632">
                <a:moveTo>
                  <a:pt x="6573" y="9823"/>
                </a:moveTo>
                <a:cubicBezTo>
                  <a:pt x="6561" y="9786"/>
                  <a:pt x="6551" y="9794"/>
                  <a:pt x="6524" y="9773"/>
                </a:cubicBezTo>
                <a:cubicBezTo>
                  <a:pt x="6483" y="9741"/>
                  <a:pt x="6372" y="9787"/>
                  <a:pt x="6350" y="9847"/>
                </a:cubicBezTo>
                <a:cubicBezTo>
                  <a:pt x="6321" y="9926"/>
                  <a:pt x="6381" y="9971"/>
                  <a:pt x="6424" y="10021"/>
                </a:cubicBezTo>
                <a:cubicBezTo>
                  <a:pt x="6544" y="10010"/>
                  <a:pt x="6593" y="9977"/>
                  <a:pt x="6623" y="9847"/>
                </a:cubicBezTo>
                <a:cubicBezTo>
                  <a:pt x="6623" y="9831"/>
                  <a:pt x="6623" y="9814"/>
                  <a:pt x="6623" y="9798"/>
                </a:cubicBezTo>
                <a:cubicBezTo>
                  <a:pt x="6559" y="9713"/>
                  <a:pt x="6464" y="9743"/>
                  <a:pt x="6375" y="9798"/>
                </a:cubicBezTo>
                <a:cubicBezTo>
                  <a:pt x="6338" y="9821"/>
                  <a:pt x="6250" y="9973"/>
                  <a:pt x="6276" y="10021"/>
                </a:cubicBezTo>
                <a:cubicBezTo>
                  <a:pt x="6292" y="10038"/>
                  <a:pt x="6309" y="10054"/>
                  <a:pt x="6325" y="10071"/>
                </a:cubicBezTo>
                <a:cubicBezTo>
                  <a:pt x="6425" y="10060"/>
                  <a:pt x="6543" y="10024"/>
                  <a:pt x="6548" y="9897"/>
                </a:cubicBezTo>
                <a:cubicBezTo>
                  <a:pt x="6552" y="9798"/>
                  <a:pt x="6407" y="9757"/>
                  <a:pt x="6350" y="9823"/>
                </a:cubicBezTo>
                <a:cubicBezTo>
                  <a:pt x="6342" y="9839"/>
                  <a:pt x="6333" y="9856"/>
                  <a:pt x="6325" y="9872"/>
                </a:cubicBezTo>
              </a:path>
              <a:path w="22474" h="5632">
                <a:moveTo>
                  <a:pt x="8458" y="10220"/>
                </a:moveTo>
                <a:cubicBezTo>
                  <a:pt x="8450" y="10245"/>
                  <a:pt x="8442" y="10269"/>
                  <a:pt x="8434" y="10294"/>
                </a:cubicBezTo>
                <a:cubicBezTo>
                  <a:pt x="8447" y="10112"/>
                  <a:pt x="8472" y="9927"/>
                  <a:pt x="8508" y="9748"/>
                </a:cubicBezTo>
                <a:cubicBezTo>
                  <a:pt x="8527" y="9674"/>
                  <a:pt x="8535" y="9667"/>
                  <a:pt x="8533" y="9624"/>
                </a:cubicBezTo>
                <a:cubicBezTo>
                  <a:pt x="8624" y="9655"/>
                  <a:pt x="8771" y="9721"/>
                  <a:pt x="8855" y="9773"/>
                </a:cubicBezTo>
                <a:cubicBezTo>
                  <a:pt x="8894" y="9812"/>
                  <a:pt x="8896" y="9829"/>
                  <a:pt x="8930" y="9823"/>
                </a:cubicBezTo>
                <a:cubicBezTo>
                  <a:pt x="8930" y="9925"/>
                  <a:pt x="8778" y="10092"/>
                  <a:pt x="8731" y="10195"/>
                </a:cubicBezTo>
                <a:cubicBezTo>
                  <a:pt x="8727" y="10203"/>
                  <a:pt x="8689" y="10372"/>
                  <a:pt x="8657" y="10368"/>
                </a:cubicBezTo>
                <a:cubicBezTo>
                  <a:pt x="8577" y="10357"/>
                  <a:pt x="8483" y="10331"/>
                  <a:pt x="8483" y="10319"/>
                </a:cubicBezTo>
              </a:path>
              <a:path w="22474" h="5632">
                <a:moveTo>
                  <a:pt x="9599" y="9872"/>
                </a:moveTo>
                <a:cubicBezTo>
                  <a:pt x="9564" y="10016"/>
                  <a:pt x="9493" y="10196"/>
                  <a:pt x="9451" y="10344"/>
                </a:cubicBezTo>
                <a:cubicBezTo>
                  <a:pt x="9443" y="10377"/>
                  <a:pt x="9434" y="10410"/>
                  <a:pt x="9426" y="10443"/>
                </a:cubicBezTo>
                <a:cubicBezTo>
                  <a:pt x="9426" y="10285"/>
                  <a:pt x="9447" y="10129"/>
                  <a:pt x="9451" y="9971"/>
                </a:cubicBezTo>
                <a:cubicBezTo>
                  <a:pt x="9451" y="9955"/>
                  <a:pt x="9451" y="9938"/>
                  <a:pt x="9451" y="9922"/>
                </a:cubicBezTo>
                <a:cubicBezTo>
                  <a:pt x="9567" y="9980"/>
                  <a:pt x="9683" y="10054"/>
                  <a:pt x="9798" y="10120"/>
                </a:cubicBezTo>
                <a:cubicBezTo>
                  <a:pt x="9828" y="10150"/>
                  <a:pt x="9842" y="10161"/>
                  <a:pt x="9872" y="10170"/>
                </a:cubicBezTo>
                <a:cubicBezTo>
                  <a:pt x="9785" y="10316"/>
                  <a:pt x="9710" y="10469"/>
                  <a:pt x="9624" y="10616"/>
                </a:cubicBezTo>
                <a:cubicBezTo>
                  <a:pt x="9566" y="10714"/>
                  <a:pt x="9573" y="10730"/>
                  <a:pt x="9550" y="10666"/>
                </a:cubicBezTo>
                <a:cubicBezTo>
                  <a:pt x="9531" y="10612"/>
                  <a:pt x="9492" y="10568"/>
                  <a:pt x="9475" y="10517"/>
                </a:cubicBezTo>
              </a:path>
              <a:path w="22474" h="5632">
                <a:moveTo>
                  <a:pt x="10319" y="10046"/>
                </a:moveTo>
                <a:cubicBezTo>
                  <a:pt x="10319" y="10197"/>
                  <a:pt x="10209" y="10398"/>
                  <a:pt x="10170" y="10542"/>
                </a:cubicBezTo>
                <a:cubicBezTo>
                  <a:pt x="10162" y="10583"/>
                  <a:pt x="10153" y="10625"/>
                  <a:pt x="10145" y="10666"/>
                </a:cubicBezTo>
                <a:cubicBezTo>
                  <a:pt x="10165" y="10586"/>
                  <a:pt x="10241" y="10577"/>
                  <a:pt x="10319" y="10616"/>
                </a:cubicBezTo>
                <a:cubicBezTo>
                  <a:pt x="10397" y="10656"/>
                  <a:pt x="10346" y="10666"/>
                  <a:pt x="10418" y="10666"/>
                </a:cubicBezTo>
                <a:cubicBezTo>
                  <a:pt x="10506" y="10545"/>
                  <a:pt x="10547" y="10414"/>
                  <a:pt x="10592" y="10269"/>
                </a:cubicBezTo>
                <a:cubicBezTo>
                  <a:pt x="10627" y="10157"/>
                  <a:pt x="10639" y="10111"/>
                  <a:pt x="10542" y="10071"/>
                </a:cubicBezTo>
                <a:cubicBezTo>
                  <a:pt x="10491" y="10050"/>
                  <a:pt x="10491" y="10046"/>
                  <a:pt x="10443" y="10046"/>
                </a:cubicBezTo>
              </a:path>
              <a:path w="22474" h="5632">
                <a:moveTo>
                  <a:pt x="10840" y="10344"/>
                </a:moveTo>
                <a:cubicBezTo>
                  <a:pt x="10840" y="10490"/>
                  <a:pt x="10825" y="10647"/>
                  <a:pt x="10790" y="10790"/>
                </a:cubicBezTo>
                <a:cubicBezTo>
                  <a:pt x="10770" y="10830"/>
                  <a:pt x="10761" y="10837"/>
                  <a:pt x="10765" y="10864"/>
                </a:cubicBezTo>
                <a:cubicBezTo>
                  <a:pt x="10851" y="10881"/>
                  <a:pt x="10919" y="10889"/>
                  <a:pt x="11013" y="10889"/>
                </a:cubicBezTo>
                <a:cubicBezTo>
                  <a:pt x="11107" y="10889"/>
                  <a:pt x="11097" y="10804"/>
                  <a:pt x="11112" y="10716"/>
                </a:cubicBezTo>
                <a:cubicBezTo>
                  <a:pt x="11123" y="10653"/>
                  <a:pt x="11201" y="10391"/>
                  <a:pt x="11162" y="10344"/>
                </a:cubicBezTo>
                <a:cubicBezTo>
                  <a:pt x="11155" y="10336"/>
                  <a:pt x="11055" y="10215"/>
                  <a:pt x="11038" y="10220"/>
                </a:cubicBezTo>
                <a:cubicBezTo>
                  <a:pt x="10966" y="10241"/>
                  <a:pt x="10920" y="10275"/>
                  <a:pt x="10864" y="10319"/>
                </a:cubicBezTo>
              </a:path>
              <a:path w="22474" h="5632">
                <a:moveTo>
                  <a:pt x="11683" y="10492"/>
                </a:moveTo>
                <a:cubicBezTo>
                  <a:pt x="11683" y="10432"/>
                  <a:pt x="11671" y="10418"/>
                  <a:pt x="11658" y="10368"/>
                </a:cubicBezTo>
                <a:cubicBezTo>
                  <a:pt x="11608" y="10520"/>
                  <a:pt x="11571" y="10678"/>
                  <a:pt x="11534" y="10840"/>
                </a:cubicBezTo>
                <a:cubicBezTo>
                  <a:pt x="11526" y="10865"/>
                  <a:pt x="11517" y="10889"/>
                  <a:pt x="11509" y="10914"/>
                </a:cubicBezTo>
                <a:cubicBezTo>
                  <a:pt x="11571" y="10914"/>
                  <a:pt x="11628" y="10920"/>
                  <a:pt x="11658" y="10939"/>
                </a:cubicBezTo>
                <a:cubicBezTo>
                  <a:pt x="11698" y="10959"/>
                  <a:pt x="11715" y="10957"/>
                  <a:pt x="11708" y="10988"/>
                </a:cubicBezTo>
                <a:cubicBezTo>
                  <a:pt x="11795" y="10988"/>
                  <a:pt x="11818" y="10951"/>
                  <a:pt x="11857" y="10864"/>
                </a:cubicBezTo>
                <a:cubicBezTo>
                  <a:pt x="11888" y="10793"/>
                  <a:pt x="11881" y="10730"/>
                  <a:pt x="11881" y="10641"/>
                </a:cubicBezTo>
                <a:cubicBezTo>
                  <a:pt x="11881" y="10558"/>
                  <a:pt x="11914" y="10446"/>
                  <a:pt x="11832" y="10393"/>
                </a:cubicBezTo>
                <a:cubicBezTo>
                  <a:pt x="11797" y="10370"/>
                  <a:pt x="11737" y="10407"/>
                  <a:pt x="11708" y="10418"/>
                </a:cubicBezTo>
              </a:path>
              <a:path w="22474" h="5632">
                <a:moveTo>
                  <a:pt x="12154" y="10468"/>
                </a:moveTo>
                <a:cubicBezTo>
                  <a:pt x="12182" y="10297"/>
                  <a:pt x="12157" y="10604"/>
                  <a:pt x="12154" y="10616"/>
                </a:cubicBezTo>
                <a:cubicBezTo>
                  <a:pt x="12122" y="10758"/>
                  <a:pt x="12065" y="10860"/>
                  <a:pt x="12030" y="10988"/>
                </a:cubicBezTo>
                <a:cubicBezTo>
                  <a:pt x="12110" y="11008"/>
                  <a:pt x="12123" y="11011"/>
                  <a:pt x="12204" y="11038"/>
                </a:cubicBezTo>
                <a:cubicBezTo>
                  <a:pt x="12259" y="11056"/>
                  <a:pt x="12196" y="11049"/>
                  <a:pt x="12278" y="11063"/>
                </a:cubicBezTo>
                <a:cubicBezTo>
                  <a:pt x="12368" y="10935"/>
                  <a:pt x="12390" y="10777"/>
                  <a:pt x="12402" y="10616"/>
                </a:cubicBezTo>
                <a:cubicBezTo>
                  <a:pt x="12408" y="10532"/>
                  <a:pt x="12427" y="10451"/>
                  <a:pt x="12427" y="10368"/>
                </a:cubicBezTo>
                <a:cubicBezTo>
                  <a:pt x="12349" y="10368"/>
                  <a:pt x="12282" y="10348"/>
                  <a:pt x="12204" y="10344"/>
                </a:cubicBezTo>
                <a:cubicBezTo>
                  <a:pt x="12196" y="10344"/>
                  <a:pt x="12187" y="10344"/>
                  <a:pt x="12179" y="10344"/>
                </a:cubicBezTo>
              </a:path>
              <a:path w="22474" h="5632">
                <a:moveTo>
                  <a:pt x="13915" y="8012"/>
                </a:moveTo>
                <a:cubicBezTo>
                  <a:pt x="13856" y="8012"/>
                  <a:pt x="13809" y="8021"/>
                  <a:pt x="13791" y="8086"/>
                </a:cubicBezTo>
                <a:cubicBezTo>
                  <a:pt x="13791" y="8103"/>
                  <a:pt x="13791" y="8119"/>
                  <a:pt x="13791" y="8136"/>
                </a:cubicBezTo>
                <a:cubicBezTo>
                  <a:pt x="13855" y="8175"/>
                  <a:pt x="13902" y="8162"/>
                  <a:pt x="13965" y="8111"/>
                </a:cubicBezTo>
                <a:cubicBezTo>
                  <a:pt x="14005" y="8079"/>
                  <a:pt x="13913" y="8026"/>
                  <a:pt x="13891" y="8037"/>
                </a:cubicBezTo>
                <a:cubicBezTo>
                  <a:pt x="13871" y="8077"/>
                  <a:pt x="13872" y="8093"/>
                  <a:pt x="13841" y="8086"/>
                </a:cubicBezTo>
                <a:cubicBezTo>
                  <a:pt x="13856" y="8132"/>
                  <a:pt x="13897" y="8128"/>
                  <a:pt x="13940" y="8111"/>
                </a:cubicBezTo>
                <a:cubicBezTo>
                  <a:pt x="13923" y="8085"/>
                  <a:pt x="13854" y="8057"/>
                  <a:pt x="13841" y="8111"/>
                </a:cubicBezTo>
                <a:cubicBezTo>
                  <a:pt x="13821" y="8193"/>
                  <a:pt x="13970" y="8126"/>
                  <a:pt x="13965" y="8111"/>
                </a:cubicBezTo>
                <a:cubicBezTo>
                  <a:pt x="13957" y="8111"/>
                  <a:pt x="13948" y="8111"/>
                  <a:pt x="13940" y="8111"/>
                </a:cubicBezTo>
              </a:path>
              <a:path w="22474" h="5632">
                <a:moveTo>
                  <a:pt x="13940" y="8111"/>
                </a:moveTo>
                <a:cubicBezTo>
                  <a:pt x="13940" y="8119"/>
                  <a:pt x="13940" y="8128"/>
                  <a:pt x="13940" y="8136"/>
                </a:cubicBezTo>
                <a:cubicBezTo>
                  <a:pt x="13956" y="8152"/>
                  <a:pt x="13986" y="8181"/>
                  <a:pt x="14015" y="8210"/>
                </a:cubicBezTo>
                <a:cubicBezTo>
                  <a:pt x="14071" y="8266"/>
                  <a:pt x="14131" y="8309"/>
                  <a:pt x="14188" y="8359"/>
                </a:cubicBezTo>
                <a:cubicBezTo>
                  <a:pt x="14255" y="8417"/>
                  <a:pt x="14276" y="8500"/>
                  <a:pt x="14337" y="8558"/>
                </a:cubicBezTo>
                <a:cubicBezTo>
                  <a:pt x="14381" y="8600"/>
                  <a:pt x="14427" y="8644"/>
                  <a:pt x="14461" y="8682"/>
                </a:cubicBezTo>
                <a:cubicBezTo>
                  <a:pt x="14508" y="8734"/>
                  <a:pt x="14516" y="8777"/>
                  <a:pt x="14560" y="8830"/>
                </a:cubicBezTo>
                <a:cubicBezTo>
                  <a:pt x="14609" y="8889"/>
                  <a:pt x="14666" y="8940"/>
                  <a:pt x="14709" y="9004"/>
                </a:cubicBezTo>
                <a:cubicBezTo>
                  <a:pt x="14737" y="9045"/>
                  <a:pt x="14786" y="9073"/>
                  <a:pt x="14808" y="9103"/>
                </a:cubicBezTo>
                <a:cubicBezTo>
                  <a:pt x="14846" y="9156"/>
                  <a:pt x="14878" y="9176"/>
                  <a:pt x="14932" y="9203"/>
                </a:cubicBezTo>
                <a:cubicBezTo>
                  <a:pt x="14986" y="9229"/>
                  <a:pt x="15001" y="9236"/>
                  <a:pt x="15056" y="9277"/>
                </a:cubicBezTo>
                <a:cubicBezTo>
                  <a:pt x="15103" y="9312"/>
                  <a:pt x="15139" y="9328"/>
                  <a:pt x="15180" y="9351"/>
                </a:cubicBezTo>
                <a:cubicBezTo>
                  <a:pt x="15195" y="9372"/>
                  <a:pt x="15189" y="9380"/>
                  <a:pt x="15205" y="9401"/>
                </a:cubicBezTo>
                <a:cubicBezTo>
                  <a:pt x="15226" y="9416"/>
                  <a:pt x="15234" y="9410"/>
                  <a:pt x="15255" y="9426"/>
                </a:cubicBezTo>
              </a:path>
              <a:path w="22474" h="5632">
                <a:moveTo>
                  <a:pt x="15329" y="9376"/>
                </a:moveTo>
                <a:cubicBezTo>
                  <a:pt x="15251" y="9392"/>
                  <a:pt x="15229" y="9420"/>
                  <a:pt x="15180" y="9475"/>
                </a:cubicBezTo>
                <a:cubicBezTo>
                  <a:pt x="15149" y="9510"/>
                  <a:pt x="15091" y="9595"/>
                  <a:pt x="15106" y="9649"/>
                </a:cubicBezTo>
                <a:cubicBezTo>
                  <a:pt x="15115" y="9684"/>
                  <a:pt x="15162" y="9786"/>
                  <a:pt x="15205" y="9798"/>
                </a:cubicBezTo>
                <a:cubicBezTo>
                  <a:pt x="15266" y="9816"/>
                  <a:pt x="15350" y="9797"/>
                  <a:pt x="15404" y="9773"/>
                </a:cubicBezTo>
                <a:cubicBezTo>
                  <a:pt x="15481" y="9738"/>
                  <a:pt x="15505" y="9716"/>
                  <a:pt x="15577" y="9674"/>
                </a:cubicBezTo>
                <a:cubicBezTo>
                  <a:pt x="15626" y="9646"/>
                  <a:pt x="15647" y="9612"/>
                  <a:pt x="15652" y="9550"/>
                </a:cubicBezTo>
                <a:cubicBezTo>
                  <a:pt x="15656" y="9503"/>
                  <a:pt x="15654" y="9486"/>
                  <a:pt x="15627" y="9451"/>
                </a:cubicBezTo>
                <a:cubicBezTo>
                  <a:pt x="15570" y="9416"/>
                  <a:pt x="15529" y="9419"/>
                  <a:pt x="15478" y="9426"/>
                </a:cubicBezTo>
                <a:cubicBezTo>
                  <a:pt x="15420" y="9434"/>
                  <a:pt x="15356" y="9420"/>
                  <a:pt x="15304" y="9451"/>
                </a:cubicBezTo>
                <a:cubicBezTo>
                  <a:pt x="15271" y="9471"/>
                  <a:pt x="15217" y="9562"/>
                  <a:pt x="15205" y="9599"/>
                </a:cubicBezTo>
                <a:cubicBezTo>
                  <a:pt x="15187" y="9653"/>
                  <a:pt x="15217" y="9704"/>
                  <a:pt x="15230" y="9723"/>
                </a:cubicBezTo>
                <a:cubicBezTo>
                  <a:pt x="15284" y="9803"/>
                  <a:pt x="15356" y="9830"/>
                  <a:pt x="15453" y="9773"/>
                </a:cubicBezTo>
                <a:cubicBezTo>
                  <a:pt x="15504" y="9742"/>
                  <a:pt x="15547" y="9700"/>
                  <a:pt x="15577" y="9649"/>
                </a:cubicBezTo>
                <a:cubicBezTo>
                  <a:pt x="15599" y="9612"/>
                  <a:pt x="15618" y="9544"/>
                  <a:pt x="15602" y="9500"/>
                </a:cubicBezTo>
                <a:cubicBezTo>
                  <a:pt x="15579" y="9437"/>
                  <a:pt x="15554" y="9405"/>
                  <a:pt x="15503" y="9376"/>
                </a:cubicBezTo>
                <a:cubicBezTo>
                  <a:pt x="15441" y="9340"/>
                  <a:pt x="15411" y="9346"/>
                  <a:pt x="15354" y="9376"/>
                </a:cubicBezTo>
                <a:cubicBezTo>
                  <a:pt x="15267" y="9422"/>
                  <a:pt x="15234" y="9449"/>
                  <a:pt x="15205" y="9550"/>
                </a:cubicBezTo>
                <a:cubicBezTo>
                  <a:pt x="15193" y="9591"/>
                  <a:pt x="15216" y="9701"/>
                  <a:pt x="15255" y="9723"/>
                </a:cubicBezTo>
                <a:cubicBezTo>
                  <a:pt x="15330" y="9766"/>
                  <a:pt x="15455" y="9737"/>
                  <a:pt x="15528" y="9699"/>
                </a:cubicBezTo>
                <a:cubicBezTo>
                  <a:pt x="15580" y="9672"/>
                  <a:pt x="15639" y="9582"/>
                  <a:pt x="15652" y="9525"/>
                </a:cubicBezTo>
                <a:cubicBezTo>
                  <a:pt x="15664" y="9472"/>
                  <a:pt x="15655" y="9395"/>
                  <a:pt x="15627" y="9351"/>
                </a:cubicBezTo>
                <a:cubicBezTo>
                  <a:pt x="15592" y="9295"/>
                  <a:pt x="15522" y="9240"/>
                  <a:pt x="15453" y="9252"/>
                </a:cubicBezTo>
                <a:cubicBezTo>
                  <a:pt x="15347" y="9271"/>
                  <a:pt x="15275" y="9401"/>
                  <a:pt x="15255" y="9500"/>
                </a:cubicBezTo>
                <a:cubicBezTo>
                  <a:pt x="15242" y="9567"/>
                  <a:pt x="15258" y="9615"/>
                  <a:pt x="15280" y="9674"/>
                </a:cubicBezTo>
              </a:path>
              <a:path w="22474" h="5632">
                <a:moveTo>
                  <a:pt x="14734" y="9500"/>
                </a:moveTo>
                <a:cubicBezTo>
                  <a:pt x="14677" y="9558"/>
                  <a:pt x="14657" y="9583"/>
                  <a:pt x="14610" y="9649"/>
                </a:cubicBezTo>
                <a:cubicBezTo>
                  <a:pt x="14533" y="9757"/>
                  <a:pt x="14451" y="9829"/>
                  <a:pt x="14337" y="9897"/>
                </a:cubicBezTo>
                <a:cubicBezTo>
                  <a:pt x="14273" y="9935"/>
                  <a:pt x="14211" y="9974"/>
                  <a:pt x="14139" y="9996"/>
                </a:cubicBezTo>
                <a:cubicBezTo>
                  <a:pt x="14030" y="10030"/>
                  <a:pt x="13901" y="10074"/>
                  <a:pt x="13791" y="10096"/>
                </a:cubicBezTo>
                <a:cubicBezTo>
                  <a:pt x="13722" y="10110"/>
                  <a:pt x="13627" y="10136"/>
                  <a:pt x="13568" y="10145"/>
                </a:cubicBezTo>
                <a:cubicBezTo>
                  <a:pt x="13474" y="10159"/>
                  <a:pt x="13367" y="10145"/>
                  <a:pt x="13271" y="10145"/>
                </a:cubicBezTo>
                <a:cubicBezTo>
                  <a:pt x="13319" y="10221"/>
                  <a:pt x="13379" y="10296"/>
                  <a:pt x="13444" y="10368"/>
                </a:cubicBezTo>
                <a:cubicBezTo>
                  <a:pt x="13444" y="10344"/>
                  <a:pt x="13402" y="10239"/>
                  <a:pt x="13345" y="10170"/>
                </a:cubicBezTo>
                <a:cubicBezTo>
                  <a:pt x="13328" y="10153"/>
                  <a:pt x="13312" y="10137"/>
                  <a:pt x="13295" y="10120"/>
                </a:cubicBezTo>
                <a:cubicBezTo>
                  <a:pt x="13368" y="10104"/>
                  <a:pt x="13460" y="10090"/>
                  <a:pt x="13543" y="10071"/>
                </a:cubicBezTo>
              </a:path>
              <a:path w="22474" h="5632">
                <a:moveTo>
                  <a:pt x="14982" y="11286"/>
                </a:moveTo>
                <a:cubicBezTo>
                  <a:pt x="15087" y="11339"/>
                  <a:pt x="15181" y="11326"/>
                  <a:pt x="15304" y="11311"/>
                </a:cubicBezTo>
                <a:cubicBezTo>
                  <a:pt x="15470" y="11290"/>
                  <a:pt x="15683" y="11240"/>
                  <a:pt x="15850" y="11261"/>
                </a:cubicBezTo>
                <a:cubicBezTo>
                  <a:pt x="15901" y="11267"/>
                  <a:pt x="15958" y="11256"/>
                  <a:pt x="15999" y="11286"/>
                </a:cubicBezTo>
                <a:cubicBezTo>
                  <a:pt x="16044" y="11319"/>
                  <a:pt x="16046" y="11433"/>
                  <a:pt x="16049" y="11509"/>
                </a:cubicBezTo>
                <a:cubicBezTo>
                  <a:pt x="16049" y="11554"/>
                  <a:pt x="16045" y="11567"/>
                  <a:pt x="16073" y="11584"/>
                </a:cubicBezTo>
                <a:cubicBezTo>
                  <a:pt x="15908" y="11637"/>
                  <a:pt x="15727" y="11710"/>
                  <a:pt x="15553" y="11733"/>
                </a:cubicBezTo>
                <a:cubicBezTo>
                  <a:pt x="15383" y="11755"/>
                  <a:pt x="15204" y="11762"/>
                  <a:pt x="15032" y="11782"/>
                </a:cubicBezTo>
                <a:cubicBezTo>
                  <a:pt x="14904" y="11797"/>
                  <a:pt x="14914" y="11751"/>
                  <a:pt x="14883" y="11633"/>
                </a:cubicBezTo>
                <a:cubicBezTo>
                  <a:pt x="14858" y="11538"/>
                  <a:pt x="14858" y="11459"/>
                  <a:pt x="14858" y="11361"/>
                </a:cubicBezTo>
              </a:path>
              <a:path w="22474" h="5632">
                <a:moveTo>
                  <a:pt x="14784" y="11683"/>
                </a:moveTo>
                <a:cubicBezTo>
                  <a:pt x="14784" y="11493"/>
                  <a:pt x="14780" y="11300"/>
                  <a:pt x="14759" y="11112"/>
                </a:cubicBezTo>
                <a:cubicBezTo>
                  <a:pt x="14727" y="10823"/>
                  <a:pt x="14675" y="10530"/>
                  <a:pt x="14635" y="10244"/>
                </a:cubicBezTo>
                <a:cubicBezTo>
                  <a:pt x="14615" y="10103"/>
                  <a:pt x="14589" y="9965"/>
                  <a:pt x="14585" y="9823"/>
                </a:cubicBezTo>
                <a:cubicBezTo>
                  <a:pt x="14581" y="9657"/>
                  <a:pt x="14610" y="9495"/>
                  <a:pt x="14610" y="9327"/>
                </a:cubicBezTo>
                <a:cubicBezTo>
                  <a:pt x="14610" y="9183"/>
                  <a:pt x="14647" y="9067"/>
                  <a:pt x="14684" y="8930"/>
                </a:cubicBezTo>
                <a:cubicBezTo>
                  <a:pt x="14720" y="8799"/>
                  <a:pt x="14759" y="8667"/>
                  <a:pt x="14784" y="8533"/>
                </a:cubicBezTo>
                <a:cubicBezTo>
                  <a:pt x="14810" y="8393"/>
                  <a:pt x="14821" y="8248"/>
                  <a:pt x="14858" y="8111"/>
                </a:cubicBezTo>
                <a:cubicBezTo>
                  <a:pt x="14881" y="8024"/>
                  <a:pt x="14869" y="7949"/>
                  <a:pt x="14883" y="7863"/>
                </a:cubicBezTo>
                <a:cubicBezTo>
                  <a:pt x="14897" y="7778"/>
                  <a:pt x="14927" y="7680"/>
                  <a:pt x="14908" y="7590"/>
                </a:cubicBezTo>
                <a:cubicBezTo>
                  <a:pt x="14902" y="7561"/>
                  <a:pt x="14900" y="7571"/>
                  <a:pt x="14908" y="7541"/>
                </a:cubicBezTo>
              </a:path>
              <a:path w="22474" h="5632">
                <a:moveTo>
                  <a:pt x="16222" y="7491"/>
                </a:moveTo>
                <a:cubicBezTo>
                  <a:pt x="16246" y="7611"/>
                  <a:pt x="16286" y="7740"/>
                  <a:pt x="16297" y="7863"/>
                </a:cubicBezTo>
                <a:cubicBezTo>
                  <a:pt x="16317" y="8089"/>
                  <a:pt x="16310" y="8307"/>
                  <a:pt x="16346" y="8533"/>
                </a:cubicBezTo>
                <a:cubicBezTo>
                  <a:pt x="16379" y="8738"/>
                  <a:pt x="16409" y="8947"/>
                  <a:pt x="16421" y="9153"/>
                </a:cubicBezTo>
                <a:cubicBezTo>
                  <a:pt x="16432" y="9342"/>
                  <a:pt x="16396" y="9532"/>
                  <a:pt x="16396" y="9723"/>
                </a:cubicBezTo>
                <a:cubicBezTo>
                  <a:pt x="16396" y="9880"/>
                  <a:pt x="16379" y="10043"/>
                  <a:pt x="16346" y="10195"/>
                </a:cubicBezTo>
                <a:cubicBezTo>
                  <a:pt x="16320" y="10314"/>
                  <a:pt x="16321" y="10420"/>
                  <a:pt x="16321" y="10542"/>
                </a:cubicBezTo>
                <a:cubicBezTo>
                  <a:pt x="16321" y="10649"/>
                  <a:pt x="16318" y="10740"/>
                  <a:pt x="16297" y="10840"/>
                </a:cubicBezTo>
                <a:cubicBezTo>
                  <a:pt x="16272" y="10959"/>
                  <a:pt x="16303" y="11030"/>
                  <a:pt x="16297" y="11137"/>
                </a:cubicBezTo>
                <a:cubicBezTo>
                  <a:pt x="16292" y="11235"/>
                  <a:pt x="16264" y="11342"/>
                  <a:pt x="16222" y="11435"/>
                </a:cubicBezTo>
                <a:cubicBezTo>
                  <a:pt x="16206" y="11470"/>
                  <a:pt x="16166" y="11551"/>
                  <a:pt x="16148" y="11559"/>
                </a:cubicBezTo>
                <a:cubicBezTo>
                  <a:pt x="16120" y="11559"/>
                  <a:pt x="16109" y="11557"/>
                  <a:pt x="16098" y="11534"/>
                </a:cubicBezTo>
              </a:path>
              <a:path w="22474" h="5632">
                <a:moveTo>
                  <a:pt x="15354" y="11187"/>
                </a:moveTo>
                <a:cubicBezTo>
                  <a:pt x="15354" y="11058"/>
                  <a:pt x="15348" y="10937"/>
                  <a:pt x="15329" y="10815"/>
                </a:cubicBezTo>
                <a:cubicBezTo>
                  <a:pt x="15321" y="10767"/>
                  <a:pt x="15323" y="10353"/>
                  <a:pt x="15304" y="10368"/>
                </a:cubicBezTo>
                <a:cubicBezTo>
                  <a:pt x="15236" y="10437"/>
                  <a:pt x="15220" y="10459"/>
                  <a:pt x="15156" y="10468"/>
                </a:cubicBezTo>
                <a:cubicBezTo>
                  <a:pt x="15156" y="10460"/>
                  <a:pt x="15156" y="10451"/>
                  <a:pt x="15156" y="10443"/>
                </a:cubicBezTo>
                <a:cubicBezTo>
                  <a:pt x="15208" y="10390"/>
                  <a:pt x="15263" y="10354"/>
                  <a:pt x="15329" y="10319"/>
                </a:cubicBezTo>
                <a:cubicBezTo>
                  <a:pt x="15370" y="10299"/>
                  <a:pt x="15376" y="10290"/>
                  <a:pt x="15404" y="10294"/>
                </a:cubicBezTo>
                <a:cubicBezTo>
                  <a:pt x="15420" y="10375"/>
                  <a:pt x="15459" y="10470"/>
                  <a:pt x="15503" y="10542"/>
                </a:cubicBezTo>
                <a:cubicBezTo>
                  <a:pt x="15511" y="10550"/>
                  <a:pt x="15520" y="10559"/>
                  <a:pt x="15528" y="10567"/>
                </a:cubicBezTo>
              </a:path>
              <a:path w="22474" h="5632">
                <a:moveTo>
                  <a:pt x="16421" y="10716"/>
                </a:moveTo>
                <a:cubicBezTo>
                  <a:pt x="16429" y="10708"/>
                  <a:pt x="16438" y="10699"/>
                  <a:pt x="16446" y="10691"/>
                </a:cubicBezTo>
                <a:cubicBezTo>
                  <a:pt x="16383" y="10670"/>
                  <a:pt x="16399" y="10728"/>
                  <a:pt x="16396" y="10815"/>
                </a:cubicBezTo>
                <a:cubicBezTo>
                  <a:pt x="16394" y="10888"/>
                  <a:pt x="16380" y="10957"/>
                  <a:pt x="16421" y="10988"/>
                </a:cubicBezTo>
                <a:cubicBezTo>
                  <a:pt x="16467" y="11022"/>
                  <a:pt x="16510" y="11033"/>
                  <a:pt x="16570" y="11038"/>
                </a:cubicBezTo>
                <a:cubicBezTo>
                  <a:pt x="16594" y="11040"/>
                  <a:pt x="16620" y="11038"/>
                  <a:pt x="16644" y="11038"/>
                </a:cubicBezTo>
                <a:cubicBezTo>
                  <a:pt x="16654" y="10951"/>
                  <a:pt x="16649" y="10900"/>
                  <a:pt x="16644" y="10815"/>
                </a:cubicBezTo>
                <a:cubicBezTo>
                  <a:pt x="16642" y="10783"/>
                  <a:pt x="16644" y="10749"/>
                  <a:pt x="16644" y="10716"/>
                </a:cubicBezTo>
                <a:cubicBezTo>
                  <a:pt x="16602" y="10719"/>
                  <a:pt x="16407" y="10769"/>
                  <a:pt x="16371" y="10740"/>
                </a:cubicBezTo>
                <a:cubicBezTo>
                  <a:pt x="16371" y="10732"/>
                  <a:pt x="16371" y="10724"/>
                  <a:pt x="16371" y="10716"/>
                </a:cubicBezTo>
              </a:path>
              <a:path w="22474" h="5632">
                <a:moveTo>
                  <a:pt x="16371" y="10691"/>
                </a:moveTo>
                <a:cubicBezTo>
                  <a:pt x="16470" y="10645"/>
                  <a:pt x="16551" y="10635"/>
                  <a:pt x="16669" y="10616"/>
                </a:cubicBezTo>
                <a:cubicBezTo>
                  <a:pt x="16837" y="10589"/>
                  <a:pt x="17000" y="10569"/>
                  <a:pt x="17165" y="10542"/>
                </a:cubicBezTo>
                <a:cubicBezTo>
                  <a:pt x="17233" y="10531"/>
                  <a:pt x="17269" y="10519"/>
                  <a:pt x="17338" y="10517"/>
                </a:cubicBezTo>
                <a:cubicBezTo>
                  <a:pt x="17397" y="10515"/>
                  <a:pt x="17464" y="10504"/>
                  <a:pt x="17487" y="10542"/>
                </a:cubicBezTo>
                <a:cubicBezTo>
                  <a:pt x="17581" y="10697"/>
                  <a:pt x="17611" y="10919"/>
                  <a:pt x="17686" y="11088"/>
                </a:cubicBezTo>
                <a:cubicBezTo>
                  <a:pt x="17723" y="11173"/>
                  <a:pt x="17634" y="11237"/>
                  <a:pt x="17537" y="11286"/>
                </a:cubicBezTo>
                <a:cubicBezTo>
                  <a:pt x="17297" y="11407"/>
                  <a:pt x="17065" y="11383"/>
                  <a:pt x="16818" y="11460"/>
                </a:cubicBezTo>
                <a:cubicBezTo>
                  <a:pt x="16764" y="11477"/>
                  <a:pt x="16720" y="11529"/>
                  <a:pt x="16669" y="11534"/>
                </a:cubicBezTo>
                <a:cubicBezTo>
                  <a:pt x="16616" y="11540"/>
                  <a:pt x="16421" y="11566"/>
                  <a:pt x="16371" y="11509"/>
                </a:cubicBezTo>
                <a:cubicBezTo>
                  <a:pt x="16343" y="11477"/>
                  <a:pt x="16310" y="11403"/>
                  <a:pt x="16272" y="11361"/>
                </a:cubicBezTo>
              </a:path>
              <a:path w="22474" h="5632">
                <a:moveTo>
                  <a:pt x="16743" y="10468"/>
                </a:moveTo>
                <a:cubicBezTo>
                  <a:pt x="16768" y="10468"/>
                  <a:pt x="16776" y="10468"/>
                  <a:pt x="16768" y="10492"/>
                </a:cubicBezTo>
                <a:cubicBezTo>
                  <a:pt x="16785" y="10434"/>
                  <a:pt x="16768" y="10367"/>
                  <a:pt x="16768" y="10294"/>
                </a:cubicBezTo>
                <a:cubicBezTo>
                  <a:pt x="16828" y="10287"/>
                  <a:pt x="16882" y="10269"/>
                  <a:pt x="16942" y="10269"/>
                </a:cubicBezTo>
                <a:cubicBezTo>
                  <a:pt x="17011" y="10269"/>
                  <a:pt x="17009" y="10264"/>
                  <a:pt x="17041" y="10319"/>
                </a:cubicBezTo>
                <a:cubicBezTo>
                  <a:pt x="17069" y="10367"/>
                  <a:pt x="17066" y="10392"/>
                  <a:pt x="17066" y="10443"/>
                </a:cubicBezTo>
                <a:cubicBezTo>
                  <a:pt x="17066" y="10513"/>
                  <a:pt x="17010" y="10549"/>
                  <a:pt x="16942" y="10567"/>
                </a:cubicBezTo>
                <a:cubicBezTo>
                  <a:pt x="16925" y="10567"/>
                  <a:pt x="16909" y="10567"/>
                  <a:pt x="16892" y="10567"/>
                </a:cubicBezTo>
              </a:path>
              <a:path w="22474" h="5632">
                <a:moveTo>
                  <a:pt x="17214" y="10344"/>
                </a:moveTo>
                <a:cubicBezTo>
                  <a:pt x="17215" y="10283"/>
                  <a:pt x="17181" y="10331"/>
                  <a:pt x="17264" y="10244"/>
                </a:cubicBezTo>
                <a:cubicBezTo>
                  <a:pt x="17375" y="10128"/>
                  <a:pt x="17516" y="10052"/>
                  <a:pt x="17636" y="9947"/>
                </a:cubicBezTo>
                <a:cubicBezTo>
                  <a:pt x="17779" y="9823"/>
                  <a:pt x="17938" y="9719"/>
                  <a:pt x="18083" y="9599"/>
                </a:cubicBezTo>
                <a:cubicBezTo>
                  <a:pt x="18216" y="9489"/>
                  <a:pt x="18341" y="9354"/>
                  <a:pt x="18479" y="9252"/>
                </a:cubicBezTo>
                <a:cubicBezTo>
                  <a:pt x="18550" y="9199"/>
                  <a:pt x="18624" y="9147"/>
                  <a:pt x="18703" y="9103"/>
                </a:cubicBezTo>
              </a:path>
              <a:path w="22474" h="5632">
                <a:moveTo>
                  <a:pt x="17289" y="10393"/>
                </a:moveTo>
                <a:cubicBezTo>
                  <a:pt x="17289" y="10434"/>
                  <a:pt x="17289" y="10476"/>
                  <a:pt x="17289" y="10517"/>
                </a:cubicBezTo>
                <a:cubicBezTo>
                  <a:pt x="17391" y="10466"/>
                  <a:pt x="17456" y="10401"/>
                  <a:pt x="17537" y="10319"/>
                </a:cubicBezTo>
                <a:cubicBezTo>
                  <a:pt x="17649" y="10206"/>
                  <a:pt x="17806" y="10125"/>
                  <a:pt x="17934" y="10021"/>
                </a:cubicBezTo>
                <a:cubicBezTo>
                  <a:pt x="18044" y="9932"/>
                  <a:pt x="18173" y="9860"/>
                  <a:pt x="18281" y="9773"/>
                </a:cubicBezTo>
                <a:cubicBezTo>
                  <a:pt x="18346" y="9721"/>
                  <a:pt x="18452" y="9632"/>
                  <a:pt x="18504" y="9575"/>
                </a:cubicBezTo>
                <a:cubicBezTo>
                  <a:pt x="18574" y="9497"/>
                  <a:pt x="18602" y="9467"/>
                  <a:pt x="18678" y="9401"/>
                </a:cubicBezTo>
                <a:cubicBezTo>
                  <a:pt x="18727" y="9359"/>
                  <a:pt x="18782" y="9311"/>
                  <a:pt x="18827" y="9277"/>
                </a:cubicBezTo>
                <a:cubicBezTo>
                  <a:pt x="18835" y="9269"/>
                  <a:pt x="18844" y="9260"/>
                  <a:pt x="18852" y="9252"/>
                </a:cubicBezTo>
                <a:cubicBezTo>
                  <a:pt x="18833" y="9219"/>
                  <a:pt x="18819" y="9197"/>
                  <a:pt x="18802" y="9178"/>
                </a:cubicBezTo>
                <a:cubicBezTo>
                  <a:pt x="18785" y="9159"/>
                  <a:pt x="18770" y="9146"/>
                  <a:pt x="18752" y="9128"/>
                </a:cubicBezTo>
                <a:cubicBezTo>
                  <a:pt x="18758" y="9200"/>
                  <a:pt x="18775" y="9239"/>
                  <a:pt x="18802" y="9302"/>
                </a:cubicBezTo>
                <a:cubicBezTo>
                  <a:pt x="18742" y="9251"/>
                  <a:pt x="18657" y="9080"/>
                  <a:pt x="18628" y="9153"/>
                </a:cubicBezTo>
                <a:cubicBezTo>
                  <a:pt x="18650" y="9197"/>
                  <a:pt x="18653" y="9208"/>
                  <a:pt x="18678" y="9227"/>
                </a:cubicBezTo>
              </a:path>
              <a:path w="22474" h="5632">
                <a:moveTo>
                  <a:pt x="18579" y="8930"/>
                </a:moveTo>
                <a:cubicBezTo>
                  <a:pt x="18570" y="8869"/>
                  <a:pt x="18555" y="8840"/>
                  <a:pt x="18529" y="8781"/>
                </a:cubicBezTo>
                <a:cubicBezTo>
                  <a:pt x="18695" y="8970"/>
                  <a:pt x="18759" y="9158"/>
                  <a:pt x="18876" y="9376"/>
                </a:cubicBezTo>
                <a:cubicBezTo>
                  <a:pt x="18914" y="9433"/>
                  <a:pt x="18909" y="9458"/>
                  <a:pt x="18951" y="9451"/>
                </a:cubicBezTo>
                <a:cubicBezTo>
                  <a:pt x="18886" y="9308"/>
                  <a:pt x="18825" y="9180"/>
                  <a:pt x="18728" y="9054"/>
                </a:cubicBezTo>
                <a:cubicBezTo>
                  <a:pt x="18698" y="9015"/>
                  <a:pt x="18687" y="8965"/>
                  <a:pt x="18653" y="8954"/>
                </a:cubicBezTo>
                <a:cubicBezTo>
                  <a:pt x="18686" y="8891"/>
                  <a:pt x="18797" y="9216"/>
                  <a:pt x="18802" y="9227"/>
                </a:cubicBezTo>
                <a:cubicBezTo>
                  <a:pt x="18844" y="9316"/>
                  <a:pt x="18899" y="9407"/>
                  <a:pt x="18926" y="9500"/>
                </a:cubicBezTo>
                <a:cubicBezTo>
                  <a:pt x="18850" y="9350"/>
                  <a:pt x="18793" y="9218"/>
                  <a:pt x="18678" y="9103"/>
                </a:cubicBezTo>
              </a:path>
              <a:path w="22474" h="5632">
                <a:moveTo>
                  <a:pt x="18951" y="9798"/>
                </a:moveTo>
                <a:cubicBezTo>
                  <a:pt x="18943" y="9798"/>
                  <a:pt x="18934" y="9798"/>
                  <a:pt x="18926" y="9798"/>
                </a:cubicBezTo>
                <a:cubicBezTo>
                  <a:pt x="18975" y="9787"/>
                  <a:pt x="19001" y="9783"/>
                  <a:pt x="19050" y="9773"/>
                </a:cubicBezTo>
                <a:cubicBezTo>
                  <a:pt x="19237" y="9734"/>
                  <a:pt x="19413" y="9654"/>
                  <a:pt x="19596" y="9599"/>
                </a:cubicBezTo>
                <a:cubicBezTo>
                  <a:pt x="19841" y="9526"/>
                  <a:pt x="20075" y="9444"/>
                  <a:pt x="20315" y="9351"/>
                </a:cubicBezTo>
                <a:cubicBezTo>
                  <a:pt x="20512" y="9275"/>
                  <a:pt x="20711" y="9199"/>
                  <a:pt x="20910" y="9128"/>
                </a:cubicBezTo>
                <a:cubicBezTo>
                  <a:pt x="21174" y="9033"/>
                  <a:pt x="21447" y="8943"/>
                  <a:pt x="21704" y="8830"/>
                </a:cubicBezTo>
                <a:cubicBezTo>
                  <a:pt x="21957" y="8719"/>
                  <a:pt x="22226" y="8628"/>
                  <a:pt x="22473" y="8508"/>
                </a:cubicBezTo>
                <a:cubicBezTo>
                  <a:pt x="22640" y="8427"/>
                  <a:pt x="22806" y="8340"/>
                  <a:pt x="22969" y="8260"/>
                </a:cubicBezTo>
                <a:cubicBezTo>
                  <a:pt x="23117" y="8187"/>
                  <a:pt x="23287" y="8172"/>
                  <a:pt x="23440" y="8111"/>
                </a:cubicBezTo>
                <a:cubicBezTo>
                  <a:pt x="23504" y="8085"/>
                  <a:pt x="23530" y="8072"/>
                  <a:pt x="23589" y="8062"/>
                </a:cubicBezTo>
                <a:cubicBezTo>
                  <a:pt x="23573" y="8070"/>
                  <a:pt x="23556" y="8078"/>
                  <a:pt x="23540" y="8086"/>
                </a:cubicBezTo>
              </a:path>
              <a:path w="22474" h="5632">
                <a:moveTo>
                  <a:pt x="18876" y="9029"/>
                </a:moveTo>
                <a:cubicBezTo>
                  <a:pt x="18949" y="8973"/>
                  <a:pt x="19019" y="8942"/>
                  <a:pt x="19124" y="8905"/>
                </a:cubicBezTo>
                <a:cubicBezTo>
                  <a:pt x="19434" y="8796"/>
                  <a:pt x="19759" y="8725"/>
                  <a:pt x="20067" y="8607"/>
                </a:cubicBezTo>
                <a:cubicBezTo>
                  <a:pt x="20331" y="8506"/>
                  <a:pt x="20604" y="8401"/>
                  <a:pt x="20861" y="8285"/>
                </a:cubicBezTo>
                <a:cubicBezTo>
                  <a:pt x="21090" y="8182"/>
                  <a:pt x="21324" y="8125"/>
                  <a:pt x="21555" y="8037"/>
                </a:cubicBezTo>
                <a:cubicBezTo>
                  <a:pt x="21837" y="7929"/>
                  <a:pt x="22111" y="7810"/>
                  <a:pt x="22399" y="7714"/>
                </a:cubicBezTo>
                <a:cubicBezTo>
                  <a:pt x="22585" y="7652"/>
                  <a:pt x="22751" y="7584"/>
                  <a:pt x="22920" y="7491"/>
                </a:cubicBezTo>
                <a:cubicBezTo>
                  <a:pt x="23051" y="7419"/>
                  <a:pt x="23181" y="7358"/>
                  <a:pt x="23316" y="7293"/>
                </a:cubicBezTo>
                <a:cubicBezTo>
                  <a:pt x="23333" y="7285"/>
                  <a:pt x="23349" y="7276"/>
                  <a:pt x="23366" y="7268"/>
                </a:cubicBezTo>
              </a:path>
              <a:path w="22474" h="5632">
                <a:moveTo>
                  <a:pt x="22523" y="8111"/>
                </a:moveTo>
                <a:cubicBezTo>
                  <a:pt x="22425" y="8193"/>
                  <a:pt x="22254" y="8277"/>
                  <a:pt x="22349" y="8434"/>
                </a:cubicBezTo>
                <a:cubicBezTo>
                  <a:pt x="22500" y="8685"/>
                  <a:pt x="22915" y="8386"/>
                  <a:pt x="22721" y="8235"/>
                </a:cubicBezTo>
                <a:cubicBezTo>
                  <a:pt x="22686" y="8207"/>
                  <a:pt x="22427" y="8225"/>
                  <a:pt x="22547" y="8186"/>
                </a:cubicBezTo>
              </a:path>
              <a:path w="22474" h="5632">
                <a:moveTo>
                  <a:pt x="23068" y="7987"/>
                </a:moveTo>
                <a:cubicBezTo>
                  <a:pt x="22960" y="8012"/>
                  <a:pt x="22734" y="8116"/>
                  <a:pt x="22820" y="8285"/>
                </a:cubicBezTo>
                <a:cubicBezTo>
                  <a:pt x="22912" y="8466"/>
                  <a:pt x="23212" y="8285"/>
                  <a:pt x="23217" y="8136"/>
                </a:cubicBezTo>
                <a:cubicBezTo>
                  <a:pt x="23219" y="8086"/>
                  <a:pt x="23133" y="8022"/>
                  <a:pt x="23093" y="8012"/>
                </a:cubicBezTo>
              </a:path>
              <a:path w="22474" h="5632">
                <a:moveTo>
                  <a:pt x="22225" y="8334"/>
                </a:moveTo>
                <a:cubicBezTo>
                  <a:pt x="22214" y="8341"/>
                  <a:pt x="22127" y="8388"/>
                  <a:pt x="22175" y="8359"/>
                </a:cubicBezTo>
                <a:cubicBezTo>
                  <a:pt x="22425" y="8208"/>
                  <a:pt x="22698" y="8096"/>
                  <a:pt x="22969" y="7987"/>
                </a:cubicBezTo>
                <a:cubicBezTo>
                  <a:pt x="23136" y="7925"/>
                  <a:pt x="23172" y="7915"/>
                  <a:pt x="23267" y="7863"/>
                </a:cubicBezTo>
                <a:cubicBezTo>
                  <a:pt x="23255" y="7851"/>
                  <a:pt x="23121" y="7911"/>
                  <a:pt x="22994" y="7962"/>
                </a:cubicBezTo>
                <a:cubicBezTo>
                  <a:pt x="22733" y="8068"/>
                  <a:pt x="22478" y="8186"/>
                  <a:pt x="22225" y="8310"/>
                </a:cubicBezTo>
                <a:cubicBezTo>
                  <a:pt x="22162" y="8341"/>
                  <a:pt x="22087" y="8380"/>
                  <a:pt x="22051" y="8409"/>
                </a:cubicBezTo>
                <a:cubicBezTo>
                  <a:pt x="22100" y="8317"/>
                  <a:pt x="22167" y="8213"/>
                  <a:pt x="22250" y="8136"/>
                </a:cubicBezTo>
                <a:cubicBezTo>
                  <a:pt x="22321" y="8070"/>
                  <a:pt x="22416" y="8010"/>
                  <a:pt x="22498" y="7962"/>
                </a:cubicBezTo>
                <a:cubicBezTo>
                  <a:pt x="22514" y="7954"/>
                  <a:pt x="22531" y="7946"/>
                  <a:pt x="22547" y="7938"/>
                </a:cubicBezTo>
                <a:cubicBezTo>
                  <a:pt x="22513" y="7874"/>
                  <a:pt x="22471" y="7822"/>
                  <a:pt x="22498" y="7739"/>
                </a:cubicBezTo>
                <a:cubicBezTo>
                  <a:pt x="22532" y="7633"/>
                  <a:pt x="22594" y="7583"/>
                  <a:pt x="22671" y="7516"/>
                </a:cubicBezTo>
                <a:cubicBezTo>
                  <a:pt x="22717" y="7476"/>
                  <a:pt x="22793" y="7479"/>
                  <a:pt x="22845" y="7516"/>
                </a:cubicBezTo>
                <a:cubicBezTo>
                  <a:pt x="22901" y="7556"/>
                  <a:pt x="22941" y="7614"/>
                  <a:pt x="22969" y="7665"/>
                </a:cubicBezTo>
                <a:cubicBezTo>
                  <a:pt x="22994" y="7710"/>
                  <a:pt x="23012" y="7754"/>
                  <a:pt x="23044" y="7789"/>
                </a:cubicBezTo>
                <a:cubicBezTo>
                  <a:pt x="23079" y="7827"/>
                  <a:pt x="23088" y="7814"/>
                  <a:pt x="23168" y="7789"/>
                </a:cubicBezTo>
                <a:cubicBezTo>
                  <a:pt x="23261" y="7761"/>
                  <a:pt x="23323" y="7760"/>
                  <a:pt x="23416" y="7789"/>
                </a:cubicBezTo>
                <a:cubicBezTo>
                  <a:pt x="23456" y="7809"/>
                  <a:pt x="23463" y="7817"/>
                  <a:pt x="23490" y="7813"/>
                </a:cubicBezTo>
                <a:cubicBezTo>
                  <a:pt x="23472" y="7850"/>
                  <a:pt x="23447" y="7923"/>
                  <a:pt x="23416" y="7938"/>
                </a:cubicBezTo>
                <a:cubicBezTo>
                  <a:pt x="23378" y="7956"/>
                  <a:pt x="23333" y="7951"/>
                  <a:pt x="23292" y="7962"/>
                </a:cubicBezTo>
              </a:path>
              <a:path w="22474" h="5632">
                <a:moveTo>
                  <a:pt x="23490" y="7739"/>
                </a:moveTo>
                <a:cubicBezTo>
                  <a:pt x="23560" y="7681"/>
                  <a:pt x="23624" y="7593"/>
                  <a:pt x="23688" y="7541"/>
                </a:cubicBezTo>
                <a:cubicBezTo>
                  <a:pt x="23745" y="7495"/>
                  <a:pt x="23780" y="7604"/>
                  <a:pt x="23837" y="7590"/>
                </a:cubicBezTo>
                <a:cubicBezTo>
                  <a:pt x="23954" y="7561"/>
                  <a:pt x="23922" y="7410"/>
                  <a:pt x="23986" y="7367"/>
                </a:cubicBezTo>
                <a:cubicBezTo>
                  <a:pt x="24046" y="7327"/>
                  <a:pt x="24075" y="7361"/>
                  <a:pt x="24135" y="7293"/>
                </a:cubicBezTo>
                <a:cubicBezTo>
                  <a:pt x="24209" y="7210"/>
                  <a:pt x="24229" y="7200"/>
                  <a:pt x="24135" y="7317"/>
                </a:cubicBezTo>
              </a:path>
              <a:path w="22474" h="5632">
                <a:moveTo>
                  <a:pt x="23564" y="7789"/>
                </a:moveTo>
                <a:cubicBezTo>
                  <a:pt x="23670" y="7762"/>
                  <a:pt x="23759" y="7699"/>
                  <a:pt x="23862" y="7665"/>
                </a:cubicBezTo>
                <a:cubicBezTo>
                  <a:pt x="23926" y="7644"/>
                  <a:pt x="23964" y="7781"/>
                  <a:pt x="24061" y="7764"/>
                </a:cubicBezTo>
                <a:cubicBezTo>
                  <a:pt x="24125" y="7753"/>
                  <a:pt x="24148" y="7687"/>
                  <a:pt x="24160" y="7640"/>
                </a:cubicBezTo>
              </a:path>
              <a:path w="22474" h="5632">
                <a:moveTo>
                  <a:pt x="22671" y="7789"/>
                </a:moveTo>
                <a:cubicBezTo>
                  <a:pt x="22671" y="7805"/>
                  <a:pt x="22671" y="7822"/>
                  <a:pt x="22671" y="7838"/>
                </a:cubicBezTo>
                <a:cubicBezTo>
                  <a:pt x="22717" y="7834"/>
                  <a:pt x="22868" y="7827"/>
                  <a:pt x="22771" y="7764"/>
                </a:cubicBezTo>
              </a:path>
              <a:path w="22474" h="5632">
                <a:moveTo>
                  <a:pt x="16718" y="9599"/>
                </a:moveTo>
                <a:cubicBezTo>
                  <a:pt x="16804" y="9535"/>
                  <a:pt x="16821" y="9510"/>
                  <a:pt x="16892" y="9525"/>
                </a:cubicBezTo>
                <a:cubicBezTo>
                  <a:pt x="16884" y="9669"/>
                  <a:pt x="16695" y="9797"/>
                  <a:pt x="16768" y="9922"/>
                </a:cubicBezTo>
                <a:cubicBezTo>
                  <a:pt x="16795" y="9968"/>
                  <a:pt x="16967" y="9868"/>
                  <a:pt x="17016" y="9847"/>
                </a:cubicBezTo>
              </a:path>
              <a:path w="22474" h="5632">
                <a:moveTo>
                  <a:pt x="16842" y="9302"/>
                </a:moveTo>
                <a:cubicBezTo>
                  <a:pt x="16592" y="9382"/>
                  <a:pt x="16307" y="9512"/>
                  <a:pt x="16446" y="9847"/>
                </a:cubicBezTo>
                <a:cubicBezTo>
                  <a:pt x="16589" y="10191"/>
                  <a:pt x="17084" y="10006"/>
                  <a:pt x="17165" y="9723"/>
                </a:cubicBezTo>
                <a:cubicBezTo>
                  <a:pt x="17141" y="9578"/>
                  <a:pt x="17134" y="9531"/>
                  <a:pt x="17041" y="9475"/>
                </a:cubicBezTo>
              </a:path>
              <a:path w="22474" h="5632">
                <a:moveTo>
                  <a:pt x="15949" y="8558"/>
                </a:moveTo>
                <a:cubicBezTo>
                  <a:pt x="16002" y="8622"/>
                  <a:pt x="15989" y="8631"/>
                  <a:pt x="15974" y="8706"/>
                </a:cubicBezTo>
                <a:cubicBezTo>
                  <a:pt x="16080" y="8727"/>
                  <a:pt x="16073" y="8789"/>
                  <a:pt x="15974" y="8855"/>
                </a:cubicBezTo>
                <a:cubicBezTo>
                  <a:pt x="15873" y="8922"/>
                  <a:pt x="15860" y="8851"/>
                  <a:pt x="15825" y="8781"/>
                </a:cubicBezTo>
              </a:path>
              <a:path w="22474" h="5632">
                <a:moveTo>
                  <a:pt x="15801" y="8409"/>
                </a:moveTo>
                <a:cubicBezTo>
                  <a:pt x="15599" y="8509"/>
                  <a:pt x="15386" y="8698"/>
                  <a:pt x="15602" y="8954"/>
                </a:cubicBezTo>
                <a:cubicBezTo>
                  <a:pt x="15808" y="9199"/>
                  <a:pt x="16205" y="8929"/>
                  <a:pt x="16173" y="8657"/>
                </a:cubicBezTo>
                <a:cubicBezTo>
                  <a:pt x="16102" y="8539"/>
                  <a:pt x="16081" y="8503"/>
                  <a:pt x="16024" y="8434"/>
                </a:cubicBezTo>
              </a:path>
              <a:path w="22474" h="5632">
                <a:moveTo>
                  <a:pt x="6921" y="9103"/>
                </a:moveTo>
                <a:cubicBezTo>
                  <a:pt x="6944" y="9033"/>
                  <a:pt x="6957" y="9143"/>
                  <a:pt x="6970" y="9178"/>
                </a:cubicBezTo>
                <a:cubicBezTo>
                  <a:pt x="7018" y="9166"/>
                  <a:pt x="7070" y="9135"/>
                  <a:pt x="7094" y="9103"/>
                </a:cubicBezTo>
                <a:cubicBezTo>
                  <a:pt x="7137" y="9189"/>
                  <a:pt x="7124" y="9280"/>
                  <a:pt x="7045" y="9351"/>
                </a:cubicBezTo>
                <a:cubicBezTo>
                  <a:pt x="6986" y="9405"/>
                  <a:pt x="6980" y="9401"/>
                  <a:pt x="6921" y="9401"/>
                </a:cubicBezTo>
              </a:path>
              <a:path w="22474" h="5632">
                <a:moveTo>
                  <a:pt x="6821" y="9153"/>
                </a:moveTo>
                <a:cubicBezTo>
                  <a:pt x="6888" y="9052"/>
                  <a:pt x="6975" y="8957"/>
                  <a:pt x="7069" y="8905"/>
                </a:cubicBezTo>
                <a:cubicBezTo>
                  <a:pt x="7077" y="8905"/>
                  <a:pt x="7086" y="8905"/>
                  <a:pt x="7094" y="8905"/>
                </a:cubicBezTo>
              </a:path>
              <a:path w="22474" h="5632">
                <a:moveTo>
                  <a:pt x="6896" y="8731"/>
                </a:moveTo>
                <a:cubicBezTo>
                  <a:pt x="6791" y="8744"/>
                  <a:pt x="6736" y="8817"/>
                  <a:pt x="6672" y="8905"/>
                </a:cubicBezTo>
                <a:cubicBezTo>
                  <a:pt x="6597" y="9009"/>
                  <a:pt x="6670" y="9136"/>
                  <a:pt x="6722" y="9227"/>
                </a:cubicBezTo>
                <a:cubicBezTo>
                  <a:pt x="6822" y="9400"/>
                  <a:pt x="6920" y="9479"/>
                  <a:pt x="7119" y="9451"/>
                </a:cubicBezTo>
                <a:cubicBezTo>
                  <a:pt x="7287" y="9427"/>
                  <a:pt x="7410" y="9307"/>
                  <a:pt x="7516" y="9178"/>
                </a:cubicBezTo>
                <a:cubicBezTo>
                  <a:pt x="7609" y="9066"/>
                  <a:pt x="7644" y="8971"/>
                  <a:pt x="7590" y="8830"/>
                </a:cubicBezTo>
                <a:cubicBezTo>
                  <a:pt x="7513" y="8626"/>
                  <a:pt x="7405" y="8649"/>
                  <a:pt x="7218" y="8682"/>
                </a:cubicBezTo>
                <a:cubicBezTo>
                  <a:pt x="7094" y="8704"/>
                  <a:pt x="7025" y="8741"/>
                  <a:pt x="6921" y="880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37080" y="1108080"/>
            <a:ext cx="1803240" cy="411120"/>
          </a:xfrm>
          <a:custGeom>
            <a:avLst/>
            <a:gdLst/>
            <a:ahLst/>
            <a:rect l="l" t="t" r="r" b="b"/>
            <a:pathLst>
              <a:path w="5011" h="1142">
                <a:moveTo>
                  <a:pt x="17611" y="4217"/>
                </a:moveTo>
                <a:cubicBezTo>
                  <a:pt x="17548" y="4197"/>
                  <a:pt x="17479" y="4161"/>
                  <a:pt x="17413" y="4142"/>
                </a:cubicBezTo>
                <a:cubicBezTo>
                  <a:pt x="17341" y="4121"/>
                  <a:pt x="17264" y="4115"/>
                  <a:pt x="17190" y="4093"/>
                </a:cubicBezTo>
                <a:cubicBezTo>
                  <a:pt x="17091" y="4063"/>
                  <a:pt x="16993" y="4030"/>
                  <a:pt x="16892" y="4018"/>
                </a:cubicBezTo>
                <a:cubicBezTo>
                  <a:pt x="16798" y="4007"/>
                  <a:pt x="16707" y="3997"/>
                  <a:pt x="16619" y="3969"/>
                </a:cubicBezTo>
                <a:cubicBezTo>
                  <a:pt x="16534" y="3942"/>
                  <a:pt x="16458" y="3915"/>
                  <a:pt x="16371" y="3894"/>
                </a:cubicBezTo>
                <a:cubicBezTo>
                  <a:pt x="16235" y="3860"/>
                  <a:pt x="16112" y="3804"/>
                  <a:pt x="15974" y="3770"/>
                </a:cubicBezTo>
                <a:cubicBezTo>
                  <a:pt x="15856" y="3741"/>
                  <a:pt x="15745" y="3721"/>
                  <a:pt x="15627" y="3696"/>
                </a:cubicBezTo>
                <a:cubicBezTo>
                  <a:pt x="15477" y="3664"/>
                  <a:pt x="15348" y="3619"/>
                  <a:pt x="15205" y="3572"/>
                </a:cubicBezTo>
                <a:cubicBezTo>
                  <a:pt x="15120" y="3544"/>
                  <a:pt x="14989" y="3488"/>
                  <a:pt x="14908" y="3473"/>
                </a:cubicBezTo>
                <a:cubicBezTo>
                  <a:pt x="14750" y="3443"/>
                  <a:pt x="14574" y="3412"/>
                  <a:pt x="14412" y="3398"/>
                </a:cubicBezTo>
                <a:cubicBezTo>
                  <a:pt x="14336" y="3391"/>
                  <a:pt x="14284" y="3392"/>
                  <a:pt x="14213" y="3373"/>
                </a:cubicBezTo>
                <a:cubicBezTo>
                  <a:pt x="14122" y="3349"/>
                  <a:pt x="14030" y="3321"/>
                  <a:pt x="13940" y="3299"/>
                </a:cubicBezTo>
                <a:cubicBezTo>
                  <a:pt x="13855" y="3278"/>
                  <a:pt x="13777" y="3265"/>
                  <a:pt x="13692" y="3249"/>
                </a:cubicBezTo>
                <a:cubicBezTo>
                  <a:pt x="13636" y="3238"/>
                  <a:pt x="13575" y="3229"/>
                  <a:pt x="13519" y="3225"/>
                </a:cubicBezTo>
                <a:cubicBezTo>
                  <a:pt x="13457" y="3220"/>
                  <a:pt x="13403" y="3205"/>
                  <a:pt x="13345" y="3200"/>
                </a:cubicBezTo>
                <a:cubicBezTo>
                  <a:pt x="13250" y="3192"/>
                  <a:pt x="13166" y="3196"/>
                  <a:pt x="13072" y="3175"/>
                </a:cubicBezTo>
                <a:cubicBezTo>
                  <a:pt x="13047" y="3169"/>
                  <a:pt x="13004" y="3158"/>
                  <a:pt x="12973" y="3150"/>
                </a:cubicBezTo>
                <a:cubicBezTo>
                  <a:pt x="12899" y="3131"/>
                  <a:pt x="12824" y="3119"/>
                  <a:pt x="12750" y="3101"/>
                </a:cubicBezTo>
                <a:cubicBezTo>
                  <a:pt x="12708" y="3091"/>
                  <a:pt x="12664" y="3082"/>
                  <a:pt x="12626" y="3076"/>
                </a:cubicBezTo>
                <a:cubicBezTo>
                  <a:pt x="12618" y="3076"/>
                  <a:pt x="12609" y="3076"/>
                  <a:pt x="12601" y="307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97280" y="1224000"/>
            <a:ext cx="312840" cy="214200"/>
          </a:xfrm>
          <a:custGeom>
            <a:avLst/>
            <a:gdLst/>
            <a:ahLst/>
            <a:rect l="l" t="t" r="r" b="b"/>
            <a:pathLst>
              <a:path w="869" h="597">
                <a:moveTo>
                  <a:pt x="13196" y="3398"/>
                </a:moveTo>
                <a:cubicBezTo>
                  <a:pt x="13133" y="3524"/>
                  <a:pt x="13124" y="3685"/>
                  <a:pt x="13072" y="3820"/>
                </a:cubicBezTo>
                <a:cubicBezTo>
                  <a:pt x="13049" y="3843"/>
                  <a:pt x="13041" y="3847"/>
                  <a:pt x="13047" y="3870"/>
                </a:cubicBezTo>
              </a:path>
              <a:path w="869" h="597">
                <a:moveTo>
                  <a:pt x="13395" y="3746"/>
                </a:moveTo>
                <a:cubicBezTo>
                  <a:pt x="13395" y="3830"/>
                  <a:pt x="13402" y="3850"/>
                  <a:pt x="13370" y="3894"/>
                </a:cubicBezTo>
                <a:cubicBezTo>
                  <a:pt x="13405" y="3788"/>
                  <a:pt x="13480" y="3673"/>
                  <a:pt x="13568" y="3597"/>
                </a:cubicBezTo>
                <a:cubicBezTo>
                  <a:pt x="13697" y="3486"/>
                  <a:pt x="13629" y="3778"/>
                  <a:pt x="13618" y="3820"/>
                </a:cubicBezTo>
                <a:cubicBezTo>
                  <a:pt x="13610" y="3845"/>
                  <a:pt x="13601" y="3869"/>
                  <a:pt x="13593" y="3894"/>
                </a:cubicBezTo>
                <a:cubicBezTo>
                  <a:pt x="13613" y="3866"/>
                  <a:pt x="13788" y="3665"/>
                  <a:pt x="13791" y="3671"/>
                </a:cubicBezTo>
                <a:cubicBezTo>
                  <a:pt x="13847" y="3794"/>
                  <a:pt x="13782" y="3881"/>
                  <a:pt x="13742" y="3994"/>
                </a:cubicBezTo>
              </a:path>
              <a:path w="869" h="597">
                <a:moveTo>
                  <a:pt x="13915" y="3845"/>
                </a:moveTo>
                <a:lnTo>
                  <a:pt x="13915" y="3845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33960" y="1366920"/>
            <a:ext cx="600120" cy="276120"/>
          </a:xfrm>
          <a:custGeom>
            <a:avLst/>
            <a:gdLst/>
            <a:ahLst/>
            <a:rect l="l" t="t" r="r" b="b"/>
            <a:pathLst>
              <a:path w="1663" h="770">
                <a:moveTo>
                  <a:pt x="14610" y="3795"/>
                </a:moveTo>
                <a:cubicBezTo>
                  <a:pt x="14576" y="3948"/>
                  <a:pt x="14522" y="4097"/>
                  <a:pt x="14461" y="4242"/>
                </a:cubicBezTo>
              </a:path>
              <a:path w="1663" h="770">
                <a:moveTo>
                  <a:pt x="14263" y="3919"/>
                </a:moveTo>
                <a:cubicBezTo>
                  <a:pt x="14413" y="3937"/>
                  <a:pt x="14530" y="3986"/>
                  <a:pt x="14660" y="4043"/>
                </a:cubicBezTo>
                <a:cubicBezTo>
                  <a:pt x="14668" y="4043"/>
                  <a:pt x="14676" y="4043"/>
                  <a:pt x="14684" y="4043"/>
                </a:cubicBezTo>
              </a:path>
              <a:path w="1663" h="770">
                <a:moveTo>
                  <a:pt x="14784" y="4217"/>
                </a:moveTo>
                <a:cubicBezTo>
                  <a:pt x="14792" y="4225"/>
                  <a:pt x="14800" y="4234"/>
                  <a:pt x="14808" y="4242"/>
                </a:cubicBezTo>
                <a:cubicBezTo>
                  <a:pt x="14790" y="4166"/>
                  <a:pt x="14784" y="4065"/>
                  <a:pt x="14858" y="3994"/>
                </a:cubicBezTo>
                <a:cubicBezTo>
                  <a:pt x="14932" y="3923"/>
                  <a:pt x="15017" y="3987"/>
                  <a:pt x="15081" y="4018"/>
                </a:cubicBezTo>
              </a:path>
              <a:path w="1663" h="770">
                <a:moveTo>
                  <a:pt x="15180" y="4093"/>
                </a:moveTo>
                <a:cubicBezTo>
                  <a:pt x="15077" y="4093"/>
                  <a:pt x="15019" y="4085"/>
                  <a:pt x="14982" y="4192"/>
                </a:cubicBezTo>
                <a:cubicBezTo>
                  <a:pt x="14936" y="4323"/>
                  <a:pt x="15099" y="4172"/>
                  <a:pt x="15106" y="4167"/>
                </a:cubicBezTo>
                <a:cubicBezTo>
                  <a:pt x="15114" y="4167"/>
                  <a:pt x="15123" y="4167"/>
                  <a:pt x="15131" y="4167"/>
                </a:cubicBezTo>
                <a:cubicBezTo>
                  <a:pt x="15150" y="4358"/>
                  <a:pt x="15154" y="4358"/>
                  <a:pt x="15329" y="4316"/>
                </a:cubicBezTo>
              </a:path>
              <a:path w="1663" h="770">
                <a:moveTo>
                  <a:pt x="15528" y="4118"/>
                </a:moveTo>
                <a:cubicBezTo>
                  <a:pt x="15447" y="4138"/>
                  <a:pt x="15281" y="4223"/>
                  <a:pt x="15404" y="4341"/>
                </a:cubicBezTo>
                <a:cubicBezTo>
                  <a:pt x="15521" y="4453"/>
                  <a:pt x="15616" y="4368"/>
                  <a:pt x="15726" y="4316"/>
                </a:cubicBezTo>
              </a:path>
              <a:path w="1663" h="770">
                <a:moveTo>
                  <a:pt x="15900" y="3994"/>
                </a:moveTo>
                <a:cubicBezTo>
                  <a:pt x="15854" y="4138"/>
                  <a:pt x="15809" y="4277"/>
                  <a:pt x="15751" y="4415"/>
                </a:cubicBezTo>
              </a:path>
              <a:path w="1663" h="770">
                <a:moveTo>
                  <a:pt x="15850" y="4242"/>
                </a:moveTo>
                <a:cubicBezTo>
                  <a:pt x="15701" y="4316"/>
                  <a:pt x="15654" y="4313"/>
                  <a:pt x="15776" y="4440"/>
                </a:cubicBezTo>
                <a:cubicBezTo>
                  <a:pt x="15828" y="4494"/>
                  <a:pt x="15870" y="4520"/>
                  <a:pt x="15925" y="45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2800" y="2276640"/>
            <a:ext cx="644400" cy="455400"/>
          </a:xfrm>
          <a:custGeom>
            <a:avLst/>
            <a:gdLst/>
            <a:ahLst/>
            <a:rect l="l" t="t" r="r" b="b"/>
            <a:pathLst>
              <a:path w="1787" h="1266">
                <a:moveTo>
                  <a:pt x="15032" y="7293"/>
                </a:moveTo>
                <a:cubicBezTo>
                  <a:pt x="14973" y="7377"/>
                  <a:pt x="15182" y="7257"/>
                  <a:pt x="15205" y="7218"/>
                </a:cubicBezTo>
                <a:cubicBezTo>
                  <a:pt x="15224" y="7144"/>
                  <a:pt x="15232" y="7137"/>
                  <a:pt x="15230" y="7094"/>
                </a:cubicBezTo>
                <a:cubicBezTo>
                  <a:pt x="15047" y="7137"/>
                  <a:pt x="14809" y="7381"/>
                  <a:pt x="15056" y="7565"/>
                </a:cubicBezTo>
                <a:cubicBezTo>
                  <a:pt x="15278" y="7730"/>
                  <a:pt x="15383" y="7414"/>
                  <a:pt x="15453" y="7293"/>
                </a:cubicBezTo>
              </a:path>
              <a:path w="1787" h="1266">
                <a:moveTo>
                  <a:pt x="15379" y="6722"/>
                </a:moveTo>
                <a:cubicBezTo>
                  <a:pt x="15388" y="6904"/>
                  <a:pt x="15372" y="7183"/>
                  <a:pt x="15528" y="7317"/>
                </a:cubicBezTo>
                <a:cubicBezTo>
                  <a:pt x="15536" y="7309"/>
                  <a:pt x="15545" y="7301"/>
                  <a:pt x="15553" y="7293"/>
                </a:cubicBezTo>
              </a:path>
              <a:path w="1787" h="1266">
                <a:moveTo>
                  <a:pt x="15577" y="7193"/>
                </a:moveTo>
                <a:cubicBezTo>
                  <a:pt x="15688" y="7120"/>
                  <a:pt x="15730" y="7072"/>
                  <a:pt x="15751" y="6945"/>
                </a:cubicBezTo>
                <a:cubicBezTo>
                  <a:pt x="15638" y="6923"/>
                  <a:pt x="15469" y="6986"/>
                  <a:pt x="15577" y="7144"/>
                </a:cubicBezTo>
                <a:cubicBezTo>
                  <a:pt x="15731" y="7370"/>
                  <a:pt x="15870" y="7065"/>
                  <a:pt x="15900" y="6945"/>
                </a:cubicBezTo>
                <a:cubicBezTo>
                  <a:pt x="15900" y="6937"/>
                  <a:pt x="15900" y="6929"/>
                  <a:pt x="15900" y="6921"/>
                </a:cubicBezTo>
                <a:cubicBezTo>
                  <a:pt x="15911" y="6962"/>
                  <a:pt x="16000" y="7122"/>
                  <a:pt x="16049" y="7094"/>
                </a:cubicBezTo>
                <a:cubicBezTo>
                  <a:pt x="16165" y="7028"/>
                  <a:pt x="16002" y="6597"/>
                  <a:pt x="16049" y="6722"/>
                </a:cubicBezTo>
                <a:cubicBezTo>
                  <a:pt x="16057" y="6739"/>
                  <a:pt x="16065" y="6755"/>
                  <a:pt x="16073" y="6772"/>
                </a:cubicBezTo>
              </a:path>
              <a:path w="1787" h="1266">
                <a:moveTo>
                  <a:pt x="16222" y="6747"/>
                </a:moveTo>
                <a:cubicBezTo>
                  <a:pt x="16103" y="6875"/>
                  <a:pt x="16102" y="6868"/>
                  <a:pt x="16123" y="7045"/>
                </a:cubicBezTo>
                <a:cubicBezTo>
                  <a:pt x="16255" y="6995"/>
                  <a:pt x="16192" y="6821"/>
                  <a:pt x="16297" y="6945"/>
                </a:cubicBezTo>
                <a:cubicBezTo>
                  <a:pt x="16398" y="7065"/>
                  <a:pt x="16363" y="7003"/>
                  <a:pt x="16396" y="6821"/>
                </a:cubicBezTo>
              </a:path>
              <a:path w="1787" h="1266">
                <a:moveTo>
                  <a:pt x="16222" y="6325"/>
                </a:moveTo>
                <a:cubicBezTo>
                  <a:pt x="16241" y="6616"/>
                  <a:pt x="16340" y="6805"/>
                  <a:pt x="16421" y="7069"/>
                </a:cubicBezTo>
                <a:cubicBezTo>
                  <a:pt x="16369" y="7069"/>
                  <a:pt x="16342" y="7050"/>
                  <a:pt x="16321" y="6995"/>
                </a:cubicBezTo>
                <a:cubicBezTo>
                  <a:pt x="16185" y="6891"/>
                  <a:pt x="16337" y="6952"/>
                  <a:pt x="16446" y="6896"/>
                </a:cubicBezTo>
                <a:cubicBezTo>
                  <a:pt x="16525" y="6855"/>
                  <a:pt x="16629" y="6716"/>
                  <a:pt x="16545" y="6747"/>
                </a:cubicBezTo>
                <a:cubicBezTo>
                  <a:pt x="16537" y="6755"/>
                  <a:pt x="16528" y="6764"/>
                  <a:pt x="16520" y="6772"/>
                </a:cubicBezTo>
                <a:cubicBezTo>
                  <a:pt x="16559" y="6927"/>
                  <a:pt x="16567" y="6929"/>
                  <a:pt x="16718" y="6995"/>
                </a:cubicBezTo>
                <a:cubicBezTo>
                  <a:pt x="16807" y="6818"/>
                  <a:pt x="16650" y="6815"/>
                  <a:pt x="16594" y="6648"/>
                </a:cubicBezTo>
                <a:cubicBezTo>
                  <a:pt x="16551" y="6520"/>
                  <a:pt x="16665" y="6465"/>
                  <a:pt x="16743" y="64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00280" y="704880"/>
            <a:ext cx="1500480" cy="696960"/>
          </a:xfrm>
          <a:custGeom>
            <a:avLst/>
            <a:gdLst/>
            <a:ahLst/>
            <a:rect l="l" t="t" r="r" b="b"/>
            <a:pathLst>
              <a:path w="4169" h="1935">
                <a:moveTo>
                  <a:pt x="12576" y="2629"/>
                </a:moveTo>
                <a:cubicBezTo>
                  <a:pt x="12483" y="2669"/>
                  <a:pt x="12451" y="2676"/>
                  <a:pt x="12378" y="2753"/>
                </a:cubicBezTo>
                <a:cubicBezTo>
                  <a:pt x="12303" y="2832"/>
                  <a:pt x="12320" y="2904"/>
                  <a:pt x="12353" y="3001"/>
                </a:cubicBezTo>
                <a:cubicBezTo>
                  <a:pt x="12460" y="3060"/>
                  <a:pt x="12511" y="3077"/>
                  <a:pt x="12626" y="3001"/>
                </a:cubicBezTo>
                <a:cubicBezTo>
                  <a:pt x="12694" y="2955"/>
                  <a:pt x="12738" y="2873"/>
                  <a:pt x="12774" y="2803"/>
                </a:cubicBezTo>
                <a:cubicBezTo>
                  <a:pt x="12815" y="2724"/>
                  <a:pt x="12784" y="2648"/>
                  <a:pt x="12774" y="2604"/>
                </a:cubicBezTo>
                <a:cubicBezTo>
                  <a:pt x="12760" y="2542"/>
                  <a:pt x="12723" y="2534"/>
                  <a:pt x="12650" y="2530"/>
                </a:cubicBezTo>
                <a:cubicBezTo>
                  <a:pt x="12557" y="2524"/>
                  <a:pt x="12520" y="2539"/>
                  <a:pt x="12452" y="2604"/>
                </a:cubicBezTo>
                <a:cubicBezTo>
                  <a:pt x="12425" y="2630"/>
                  <a:pt x="12295" y="2773"/>
                  <a:pt x="12328" y="2828"/>
                </a:cubicBezTo>
                <a:cubicBezTo>
                  <a:pt x="12382" y="2916"/>
                  <a:pt x="12427" y="2973"/>
                  <a:pt x="12526" y="2977"/>
                </a:cubicBezTo>
                <a:cubicBezTo>
                  <a:pt x="12637" y="2981"/>
                  <a:pt x="12666" y="2933"/>
                  <a:pt x="12750" y="2877"/>
                </a:cubicBezTo>
                <a:cubicBezTo>
                  <a:pt x="12826" y="2827"/>
                  <a:pt x="12845" y="2804"/>
                  <a:pt x="12849" y="2704"/>
                </a:cubicBezTo>
                <a:cubicBezTo>
                  <a:pt x="12853" y="2604"/>
                  <a:pt x="12817" y="2527"/>
                  <a:pt x="12725" y="2480"/>
                </a:cubicBezTo>
                <a:cubicBezTo>
                  <a:pt x="12662" y="2447"/>
                  <a:pt x="12567" y="2412"/>
                  <a:pt x="12502" y="2456"/>
                </a:cubicBezTo>
                <a:cubicBezTo>
                  <a:pt x="12382" y="2538"/>
                  <a:pt x="12407" y="2607"/>
                  <a:pt x="12378" y="2729"/>
                </a:cubicBezTo>
                <a:cubicBezTo>
                  <a:pt x="12347" y="2858"/>
                  <a:pt x="12404" y="2882"/>
                  <a:pt x="12526" y="2927"/>
                </a:cubicBezTo>
                <a:cubicBezTo>
                  <a:pt x="12637" y="2968"/>
                  <a:pt x="12676" y="2956"/>
                  <a:pt x="12750" y="2877"/>
                </a:cubicBezTo>
                <a:cubicBezTo>
                  <a:pt x="12819" y="2803"/>
                  <a:pt x="12848" y="2708"/>
                  <a:pt x="12824" y="2604"/>
                </a:cubicBezTo>
                <a:cubicBezTo>
                  <a:pt x="12809" y="2539"/>
                  <a:pt x="12772" y="2514"/>
                  <a:pt x="12725" y="2480"/>
                </a:cubicBezTo>
              </a:path>
              <a:path w="4169" h="1935">
                <a:moveTo>
                  <a:pt x="12650" y="2977"/>
                </a:moveTo>
                <a:cubicBezTo>
                  <a:pt x="12650" y="2952"/>
                  <a:pt x="12650" y="2944"/>
                  <a:pt x="12626" y="2952"/>
                </a:cubicBezTo>
              </a:path>
              <a:path w="4169" h="1935">
                <a:moveTo>
                  <a:pt x="12750" y="2778"/>
                </a:moveTo>
                <a:lnTo>
                  <a:pt x="12750" y="2778"/>
                </a:lnTo>
              </a:path>
              <a:path w="4169" h="1935">
                <a:moveTo>
                  <a:pt x="12402" y="2902"/>
                </a:moveTo>
                <a:lnTo>
                  <a:pt x="12402" y="2902"/>
                </a:lnTo>
              </a:path>
              <a:path w="4169" h="1935">
                <a:moveTo>
                  <a:pt x="12427" y="2902"/>
                </a:moveTo>
                <a:cubicBezTo>
                  <a:pt x="12452" y="2902"/>
                  <a:pt x="12460" y="2902"/>
                  <a:pt x="12477" y="2902"/>
                </a:cubicBezTo>
              </a:path>
              <a:path w="4169" h="1935">
                <a:moveTo>
                  <a:pt x="12551" y="2877"/>
                </a:moveTo>
                <a:cubicBezTo>
                  <a:pt x="12559" y="2869"/>
                  <a:pt x="12568" y="2861"/>
                  <a:pt x="12576" y="2853"/>
                </a:cubicBezTo>
              </a:path>
              <a:path w="4169" h="1935">
                <a:moveTo>
                  <a:pt x="12576" y="2853"/>
                </a:moveTo>
                <a:lnTo>
                  <a:pt x="12576" y="2853"/>
                </a:lnTo>
              </a:path>
              <a:path w="4169" h="1935">
                <a:moveTo>
                  <a:pt x="12675" y="2753"/>
                </a:moveTo>
                <a:cubicBezTo>
                  <a:pt x="12683" y="2753"/>
                  <a:pt x="12692" y="2753"/>
                  <a:pt x="12700" y="2753"/>
                </a:cubicBezTo>
              </a:path>
              <a:path w="4169" h="1935">
                <a:moveTo>
                  <a:pt x="12700" y="2778"/>
                </a:moveTo>
                <a:lnTo>
                  <a:pt x="12700" y="2778"/>
                </a:lnTo>
              </a:path>
              <a:path w="4169" h="1935">
                <a:moveTo>
                  <a:pt x="12700" y="2778"/>
                </a:moveTo>
                <a:lnTo>
                  <a:pt x="12700" y="2778"/>
                </a:lnTo>
              </a:path>
              <a:path w="4169" h="1935">
                <a:moveTo>
                  <a:pt x="12551" y="2778"/>
                </a:moveTo>
                <a:cubicBezTo>
                  <a:pt x="12543" y="2770"/>
                  <a:pt x="12534" y="2761"/>
                  <a:pt x="12526" y="2753"/>
                </a:cubicBezTo>
              </a:path>
              <a:path w="4169" h="1935">
                <a:moveTo>
                  <a:pt x="12502" y="2778"/>
                </a:moveTo>
                <a:lnTo>
                  <a:pt x="12502" y="2778"/>
                </a:lnTo>
                <a:lnTo>
                  <a:pt x="12502" y="2778"/>
                </a:lnTo>
              </a:path>
              <a:path w="4169" h="1935">
                <a:moveTo>
                  <a:pt x="12502" y="2778"/>
                </a:moveTo>
                <a:lnTo>
                  <a:pt x="12502" y="2778"/>
                </a:lnTo>
              </a:path>
              <a:path w="4169" h="1935">
                <a:moveTo>
                  <a:pt x="12526" y="2729"/>
                </a:moveTo>
                <a:cubicBezTo>
                  <a:pt x="12534" y="2712"/>
                  <a:pt x="12543" y="2696"/>
                  <a:pt x="12551" y="2679"/>
                </a:cubicBezTo>
              </a:path>
              <a:path w="4169" h="1935">
                <a:moveTo>
                  <a:pt x="12700" y="2530"/>
                </a:moveTo>
                <a:cubicBezTo>
                  <a:pt x="12700" y="2522"/>
                  <a:pt x="12700" y="2513"/>
                  <a:pt x="12700" y="2505"/>
                </a:cubicBezTo>
              </a:path>
              <a:path w="4169" h="1935">
                <a:moveTo>
                  <a:pt x="12700" y="2505"/>
                </a:moveTo>
                <a:lnTo>
                  <a:pt x="12700" y="2505"/>
                </a:lnTo>
              </a:path>
              <a:path w="4169" h="1935">
                <a:moveTo>
                  <a:pt x="12750" y="2505"/>
                </a:moveTo>
                <a:cubicBezTo>
                  <a:pt x="12758" y="2505"/>
                  <a:pt x="12766" y="2505"/>
                  <a:pt x="12774" y="2505"/>
                </a:cubicBezTo>
              </a:path>
              <a:path w="4169" h="1935">
                <a:moveTo>
                  <a:pt x="12725" y="2604"/>
                </a:moveTo>
                <a:lnTo>
                  <a:pt x="12725" y="2604"/>
                </a:lnTo>
              </a:path>
              <a:path w="4169" h="1935">
                <a:moveTo>
                  <a:pt x="12725" y="2604"/>
                </a:moveTo>
                <a:lnTo>
                  <a:pt x="12725" y="2604"/>
                </a:lnTo>
              </a:path>
              <a:path w="4169" h="1935">
                <a:moveTo>
                  <a:pt x="12650" y="2679"/>
                </a:moveTo>
                <a:cubicBezTo>
                  <a:pt x="12650" y="2671"/>
                  <a:pt x="12650" y="2662"/>
                  <a:pt x="12650" y="2654"/>
                </a:cubicBezTo>
              </a:path>
              <a:path w="4169" h="1935">
                <a:moveTo>
                  <a:pt x="12551" y="2679"/>
                </a:moveTo>
                <a:cubicBezTo>
                  <a:pt x="12543" y="2679"/>
                  <a:pt x="12534" y="2679"/>
                  <a:pt x="12526" y="2679"/>
                </a:cubicBezTo>
              </a:path>
              <a:path w="4169" h="1935">
                <a:moveTo>
                  <a:pt x="12526" y="2679"/>
                </a:moveTo>
                <a:lnTo>
                  <a:pt x="12526" y="2679"/>
                </a:lnTo>
              </a:path>
              <a:path w="4169" h="1935">
                <a:moveTo>
                  <a:pt x="12353" y="2729"/>
                </a:moveTo>
                <a:lnTo>
                  <a:pt x="12353" y="2729"/>
                </a:lnTo>
              </a:path>
              <a:path w="4169" h="1935">
                <a:moveTo>
                  <a:pt x="12378" y="2803"/>
                </a:moveTo>
                <a:cubicBezTo>
                  <a:pt x="12394" y="2795"/>
                  <a:pt x="12411" y="2786"/>
                  <a:pt x="12427" y="2778"/>
                </a:cubicBezTo>
              </a:path>
              <a:path w="4169" h="1935">
                <a:moveTo>
                  <a:pt x="12452" y="2927"/>
                </a:moveTo>
                <a:cubicBezTo>
                  <a:pt x="12460" y="2919"/>
                  <a:pt x="12469" y="2910"/>
                  <a:pt x="12477" y="2902"/>
                </a:cubicBezTo>
              </a:path>
              <a:path w="4169" h="1935">
                <a:moveTo>
                  <a:pt x="12477" y="2902"/>
                </a:moveTo>
                <a:lnTo>
                  <a:pt x="12477" y="2902"/>
                </a:lnTo>
              </a:path>
              <a:path w="4169" h="1935">
                <a:moveTo>
                  <a:pt x="13221" y="2480"/>
                </a:moveTo>
                <a:cubicBezTo>
                  <a:pt x="13340" y="2514"/>
                  <a:pt x="13446" y="2593"/>
                  <a:pt x="13568" y="2629"/>
                </a:cubicBezTo>
                <a:cubicBezTo>
                  <a:pt x="13627" y="2646"/>
                  <a:pt x="13706" y="2667"/>
                  <a:pt x="13767" y="2679"/>
                </a:cubicBezTo>
                <a:cubicBezTo>
                  <a:pt x="13752" y="2605"/>
                  <a:pt x="13674" y="2505"/>
                  <a:pt x="13618" y="2456"/>
                </a:cubicBezTo>
                <a:cubicBezTo>
                  <a:pt x="13604" y="2444"/>
                  <a:pt x="13545" y="2431"/>
                  <a:pt x="13593" y="2431"/>
                </a:cubicBezTo>
                <a:cubicBezTo>
                  <a:pt x="13680" y="2509"/>
                  <a:pt x="13814" y="2552"/>
                  <a:pt x="13891" y="2629"/>
                </a:cubicBezTo>
                <a:cubicBezTo>
                  <a:pt x="13891" y="2637"/>
                  <a:pt x="13891" y="2646"/>
                  <a:pt x="13891" y="2654"/>
                </a:cubicBezTo>
                <a:cubicBezTo>
                  <a:pt x="13778" y="2727"/>
                  <a:pt x="13665" y="2790"/>
                  <a:pt x="13543" y="2828"/>
                </a:cubicBezTo>
                <a:cubicBezTo>
                  <a:pt x="13535" y="2828"/>
                  <a:pt x="13527" y="2828"/>
                  <a:pt x="13519" y="2828"/>
                </a:cubicBezTo>
              </a:path>
              <a:path w="4169" h="1935">
                <a:moveTo>
                  <a:pt x="12650" y="3076"/>
                </a:moveTo>
                <a:cubicBezTo>
                  <a:pt x="12681" y="3107"/>
                  <a:pt x="12788" y="3129"/>
                  <a:pt x="12750" y="3150"/>
                </a:cubicBezTo>
                <a:cubicBezTo>
                  <a:pt x="12629" y="3216"/>
                  <a:pt x="12511" y="3225"/>
                  <a:pt x="12378" y="3225"/>
                </a:cubicBezTo>
                <a:cubicBezTo>
                  <a:pt x="12168" y="3225"/>
                  <a:pt x="12586" y="3225"/>
                  <a:pt x="12626" y="3225"/>
                </a:cubicBezTo>
                <a:cubicBezTo>
                  <a:pt x="12692" y="3225"/>
                  <a:pt x="12616" y="3214"/>
                  <a:pt x="12551" y="3200"/>
                </a:cubicBezTo>
                <a:cubicBezTo>
                  <a:pt x="12436" y="3176"/>
                  <a:pt x="12145" y="3104"/>
                  <a:pt x="12254" y="3150"/>
                </a:cubicBezTo>
                <a:cubicBezTo>
                  <a:pt x="12393" y="3209"/>
                  <a:pt x="12526" y="3200"/>
                  <a:pt x="12675" y="3200"/>
                </a:cubicBezTo>
                <a:cubicBezTo>
                  <a:pt x="12842" y="3200"/>
                  <a:pt x="12738" y="3217"/>
                  <a:pt x="12601" y="3225"/>
                </a:cubicBezTo>
                <a:cubicBezTo>
                  <a:pt x="12494" y="3232"/>
                  <a:pt x="12270" y="3225"/>
                  <a:pt x="12378" y="3225"/>
                </a:cubicBezTo>
                <a:cubicBezTo>
                  <a:pt x="12497" y="3225"/>
                  <a:pt x="12665" y="3227"/>
                  <a:pt x="12774" y="3175"/>
                </a:cubicBezTo>
                <a:cubicBezTo>
                  <a:pt x="12879" y="3125"/>
                  <a:pt x="12543" y="3196"/>
                  <a:pt x="12427" y="3200"/>
                </a:cubicBezTo>
                <a:cubicBezTo>
                  <a:pt x="12341" y="3200"/>
                  <a:pt x="12211" y="3200"/>
                  <a:pt x="12353" y="3200"/>
                </a:cubicBezTo>
                <a:cubicBezTo>
                  <a:pt x="12419" y="3200"/>
                  <a:pt x="12757" y="3199"/>
                  <a:pt x="12750" y="3200"/>
                </a:cubicBezTo>
                <a:cubicBezTo>
                  <a:pt x="12591" y="3232"/>
                  <a:pt x="12347" y="3183"/>
                  <a:pt x="12204" y="3249"/>
                </a:cubicBezTo>
                <a:cubicBezTo>
                  <a:pt x="12080" y="3307"/>
                  <a:pt x="12464" y="3236"/>
                  <a:pt x="12601" y="3225"/>
                </a:cubicBezTo>
                <a:cubicBezTo>
                  <a:pt x="12812" y="3208"/>
                  <a:pt x="12851" y="3214"/>
                  <a:pt x="12576" y="3249"/>
                </a:cubicBezTo>
                <a:cubicBezTo>
                  <a:pt x="12441" y="3266"/>
                  <a:pt x="12096" y="3236"/>
                  <a:pt x="12452" y="3249"/>
                </a:cubicBezTo>
                <a:cubicBezTo>
                  <a:pt x="12552" y="3253"/>
                  <a:pt x="12798" y="3292"/>
                  <a:pt x="12700" y="3274"/>
                </a:cubicBezTo>
                <a:cubicBezTo>
                  <a:pt x="12534" y="3243"/>
                  <a:pt x="12276" y="3275"/>
                  <a:pt x="12129" y="3200"/>
                </a:cubicBezTo>
                <a:cubicBezTo>
                  <a:pt x="11944" y="3106"/>
                  <a:pt x="12543" y="3212"/>
                  <a:pt x="12750" y="3225"/>
                </a:cubicBezTo>
                <a:cubicBezTo>
                  <a:pt x="13075" y="3245"/>
                  <a:pt x="12388" y="3201"/>
                  <a:pt x="12378" y="3200"/>
                </a:cubicBezTo>
                <a:cubicBezTo>
                  <a:pt x="12337" y="3192"/>
                  <a:pt x="12295" y="3183"/>
                  <a:pt x="12254" y="3175"/>
                </a:cubicBezTo>
                <a:cubicBezTo>
                  <a:pt x="12125" y="3239"/>
                  <a:pt x="12482" y="3200"/>
                  <a:pt x="12626" y="3200"/>
                </a:cubicBezTo>
                <a:cubicBezTo>
                  <a:pt x="12733" y="3200"/>
                  <a:pt x="12955" y="3212"/>
                  <a:pt x="12849" y="3200"/>
                </a:cubicBezTo>
                <a:cubicBezTo>
                  <a:pt x="12645" y="3177"/>
                  <a:pt x="12458" y="3200"/>
                  <a:pt x="12254" y="3200"/>
                </a:cubicBezTo>
                <a:cubicBezTo>
                  <a:pt x="12221" y="3200"/>
                  <a:pt x="12336" y="3200"/>
                  <a:pt x="12303" y="3200"/>
                </a:cubicBezTo>
                <a:cubicBezTo>
                  <a:pt x="12228" y="3200"/>
                  <a:pt x="12274" y="3221"/>
                  <a:pt x="12328" y="3225"/>
                </a:cubicBezTo>
                <a:cubicBezTo>
                  <a:pt x="12456" y="3235"/>
                  <a:pt x="12656" y="3232"/>
                  <a:pt x="12774" y="3175"/>
                </a:cubicBezTo>
                <a:cubicBezTo>
                  <a:pt x="12954" y="3089"/>
                  <a:pt x="12023" y="3349"/>
                  <a:pt x="12179" y="3225"/>
                </a:cubicBezTo>
                <a:cubicBezTo>
                  <a:pt x="12255" y="3164"/>
                  <a:pt x="12481" y="3181"/>
                  <a:pt x="12576" y="3175"/>
                </a:cubicBezTo>
              </a:path>
              <a:path w="4169" h="1935">
                <a:moveTo>
                  <a:pt x="9773" y="3125"/>
                </a:moveTo>
                <a:cubicBezTo>
                  <a:pt x="9750" y="3103"/>
                  <a:pt x="9745" y="3095"/>
                  <a:pt x="9723" y="3101"/>
                </a:cubicBezTo>
                <a:cubicBezTo>
                  <a:pt x="9800" y="3085"/>
                  <a:pt x="9867" y="3078"/>
                  <a:pt x="9947" y="3076"/>
                </a:cubicBezTo>
                <a:cubicBezTo>
                  <a:pt x="10038" y="3073"/>
                  <a:pt x="10117" y="3083"/>
                  <a:pt x="10195" y="3076"/>
                </a:cubicBezTo>
                <a:cubicBezTo>
                  <a:pt x="10295" y="3067"/>
                  <a:pt x="10394" y="3062"/>
                  <a:pt x="10492" y="3051"/>
                </a:cubicBezTo>
                <a:cubicBezTo>
                  <a:pt x="10588" y="3040"/>
                  <a:pt x="10690" y="3076"/>
                  <a:pt x="10790" y="3076"/>
                </a:cubicBezTo>
                <a:cubicBezTo>
                  <a:pt x="10905" y="3076"/>
                  <a:pt x="11002" y="3089"/>
                  <a:pt x="11112" y="3101"/>
                </a:cubicBezTo>
                <a:cubicBezTo>
                  <a:pt x="11244" y="3116"/>
                  <a:pt x="11382" y="3110"/>
                  <a:pt x="11509" y="3125"/>
                </a:cubicBezTo>
                <a:cubicBezTo>
                  <a:pt x="11638" y="3141"/>
                  <a:pt x="11790" y="3135"/>
                  <a:pt x="11906" y="3150"/>
                </a:cubicBezTo>
                <a:cubicBezTo>
                  <a:pt x="11974" y="3158"/>
                  <a:pt x="11995" y="3132"/>
                  <a:pt x="12055" y="3125"/>
                </a:cubicBezTo>
                <a:cubicBezTo>
                  <a:pt x="12123" y="3117"/>
                  <a:pt x="12198" y="3120"/>
                  <a:pt x="12229" y="3150"/>
                </a:cubicBezTo>
                <a:cubicBezTo>
                  <a:pt x="12270" y="3190"/>
                  <a:pt x="12257" y="3226"/>
                  <a:pt x="12278" y="3299"/>
                </a:cubicBezTo>
                <a:cubicBezTo>
                  <a:pt x="12287" y="3331"/>
                  <a:pt x="12290" y="3392"/>
                  <a:pt x="12303" y="3423"/>
                </a:cubicBezTo>
                <a:cubicBezTo>
                  <a:pt x="12327" y="3479"/>
                  <a:pt x="12339" y="3511"/>
                  <a:pt x="12353" y="3572"/>
                </a:cubicBezTo>
                <a:cubicBezTo>
                  <a:pt x="12361" y="3607"/>
                  <a:pt x="12369" y="3653"/>
                  <a:pt x="12378" y="3696"/>
                </a:cubicBezTo>
                <a:cubicBezTo>
                  <a:pt x="12384" y="3726"/>
                  <a:pt x="12399" y="3756"/>
                  <a:pt x="12402" y="3795"/>
                </a:cubicBezTo>
                <a:cubicBezTo>
                  <a:pt x="12382" y="3799"/>
                  <a:pt x="12238" y="3841"/>
                  <a:pt x="12179" y="3845"/>
                </a:cubicBezTo>
                <a:cubicBezTo>
                  <a:pt x="11988" y="3859"/>
                  <a:pt x="11798" y="3852"/>
                  <a:pt x="11609" y="3870"/>
                </a:cubicBezTo>
                <a:cubicBezTo>
                  <a:pt x="11457" y="3885"/>
                  <a:pt x="11310" y="3858"/>
                  <a:pt x="11162" y="3845"/>
                </a:cubicBezTo>
                <a:cubicBezTo>
                  <a:pt x="11013" y="3832"/>
                  <a:pt x="10863" y="3850"/>
                  <a:pt x="10716" y="3870"/>
                </a:cubicBezTo>
                <a:cubicBezTo>
                  <a:pt x="10577" y="3889"/>
                  <a:pt x="10505" y="3882"/>
                  <a:pt x="10393" y="3870"/>
                </a:cubicBezTo>
                <a:cubicBezTo>
                  <a:pt x="10287" y="3859"/>
                  <a:pt x="10234" y="3899"/>
                  <a:pt x="10170" y="3820"/>
                </a:cubicBezTo>
                <a:cubicBezTo>
                  <a:pt x="10090" y="3722"/>
                  <a:pt x="10084" y="3568"/>
                  <a:pt x="10071" y="3448"/>
                </a:cubicBezTo>
                <a:cubicBezTo>
                  <a:pt x="10062" y="3362"/>
                  <a:pt x="10072" y="3306"/>
                  <a:pt x="10046" y="3225"/>
                </a:cubicBezTo>
                <a:cubicBezTo>
                  <a:pt x="10033" y="3185"/>
                  <a:pt x="10032" y="3141"/>
                  <a:pt x="10021" y="3101"/>
                </a:cubicBezTo>
              </a:path>
              <a:path w="4169" h="1935">
                <a:moveTo>
                  <a:pt x="9996" y="3249"/>
                </a:moveTo>
                <a:cubicBezTo>
                  <a:pt x="10064" y="3278"/>
                  <a:pt x="10186" y="3346"/>
                  <a:pt x="10294" y="3274"/>
                </a:cubicBezTo>
                <a:cubicBezTo>
                  <a:pt x="10338" y="3209"/>
                  <a:pt x="10349" y="3195"/>
                  <a:pt x="10368" y="3150"/>
                </a:cubicBezTo>
                <a:cubicBezTo>
                  <a:pt x="10406" y="3200"/>
                  <a:pt x="10454" y="3274"/>
                  <a:pt x="10542" y="3274"/>
                </a:cubicBezTo>
                <a:cubicBezTo>
                  <a:pt x="10598" y="3274"/>
                  <a:pt x="10719" y="3194"/>
                  <a:pt x="10740" y="3200"/>
                </a:cubicBezTo>
                <a:cubicBezTo>
                  <a:pt x="10883" y="3240"/>
                  <a:pt x="10956" y="3380"/>
                  <a:pt x="11112" y="3249"/>
                </a:cubicBezTo>
                <a:cubicBezTo>
                  <a:pt x="11132" y="3209"/>
                  <a:pt x="11131" y="3193"/>
                  <a:pt x="11162" y="3200"/>
                </a:cubicBezTo>
                <a:cubicBezTo>
                  <a:pt x="11238" y="3292"/>
                  <a:pt x="11326" y="3386"/>
                  <a:pt x="11460" y="3299"/>
                </a:cubicBezTo>
                <a:cubicBezTo>
                  <a:pt x="11480" y="3259"/>
                  <a:pt x="11478" y="3242"/>
                  <a:pt x="11509" y="3249"/>
                </a:cubicBezTo>
                <a:cubicBezTo>
                  <a:pt x="11572" y="3316"/>
                  <a:pt x="11628" y="3429"/>
                  <a:pt x="11757" y="3398"/>
                </a:cubicBezTo>
                <a:cubicBezTo>
                  <a:pt x="11845" y="3355"/>
                  <a:pt x="11868" y="3349"/>
                  <a:pt x="11906" y="3299"/>
                </a:cubicBezTo>
                <a:cubicBezTo>
                  <a:pt x="12000" y="3367"/>
                  <a:pt x="12054" y="3452"/>
                  <a:pt x="12179" y="3398"/>
                </a:cubicBezTo>
                <a:cubicBezTo>
                  <a:pt x="12204" y="3373"/>
                  <a:pt x="12212" y="3365"/>
                  <a:pt x="12229" y="3349"/>
                </a:cubicBezTo>
              </a:path>
              <a:path w="4169" h="1935">
                <a:moveTo>
                  <a:pt x="10021" y="2877"/>
                </a:moveTo>
                <a:cubicBezTo>
                  <a:pt x="10021" y="2953"/>
                  <a:pt x="10058" y="2984"/>
                  <a:pt x="10096" y="3051"/>
                </a:cubicBezTo>
                <a:cubicBezTo>
                  <a:pt x="10140" y="3129"/>
                  <a:pt x="10184" y="3143"/>
                  <a:pt x="10269" y="3175"/>
                </a:cubicBezTo>
                <a:cubicBezTo>
                  <a:pt x="10345" y="3204"/>
                  <a:pt x="10461" y="3235"/>
                  <a:pt x="10542" y="3225"/>
                </a:cubicBezTo>
                <a:cubicBezTo>
                  <a:pt x="10660" y="3210"/>
                  <a:pt x="10783" y="3158"/>
                  <a:pt x="10889" y="3125"/>
                </a:cubicBezTo>
                <a:cubicBezTo>
                  <a:pt x="10950" y="3106"/>
                  <a:pt x="11002" y="3066"/>
                  <a:pt x="11063" y="3051"/>
                </a:cubicBezTo>
                <a:cubicBezTo>
                  <a:pt x="11071" y="3051"/>
                  <a:pt x="11080" y="3051"/>
                  <a:pt x="11088" y="3051"/>
                </a:cubicBezTo>
                <a:cubicBezTo>
                  <a:pt x="11073" y="2964"/>
                  <a:pt x="11041" y="2900"/>
                  <a:pt x="10988" y="2828"/>
                </a:cubicBezTo>
                <a:cubicBezTo>
                  <a:pt x="10912" y="2725"/>
                  <a:pt x="10910" y="2733"/>
                  <a:pt x="10765" y="2729"/>
                </a:cubicBezTo>
                <a:cubicBezTo>
                  <a:pt x="10625" y="2725"/>
                  <a:pt x="10454" y="2783"/>
                  <a:pt x="10319" y="2828"/>
                </a:cubicBezTo>
                <a:cubicBezTo>
                  <a:pt x="10262" y="2847"/>
                  <a:pt x="10205" y="2871"/>
                  <a:pt x="10145" y="2877"/>
                </a:cubicBezTo>
                <a:cubicBezTo>
                  <a:pt x="10137" y="2877"/>
                  <a:pt x="10128" y="2877"/>
                  <a:pt x="10120" y="2877"/>
                </a:cubicBezTo>
              </a:path>
              <a:path w="4169" h="1935">
                <a:moveTo>
                  <a:pt x="10542" y="2704"/>
                </a:moveTo>
                <a:cubicBezTo>
                  <a:pt x="10513" y="2733"/>
                  <a:pt x="10480" y="2766"/>
                  <a:pt x="10468" y="2803"/>
                </a:cubicBezTo>
                <a:cubicBezTo>
                  <a:pt x="10468" y="2811"/>
                  <a:pt x="10468" y="2820"/>
                  <a:pt x="10468" y="2828"/>
                </a:cubicBezTo>
                <a:cubicBezTo>
                  <a:pt x="10448" y="2672"/>
                  <a:pt x="10406" y="2514"/>
                  <a:pt x="10393" y="2356"/>
                </a:cubicBezTo>
                <a:cubicBezTo>
                  <a:pt x="10385" y="2263"/>
                  <a:pt x="10377" y="2176"/>
                  <a:pt x="10368" y="2084"/>
                </a:cubicBezTo>
              </a:path>
              <a:path w="4169" h="1935">
                <a:moveTo>
                  <a:pt x="10319" y="1960"/>
                </a:moveTo>
                <a:cubicBezTo>
                  <a:pt x="10230" y="2128"/>
                  <a:pt x="10132" y="2277"/>
                  <a:pt x="10021" y="2431"/>
                </a:cubicBezTo>
                <a:cubicBezTo>
                  <a:pt x="9994" y="2468"/>
                  <a:pt x="9926" y="2551"/>
                  <a:pt x="9922" y="2580"/>
                </a:cubicBezTo>
                <a:cubicBezTo>
                  <a:pt x="9922" y="2588"/>
                  <a:pt x="9922" y="2596"/>
                  <a:pt x="9922" y="2604"/>
                </a:cubicBezTo>
                <a:cubicBezTo>
                  <a:pt x="9987" y="2670"/>
                  <a:pt x="10176" y="2588"/>
                  <a:pt x="10269" y="2555"/>
                </a:cubicBezTo>
                <a:cubicBezTo>
                  <a:pt x="10378" y="2516"/>
                  <a:pt x="10364" y="2505"/>
                  <a:pt x="10443" y="2505"/>
                </a:cubicBezTo>
              </a:path>
              <a:path w="4169" h="1935">
                <a:moveTo>
                  <a:pt x="10468" y="2084"/>
                </a:moveTo>
                <a:cubicBezTo>
                  <a:pt x="10513" y="2174"/>
                  <a:pt x="10615" y="2257"/>
                  <a:pt x="10691" y="2332"/>
                </a:cubicBezTo>
                <a:cubicBezTo>
                  <a:pt x="10724" y="2364"/>
                  <a:pt x="10746" y="2356"/>
                  <a:pt x="10790" y="2356"/>
                </a:cubicBezTo>
                <a:cubicBezTo>
                  <a:pt x="10723" y="2406"/>
                  <a:pt x="10623" y="2444"/>
                  <a:pt x="10542" y="2480"/>
                </a:cubicBezTo>
                <a:cubicBezTo>
                  <a:pt x="10442" y="2520"/>
                  <a:pt x="10424" y="2525"/>
                  <a:pt x="10368" y="2555"/>
                </a:cubicBezTo>
              </a:path>
              <a:path w="4169" h="1935">
                <a:moveTo>
                  <a:pt x="10864" y="2753"/>
                </a:moveTo>
                <a:cubicBezTo>
                  <a:pt x="10766" y="2729"/>
                  <a:pt x="10869" y="2732"/>
                  <a:pt x="10914" y="2704"/>
                </a:cubicBezTo>
                <a:cubicBezTo>
                  <a:pt x="10969" y="2670"/>
                  <a:pt x="11042" y="2657"/>
                  <a:pt x="11112" y="2654"/>
                </a:cubicBezTo>
                <a:cubicBezTo>
                  <a:pt x="11196" y="2650"/>
                  <a:pt x="11198" y="2650"/>
                  <a:pt x="11261" y="2629"/>
                </a:cubicBezTo>
                <a:cubicBezTo>
                  <a:pt x="11280" y="2623"/>
                  <a:pt x="11434" y="2627"/>
                  <a:pt x="11361" y="2654"/>
                </a:cubicBezTo>
                <a:cubicBezTo>
                  <a:pt x="11272" y="2686"/>
                  <a:pt x="11157" y="2725"/>
                  <a:pt x="11063" y="2729"/>
                </a:cubicBezTo>
                <a:cubicBezTo>
                  <a:pt x="11022" y="2731"/>
                  <a:pt x="10980" y="2729"/>
                  <a:pt x="10939" y="2729"/>
                </a:cubicBezTo>
                <a:cubicBezTo>
                  <a:pt x="11018" y="2729"/>
                  <a:pt x="11083" y="2690"/>
                  <a:pt x="11162" y="2679"/>
                </a:cubicBezTo>
                <a:cubicBezTo>
                  <a:pt x="11254" y="2667"/>
                  <a:pt x="11340" y="2654"/>
                  <a:pt x="11435" y="2654"/>
                </a:cubicBezTo>
                <a:cubicBezTo>
                  <a:pt x="11534" y="2654"/>
                  <a:pt x="11308" y="2729"/>
                  <a:pt x="11212" y="2753"/>
                </a:cubicBezTo>
                <a:cubicBezTo>
                  <a:pt x="11107" y="2780"/>
                  <a:pt x="11012" y="2773"/>
                  <a:pt x="10914" y="2803"/>
                </a:cubicBezTo>
                <a:cubicBezTo>
                  <a:pt x="11040" y="2803"/>
                  <a:pt x="11161" y="2784"/>
                  <a:pt x="11286" y="2778"/>
                </a:cubicBezTo>
                <a:cubicBezTo>
                  <a:pt x="11294" y="2778"/>
                  <a:pt x="11303" y="2778"/>
                  <a:pt x="11311" y="2778"/>
                </a:cubicBezTo>
                <a:cubicBezTo>
                  <a:pt x="11162" y="2778"/>
                  <a:pt x="10765" y="2778"/>
                  <a:pt x="10914" y="2778"/>
                </a:cubicBezTo>
                <a:cubicBezTo>
                  <a:pt x="11070" y="2778"/>
                  <a:pt x="11213" y="2739"/>
                  <a:pt x="11361" y="2704"/>
                </a:cubicBezTo>
                <a:cubicBezTo>
                  <a:pt x="11425" y="2689"/>
                  <a:pt x="11278" y="2704"/>
                  <a:pt x="11212" y="2704"/>
                </a:cubicBezTo>
                <a:cubicBezTo>
                  <a:pt x="11171" y="2704"/>
                  <a:pt x="11129" y="2704"/>
                  <a:pt x="11088" y="2704"/>
                </a:cubicBezTo>
                <a:cubicBezTo>
                  <a:pt x="11013" y="2704"/>
                  <a:pt x="11137" y="2704"/>
                  <a:pt x="11212" y="2704"/>
                </a:cubicBezTo>
                <a:cubicBezTo>
                  <a:pt x="11245" y="2704"/>
                  <a:pt x="11278" y="2704"/>
                  <a:pt x="11311" y="27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9:16:30Z</dcterms:created>
  <dc:creator>ccps5500</dc:creator>
  <dc:description/>
  <dc:language>en-US</dc:language>
  <cp:lastModifiedBy>ccps5500</cp:lastModifiedBy>
  <dcterms:modified xsi:type="dcterms:W3CDTF">2011-05-18T19:16:37Z</dcterms:modified>
  <cp:revision>1</cp:revision>
  <dc:subject/>
  <dc:title>RGM Group Final Designs</dc:title>
</cp:coreProperties>
</file>